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gif" ContentType="image/gif"/>
  <Override PartName="/ppt/media/image9.png" ContentType="image/png"/>
  <Override PartName="/ppt/media/image8.gif" ContentType="image/gif"/>
  <Override PartName="/ppt/media/image18.jpeg" ContentType="image/jpeg"/>
  <Override PartName="/ppt/media/image7.png" ContentType="image/png"/>
  <Override PartName="/ppt/media/image15.wmf" ContentType="image/x-wmf"/>
  <Override PartName="/ppt/media/image21.jpeg" ContentType="image/jpeg"/>
  <Override PartName="/ppt/media/image20.jpeg" ContentType="image/jpeg"/>
  <Override PartName="/ppt/media/image3.jpeg" ContentType="image/jpeg"/>
  <Override PartName="/ppt/media/image19.png" ContentType="image/png"/>
  <Override PartName="/ppt/media/image16.gif" ContentType="image/gif"/>
  <Override PartName="/ppt/media/image1.wmf" ContentType="image/x-wmf"/>
  <Override PartName="/ppt/media/image14.gif" ContentType="image/gif"/>
  <Override PartName="/ppt/media/image17.png" ContentType="image/png"/>
  <Override PartName="/ppt/media/image2.png" ContentType="image/png"/>
  <Override PartName="/ppt/media/image22.gif" ContentType="image/gif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6F30-24A8-485E-B41F-5F9EF8EC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7B8-EDCB-4E09-A175-703EF803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2C40-3A93-4A1A-9D76-3A8961C9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3F43-8FED-49D9-B749-1B067591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B7C-E147-4E54-BEDE-9968FBE2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00F-8931-430D-A0F7-3DB72D94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7470-712C-417C-ADB1-06C59870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BDA-6ECE-46C3-97F9-D54BC505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57A1-AD8E-4C3C-BB86-0B928F1D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FF7D-6BFF-4138-83FF-30B0AE3E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8FA7-A663-4C52-9B27-A46EBA5B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1F43-A70A-4854-BA2C-BB704AAF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d1f1c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ED4B-1D9C-43DE-8D4A-BC55A8447D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785880" y="785880"/>
            <a:ext cx="7358040" cy="36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Arial"/>
              </a:rPr>
              <a:t>русский язык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Arial"/>
              </a:rPr>
              <a:t>2 класс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714680" y="5572080"/>
            <a:ext cx="5715000" cy="10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Лаврова С.В. школа №577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Санкт-Петербург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520" y="3200400"/>
            <a:ext cx="4419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9900"/>
                </a:solidFill>
                <a:latin typeface="Arial"/>
              </a:rPr>
              <a:t>гр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9900"/>
                </a:solidFill>
                <a:latin typeface="Arial"/>
              </a:rPr>
              <a:t>гром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9900"/>
                </a:solidFill>
                <a:latin typeface="Arial"/>
              </a:rPr>
              <a:t>громад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05520" y="320004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9900"/>
                </a:solidFill>
                <a:latin typeface="Arial"/>
              </a:rPr>
              <a:t>в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9900"/>
                </a:solidFill>
                <a:latin typeface="Arial"/>
              </a:rPr>
              <a:t>водит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9900"/>
                </a:solidFill>
                <a:latin typeface="Arial"/>
              </a:rPr>
              <a:t>подвод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9"/>
          <p:cNvSpPr txBox="1"/>
          <p:nvPr/>
        </p:nvSpPr>
        <p:spPr>
          <a:xfrm>
            <a:off x="826920" y="189000"/>
            <a:ext cx="6840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етий лишний</a:t>
            </a:r>
            <a:endParaRPr b="0" lang="en-US" sz="1600" spc="1" strike="noStrike">
              <a:ln w="12600">
                <a:solidFill>
                  <a:srgbClr val="993366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Line 10"/>
          <p:cNvSpPr/>
          <p:nvPr/>
        </p:nvSpPr>
        <p:spPr>
          <a:xfrm>
            <a:off x="1219320" y="4952880"/>
            <a:ext cx="1295280" cy="99072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6095880" y="4038480"/>
            <a:ext cx="990720" cy="83844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117" name="Picture 13" descr="arg-vicki-walk-sm"/>
          <p:cNvPicPr/>
          <p:nvPr/>
        </p:nvPicPr>
        <p:blipFill>
          <a:blip r:embed="rId1"/>
          <a:stretch/>
        </p:blipFill>
        <p:spPr>
          <a:xfrm>
            <a:off x="2843280" y="2421000"/>
            <a:ext cx="2185920" cy="1471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8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11"/>
          <p:cNvSpPr txBox="1"/>
          <p:nvPr/>
        </p:nvSpPr>
        <p:spPr>
          <a:xfrm>
            <a:off x="2124000" y="4869000"/>
            <a:ext cx="16956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мороз</a:t>
            </a:r>
            <a:endParaRPr b="0" lang="en-US" sz="32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12"/>
          <p:cNvSpPr txBox="1"/>
          <p:nvPr/>
        </p:nvSpPr>
        <p:spPr>
          <a:xfrm>
            <a:off x="5219640" y="2637000"/>
            <a:ext cx="2971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заморозил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13"/>
          <p:cNvSpPr txBox="1"/>
          <p:nvPr/>
        </p:nvSpPr>
        <p:spPr>
          <a:xfrm>
            <a:off x="4932360" y="5373720"/>
            <a:ext cx="199080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морозный</a:t>
            </a:r>
            <a:endParaRPr b="0" lang="en-US" sz="32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14"/>
          <p:cNvSpPr txBox="1"/>
          <p:nvPr/>
        </p:nvSpPr>
        <p:spPr>
          <a:xfrm>
            <a:off x="5435640" y="436572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холодный</a:t>
            </a:r>
            <a:endParaRPr b="0" lang="en-US" sz="32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15"/>
          <p:cNvSpPr txBox="1"/>
          <p:nvPr/>
        </p:nvSpPr>
        <p:spPr>
          <a:xfrm>
            <a:off x="3995640" y="3500280"/>
            <a:ext cx="28386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холодильник</a:t>
            </a:r>
            <a:endParaRPr b="0" lang="en-US" sz="3200" spc="1" strike="noStrike">
              <a:ln w="936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16"/>
          <p:cNvSpPr txBox="1"/>
          <p:nvPr/>
        </p:nvSpPr>
        <p:spPr>
          <a:xfrm>
            <a:off x="2124000" y="6021360"/>
            <a:ext cx="216216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холодок</a:t>
            </a:r>
            <a:endParaRPr b="0" lang="en-US" sz="32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Picture 19" descr="j0299587"/>
          <p:cNvPicPr/>
          <p:nvPr/>
        </p:nvPicPr>
        <p:blipFill>
          <a:blip r:embed="rId1"/>
          <a:stretch/>
        </p:blipFill>
        <p:spPr>
          <a:xfrm>
            <a:off x="7451640" y="5373720"/>
            <a:ext cx="1252800" cy="9367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22"/>
          <p:cNvSpPr txBox="1"/>
          <p:nvPr/>
        </p:nvSpPr>
        <p:spPr>
          <a:xfrm rot="21264600">
            <a:off x="2712600" y="479160"/>
            <a:ext cx="5759640" cy="17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моги разделить на группы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6" name="Picture 25" descr="24M5"/>
          <p:cNvPicPr/>
          <p:nvPr/>
        </p:nvPicPr>
        <p:blipFill>
          <a:blip r:embed="rId2"/>
          <a:stretch/>
        </p:blipFill>
        <p:spPr>
          <a:xfrm>
            <a:off x="468360" y="2276640"/>
            <a:ext cx="1886040" cy="1419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53 -0.04532 C 0.07066 -0.04809 0.07032 -0.05179 0.06875 -0.05387 C 0.06754 -0.05572 0.06528 -0.05503 0.06355 -0.05595 C 0.04983 -0.06428 0.04931 -0.06636 0.0323 -0.06867 C 0.02587 -0.07121 0.01823 -0.07861 0.01164 -0.07931 C 0.00382 -0.08 -0.00399 -0.08069 -0.0118 -0.08139 C -0.05625 -0.09942 -0.10312 -0.07723 -0.14826 -0.08763 C -0.1835 -0.08694 -0.22864 -0.11769 -0.25347 -0.07723 C -0.25711 -0.06543 -0.26441 -0.05572 -0.2717 -0.04971 C -0.27725 -0.03561 -0.28767 -0.03029 -0.29514 -0.01989 C -0.29913 -0.01434 -0.30208 -0.00694 -0.30555 -0.00069 C -0.30868 0.01433 -0.30677 0.00809 -0.31059 0.01827 C -0.31215 0.02636 -0.31302 0.03237 -0.31597 0.03954 C -0.31875 0.0326 -0.31996 0.03306 -0.31718 0.03306 E">
                                      <p:cBhvr>
                                        <p:cTn id="458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24 0.03885 C 0.06232 0.04786 0.06458 0.06706 0.06458 0.06729 C 0.06545 0.09156 0.06614 0.11422 0.07014 0.13781 C 0.07187 0.1711 0.07882 0.20255 0.08437 0.23492 C 0.08368 0.28301 0.09687 0.31677 0.07153 0.33989 C 0.06771 0.34798 0.06493 0.35584 0.06024 0.36232 C 0.0585 0.3718 0.05955 0.36786 0.05746 0.37457 E">
                                      <p:cBhvr>
                                        <p:cTn id="46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5.20231E-007 C 0.02344 0.00231 0.01667 -0.00069 0.03021 0.01272 C 0.03576 0.02405 0.04392 0.03468 0.05243 0.04231 C 0.05747 0.05272 0.06563 0.0659 0.07465 0.06983 C 0.0809 0.05757 0.0842 0.04694 0.0842 0.03168 E">
                                      <p:cBhvr>
                                        <p:cTn id="464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569 -0.06104 C 0.175 -0.07098 0.17639 -0.08208 0.17257 -0.09063 C 0.16753 -0.10243 0.15851 -0.10913 0.15035 -0.11607 C 0.13472 -0.12925 0.14479 -0.12439 0.13438 -0.12878 C 0.13125 -0.13156 0.1276 -0.13364 0.125 -0.13711 C 0.12396 -0.13849 0.12292 -0.14034 0.1217 -0.1415 C 0.11701 -0.14566 0.11094 -0.14751 0.1059 -0.14982 C 0.09583 -0.15422 0.08594 -0.16231 0.07569 -0.1667 C 0.06076 -0.17318 0.04358 -0.17271 0.02813 -0.17526 C -0.01632 -0.17456 -0.06094 -0.17803 -0.10521 -0.17318 C -0.10851 -0.17271 -0.10833 -0.16046 -0.10833 -0.16023 C -0.10712 -0.15167 -0.10521 -0.14358 -0.10365 -0.13503 C -0.10295 -0.12323 -0.10642 -0.09919 -0.09253 -0.09919 E">
                                      <p:cBhvr>
                                        <p:cTn id="467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8000"/>
                            </p:stCondLst>
                            <p:childTnLst>
                              <p:par>
                                <p:cTn id="4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0.00046 C 0.00174 -0.01248 0.00209 -0.02451 0.0007 -0.0363 C -0.00052 -0.04578 -0.01823 -0.04763 -0.02326 -0.04901 C -0.05312 -0.05734 -0.07413 -0.06104 -0.10573 -0.06381 C -0.12343 -0.0652 -0.12795 -0.06682 -0.14704 -0.07029 C -0.15121 -0.07098 -0.15972 -0.07237 -0.15972 -0.07214 C -0.17604 -0.07769 -0.16805 -0.07584 -0.1835 -0.07861 C -0.25173 -0.10844 -0.31441 -0.0904 -0.39305 -0.09133 C -0.39618 -0.09202 -0.3993 -0.09341 -0.4026 -0.09341 C -0.40833 -0.09341 -0.41423 -0.09295 -0.41996 -0.09133 C -0.43281 -0.08763 -0.43263 -0.05965 -0.44062 -0.04901 C -0.44965 -0.03699 -0.46041 -0.03121 -0.47239 -0.02589 C -0.47829 -0.01757 -0.47222 -0.02474 -0.48038 -0.01942 C -0.48611 -0.01572 -0.48993 -0.00948 -0.49618 -0.0067 C -0.50416 0.00347 -0.51059 0.01388 -0.49774 0.02497 C -0.49722 0.02705 -0.49618 0.02914 -0.49618 0.03122 C -0.49618 0.0363 -0.49774 0.04601 -0.49774 0.04625 E">
                                      <p:cBhvr>
                                        <p:cTn id="47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092 C 0.00938 -0.00879 0.01788 -0.01873 0.02413 -0.03052 C 0.03229 -0.04601 0.03767 -0.06358 0.04948 -0.07491 C 0.05156 -0.07907 0.05382 -0.08347 0.0559 -0.08763 C 0.05695 -0.08971 0.05903 -0.09387 0.05903 -0.09387 C 0.06233 -0.10728 0.05833 -0.09272 0.06528 -0.11098 C 0.0691 -0.12116 0.07136 -0.13225 0.07483 -0.14266 C 0.07778 -0.15168 0.08264 -0.15907 0.08594 -0.16786 C 0.08646 -0.17133 0.08646 -0.17503 0.0875 -0.1785 C 0.08924 -0.18428 0.09392 -0.19538 0.09392 -0.19538 C 0.09722 -0.21364 0.10347 -0.23838 0.11302 -0.25248 C 0.11597 -0.25688 0.12014 -0.26012 0.12257 -0.2652 C 0.12361 -0.26728 0.12431 -0.26983 0.1257 -0.27144 C 0.12969 -0.27607 0.13524 -0.27861 0.13837 -0.28416 C 0.14149 -0.28971 0.1441 -0.29595 0.14792 -0.30104 C 0.15104 -0.3052 0.15747 -0.31376 0.15747 -0.31376 C 0.16233 -0.32717 0.1684 -0.3459 0.17639 -0.35607 C 0.18889 -0.37179 0.20417 -0.38405 0.21771 -0.39838 C 0.22101 -0.40185 0.22431 -0.40509 0.22726 -0.40902 C 0.22865 -0.41087 0.22882 -0.41387 0.23038 -0.41526 C 0.23958 -0.42381 0.25208 -0.42983 0.26215 -0.43653 C 0.26233 -0.43676 0.27465 -0.44462 0.27483 -0.44485 C 0.28212 -0.45457 0.29011 -0.46289 0.29861 -0.47029 C 0.29983 -0.47144 0.30052 -0.47376 0.30191 -0.47445 C 0.30486 -0.47584 0.30833 -0.47584 0.31146 -0.47653 C 0.33629 -0.48763 0.37431 -0.47653 0.40191 -0.47445 C 0.40903 -0.47214 0.41528 -0.46821 0.42257 -0.46821 E">
                                      <p:cBhvr>
                                        <p:cTn id="47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3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828440" y="1218960"/>
            <a:ext cx="5791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оплясали по снег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нежные ме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негири снегов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есню просвис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 заснеженной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снежном переул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вонко носятся снеж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ежут снег снегур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4"/>
          <p:cNvSpPr txBox="1"/>
          <p:nvPr/>
        </p:nvSpPr>
        <p:spPr>
          <a:xfrm rot="21321000">
            <a:off x="1371240" y="380880"/>
            <a:ext cx="6781680" cy="9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снежная   страна</a:t>
            </a:r>
            <a:endParaRPr b="0" lang="en-US" sz="48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2987640" y="6093000"/>
            <a:ext cx="54039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с. погореловский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Arc 7"/>
          <p:cNvSpPr/>
          <p:nvPr/>
        </p:nvSpPr>
        <p:spPr>
          <a:xfrm rot="19113000">
            <a:off x="5790960" y="1066320"/>
            <a:ext cx="583920" cy="57960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32" name="Arc 9"/>
          <p:cNvSpPr/>
          <p:nvPr/>
        </p:nvSpPr>
        <p:spPr>
          <a:xfrm rot="19113000">
            <a:off x="3124080" y="1676160"/>
            <a:ext cx="584280" cy="57924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33" name="Arc 10"/>
          <p:cNvSpPr/>
          <p:nvPr/>
        </p:nvSpPr>
        <p:spPr>
          <a:xfrm rot="19113000">
            <a:off x="2819160" y="2209320"/>
            <a:ext cx="583920" cy="57960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34" name="Arc 11"/>
          <p:cNvSpPr/>
          <p:nvPr/>
        </p:nvSpPr>
        <p:spPr>
          <a:xfrm rot="19113000">
            <a:off x="4647960" y="2285640"/>
            <a:ext cx="576000" cy="57960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35" name="Arc 12"/>
          <p:cNvSpPr/>
          <p:nvPr/>
        </p:nvSpPr>
        <p:spPr>
          <a:xfrm rot="19113000">
            <a:off x="3733560" y="3428640"/>
            <a:ext cx="583920" cy="57960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36" name="Arc 13"/>
          <p:cNvSpPr/>
          <p:nvPr/>
        </p:nvSpPr>
        <p:spPr>
          <a:xfrm rot="19113000">
            <a:off x="3276360" y="4038120"/>
            <a:ext cx="583920" cy="57960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37" name="Arc 14"/>
          <p:cNvSpPr/>
          <p:nvPr/>
        </p:nvSpPr>
        <p:spPr>
          <a:xfrm rot="19113000">
            <a:off x="5866920" y="4571640"/>
            <a:ext cx="584280" cy="57960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38" name="Arc 15"/>
          <p:cNvSpPr/>
          <p:nvPr/>
        </p:nvSpPr>
        <p:spPr>
          <a:xfrm rot="19113000">
            <a:off x="4190760" y="5181120"/>
            <a:ext cx="583920" cy="57960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39" name="Arc 16"/>
          <p:cNvSpPr/>
          <p:nvPr/>
        </p:nvSpPr>
        <p:spPr>
          <a:xfrm rot="19113000">
            <a:off x="5181120" y="5181120"/>
            <a:ext cx="584280" cy="57960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40" name="AutoShape 17"/>
          <p:cNvSpPr/>
          <p:nvPr/>
        </p:nvSpPr>
        <p:spPr>
          <a:xfrm rot="21157800">
            <a:off x="1218960" y="228600"/>
            <a:ext cx="2209680" cy="533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p:transition spd="slow">
    <p:blinds dir="horz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400"/>
                            </p:stCondLst>
                            <p:childTnLst>
                              <p:par>
                                <p:cTn id="49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3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300"/>
                            </p:stCondLst>
                            <p:childTnLst>
                              <p:par>
                                <p:cTn id="50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3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900"/>
                            </p:stCondLst>
                            <p:childTnLst>
                              <p:par>
                                <p:cTn id="51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3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800"/>
                            </p:stCondLst>
                            <p:childTnLst>
                              <p:par>
                                <p:cTn id="5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3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3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4700"/>
                            </p:stCondLst>
                            <p:childTnLst>
                              <p:par>
                                <p:cTn id="52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3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600"/>
                            </p:stCondLst>
                            <p:childTnLst>
                              <p:par>
                                <p:cTn id="53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3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6800"/>
                            </p:stCondLst>
                            <p:childTnLst>
                              <p:par>
                                <p:cTn id="54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8000"/>
                            </p:stCondLst>
                            <p:childTnLst>
                              <p:par>
                                <p:cTn id="54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3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6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8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9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2666880" y="2666880"/>
            <a:ext cx="475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рень- общая часть всех слов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WordArt 8"/>
          <p:cNvSpPr txBox="1"/>
          <p:nvPr/>
        </p:nvSpPr>
        <p:spPr>
          <a:xfrm>
            <a:off x="1371600" y="5029200"/>
            <a:ext cx="536580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рень- общая часть родственных слов</a:t>
            </a:r>
            <a:endParaRPr b="0" i="1" lang="en-US" sz="2000" spc="1" strike="noStrike">
              <a:ln w="9360">
                <a:solidFill>
                  <a:srgbClr val="993366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1" strike="noStrike">
              <a:ln w="9360">
                <a:solidFill>
                  <a:srgbClr val="993366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WordArt 10"/>
          <p:cNvSpPr txBox="1"/>
          <p:nvPr/>
        </p:nvSpPr>
        <p:spPr>
          <a:xfrm>
            <a:off x="2627280" y="1197000"/>
            <a:ext cx="594360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рень- главная часть предложения</a:t>
            </a:r>
            <a:endParaRPr b="0" lang="en-US" sz="2400" spc="1" strike="noStrike">
              <a:ln w="0">
                <a:noFill/>
              </a:ln>
              <a:solidFill>
                <a:srgbClr val="cc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Picture 11" descr="карлсон"/>
          <p:cNvPicPr/>
          <p:nvPr/>
        </p:nvPicPr>
        <p:blipFill>
          <a:blip r:embed="rId1"/>
          <a:stretch/>
        </p:blipFill>
        <p:spPr>
          <a:xfrm>
            <a:off x="755640" y="260280"/>
            <a:ext cx="1714680" cy="1676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знак вопроса"/>
          <p:cNvPicPr/>
          <p:nvPr/>
        </p:nvPicPr>
        <p:blipFill>
          <a:blip r:embed="rId2"/>
          <a:stretch/>
        </p:blipFill>
        <p:spPr>
          <a:xfrm>
            <a:off x="7524720" y="189000"/>
            <a:ext cx="930240" cy="107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буратино"/>
          <p:cNvPicPr/>
          <p:nvPr/>
        </p:nvPicPr>
        <p:blipFill>
          <a:blip r:embed="rId3"/>
          <a:stretch/>
        </p:blipFill>
        <p:spPr>
          <a:xfrm>
            <a:off x="179280" y="2349360"/>
            <a:ext cx="2411640" cy="2160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золушка"/>
          <p:cNvPicPr/>
          <p:nvPr/>
        </p:nvPicPr>
        <p:blipFill>
          <a:blip r:embed="rId4"/>
          <a:stretch/>
        </p:blipFill>
        <p:spPr>
          <a:xfrm>
            <a:off x="6858000" y="3581280"/>
            <a:ext cx="1905120" cy="2665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Рисунок1"/>
          <p:cNvPicPr/>
          <p:nvPr/>
        </p:nvPicPr>
        <p:blipFill>
          <a:blip r:embed="rId5"/>
          <a:stretch/>
        </p:blipFill>
        <p:spPr>
          <a:xfrm>
            <a:off x="179280" y="4941720"/>
            <a:ext cx="1476360" cy="1729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9"/>
          <p:cNvSpPr txBox="1"/>
          <p:nvPr/>
        </p:nvSpPr>
        <p:spPr>
          <a:xfrm>
            <a:off x="1763640" y="981000"/>
            <a:ext cx="5545080" cy="18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Arial"/>
              </a:rPr>
              <a:t>наблюдение над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Arial"/>
              </a:rPr>
              <a:t>однокоренными словам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Arial"/>
              <a:ea typeface="Arial"/>
            </a:endParaRPr>
          </a:p>
        </p:txBody>
      </p:sp>
      <p:sp>
        <p:nvSpPr>
          <p:cNvPr id="44" name="WordArt 10"/>
          <p:cNvSpPr txBox="1"/>
          <p:nvPr/>
        </p:nvSpPr>
        <p:spPr>
          <a:xfrm rot="21185400">
            <a:off x="1294920" y="3809880"/>
            <a:ext cx="662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рень слова</a:t>
            </a:r>
            <a:endParaRPr b="0" i="1" lang="en-US" sz="1600" spc="1" strike="noStrike">
              <a:ln w="0">
                <a:noFill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2636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9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9900"/>
                </a:solidFill>
                <a:latin typeface="Arial Narrow"/>
              </a:rPr>
              <a:t> </a:t>
            </a:r>
            <a:r>
              <a:rPr b="0" i="1" lang="ru-RU" sz="4800" spc="-1" strike="noStrike">
                <a:solidFill>
                  <a:srgbClr val="669900"/>
                </a:solidFill>
                <a:latin typeface="Arial Narrow"/>
              </a:rPr>
              <a:t>Что такое корень сло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6600"/>
                </a:solidFill>
                <a:latin typeface="Arial Narrow"/>
              </a:rPr>
              <a:t>Роль корня в слов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6600"/>
                </a:solidFill>
                <a:latin typeface="Arial Narrow"/>
              </a:rPr>
              <a:t>Как выделить корень в слове</a:t>
            </a:r>
            <a:r>
              <a:rPr b="0" i="1" lang="en-US" sz="4800" spc="-1" strike="noStrike">
                <a:solidFill>
                  <a:srgbClr val="cc6600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826920" y="189000"/>
            <a:ext cx="74901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поминаем, обсуждаем…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cc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Picture 6" descr="j0299125"/>
          <p:cNvPicPr/>
          <p:nvPr/>
        </p:nvPicPr>
        <p:blipFill>
          <a:blip r:embed="rId1"/>
          <a:stretch/>
        </p:blipFill>
        <p:spPr>
          <a:xfrm>
            <a:off x="7596360" y="1844640"/>
            <a:ext cx="1099800" cy="180504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9"/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9" name="Стрелка вправо 5"/>
          <p:cNvSpPr/>
          <p:nvPr/>
        </p:nvSpPr>
        <p:spPr>
          <a:xfrm>
            <a:off x="8072280" y="6357960"/>
            <a:ext cx="335160" cy="28584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p:transition spd="slow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0920" y="3933720"/>
            <a:ext cx="6553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земная часть растени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яя, находящаяся в теле часть зуб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Основная, значимая часть слова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4038480" y="533520"/>
            <a:ext cx="4464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9999"/>
                  </a:solidFill>
                  <a:miter/>
                </a:ln>
                <a:solidFill>
                  <a:srgbClr val="cc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рень</a:t>
            </a:r>
            <a:endParaRPr b="0" lang="en-US" sz="1600" spc="1" strike="noStrike">
              <a:ln w="12600">
                <a:solidFill>
                  <a:srgbClr val="009999"/>
                </a:solidFill>
                <a:miter/>
              </a:ln>
              <a:solidFill>
                <a:srgbClr val="cc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6" descr="словарь"/>
          <p:cNvPicPr/>
          <p:nvPr/>
        </p:nvPicPr>
        <p:blipFill>
          <a:blip r:embed="rId1"/>
          <a:stretch/>
        </p:blipFill>
        <p:spPr>
          <a:xfrm>
            <a:off x="250920" y="189000"/>
            <a:ext cx="3024000" cy="331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zub1"/>
          <p:cNvPicPr/>
          <p:nvPr/>
        </p:nvPicPr>
        <p:blipFill>
          <a:blip r:embed="rId2"/>
          <a:stretch/>
        </p:blipFill>
        <p:spPr>
          <a:xfrm>
            <a:off x="7086600" y="4343400"/>
            <a:ext cx="1028880" cy="129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растение"/>
          <p:cNvPicPr/>
          <p:nvPr/>
        </p:nvPicPr>
        <p:blipFill>
          <a:blip r:embed="rId3"/>
          <a:stretch/>
        </p:blipFill>
        <p:spPr>
          <a:xfrm>
            <a:off x="6629400" y="2133720"/>
            <a:ext cx="1876320" cy="2060280"/>
          </a:xfrm>
          <a:prstGeom prst="rect">
            <a:avLst/>
          </a:prstGeom>
          <a:ln w="0">
            <a:noFill/>
          </a:ln>
        </p:spPr>
      </p:pic>
      <p:sp>
        <p:nvSpPr>
          <p:cNvPr id="55" name="Arc 12"/>
          <p:cNvSpPr/>
          <p:nvPr/>
        </p:nvSpPr>
        <p:spPr>
          <a:xfrm>
            <a:off x="6934320" y="5943600"/>
            <a:ext cx="1218960" cy="304920"/>
          </a:xfrm>
          <a:prstGeom prst="pie">
            <a:avLst/>
          </a:prstGeom>
          <a:noFill/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p:transition spd="slow">
    <p:blinds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4"/>
          <p:cNvSpPr/>
          <p:nvPr/>
        </p:nvSpPr>
        <p:spPr>
          <a:xfrm>
            <a:off x="500040" y="1571760"/>
            <a:ext cx="2362320" cy="2209680"/>
          </a:xfrm>
          <a:prstGeom prst="cloudCallout">
            <a:avLst>
              <a:gd name="adj1" fmla="val -42740"/>
              <a:gd name="adj2" fmla="val 73421"/>
            </a:avLst>
          </a:prstGeom>
          <a:solidFill>
            <a:srgbClr val="c0c0c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7" name="WordArt 3"/>
          <p:cNvSpPr txBox="1"/>
          <p:nvPr/>
        </p:nvSpPr>
        <p:spPr>
          <a:xfrm>
            <a:off x="2895480" y="838080"/>
            <a:ext cx="56390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рень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8" name="WordArt 5"/>
          <p:cNvSpPr txBox="1"/>
          <p:nvPr/>
        </p:nvSpPr>
        <p:spPr>
          <a:xfrm rot="21573600">
            <a:off x="914040" y="4724280"/>
            <a:ext cx="7391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лавная часть слова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" name="Picture 9" descr="A:\!!!!!!.gif"/>
          <p:cNvPicPr/>
          <p:nvPr/>
        </p:nvPicPr>
        <p:blipFill>
          <a:blip r:embed="rId1"/>
          <a:stretch/>
        </p:blipFill>
        <p:spPr>
          <a:xfrm>
            <a:off x="1143000" y="20574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18"/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428760" y="1500120"/>
            <a:ext cx="2361960" cy="2210040"/>
          </a:xfrm>
          <a:prstGeom prst="cloudCallout">
            <a:avLst>
              <a:gd name="adj1" fmla="val -42740"/>
              <a:gd name="adj2" fmla="val 73421"/>
            </a:avLst>
          </a:prstGeom>
          <a:solidFill>
            <a:srgbClr val="c0c0c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p:transition spd="slow"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84720" y="259920"/>
            <a:ext cx="275616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дерево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64" name="WordArt 7"/>
          <p:cNvSpPr txBox="1"/>
          <p:nvPr/>
        </p:nvSpPr>
        <p:spPr>
          <a:xfrm rot="21111600">
            <a:off x="662040" y="1909800"/>
            <a:ext cx="182880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садик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5" name="WordArt 8"/>
          <p:cNvSpPr txBox="1"/>
          <p:nvPr/>
        </p:nvSpPr>
        <p:spPr>
          <a:xfrm rot="20717400">
            <a:off x="6171840" y="1495080"/>
            <a:ext cx="198108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посадка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6" name="WordArt 9"/>
          <p:cNvSpPr txBox="1"/>
          <p:nvPr/>
        </p:nvSpPr>
        <p:spPr>
          <a:xfrm rot="21063600">
            <a:off x="4894200" y="261720"/>
            <a:ext cx="2494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садовник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1219320" y="3048120"/>
            <a:ext cx="208584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рассада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8" name="WordArt 11"/>
          <p:cNvSpPr txBox="1"/>
          <p:nvPr/>
        </p:nvSpPr>
        <p:spPr>
          <a:xfrm rot="1764000">
            <a:off x="5590800" y="3227400"/>
            <a:ext cx="271944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пересадить 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9" name="WordArt 12"/>
          <p:cNvSpPr txBox="1"/>
          <p:nvPr/>
        </p:nvSpPr>
        <p:spPr>
          <a:xfrm rot="955200">
            <a:off x="1030320" y="307440"/>
            <a:ext cx="213372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садовый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638280" y="573264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71" name="WordArt 14"/>
          <p:cNvSpPr txBox="1"/>
          <p:nvPr/>
        </p:nvSpPr>
        <p:spPr>
          <a:xfrm>
            <a:off x="3962520" y="6172200"/>
            <a:ext cx="1152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сад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72" name="WordArt 15"/>
          <p:cNvSpPr txBox="1"/>
          <p:nvPr/>
        </p:nvSpPr>
        <p:spPr>
          <a:xfrm>
            <a:off x="1295280" y="4343400"/>
            <a:ext cx="686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корне заключается </a:t>
            </a:r>
            <a:endParaRPr b="0" lang="en-US" sz="1600" spc="1" strike="noStrike">
              <a:ln w="9360">
                <a:solidFill>
                  <a:srgbClr val="bbe0e3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щий смысл однокоренных слов</a:t>
            </a:r>
            <a:endParaRPr b="0" lang="en-US" sz="1600" spc="1" strike="noStrike">
              <a:ln w="9360">
                <a:solidFill>
                  <a:srgbClr val="bbe0e3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Arc 38"/>
          <p:cNvSpPr/>
          <p:nvPr/>
        </p:nvSpPr>
        <p:spPr>
          <a:xfrm>
            <a:off x="3995640" y="5734080"/>
            <a:ext cx="1006560" cy="33480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74" name="Arc 39"/>
          <p:cNvSpPr/>
          <p:nvPr/>
        </p:nvSpPr>
        <p:spPr>
          <a:xfrm rot="1503600">
            <a:off x="6835680" y="2990880"/>
            <a:ext cx="706680" cy="22536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75" name="Arc 40"/>
          <p:cNvSpPr/>
          <p:nvPr/>
        </p:nvSpPr>
        <p:spPr>
          <a:xfrm>
            <a:off x="2124000" y="2781360"/>
            <a:ext cx="790560" cy="26172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76" name="Arc 41"/>
          <p:cNvSpPr/>
          <p:nvPr/>
        </p:nvSpPr>
        <p:spPr>
          <a:xfrm rot="21045000">
            <a:off x="684000" y="1598760"/>
            <a:ext cx="1006200" cy="33480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77" name="Arc 42"/>
          <p:cNvSpPr/>
          <p:nvPr/>
        </p:nvSpPr>
        <p:spPr>
          <a:xfrm rot="646800">
            <a:off x="1236240" y="73080"/>
            <a:ext cx="647640" cy="19836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78" name="Arc 43"/>
          <p:cNvSpPr/>
          <p:nvPr/>
        </p:nvSpPr>
        <p:spPr>
          <a:xfrm rot="20767200">
            <a:off x="4847760" y="52200"/>
            <a:ext cx="863640" cy="33480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79" name="Arc 44"/>
          <p:cNvSpPr/>
          <p:nvPr/>
        </p:nvSpPr>
        <p:spPr>
          <a:xfrm rot="20464800">
            <a:off x="6732720" y="1111320"/>
            <a:ext cx="792000" cy="33480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80" name="AutoShape 47"/>
          <p:cNvSpPr/>
          <p:nvPr/>
        </p:nvSpPr>
        <p:spPr>
          <a:xfrm>
            <a:off x="838188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p:transition spd="slow">
    <p:blinds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059" descr="семь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14400" y="510516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Arial"/>
              </a:rPr>
              <a:t>подобрать родственные сл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Arial"/>
              </a:rPr>
              <a:t>выделить общую часть - ко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2060"/>
          <p:cNvSpPr txBox="1"/>
          <p:nvPr/>
        </p:nvSpPr>
        <p:spPr>
          <a:xfrm rot="707400">
            <a:off x="485640" y="693720"/>
            <a:ext cx="396396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днокоренные</a:t>
            </a:r>
            <a:endParaRPr b="0" lang="en-US" sz="1600" spc="1" strike="noStrike">
              <a:ln w="9360">
                <a:solidFill>
                  <a:srgbClr val="0099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WordArt 2061"/>
          <p:cNvSpPr txBox="1"/>
          <p:nvPr/>
        </p:nvSpPr>
        <p:spPr>
          <a:xfrm rot="490800">
            <a:off x="5076720" y="404280"/>
            <a:ext cx="37609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дственные</a:t>
            </a:r>
            <a:endParaRPr b="0" lang="en-US" sz="1600" spc="1" strike="noStrike">
              <a:ln w="9360">
                <a:solidFill>
                  <a:srgbClr val="cc66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Arc 2062"/>
          <p:cNvSpPr/>
          <p:nvPr/>
        </p:nvSpPr>
        <p:spPr>
          <a:xfrm flipV="1" rot="13537800">
            <a:off x="520920" y="5878800"/>
            <a:ext cx="584280" cy="560160"/>
          </a:xfrm>
          <a:prstGeom prst="pie">
            <a:avLst/>
          </a:pr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86" name="Picture 2063" descr="000044"/>
          <p:cNvPicPr/>
          <p:nvPr/>
        </p:nvPicPr>
        <p:blipFill>
          <a:blip r:embed="rId2"/>
          <a:stretch/>
        </p:blipFill>
        <p:spPr>
          <a:xfrm>
            <a:off x="304920" y="4800600"/>
            <a:ext cx="99036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2" descr="PIC1242"/>
          <p:cNvPicPr/>
          <p:nvPr/>
        </p:nvPicPr>
        <p:blipFill>
          <a:blip r:embed="rId1"/>
          <a:stretch/>
        </p:blipFill>
        <p:spPr>
          <a:xfrm>
            <a:off x="0" y="-457200"/>
            <a:ext cx="9372600" cy="7315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Корни в родственных словах пишутся одинако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сова3"/>
          <p:cNvPicPr/>
          <p:nvPr/>
        </p:nvPicPr>
        <p:blipFill>
          <a:blip r:embed="rId2"/>
          <a:stretch/>
        </p:blipFill>
        <p:spPr>
          <a:xfrm>
            <a:off x="5334120" y="-243000"/>
            <a:ext cx="3809880" cy="3213360"/>
          </a:xfrm>
          <a:prstGeom prst="rect">
            <a:avLst/>
          </a:prstGeom>
          <a:ln w="0">
            <a:noFill/>
          </a:ln>
        </p:spPr>
      </p:pic>
      <p:sp>
        <p:nvSpPr>
          <p:cNvPr id="90" name="WordArt 20"/>
          <p:cNvSpPr txBox="1"/>
          <p:nvPr/>
        </p:nvSpPr>
        <p:spPr>
          <a:xfrm>
            <a:off x="539640" y="0"/>
            <a:ext cx="41036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бираем</a:t>
            </a:r>
            <a:endParaRPr b="0" lang="en-US" sz="1600" spc="1" strike="noStrike">
              <a:ln w="9360">
                <a:solidFill>
                  <a:srgbClr val="6699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дственников</a:t>
            </a:r>
            <a:endParaRPr b="0" lang="en-US" sz="1600" spc="1" strike="noStrike">
              <a:ln w="9360">
                <a:solidFill>
                  <a:srgbClr val="6699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WordArt 22"/>
          <p:cNvSpPr txBox="1"/>
          <p:nvPr/>
        </p:nvSpPr>
        <p:spPr>
          <a:xfrm>
            <a:off x="2843280" y="3500280"/>
            <a:ext cx="273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cc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ва</a:t>
            </a:r>
            <a:endParaRPr b="0" lang="en-US" sz="1600" spc="1" strike="noStrike">
              <a:ln w="0">
                <a:noFill/>
              </a:ln>
              <a:solidFill>
                <a:srgbClr val="cc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cc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виный</a:t>
            </a:r>
            <a:endParaRPr b="0" lang="en-US" sz="1600" spc="1" strike="noStrike">
              <a:ln w="0">
                <a:noFill/>
              </a:ln>
              <a:solidFill>
                <a:srgbClr val="cc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WordArt 23"/>
          <p:cNvSpPr txBox="1"/>
          <p:nvPr/>
        </p:nvSpPr>
        <p:spPr>
          <a:xfrm>
            <a:off x="6156360" y="3500280"/>
            <a:ext cx="2592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cc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вушка</a:t>
            </a:r>
            <a:endParaRPr b="0" lang="en-US" sz="1600" spc="1" strike="noStrike">
              <a:ln w="0">
                <a:noFill/>
              </a:ln>
              <a:solidFill>
                <a:srgbClr val="cc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cc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вята</a:t>
            </a:r>
            <a:endParaRPr b="0" lang="en-US" sz="1600" spc="1" strike="noStrike">
              <a:ln w="0">
                <a:noFill/>
              </a:ln>
              <a:solidFill>
                <a:srgbClr val="cc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Picture 24" descr="!!!!!!!!!!!!!!"/>
          <p:cNvPicPr/>
          <p:nvPr/>
        </p:nvPicPr>
        <p:blipFill>
          <a:blip r:embed="rId3"/>
          <a:stretch/>
        </p:blipFill>
        <p:spPr>
          <a:xfrm>
            <a:off x="179280" y="5157720"/>
            <a:ext cx="1368360" cy="1285920"/>
          </a:xfrm>
          <a:prstGeom prst="rect">
            <a:avLst/>
          </a:prstGeom>
          <a:ln w="0">
            <a:noFill/>
          </a:ln>
        </p:spPr>
      </p:pic>
      <p:sp>
        <p:nvSpPr>
          <p:cNvPr id="94" name="Arc 25"/>
          <p:cNvSpPr/>
          <p:nvPr/>
        </p:nvSpPr>
        <p:spPr>
          <a:xfrm rot="19909200">
            <a:off x="6477120" y="3200040"/>
            <a:ext cx="696960" cy="1068480"/>
          </a:xfrm>
          <a:prstGeom prst="pie">
            <a:avLst/>
          </a:pr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95" name="Arc 26"/>
          <p:cNvSpPr/>
          <p:nvPr/>
        </p:nvSpPr>
        <p:spPr>
          <a:xfrm rot="19909200">
            <a:off x="3809880" y="3200040"/>
            <a:ext cx="696960" cy="1068480"/>
          </a:xfrm>
          <a:prstGeom prst="pie">
            <a:avLst/>
          </a:pr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96" name="Arc 28"/>
          <p:cNvSpPr/>
          <p:nvPr/>
        </p:nvSpPr>
        <p:spPr>
          <a:xfrm rot="19909200">
            <a:off x="3124080" y="4114440"/>
            <a:ext cx="696960" cy="1068480"/>
          </a:xfrm>
          <a:prstGeom prst="pie">
            <a:avLst/>
          </a:pr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97" name="Arc 29"/>
          <p:cNvSpPr/>
          <p:nvPr/>
        </p:nvSpPr>
        <p:spPr>
          <a:xfrm rot="19909200">
            <a:off x="6705720" y="4114440"/>
            <a:ext cx="696960" cy="1068480"/>
          </a:xfrm>
          <a:prstGeom prst="pie">
            <a:avLst/>
          </a:pr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4800240" y="3048120"/>
            <a:ext cx="304920" cy="380880"/>
          </a:xfrm>
          <a:prstGeom prst="line">
            <a:avLst/>
          </a:prstGeom>
          <a:ln w="572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99" name="Line 32"/>
          <p:cNvSpPr/>
          <p:nvPr/>
        </p:nvSpPr>
        <p:spPr>
          <a:xfrm flipH="1">
            <a:off x="4114440" y="4038480"/>
            <a:ext cx="304920" cy="381240"/>
          </a:xfrm>
          <a:prstGeom prst="line">
            <a:avLst/>
          </a:prstGeom>
          <a:ln w="572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00" name="Line 33"/>
          <p:cNvSpPr/>
          <p:nvPr/>
        </p:nvSpPr>
        <p:spPr>
          <a:xfrm flipH="1">
            <a:off x="6629040" y="3124080"/>
            <a:ext cx="304920" cy="381240"/>
          </a:xfrm>
          <a:prstGeom prst="line">
            <a:avLst/>
          </a:prstGeom>
          <a:ln w="572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01" name="Line 34"/>
          <p:cNvSpPr/>
          <p:nvPr/>
        </p:nvSpPr>
        <p:spPr>
          <a:xfrm flipH="1">
            <a:off x="7695720" y="4114800"/>
            <a:ext cx="304920" cy="380880"/>
          </a:xfrm>
          <a:prstGeom prst="line">
            <a:avLst/>
          </a:prstGeom>
          <a:ln w="572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p:transition spd="slow">
    <p:blinds dir="horz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8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95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3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765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000"/>
                </a:solidFill>
                <a:latin typeface="바탕"/>
              </a:rPr>
              <a:t>Повар кашу варил-вари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000"/>
                </a:solidFill>
                <a:latin typeface="바탕"/>
              </a:rPr>
              <a:t>Подваривал да недоварива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фото1"/>
          <p:cNvPicPr/>
          <p:nvPr/>
        </p:nvPicPr>
        <p:blipFill>
          <a:blip r:embed="rId1"/>
          <a:stretch/>
        </p:blipFill>
        <p:spPr>
          <a:xfrm>
            <a:off x="5867280" y="2819520"/>
            <a:ext cx="2940120" cy="2253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povar1"/>
          <p:cNvPicPr/>
          <p:nvPr/>
        </p:nvPicPr>
        <p:blipFill>
          <a:blip r:embed="rId2"/>
          <a:stretch/>
        </p:blipFill>
        <p:spPr>
          <a:xfrm>
            <a:off x="1066680" y="1981080"/>
            <a:ext cx="2743200" cy="32004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7"/>
          <p:cNvSpPr txBox="1"/>
          <p:nvPr/>
        </p:nvSpPr>
        <p:spPr>
          <a:xfrm>
            <a:off x="457200" y="228600"/>
            <a:ext cx="8229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граем, наблюдаем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cc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WordArt 10"/>
          <p:cNvSpPr txBox="1"/>
          <p:nvPr/>
        </p:nvSpPr>
        <p:spPr>
          <a:xfrm>
            <a:off x="6172200" y="2209680"/>
            <a:ext cx="2209680" cy="4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99ccff"/>
                    </a:gs>
                  </a:gsLst>
                  <a:lin ang="5400000"/>
                </a:gradFill>
                <a:latin typeface="Arial"/>
              </a:rPr>
              <a:t>зоркий глаз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100000">
                    <a:srgbClr val="99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7" name="Arc 15"/>
          <p:cNvSpPr/>
          <p:nvPr/>
        </p:nvSpPr>
        <p:spPr>
          <a:xfrm rot="19017000">
            <a:off x="2439720" y="5187600"/>
            <a:ext cx="515880" cy="52704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08" name="Arc 17"/>
          <p:cNvSpPr/>
          <p:nvPr/>
        </p:nvSpPr>
        <p:spPr>
          <a:xfrm rot="19017000">
            <a:off x="4611240" y="5172120"/>
            <a:ext cx="501840" cy="52380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09" name="Arc 18"/>
          <p:cNvSpPr/>
          <p:nvPr/>
        </p:nvSpPr>
        <p:spPr>
          <a:xfrm rot="19017000">
            <a:off x="2825280" y="5819400"/>
            <a:ext cx="513000" cy="52704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10" name="Arc 19"/>
          <p:cNvSpPr/>
          <p:nvPr/>
        </p:nvSpPr>
        <p:spPr>
          <a:xfrm rot="19017000">
            <a:off x="6041880" y="5105520"/>
            <a:ext cx="516240" cy="53316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11" name="Arc 20"/>
          <p:cNvSpPr/>
          <p:nvPr/>
        </p:nvSpPr>
        <p:spPr>
          <a:xfrm rot="19017000">
            <a:off x="6395760" y="5817960"/>
            <a:ext cx="507960" cy="52200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p:transition spd="slow">
    <p:blinds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07:21:37Z</dcterms:created>
  <dc:creator>X</dc:creator>
  <dc:description/>
  <dc:language>en-US</dc:language>
  <cp:lastModifiedBy>SONYA</cp:lastModifiedBy>
  <cp:lastPrinted>2005-12-11T14:50:40Z</cp:lastPrinted>
  <dcterms:modified xsi:type="dcterms:W3CDTF">2008-01-27T09:50:54Z</dcterms:modified>
  <cp:revision>135</cp:revision>
  <dc:subject/>
  <dc:title>Слайд 1</dc:title>
</cp:coreProperties>
</file>