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8E49-6478-44B4-8B82-B65F6569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5FC4-7314-48F7-A86A-447CD4BA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549D-F387-4C50-AC80-AB98FEAC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0B8B-A3CC-450C-B440-D8D00BBE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0385-D7A4-4B51-B9ED-2662124E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7857-AC2D-405C-828A-6B0A3B95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2B78-23BF-4932-8AA0-AB83E899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AA13-9507-4984-86E2-6A02206C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A935-A905-432F-BDD8-A1D3F313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C3CD-60E8-4A41-A426-F521F90D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0274-91A4-4E47-9FD0-77468964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778D-B757-455A-9342-EFFA67E1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381E-E521-4D2F-BE71-BA0844AE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654B-E9B6-4801-89BB-E1526F7E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CAE8-7958-4269-B3BF-EA2D798B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393C-8AA2-4AFA-B6D9-F210115D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30E0-A6EC-4E97-A670-D39A0074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7710-5C26-4CFA-94EF-BEC2933D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EF94-78B2-4E09-9CA4-497E17C4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466B-D2D8-4EC9-BB22-644B823E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1729-E7FE-4E43-8C94-4A5F6D3A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476C-9CBF-4287-9DE1-70505D7B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FDC3-FD3E-4963-BAF3-5E427D77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3433-CD5A-46D9-AE86-8638181C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9743-50AB-4075-9F38-69A5EDE47C1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93A5-5D99-46A9-9CAB-0D6BC994EA18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55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Специальная (коррекционная) общеобразовательная 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школа №15 г. Чусовой Пермского края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«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Агротехника томатов</a:t>
            </a: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»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48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Выполнила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Наталья Викторовна Сабиро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313"/>
          <p:cNvPicPr/>
          <p:nvPr/>
        </p:nvPicPr>
        <p:blipFill>
          <a:blip r:embed="rId1"/>
          <a:stretch/>
        </p:blipFill>
        <p:spPr>
          <a:xfrm>
            <a:off x="5398920" y="2133720"/>
            <a:ext cx="3183120" cy="40320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створ марганц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Picture 4" descr="post-1906-1198170906_thumb"/>
          <p:cNvPicPr/>
          <p:nvPr/>
        </p:nvPicPr>
        <p:blipFill>
          <a:blip r:embed="rId1"/>
          <a:stretch/>
        </p:blipFill>
        <p:spPr>
          <a:xfrm>
            <a:off x="2411280" y="2071800"/>
            <a:ext cx="5329440" cy="39970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newsflash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дготовка ёмкостей и почв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Picture 4" descr="bonsai007"/>
          <p:cNvPicPr/>
          <p:nvPr/>
        </p:nvPicPr>
        <p:blipFill>
          <a:blip r:embed="rId1"/>
          <a:stretch/>
        </p:blipFill>
        <p:spPr>
          <a:xfrm>
            <a:off x="1979640" y="2060640"/>
            <a:ext cx="5832360" cy="43750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newsflash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Ёмкости для рассад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6" name="Picture 4" descr="002"/>
          <p:cNvPicPr/>
          <p:nvPr/>
        </p:nvPicPr>
        <p:blipFill>
          <a:blip r:embed="rId1"/>
          <a:stretch/>
        </p:blipFill>
        <p:spPr>
          <a:xfrm>
            <a:off x="1547640" y="1989000"/>
            <a:ext cx="6696360" cy="43387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newsflash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Уход за рассадой.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одсветка, полив, подкормка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Picture 4" descr="57"/>
          <p:cNvPicPr/>
          <p:nvPr/>
        </p:nvPicPr>
        <p:blipFill>
          <a:blip r:embed="rId1"/>
          <a:stretch/>
        </p:blipFill>
        <p:spPr>
          <a:xfrm>
            <a:off x="539640" y="2205000"/>
            <a:ext cx="2836800" cy="3745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000059"/>
          <p:cNvPicPr/>
          <p:nvPr/>
        </p:nvPicPr>
        <p:blipFill>
          <a:blip r:embed="rId2"/>
          <a:stretch/>
        </p:blipFill>
        <p:spPr>
          <a:xfrm>
            <a:off x="3635280" y="2436840"/>
            <a:ext cx="5257800" cy="354816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newsflash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ход за рассадой.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калка перед посадко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4" descr="9"/>
          <p:cNvPicPr/>
          <p:nvPr/>
        </p:nvPicPr>
        <p:blipFill>
          <a:blip r:embed="rId1"/>
          <a:stretch/>
        </p:blipFill>
        <p:spPr>
          <a:xfrm>
            <a:off x="2411280" y="2276640"/>
            <a:ext cx="5112000" cy="38430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newsflash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ысадка рассады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на постоянное мест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Picture 4" descr="o6-2"/>
          <p:cNvPicPr/>
          <p:nvPr/>
        </p:nvPicPr>
        <p:blipFill>
          <a:blip r:embed="rId1"/>
          <a:stretch/>
        </p:blipFill>
        <p:spPr>
          <a:xfrm>
            <a:off x="1619280" y="2119320"/>
            <a:ext cx="5977080" cy="47386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newsflash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ход за посадка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Picture 4" descr="03"/>
          <p:cNvPicPr/>
          <p:nvPr/>
        </p:nvPicPr>
        <p:blipFill>
          <a:blip r:embed="rId1"/>
          <a:stretch/>
        </p:blipFill>
        <p:spPr>
          <a:xfrm>
            <a:off x="2050920" y="2027160"/>
            <a:ext cx="5761080" cy="430056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newsflash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вязывание и рост томат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Picture 4" descr="655"/>
          <p:cNvPicPr/>
          <p:nvPr/>
        </p:nvPicPr>
        <p:blipFill>
          <a:blip r:embed="rId1"/>
          <a:stretch/>
        </p:blipFill>
        <p:spPr>
          <a:xfrm>
            <a:off x="2325600" y="20178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newsflash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зревание томатов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Picture 4" descr="Em_06"/>
          <p:cNvPicPr/>
          <p:nvPr/>
        </p:nvPicPr>
        <p:blipFill>
          <a:blip r:embed="rId1"/>
          <a:stretch/>
        </p:blipFill>
        <p:spPr>
          <a:xfrm>
            <a:off x="2529000" y="2176560"/>
            <a:ext cx="5079960" cy="37972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newsflash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пасибо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Picture 4" descr="emblema"/>
          <p:cNvPicPr/>
          <p:nvPr/>
        </p:nvPicPr>
        <p:blipFill>
          <a:blip r:embed="rId1"/>
          <a:stretch/>
        </p:blipFill>
        <p:spPr>
          <a:xfrm>
            <a:off x="2627280" y="2349360"/>
            <a:ext cx="3888000" cy="38880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newsflash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Verdana"/>
              </a:rPr>
              <a:t>    </a:t>
            </a:r>
            <a:r>
              <a:rPr b="0" lang="ru-RU" sz="4400" spc="-1" strike="noStrike">
                <a:solidFill>
                  <a:srgbClr val="333399"/>
                </a:solidFill>
                <a:latin typeface="Verdana"/>
              </a:rPr>
              <a:t>Синьор - помидо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Picture 5" descr="706"/>
          <p:cNvPicPr/>
          <p:nvPr/>
        </p:nvPicPr>
        <p:blipFill>
          <a:blip r:embed="rId1"/>
          <a:stretch/>
        </p:blipFill>
        <p:spPr>
          <a:xfrm>
            <a:off x="1476360" y="196200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newsflash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гротехн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Picture 4" descr="технология"/>
          <p:cNvPicPr/>
          <p:nvPr/>
        </p:nvPicPr>
        <p:blipFill>
          <a:blip r:embed="rId1"/>
          <a:stretch/>
        </p:blipFill>
        <p:spPr>
          <a:xfrm>
            <a:off x="1619280" y="1844640"/>
            <a:ext cx="6265800" cy="46800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newsflash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троение тома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Ли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Соцвет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. Цвето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Пл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5. Плод в разрез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8" descr="268100442"/>
          <p:cNvPicPr/>
          <p:nvPr/>
        </p:nvPicPr>
        <p:blipFill>
          <a:blip r:embed="rId1"/>
          <a:stretch/>
        </p:blipFill>
        <p:spPr>
          <a:xfrm>
            <a:off x="4572000" y="1989000"/>
            <a:ext cx="3517920" cy="41148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newsflash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рта томат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Picture 4" descr="tomat"/>
          <p:cNvPicPr/>
          <p:nvPr/>
        </p:nvPicPr>
        <p:blipFill>
          <a:blip r:embed="rId1"/>
          <a:stretch/>
        </p:blipFill>
        <p:spPr>
          <a:xfrm>
            <a:off x="611280" y="2349360"/>
            <a:ext cx="3456000" cy="3414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tomat2"/>
          <p:cNvPicPr/>
          <p:nvPr/>
        </p:nvPicPr>
        <p:blipFill>
          <a:blip r:embed="rId2"/>
          <a:stretch/>
        </p:blipFill>
        <p:spPr>
          <a:xfrm>
            <a:off x="4500720" y="2349360"/>
            <a:ext cx="4263840" cy="33847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newsflash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рта томат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Picture 4" descr="595"/>
          <p:cNvPicPr/>
          <p:nvPr/>
        </p:nvPicPr>
        <p:blipFill>
          <a:blip r:embed="rId1"/>
          <a:stretch/>
        </p:blipFill>
        <p:spPr>
          <a:xfrm>
            <a:off x="684360" y="2205000"/>
            <a:ext cx="2879640" cy="388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Em_06"/>
          <p:cNvPicPr/>
          <p:nvPr/>
        </p:nvPicPr>
        <p:blipFill>
          <a:blip r:embed="rId2"/>
          <a:stretch/>
        </p:blipFill>
        <p:spPr>
          <a:xfrm>
            <a:off x="4427640" y="2205000"/>
            <a:ext cx="4176720" cy="38880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newsflash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емля для рассады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Picture 4" descr="image001"/>
          <p:cNvPicPr/>
          <p:nvPr/>
        </p:nvPicPr>
        <p:blipFill>
          <a:blip r:embed="rId1"/>
          <a:stretch/>
        </p:blipFill>
        <p:spPr>
          <a:xfrm>
            <a:off x="1547640" y="2125800"/>
            <a:ext cx="6120000" cy="45910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newsflash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дготовка семян к посеву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- намачивание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Picture 4" descr="семена полг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124000" y="2109960"/>
            <a:ext cx="5616720" cy="410976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newsflash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дготовка семян к посеву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- дражиров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Picture 4" descr="142"/>
          <p:cNvPicPr/>
          <p:nvPr/>
        </p:nvPicPr>
        <p:blipFill>
          <a:blip r:embed="rId1"/>
          <a:stretch/>
        </p:blipFill>
        <p:spPr>
          <a:xfrm>
            <a:off x="1403280" y="2367000"/>
            <a:ext cx="6624720" cy="38228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newsflash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alysa</cp:lastModifiedBy>
  <dcterms:modified xsi:type="dcterms:W3CDTF">2011-03-25T14:53:40Z</dcterms:modified>
  <cp:revision>12</cp:revision>
  <dc:subject/>
  <dc:title>PowerPoint Presentation</dc:title>
</cp:coreProperties>
</file>