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DB2-D93B-4692-AF0E-12BFE3F6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381-6624-4999-A032-80A2A18E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415-730D-450C-8329-E89D2E4D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63B-961B-44CF-935F-9C6E27CA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1B25-99B7-4C5F-A986-191C12C5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E6AF3-20C4-46E7-8B63-3D9AD5ED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918BF-07E6-48AC-A4EC-F7DED8B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653ED-A35C-464F-A2F2-06277ABC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52A4E-051D-4ACE-B17E-DE0047A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6089-3A49-4D98-A499-DCFD6D5F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A661E-43A2-4BDD-8C2E-242970FE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A2D-FFE7-434B-B90D-79AE9A88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B47A-8078-408A-85B5-19A3B6F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6A504-EF08-44F4-AFA8-52609CD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0FFC-6714-4F37-A99B-2007D56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9E993-7B12-46A4-B914-E03EF1AC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805AF-8638-4CDB-954F-38834A74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605-6489-4A04-A909-07F63CCA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7C8-C18E-439D-B178-722D5C2B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654-41E7-40BF-9E69-2630D35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5BE-9D22-4B75-8187-67DED4C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438-7BA7-4BB3-A735-1D0714C7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F1C-37C7-463C-BFAF-FC6A967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17F-EFDD-48A0-8535-B74ABB2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8F0A-F995-4533-B97E-D40168FDB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5E0-FDD2-46D9-B6DA-1562359374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cc00ff"/>
                </a:solidFill>
                <a:latin typeface="Times New Roman"/>
              </a:rPr>
              <a:t>Семья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j0427723"/>
          <p:cNvPicPr/>
          <p:nvPr/>
        </p:nvPicPr>
        <p:blipFill>
          <a:blip r:embed="rId1"/>
          <a:stretch/>
        </p:blipFill>
        <p:spPr>
          <a:xfrm>
            <a:off x="4500720" y="33336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А НАПОСЛЕДОК Я СКАЖУ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ЖИВИ PОДHИК!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2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j04277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есня"Моя семья" на мотив песни "Маленькая страна"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сть за горами, за лесами маленькая стран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мама, папа, дед и баба, братик или сест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мне всегда тепло и ясно, любят там все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солнца лучик поселился и согревает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ahoma"/>
              </a:rPr>
              <a:t>Припев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ленькая страна - это моя семья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, где родился я и вырос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де любят все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Маленькая Страна.mp3" descr=""/>
          <p:cNvPicPr/>
          <p:nvPr/>
        </p:nvPicPr>
        <p:blipFill>
          <a:blip r:embed="rId1"/>
          <a:stretch/>
        </p:blipFill>
        <p:spPr>
          <a:xfrm>
            <a:off x="7524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386389"/>
          <p:cNvPicPr/>
          <p:nvPr/>
        </p:nvPicPr>
        <p:blipFill>
          <a:blip r:embed="rId1"/>
          <a:stretch/>
        </p:blipFill>
        <p:spPr>
          <a:xfrm>
            <a:off x="1979640" y="2421000"/>
            <a:ext cx="45370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j0427854"/>
          <p:cNvPicPr/>
          <p:nvPr/>
        </p:nvPicPr>
        <p:blipFill>
          <a:blip r:embed="rId1"/>
          <a:stretch/>
        </p:blipFill>
        <p:spPr>
          <a:xfrm>
            <a:off x="587520" y="260280"/>
            <a:ext cx="62895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6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j0227802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309159"/>
          <p:cNvPicPr/>
          <p:nvPr/>
        </p:nvPicPr>
        <p:blipFill>
          <a:blip r:embed="rId2"/>
          <a:stretch/>
        </p:blipFill>
        <p:spPr>
          <a:xfrm>
            <a:off x="179280" y="189000"/>
            <a:ext cx="2868840" cy="4292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430910"/>
          <p:cNvPicPr/>
          <p:nvPr/>
        </p:nvPicPr>
        <p:blipFill>
          <a:blip r:embed="rId3"/>
          <a:stretch/>
        </p:blipFill>
        <p:spPr>
          <a:xfrm>
            <a:off x="6012000" y="1700280"/>
            <a:ext cx="2911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7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Diagram 6"/>
          <p:cNvGrpSpPr/>
          <p:nvPr/>
        </p:nvGrpSpPr>
        <p:grpSpPr>
          <a:xfrm>
            <a:off x="2339640" y="1275480"/>
            <a:ext cx="5903280" cy="5530320"/>
            <a:chOff x="2339640" y="1275480"/>
            <a:chExt cx="5903280" cy="5530320"/>
          </a:xfrm>
        </p:grpSpPr>
        <p:sp>
          <p:nvSpPr>
            <p:cNvPr id="97" name="_s1028"/>
            <p:cNvSpPr/>
            <p:nvPr/>
          </p:nvSpPr>
          <p:spPr>
            <a:xfrm flipH="1" flipV="1">
              <a:off x="411372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2775960" y="2084400"/>
              <a:ext cx="150480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0"/>
            <p:cNvSpPr/>
            <p:nvPr/>
          </p:nvSpPr>
          <p:spPr>
            <a:xfrm flipH="1">
              <a:off x="3825360" y="430740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2339640" y="390744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 flipH="1">
              <a:off x="4638960" y="479412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3560040" y="536976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5618520" y="4791600"/>
              <a:ext cx="32400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5518440" y="536976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>
              <a:off x="6023160" y="430488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6738840" y="390744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8"/>
            <p:cNvSpPr/>
            <p:nvPr/>
          </p:nvSpPr>
          <p:spPr>
            <a:xfrm flipV="1">
              <a:off x="587880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6302880" y="2084400"/>
              <a:ext cx="1504080" cy="1436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40"/>
            <p:cNvSpPr/>
            <p:nvPr/>
          </p:nvSpPr>
          <p:spPr>
            <a:xfrm flipV="1">
              <a:off x="5290560" y="271116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4538160" y="127548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4538160" y="3430080"/>
              <a:ext cx="1504080" cy="1436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e0000"/>
                </a:solidFill>
                <a:latin typeface="Times New Roman"/>
              </a:rPr>
              <a:t>Государство – это большая семья, </a:t>
            </a:r>
            <a:br>
              <a:rPr sz="6000"/>
            </a:br>
            <a:r>
              <a:rPr b="1" lang="ru-RU" sz="6000" spc="-1" strike="noStrike">
                <a:solidFill>
                  <a:srgbClr val="de0000"/>
                </a:solidFill>
                <a:latin typeface="Times New Roman"/>
              </a:rPr>
              <a:t>а семья – это маленькое государство.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ru-RU" sz="2800" spc="-1" strike="noStrike">
                <a:solidFill>
                  <a:srgbClr val="ff66cc"/>
                </a:solidFill>
                <a:latin typeface="Times New Roman"/>
              </a:rPr>
              <a:t>Великий философ Конфу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j0428147"/>
          <p:cNvPicPr/>
          <p:nvPr/>
        </p:nvPicPr>
        <p:blipFill>
          <a:blip r:embed="rId1"/>
          <a:stretch/>
        </p:blipFill>
        <p:spPr>
          <a:xfrm rot="1720800">
            <a:off x="1979280" y="4652640"/>
            <a:ext cx="1638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j0202050"/>
          <p:cNvPicPr/>
          <p:nvPr/>
        </p:nvPicPr>
        <p:blipFill>
          <a:blip r:embed="rId1"/>
          <a:stretch/>
        </p:blipFill>
        <p:spPr>
          <a:xfrm>
            <a:off x="4572000" y="292428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50"/>
                            </p:stCondLst>
                            <p:childTnLst>
                              <p:par>
                                <p:cTn id="1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25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4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Объясните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одители трудолюбивы и дети не лени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Где любовь да совет там и горя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то детям потакает, тот потом слезы пролив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етей наказывай стыдом, а не грозою и бич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j0292032"/>
          <p:cNvPicPr/>
          <p:nvPr/>
        </p:nvPicPr>
        <p:blipFill>
          <a:blip r:embed="rId1"/>
          <a:stretch/>
        </p:blipFill>
        <p:spPr>
          <a:xfrm>
            <a:off x="7596360" y="189000"/>
            <a:ext cx="1349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700"/>
                            </p:stCondLst>
                            <p:childTnLst>
                              <p:par>
                                <p:cTn id="1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70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7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700"/>
                            </p:stCondLst>
                            <p:childTnLst>
                              <p:par>
                                <p:cTn id="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омогите найти деткам род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орова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жеребенок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ошка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теленок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Зайчиха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щенок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е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Лошадь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 котенок  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бы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обака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зайчонок     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Admin</cp:lastModifiedBy>
  <dcterms:modified xsi:type="dcterms:W3CDTF">2012-08-23T16:16:48Z</dcterms:modified>
  <cp:revision>14</cp:revision>
  <dc:subject/>
  <dc:title>Слайд 1</dc:title>
</cp:coreProperties>
</file>