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16F-DFC8-422C-8E3F-D5B61CEA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521-2DE7-4E5B-8B81-10646A70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EBE-08F2-4C6C-B5B8-28E677E4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DBA-7BE5-4087-8D89-C994F8C8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9DE4-E945-4422-8FFF-F6DC8DDD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4696-CD95-4358-84D2-F0DA007A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8B6F-2A56-4254-80E9-06143497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5ECF-BF52-4967-9BE5-2AF53875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FEB4-F783-44C3-9C66-3AA00D59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B1AF-2562-42EA-9F0B-6D1A71D4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0153-8691-4FAB-BD37-61C63689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3AD-C5E8-4157-A22B-50E9CEAC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3F0D-991C-4C98-A584-7914CA3D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16E-020D-4E00-B9AB-DBCBB3A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D746-A723-40C8-9379-F2934FF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A6F1-6D3D-4F86-8E8A-E2082B13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02B4-BA43-406A-B7E5-A2C7E3CB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2346-C7EA-4C87-B9D8-A0C7B0F7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8CBD6-FADB-4D64-93C4-A659FF32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7409-9E12-4E28-99EF-55B4B246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17EF-ED44-4160-A4A0-8E3F8ED5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5E29-3BC4-4A7E-B511-C0BF8CB1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56C-4869-4893-B99F-6ACBC100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B52B-37AB-4B75-8D33-A559821D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670E-9F3B-4BE9-8511-EE4FC96C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ABB9-9430-4212-9DC9-5CCF5980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F423-CB71-4401-B84D-448A50CE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11F7F-0CF0-4172-8E10-F4633394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C418-2D5C-4B70-8475-9E1D8317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B9E6-13D3-4BE8-B84E-8EE6DC36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F10A-770C-4CDE-A5D0-F73FF019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38E6-1E75-4714-A786-C3BD4116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D233-3569-437C-84F9-40ECCB9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CF8-642A-4A65-82F8-C5E7A548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BD462-6F43-43D4-AE12-A098694F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259C-30AA-41E3-934E-2EF68F20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5E09-7D5C-43F1-9F71-A5C6A614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CB5F-62A3-4923-86C5-4380432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17E9-D8FB-451C-84F6-B8CEE82B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1F8C7-A3FF-4E80-B332-318B0BA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B2944-1C84-4D7A-A8FD-6FB56B1A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4F9F-B755-44CD-8CC0-AEB946B5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4D3F-1AF6-4D24-883D-18775980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A00E-5500-468C-AE27-E6C47F09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D0E-74CD-4EA6-B547-9789146F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1E1F-EFE2-4E77-8882-019CD7B3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4624-956C-4956-9E83-4E8F605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E149-A164-4926-87CD-FE636EBC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AED7-2237-4092-9532-A5359293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28E57-58C5-4EC7-8C8F-0BD91D6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92AC2-D5E0-473C-B234-41E0615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4EAF2-7020-4B53-9172-80D351B6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0A9CD-3F52-43C5-A8C8-12760F6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17FE2-EDEE-46B1-83B6-349E497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735F-652B-4FAD-BFB4-3709F006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F08-3084-4216-B080-B6C5497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C03CF-2C68-4DA4-A1C4-D2D513BE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EB4-817F-4632-82FC-F8F3DA0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FDC-68BB-47D5-B540-07E33686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C4B-275B-4E0E-A6A5-A29A56E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6831-C22B-4A34-BCD8-847DF310A91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60FC-095F-486A-9CA8-245C1D78CA4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565D-1B02-4D9C-9D75-E45EF6E2E6E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724D-88F5-4915-BADA-BC34B53EEEC7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561C-453A-4B48-9933-4FB2CCFED5A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2560" y="225360"/>
            <a:ext cx="7925040" cy="927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 «Навыки профессиональной и личной эффективности»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договариваться, или Как понять других людей и донести до них свою точку зрения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составлена по методическому пособию В.П. Арсланьян, кандидата психологических наук, доцента. «Искусство договариваться, или Как понять других людей и донести свою точку зрения», Москва, Педагогический университет «Первое сентября»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0720" y="304920"/>
            <a:ext cx="7255080" cy="39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914400"/>
            <a:ext cx="723888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нструктивного диалога необходимо соблюдение прави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ость и корректность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т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язык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ть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ние чрезмерной убедитель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шение прямо указать адресату на ошибку в его рассужден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резмерное количество аргумент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304920"/>
            <a:ext cx="7255080" cy="390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914400"/>
            <a:ext cx="723888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ация – обоснование своей точки зр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ргументация – опровержение доводов собесед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даментальны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противореч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последовательных выводо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ное сравнение (наглядность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, но…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ова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ирова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мая поддерж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ая перелицов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к формальной структур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Овал 3"/>
          <p:cNvSpPr/>
          <p:nvPr/>
        </p:nvSpPr>
        <p:spPr>
          <a:xfrm>
            <a:off x="4495680" y="3657600"/>
            <a:ext cx="3581640" cy="167652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онструктивный диалог предполагает обсуждение вариантов решения проблемы, а не кри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761760"/>
            <a:ext cx="7238880" cy="56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ПРЕДЛОЖЕНИЙ ПО РЕШЕНИЮ  ПРОБЛЕМ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предлагайте РЕШЕНИЕ, а не перечень претенз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йте ВЫГОДЫ и ПРЕИМУЩЕСТ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– это то, чем ваше предложение отличается от других решений проблемы в лучшую сторон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ды – это то, какую пользу для себя получит человек, если примет те преимущества, которые вы ему изложил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7255080" cy="1000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914400"/>
            <a:ext cx="723888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M.A.R.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(Specific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кретная, т.е. четко сформулированна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(Measurable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мерима, т.е. должны быть измеримы параметры, по которым можно будет определить, что результат достигну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Achivable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стижима, т.е. цели должны быть достаточно сложными, предполагающими усилия, но при этом достижимы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(Result-oriented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результат, т.е. в цели должен быть отражен желаемый результат, а не объем проделанной работ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(Timed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сима с конкретным сроком, т.е. в цели должен быть определен срок ее реализаци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инирование и отстаивание исключительно своей правоты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rebuchet MS"/>
              </a:rPr>
              <a:t>Договориться и сохранить отношения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читает, что единственно возможный вариант решения проблемы – свой личный выигрыш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ня устроит только такой исход, когда принята моя точка зрения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7780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еобходимого эмоционального фо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2" descr=""/>
          <p:cNvPicPr/>
          <p:nvPr/>
        </p:nvPicPr>
        <p:blipFill>
          <a:blip r:embed="rId1"/>
          <a:stretch/>
        </p:blipFill>
        <p:spPr>
          <a:xfrm>
            <a:off x="390600" y="317520"/>
            <a:ext cx="736920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партнеров слушать друг друг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«штиль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Блок-схема: решение 14"/>
          <p:cNvSpPr/>
          <p:nvPr/>
        </p:nvSpPr>
        <p:spPr>
          <a:xfrm>
            <a:off x="0" y="2362320"/>
            <a:ext cx="3809880" cy="2133360"/>
          </a:xfrm>
          <a:prstGeom prst="flowChartDecision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ас слышат, если вы сняли эмоциональный накал в об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Блок-схема: решение 15"/>
          <p:cNvSpPr/>
          <p:nvPr/>
        </p:nvSpPr>
        <p:spPr>
          <a:xfrm>
            <a:off x="3429000" y="2286000"/>
            <a:ext cx="4572000" cy="2895480"/>
          </a:xfrm>
          <a:prstGeom prst="flowChartDecision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ас слышат, если вы показали собеседнику, что признаёте важность , значимость того, что он говор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решение 16"/>
          <p:cNvSpPr/>
          <p:nvPr/>
        </p:nvSpPr>
        <p:spPr>
          <a:xfrm>
            <a:off x="838080" y="4267080"/>
            <a:ext cx="4496040" cy="2286000"/>
          </a:xfrm>
          <a:prstGeom prst="flowChartDecision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ас слышат, если вы действительно хотите понять то, что хочет донести до вас собес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450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838080"/>
            <a:ext cx="723888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передачи информации - вербальные средств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передачи информации – невербальные средств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акрытые жест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ткинутый назад корпу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тирание века или мочки ух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беседник прикрывает рот рук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еркаливание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(чаще неосознанное) копирование жестов, мимики, позы, слов, интонации партнера по общению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еркалива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особ налаживания взаимопониман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603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личностные отнош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ир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пуляц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ерничеств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ств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ружеств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роения конструктивного диалога используйте различные типы вопросов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е вопросы – получить информацию,установить контакт, разговорить человек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ые вопросы – получить согласие или подтвержде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яющие вопросы – уточнить какой-то факт или акцентировать внимание собеседника на важных моментах в процессе переговоров и принятия решени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ые вопросы – выбор между несколькими вариантами ответ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юди отвыкли слушать, что им говорят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арри Кин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530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90720"/>
            <a:ext cx="723888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вторение слов собеседни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юмирование сказанн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вторение всего сказанного оппонентом в сжатом вид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е следств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тие, дополнение мысли собеседни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сьба уточнить, разъяснить отдельные высказывания оппонен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-высказыва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55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атия – умение распознавать эмоциональное состояние другого человека, понимать его пережив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атия – важное коммуникативное свойство человека, которое позволяет создать атмосферу открытости, доверия, понимани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понимание порой способно дружбу заменить враждой (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сидская пословица)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5:47:32Z</dcterms:created>
  <dc:creator>Толян</dc:creator>
  <dc:description/>
  <dc:language>en-US</dc:language>
  <cp:lastModifiedBy>007</cp:lastModifiedBy>
  <dcterms:modified xsi:type="dcterms:W3CDTF">2013-02-12T15:26:43Z</dcterms:modified>
  <cp:revision>20</cp:revision>
  <dc:subject/>
  <dc:title>Федеральное казенное общеобразовательное учреждение «Вечерняя (сменная) общеобразовательная школа №2 ГУФСИН России по Свердловской области»</dc:title>
</cp:coreProperties>
</file>