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8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4D7C-64B3-468F-A8BC-90ADC9308B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5FAA-2128-4E62-95A9-03923CFA42EF}" type="slidenum">
              <a:rPr b="0" lang="ru-RU" sz="1200" spc="-1" strike="noStrike">
                <a:solidFill>
                  <a:srgbClr val="fbfae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ae2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D273-0680-4A15-BF2C-3AA02A394C47}" type="slidenum">
              <a:rPr b="0" lang="ru-RU" sz="1200" spc="-1" strike="noStrike">
                <a:solidFill>
                  <a:srgbClr val="fbfae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ae2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8562-EE73-44AC-89E0-038A5C3AD480}" type="slidenum">
              <a:rPr b="0" lang="ru-RU" sz="1200" spc="-1" strike="noStrike">
                <a:solidFill>
                  <a:srgbClr val="fbfae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ae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8EE-0BB9-42A2-AA23-CAD447B5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4A7-7465-49EA-8F44-68B29E51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969-2C60-4AF3-A1B6-2BD4896D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5E5-04A4-48BA-9C74-983AD883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61E4-859E-4484-8E9A-BB35E0C7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8A49-4369-4E7F-BF32-5333CCE0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51F3-0FC8-408C-8D81-B3A45EF0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9167-BDCA-4F30-8BFE-EB47A573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E3BC-2494-45B8-80A2-04023884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7BA7-37F7-4296-A7A5-B0CF92D6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8AE0-797F-49C7-9BD3-A4EB4400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90E-F8E6-4A1B-9A61-0B4FE1E6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7C8A-7F2B-4FE8-8100-ED5BACB0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5FC4-3E73-459B-935A-D87E2CC4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0375-A9A3-4F6F-91AF-08CB5899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9E26-B648-4098-AFA5-07292871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29ED-2A08-4C3F-BB33-523142D7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CC726-B7BC-4880-8BA4-8CE96C4E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71BF2-998C-4D89-BD37-15DAA713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F2A87-D78D-4D7B-88E1-6C884228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2A954-D417-4923-923C-B42943F1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DAE21-A3FE-4941-98A0-FF2EEB23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622-15BD-4DD3-B3BD-5386E3B5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E85FB-B247-41FD-895F-0493460D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9A0C-D373-45D8-BDEF-BFBD96E5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2E119-4227-41EB-A09B-609A2483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A65C3-4CCE-487E-A16A-2FBCC39A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3C0E0-4460-4C94-8CFE-D781D473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B2CC8-B321-47E6-86EE-603802B9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25766-C7EA-4650-AD18-A6A2295A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53DFB-E0E9-4CEB-9782-1266B003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E5C9E-0C65-40F1-BDE2-81B6AE85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FCBAC-6F63-4454-A65B-82999A68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CE5B-693A-4DA8-8C5F-FF9A8CF4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BE628-AB41-46B3-8B45-9D78B192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59D30-3C9A-41F3-9E99-4FAE99C4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DAE39-19E2-45CF-B57C-26C5A86C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B58DA-301C-4515-B926-90965BCA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35078-322A-410F-873F-0841BBC0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0D745-C5B4-4286-9086-79B0EF4C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94205-8785-48FC-B644-8ABBF0EA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3D324-8251-415C-A028-2820A3B3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279D8-17F5-42C0-8408-48E116A0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A02-F033-49A1-ACF5-D792C596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080-3FE5-4368-B17E-7FA74F25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3FAA-E956-497F-A19C-B9324A8F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366-71E9-4F2C-8DFA-5BD84F9F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C0F-FA1F-4DDC-82F6-A1F73369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bfae2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bfae2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8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bfae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bfae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90C6-6454-4529-A453-3F3C9805D0AC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bfae2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8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bfae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bfae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67ED-B952-4FEC-82DD-D05BA77E0A4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9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bfae2"/>
                </a:solidFill>
                <a:latin typeface="Arial"/>
              </a:endParaRPr>
            </a:p>
          </p:txBody>
        </p:sp>
        <p:pic>
          <p:nvPicPr>
            <p:cNvPr id="9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bfae2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8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bfae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bfae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092E-9205-4597-B1A0-FD10C7925721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3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bfae2"/>
                </a:solidFill>
                <a:latin typeface="Arial"/>
              </a:endParaRPr>
            </a:p>
          </p:txBody>
        </p:sp>
        <p:pic>
          <p:nvPicPr>
            <p:cNvPr id="13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bfae2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8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bfae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bfae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ae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2327-F930-4016-967E-36C8C90B60A1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400800" y="838080"/>
            <a:ext cx="2057400" cy="221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bfae2"/>
              </a:solidFill>
              <a:latin typeface="Arial"/>
            </a:endParaRPr>
          </a:p>
        </p:txBody>
      </p:sp>
      <p:pic>
        <p:nvPicPr>
          <p:cNvPr id="187" name="Рисунок 4" descr="http://uld7.odnoklassniki.ru/getImage?photoId=389011157863&amp;photoType=0"/>
          <p:cNvPicPr/>
          <p:nvPr/>
        </p:nvPicPr>
        <p:blipFill>
          <a:blip r:embed="rId1"/>
          <a:stretch/>
        </p:blipFill>
        <p:spPr>
          <a:xfrm>
            <a:off x="6473880" y="884160"/>
            <a:ext cx="1920960" cy="2151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981080" y="4800600"/>
            <a:ext cx="56390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читель начальных классов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МКОУ "Средняя общеобразовательная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школа № 6"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городского округа город Фролово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295280" y="3124080"/>
            <a:ext cx="7162920" cy="12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66"/>
                </a:solidFill>
                <a:latin typeface="Impact"/>
              </a:rPr>
              <a:t>Щербакова Елена Сергеевн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66"/>
              </a:solidFill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00200" y="533520"/>
            <a:ext cx="4191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ртфолио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Rectangle 2" descr=""/>
          <p:cNvPicPr/>
          <p:nvPr/>
        </p:nvPicPr>
        <p:blipFill>
          <a:blip r:embed="rId1"/>
          <a:stretch/>
        </p:blipFill>
        <p:spPr>
          <a:xfrm>
            <a:off x="987480" y="45072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066680" y="2286000"/>
            <a:ext cx="7467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- 2012 год – международный математический конкурс «КЕНГУРУ».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- 2011год – школьная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олимпиада по русскому языку 1 место.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 2012 год – школьная олимпиада по математике 1 место.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 2012 год – конкурс новогодних рисунков «Зимушка – зима».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</p:txBody>
      </p:sp>
      <p:pic>
        <p:nvPicPr>
          <p:cNvPr id="215" name="Picture 1" descr="http://www.gifpark.su/Gifs/PEOPLE/CHILDREN/21M2.gif"/>
          <p:cNvPicPr/>
          <p:nvPr/>
        </p:nvPicPr>
        <p:blipFill>
          <a:blip r:embed="rId2"/>
          <a:stretch/>
        </p:blipFill>
        <p:spPr>
          <a:xfrm>
            <a:off x="1077840" y="609480"/>
            <a:ext cx="8683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987480" y="450720"/>
            <a:ext cx="7785000" cy="1158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" descr="http://www.gifpark.su/Gifs/PEOPLE/CHILDREN/21M2.gif"/>
          <p:cNvPicPr/>
          <p:nvPr/>
        </p:nvPicPr>
        <p:blipFill>
          <a:blip r:embed="rId2"/>
          <a:stretch/>
        </p:blipFill>
        <p:spPr>
          <a:xfrm>
            <a:off x="1077840" y="609480"/>
            <a:ext cx="86832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5" descr="img020.jpg"/>
          <p:cNvPicPr/>
          <p:nvPr/>
        </p:nvPicPr>
        <p:blipFill>
          <a:blip r:embed="rId3"/>
          <a:stretch/>
        </p:blipFill>
        <p:spPr>
          <a:xfrm rot="20908200">
            <a:off x="1066680" y="2514600"/>
            <a:ext cx="2835360" cy="40514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2.png"/>
          <p:cNvPicPr/>
          <p:nvPr/>
        </p:nvPicPr>
        <p:blipFill>
          <a:blip r:embed="rId4"/>
          <a:stretch/>
        </p:blipFill>
        <p:spPr>
          <a:xfrm>
            <a:off x="3352680" y="1676520"/>
            <a:ext cx="2968920" cy="42796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8" descr="1.png"/>
          <p:cNvPicPr/>
          <p:nvPr/>
        </p:nvPicPr>
        <p:blipFill>
          <a:blip r:embed="rId5"/>
          <a:stretch/>
        </p:blipFill>
        <p:spPr>
          <a:xfrm rot="876600">
            <a:off x="5867280" y="2514600"/>
            <a:ext cx="2938680" cy="4124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676440" y="182520"/>
            <a:ext cx="7974000" cy="8352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74628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- Методические разработки уроков.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- Методические разработки внеклассных мероприятий.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  <p:pic>
        <p:nvPicPr>
          <p:cNvPr id="223" name="Picture 6" descr="book"/>
          <p:cNvPicPr/>
          <p:nvPr/>
        </p:nvPicPr>
        <p:blipFill>
          <a:blip r:embed="rId2"/>
          <a:stretch/>
        </p:blipFill>
        <p:spPr>
          <a:xfrm>
            <a:off x="684360" y="0"/>
            <a:ext cx="1260360" cy="126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3236760" y="317520"/>
            <a:ext cx="55832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3"/>
          <p:cNvSpPr/>
          <p:nvPr/>
        </p:nvSpPr>
        <p:spPr>
          <a:xfrm>
            <a:off x="4038480" y="2057400"/>
            <a:ext cx="4818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bfae2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bfae2"/>
                </a:solidFill>
                <a:latin typeface="Arial"/>
              </a:rPr>
              <a:t>Список справочной и энциклопедической литературы в классе</a:t>
            </a:r>
            <a:endParaRPr b="0" lang="en-US" sz="2400" spc="-1" strike="noStrike">
              <a:solidFill>
                <a:srgbClr val="fbfae2"/>
              </a:solidFill>
              <a:latin typeface="Arial"/>
            </a:endParaRPr>
          </a:p>
          <a:p>
            <a:pPr>
              <a:buClr>
                <a:srgbClr val="66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Arial"/>
            </a:endParaRPr>
          </a:p>
          <a:p>
            <a:pPr>
              <a:buClr>
                <a:srgbClr val="66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bfae2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bfae2"/>
                </a:solidFill>
                <a:latin typeface="Arial"/>
              </a:rPr>
              <a:t>Список методической литературы</a:t>
            </a:r>
            <a:endParaRPr b="0" lang="en-US" sz="2400" spc="-1" strike="noStrike">
              <a:solidFill>
                <a:srgbClr val="fbfae2"/>
              </a:solidFill>
              <a:latin typeface="Arial"/>
            </a:endParaRPr>
          </a:p>
          <a:p>
            <a:pPr>
              <a:buClr>
                <a:srgbClr val="66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Arial"/>
            </a:endParaRPr>
          </a:p>
          <a:p>
            <a:pPr>
              <a:buClr>
                <a:srgbClr val="66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bfae2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bfae2"/>
                </a:solidFill>
                <a:latin typeface="Arial"/>
              </a:rPr>
              <a:t>ТСО и сопутствующие принадлежности (видео/аудиоматериалы)</a:t>
            </a:r>
            <a:endParaRPr b="0" lang="en-US" sz="2400" spc="-1" strike="noStrike">
              <a:solidFill>
                <a:srgbClr val="fbfae2"/>
              </a:solidFill>
              <a:latin typeface="Arial"/>
            </a:endParaRPr>
          </a:p>
        </p:txBody>
      </p:sp>
      <p:pic>
        <p:nvPicPr>
          <p:cNvPr id="226" name="Рисунок 4" descr="12022013477.jpg"/>
          <p:cNvPicPr/>
          <p:nvPr/>
        </p:nvPicPr>
        <p:blipFill>
          <a:blip r:embed="rId2"/>
          <a:stretch/>
        </p:blipFill>
        <p:spPr>
          <a:xfrm>
            <a:off x="987480" y="1670040"/>
            <a:ext cx="2146320" cy="15429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5" descr="12022013478.jpg"/>
          <p:cNvPicPr/>
          <p:nvPr/>
        </p:nvPicPr>
        <p:blipFill>
          <a:blip r:embed="rId3"/>
          <a:stretch/>
        </p:blipFill>
        <p:spPr>
          <a:xfrm>
            <a:off x="1670040" y="3273480"/>
            <a:ext cx="2073240" cy="13842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6" descr="12022013479.jpg"/>
          <p:cNvPicPr/>
          <p:nvPr/>
        </p:nvPicPr>
        <p:blipFill>
          <a:blip r:embed="rId4"/>
          <a:stretch/>
        </p:blipFill>
        <p:spPr>
          <a:xfrm>
            <a:off x="1139760" y="4797360"/>
            <a:ext cx="2219400" cy="1663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712800" y="450720"/>
            <a:ext cx="8059680" cy="100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990720" y="1600200"/>
          <a:ext cx="7772400" cy="5329080"/>
        </p:xfrm>
        <a:graphic>
          <a:graphicData uri="http://schemas.openxmlformats.org/drawingml/2006/table">
            <a:tbl>
              <a:tblPr/>
              <a:tblGrid>
                <a:gridCol w="36576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Фамилия,  Имя, Отчество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Щербакова </a:t>
                      </a:r>
                      <a:endParaRPr b="0" lang="en-US" sz="20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Елена Сергеевна</a:t>
                      </a:r>
                      <a:endParaRPr b="0" lang="en-US" sz="20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Дата рождения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872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719</a:t>
                      </a:r>
                      <a:r>
                        <a:rPr b="0" i="1" lang="ru-RU" sz="18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19.09.1982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872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169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Образование,  квалификация по диплому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Высшее, окончила</a:t>
                      </a:r>
                      <a:endParaRPr b="0" lang="en-US" sz="16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i="1" lang="ru-RU" sz="16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Волгоградский государственный педагогический    университет </a:t>
                      </a:r>
                      <a:endParaRPr b="0" lang="en-US" sz="16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по специальности </a:t>
                      </a:r>
                      <a:endParaRPr b="0" lang="en-US" sz="16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учитель русского языка и литературы</a:t>
                      </a:r>
                      <a:endParaRPr b="0" lang="en-US" sz="16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Занимаемая должность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Учитель начальных классов</a:t>
                      </a:r>
                      <a:endParaRPr b="0" lang="en-US" sz="16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Стаж работы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С 2002 г.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Стаж работы  в МКОУ «СОШ №6» городского округа город Фролово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С 21.09.2011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Наличие квалификационной категории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e9d2"/>
                          </a:solidFill>
                          <a:latin typeface="Times New Roman"/>
                          <a:ea typeface="Arial"/>
                        </a:rPr>
                        <a:t>Вторая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Рисунок 4" descr="i.jpg"/>
          <p:cNvPicPr/>
          <p:nvPr/>
        </p:nvPicPr>
        <p:blipFill>
          <a:blip r:embed="rId2"/>
          <a:stretch/>
        </p:blipFill>
        <p:spPr>
          <a:xfrm>
            <a:off x="5937120" y="225360"/>
            <a:ext cx="2225880" cy="130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Rectangle 2" descr=""/>
          <p:cNvPicPr/>
          <p:nvPr/>
        </p:nvPicPr>
        <p:blipFill>
          <a:blip r:embed="rId1"/>
          <a:stretch/>
        </p:blipFill>
        <p:spPr>
          <a:xfrm>
            <a:off x="1895400" y="212760"/>
            <a:ext cx="6827760" cy="6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838080" y="1265400"/>
          <a:ext cx="8001000" cy="5111640"/>
        </p:xfrm>
        <a:graphic>
          <a:graphicData uri="http://schemas.openxmlformats.org/drawingml/2006/table">
            <a:tbl>
              <a:tblPr/>
              <a:tblGrid>
                <a:gridCol w="1320840"/>
                <a:gridCol w="5689800"/>
                <a:gridCol w="990360"/>
              </a:tblGrid>
              <a:tr h="1201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Уч. год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368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              </a:t>
                      </a: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Название курса              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368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Кол-во часов</a:t>
                      </a:r>
                      <a:endParaRPr b="0" lang="en-US" sz="18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368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1081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Calibri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Calibri"/>
                        </a:rPr>
                        <a:t>«Проблемы и пути развития детского чтения»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1414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«Реализация требований ФГОС НОО в вариативной начальной школе»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102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  <a:tr h="141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«Использование ЭОР в образовательном процессе»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2" descr="C:\Users\Татьяна\Pictures\47203.gif"/>
          <p:cNvPicPr/>
          <p:nvPr/>
        </p:nvPicPr>
        <p:blipFill>
          <a:blip r:embed="rId2"/>
          <a:stretch/>
        </p:blipFill>
        <p:spPr>
          <a:xfrm>
            <a:off x="7772400" y="0"/>
            <a:ext cx="914400" cy="9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987480" y="255600"/>
            <a:ext cx="7785000" cy="14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914400" y="1752480"/>
          <a:ext cx="7848720" cy="3891240"/>
        </p:xfrm>
        <a:graphic>
          <a:graphicData uri="http://schemas.openxmlformats.org/drawingml/2006/table">
            <a:tbl>
              <a:tblPr/>
              <a:tblGrid>
                <a:gridCol w="2039760"/>
                <a:gridCol w="2041560"/>
                <a:gridCol w="1712880"/>
                <a:gridCol w="205452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Предмет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Четверть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solidFill>
                      <a:srgbClr val="ce996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solidFill>
                      <a:srgbClr val="ce996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solidFill>
                      <a:srgbClr val="ce996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литературное чтение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solidFill>
                      <a:srgbClr val="ce9964"/>
                    </a:solidFill>
                  </a:tcPr>
                </a:tc>
              </a:tr>
              <a:tr h="698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1 четверть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872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ce996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49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872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54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872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78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872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</a:tr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2 четверть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ce996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51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56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f6ef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78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</a:tr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3 четверть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ce996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53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52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72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</a:tr>
              <a:tr h="69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  <a:ea typeface="Arial"/>
                        </a:rPr>
                        <a:t>4 четверть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ce996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53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52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f6ef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  <a:ea typeface="Arial"/>
                        </a:rPr>
                        <a:t>72%</a:t>
                      </a:r>
                      <a:endParaRPr b="0" lang="en-US" sz="2400" spc="-1" strike="noStrike">
                        <a:solidFill>
                          <a:srgbClr val="fbfae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dded3"/>
                    </a:solidFill>
                  </a:tcPr>
                </a:tc>
              </a:tr>
            </a:tbl>
          </a:graphicData>
        </a:graphic>
      </p:graphicFrame>
      <p:pic>
        <p:nvPicPr>
          <p:cNvPr id="199" name="Picture 14" descr="п"/>
          <p:cNvPicPr/>
          <p:nvPr/>
        </p:nvPicPr>
        <p:blipFill>
          <a:blip r:embed="rId2"/>
          <a:stretch/>
        </p:blipFill>
        <p:spPr>
          <a:xfrm>
            <a:off x="7315200" y="4971960"/>
            <a:ext cx="154476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987480" y="255600"/>
            <a:ext cx="7785000" cy="1420920"/>
          </a:xfrm>
          <a:prstGeom prst="rect">
            <a:avLst/>
          </a:prstGeom>
          <a:ln w="0">
            <a:noFill/>
          </a:ln>
        </p:spPr>
      </p:pic>
      <p:pic>
        <p:nvPicPr>
          <p:cNvPr id="201" name="Диаграмма 11" descr=""/>
          <p:cNvPicPr/>
          <p:nvPr/>
        </p:nvPicPr>
        <p:blipFill>
          <a:blip r:embed="rId2"/>
          <a:stretch/>
        </p:blipFill>
        <p:spPr>
          <a:xfrm>
            <a:off x="1060560" y="1749600"/>
            <a:ext cx="7632720" cy="4736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743040" y="450720"/>
            <a:ext cx="8029440" cy="1158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1142640" y="1752120"/>
            <a:ext cx="74674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«Технология взаимного обучения на уроках гуманитарного цикла»</a:t>
            </a:r>
            <a:endParaRPr b="0" lang="en-US" sz="5400" spc="-1" strike="noStrike">
              <a:solidFill>
                <a:srgbClr val="fbfae2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743040" y="255600"/>
            <a:ext cx="8029440" cy="1420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Выступление на тему: «Реализация требований ФГОС: пять ключевых позиций методического сопровождения» </a:t>
            </a:r>
            <a:endParaRPr b="0" lang="en-US" sz="3600" spc="-1" strike="noStrike">
              <a:solidFill>
                <a:srgbClr val="fbfae2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fae2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743040" y="450720"/>
            <a:ext cx="8029440" cy="1158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хнология проблемного обучения; 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хнология оценивания образовательных достижений обучающихся;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хнологию формирования правильного типа читательской деятельности; 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информационно-коммуникативные технологии.</a:t>
            </a:r>
            <a:endParaRPr b="0" lang="en-US" sz="3200" spc="-1" strike="noStrike">
              <a:solidFill>
                <a:srgbClr val="fbfae2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4039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fae2"/>
                </a:solidFill>
                <a:latin typeface="Cambria"/>
                <a:ea typeface="Calibri"/>
              </a:rPr>
              <a:t>       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fae2"/>
                </a:solidFill>
                <a:latin typeface="Cambria"/>
                <a:ea typeface="Calibri"/>
              </a:rPr>
              <a:t>             </a:t>
            </a:r>
            <a:r>
              <a:rPr b="1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1место по школе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Cambria"/>
                <a:ea typeface="Calibri"/>
              </a:rPr>
              <a:t> 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mbria"/>
                <a:ea typeface="Calibri"/>
              </a:rPr>
              <a:t>Гуменюк Михаил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Международный             математический 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конкурс «Кенгуру»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Школьная олимпиада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по русскому языку 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1 место 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7960" y="1676160"/>
            <a:ext cx="40417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        </a:t>
            </a:r>
            <a:r>
              <a:rPr b="1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2 место в школе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fae2"/>
                </a:solidFill>
                <a:latin typeface="Cambria"/>
                <a:ea typeface="Calibri"/>
              </a:rPr>
              <a:t> 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mbria"/>
                <a:ea typeface="Calibri"/>
              </a:rPr>
              <a:t>Тушканова Виктория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Международный математический 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конкурс «Кенгуру»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Школьная олимпиада 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по математике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2 место</a:t>
            </a:r>
            <a:endParaRPr b="0" lang="en-US" sz="2400" spc="-1" strike="noStrike">
              <a:solidFill>
                <a:srgbClr val="fbfae2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5:22:29Z</dcterms:created>
  <dc:creator>Татьяна</dc:creator>
  <dc:description/>
  <dc:language>en-US</dc:language>
  <cp:lastModifiedBy>Учитель</cp:lastModifiedBy>
  <dcterms:modified xsi:type="dcterms:W3CDTF">2013-02-12T08:45:34Z</dcterms:modified>
  <cp:revision>169</cp:revision>
  <dc:subject/>
  <dc:title>Слайд 1</dc:title>
</cp:coreProperties>
</file>