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B81-6AAB-45D5-B01F-8C1E1F936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E4D-8A6F-4C00-8105-150960E0A5A3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9AFD-C967-448E-80FE-0A135BB292F6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4D9-22B8-4B2A-8C0F-995DEDB7F32A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E51-A3E9-4072-B935-B4645678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483-7F60-49EC-B55E-EC9C59D3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421-0CB6-487F-9137-A7883AFC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EE-F51C-4412-841F-07A2A52C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4126-3131-4A8A-9826-2783902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B4D-B629-4F4F-A369-2C3351B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346-DAF5-4E4A-90E5-AF40AD8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D99E-AF8C-4671-BF0B-AB64F2C4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329-E294-4231-B072-1E07824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5566-5407-4769-BBBD-4FE5E66D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BE66-8484-4E28-832C-DCACBA35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5DC-F769-4FB2-A9DE-19F5973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7CF-1797-44EA-B7FE-C0C6CE7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0C9-A192-4208-96E6-BA290A6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92E4-B21F-4C99-A3BB-62DE164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438-34DD-41A7-96C1-710933C3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47CA-D8D5-4E19-BACA-3A285CA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990E-8D3C-4D94-9591-C72E003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C28A-57AF-4471-8890-BD15B9C5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8E6D-3B8D-4793-BEBB-76F60F4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D3DE-5A28-4059-90FB-F2848DA1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7E82-6A9B-4AD6-9B84-817AA3F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32B-EFDB-4A07-85C8-B9C1224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5507-FAA8-4985-ACA2-476D2C5B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6992-C62B-4C4F-AE32-087D830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5D16-DBF7-40B6-8118-FCD8F03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DBA0-9D3D-47C5-B0BC-5B9C006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935F-F78C-4CC1-8803-0407EA9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D1BE-649C-4F76-94E7-265720C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49F7-D739-4DA6-863C-E0045317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2DC3-1A1C-4440-8B41-AAFC25C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DD94-6E00-44CC-B037-98AF246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3DC8-5D3F-48B1-B287-AF9061F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969-F11F-430E-85DC-01BF3B2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925C-99C8-4608-80BD-7D365CD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0C12-BD81-40B4-8A07-A5A90DA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DE8D-FBED-4813-A242-91D0220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9534-53BA-45B8-AD9B-1E7E999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2D1D-4F68-4590-896F-0A71DD8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EC2E-3382-47A3-8386-CDC2E1D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C690-01BD-46E3-8FF0-6B970390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35A9-8076-4E65-9886-1642D5FD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1165-D8ED-4208-8A0B-2CDAAE3B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DF7-47AA-47F0-9768-4D6A6BC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FB5-F6B3-4D9A-AC2B-1F918187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16F-DF1A-4CFF-ACEF-34C4540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908-9309-4667-8A2D-729B944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A14-FCCD-46D2-B42D-87242B48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493-6309-4694-A584-CAF2DA7B153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43A-6C79-49D9-BB5F-E6BB3288B5E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9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36B-6D4B-4EB8-A467-06C8C058FA8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13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209-5424-45CE-8524-42529835357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400800" y="838080"/>
            <a:ext cx="2057400" cy="221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pic>
        <p:nvPicPr>
          <p:cNvPr id="187" name="Рисунок 4" descr="http://uld7.odnoklassniki.ru/getImage?photoId=389011157863&amp;photoType=0"/>
          <p:cNvPicPr/>
          <p:nvPr/>
        </p:nvPicPr>
        <p:blipFill>
          <a:blip r:embed="rId1"/>
          <a:stretch/>
        </p:blipFill>
        <p:spPr>
          <a:xfrm>
            <a:off x="6473880" y="884160"/>
            <a:ext cx="1920960" cy="215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981080" y="4800600"/>
            <a:ext cx="5639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читель начальных классов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КОУ "Средняя общеобразовательная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школа № 6"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ородского округа город Фролово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3124080"/>
            <a:ext cx="71629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Impact"/>
              </a:rPr>
              <a:t>Щербакова Елена Сергеев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00200" y="533520"/>
            <a:ext cx="4191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ртфоли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066680" y="228600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- 2012 год – международный математический конкурс «КЕНГУРУ»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- 2011год – школьна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олимпиада по русскому языку 1 место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2012 год – школьная олимпиада по математике 1 место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2012 год – конкурс новогодних рисунков «Зимушка – зима»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pic>
        <p:nvPicPr>
          <p:cNvPr id="215" name="Picture 1" descr="http://www.gifpark.su/Gifs/PEOPLE/CHILDREN/21M2.gif"/>
          <p:cNvPicPr/>
          <p:nvPr/>
        </p:nvPicPr>
        <p:blipFill>
          <a:blip r:embed="rId2"/>
          <a:stretch/>
        </p:blipFill>
        <p:spPr>
          <a:xfrm>
            <a:off x="1077840" y="609480"/>
            <a:ext cx="8683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http://www.gifpark.su/Gifs/PEOPLE/CHILDREN/21M2.gif"/>
          <p:cNvPicPr/>
          <p:nvPr/>
        </p:nvPicPr>
        <p:blipFill>
          <a:blip r:embed="rId2"/>
          <a:stretch/>
        </p:blipFill>
        <p:spPr>
          <a:xfrm>
            <a:off x="1077840" y="60948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img020.jpg"/>
          <p:cNvPicPr/>
          <p:nvPr/>
        </p:nvPicPr>
        <p:blipFill>
          <a:blip r:embed="rId3"/>
          <a:stretch/>
        </p:blipFill>
        <p:spPr>
          <a:xfrm rot="20908200">
            <a:off x="1066680" y="2514600"/>
            <a:ext cx="2835360" cy="40514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2.png"/>
          <p:cNvPicPr/>
          <p:nvPr/>
        </p:nvPicPr>
        <p:blipFill>
          <a:blip r:embed="rId4"/>
          <a:stretch/>
        </p:blipFill>
        <p:spPr>
          <a:xfrm>
            <a:off x="3352680" y="1676520"/>
            <a:ext cx="2968920" cy="4279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1.png"/>
          <p:cNvPicPr/>
          <p:nvPr/>
        </p:nvPicPr>
        <p:blipFill>
          <a:blip r:embed="rId5"/>
          <a:stretch/>
        </p:blipFill>
        <p:spPr>
          <a:xfrm rot="876600">
            <a:off x="5867280" y="2514600"/>
            <a:ext cx="2938680" cy="412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7974000" cy="835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4628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- Методические разработки уроков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- Методические разработки внеклассных мероприятий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pic>
        <p:nvPicPr>
          <p:cNvPr id="223" name="Picture 6" descr="book"/>
          <p:cNvPicPr/>
          <p:nvPr/>
        </p:nvPicPr>
        <p:blipFill>
          <a:blip r:embed="rId2"/>
          <a:stretch/>
        </p:blipFill>
        <p:spPr>
          <a:xfrm>
            <a:off x="684360" y="0"/>
            <a:ext cx="1260360" cy="12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236760" y="317520"/>
            <a:ext cx="55832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4038480" y="2057400"/>
            <a:ext cx="481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Список справочной и энциклопедической литературы в классе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Список методической литературы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ТСО и сопутствующие принадлежности (видео/аудиоматериалы)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</p:txBody>
      </p:sp>
      <p:pic>
        <p:nvPicPr>
          <p:cNvPr id="226" name="Рисунок 4" descr="12022013477.jpg"/>
          <p:cNvPicPr/>
          <p:nvPr/>
        </p:nvPicPr>
        <p:blipFill>
          <a:blip r:embed="rId2"/>
          <a:stretch/>
        </p:blipFill>
        <p:spPr>
          <a:xfrm>
            <a:off x="987480" y="1670040"/>
            <a:ext cx="214632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12022013478.jpg"/>
          <p:cNvPicPr/>
          <p:nvPr/>
        </p:nvPicPr>
        <p:blipFill>
          <a:blip r:embed="rId3"/>
          <a:stretch/>
        </p:blipFill>
        <p:spPr>
          <a:xfrm>
            <a:off x="1670040" y="3273480"/>
            <a:ext cx="2073240" cy="1384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12022013479.jpg"/>
          <p:cNvPicPr/>
          <p:nvPr/>
        </p:nvPicPr>
        <p:blipFill>
          <a:blip r:embed="rId4"/>
          <a:stretch/>
        </p:blipFill>
        <p:spPr>
          <a:xfrm>
            <a:off x="1139760" y="4797360"/>
            <a:ext cx="221940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712800" y="450720"/>
            <a:ext cx="805968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90720" y="1600200"/>
          <a:ext cx="7772400" cy="5329080"/>
        </p:xfrm>
        <a:graphic>
          <a:graphicData uri="http://schemas.openxmlformats.org/drawingml/2006/table">
            <a:tbl>
              <a:tblPr/>
              <a:tblGrid>
                <a:gridCol w="36576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Фамилия,  Имя, Отчество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Щербакова </a:t>
                      </a:r>
                      <a:endParaRPr b="0" lang="en-US" sz="20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Елена Сергеевна</a:t>
                      </a:r>
                      <a:endParaRPr b="0" lang="en-US" sz="20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19</a:t>
                      </a:r>
                      <a:r>
                        <a:rPr b="0" i="1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9.09.1982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69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Образование,  квалификация по диплому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Высшее, окончила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Волгоградский государственный педагогический    университет 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по специальности 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учитель русского языка и литературы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Занимаемая должность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Учитель начальных классов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таж работы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 2002 г.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таж работы  в МКОУ «СОШ №6» городского округа город Фролово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 21.09.2011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Наличие квалификационной категории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Вторая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Рисунок 4" descr="i.jpg"/>
          <p:cNvPicPr/>
          <p:nvPr/>
        </p:nvPicPr>
        <p:blipFill>
          <a:blip r:embed="rId2"/>
          <a:stretch/>
        </p:blipFill>
        <p:spPr>
          <a:xfrm>
            <a:off x="5937120" y="225360"/>
            <a:ext cx="222588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1895400" y="212760"/>
            <a:ext cx="6827760" cy="6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838080" y="1265400"/>
          <a:ext cx="8001000" cy="5111640"/>
        </p:xfrm>
        <a:graphic>
          <a:graphicData uri="http://schemas.openxmlformats.org/drawingml/2006/table">
            <a:tbl>
              <a:tblPr/>
              <a:tblGrid>
                <a:gridCol w="1320840"/>
                <a:gridCol w="5689800"/>
                <a:gridCol w="990360"/>
              </a:tblGrid>
              <a:tr h="1201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Уч. год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Название курса             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«Проблемы и пути развития детского чтения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«Реализация требований ФГОС НОО в вариативной начальной школе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«Использование ЭОР в образовательном процессе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2" descr="C:\Users\Татьяна\Pictures\47203.gif"/>
          <p:cNvPicPr/>
          <p:nvPr/>
        </p:nvPicPr>
        <p:blipFill>
          <a:blip r:embed="rId2"/>
          <a:stretch/>
        </p:blipFill>
        <p:spPr>
          <a:xfrm>
            <a:off x="7772400" y="0"/>
            <a:ext cx="91440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914400" y="1752480"/>
          <a:ext cx="7848720" cy="3891240"/>
        </p:xfrm>
        <a:graphic>
          <a:graphicData uri="http://schemas.openxmlformats.org/drawingml/2006/table">
            <a:tbl>
              <a:tblPr/>
              <a:tblGrid>
                <a:gridCol w="2039760"/>
                <a:gridCol w="2041560"/>
                <a:gridCol w="1712880"/>
                <a:gridCol w="205452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литературное чтение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</a:tr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49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4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6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6ef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4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6ef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14" descr="п"/>
          <p:cNvPicPr/>
          <p:nvPr/>
        </p:nvPicPr>
        <p:blipFill>
          <a:blip r:embed="rId2"/>
          <a:stretch/>
        </p:blipFill>
        <p:spPr>
          <a:xfrm>
            <a:off x="7315200" y="4971960"/>
            <a:ext cx="15447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Диаграмма 11" descr=""/>
          <p:cNvPicPr/>
          <p:nvPr/>
        </p:nvPicPr>
        <p:blipFill>
          <a:blip r:embed="rId2"/>
          <a:stretch/>
        </p:blipFill>
        <p:spPr>
          <a:xfrm>
            <a:off x="1060560" y="1749600"/>
            <a:ext cx="763272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43040" y="45072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142640" y="1752120"/>
            <a:ext cx="7467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«Технология взаимного обучения на уроках гуманитарного цикла»</a:t>
            </a:r>
            <a:endParaRPr b="0" lang="en-US" sz="54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743040" y="255600"/>
            <a:ext cx="80294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Выступление на тему: «Реализация требований ФГОС: пять ключевых позиций методического сопровождения» </a:t>
            </a:r>
            <a:endParaRPr b="0" lang="en-US" sz="36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43040" y="45072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я проблемного обучения; 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я оценивания образовательных достижений обучающихся;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ю формирования правильного типа читательской деятельности; 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нформационно-коммуникативные технологии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4039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    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          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1место по школ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Гуменюк Михаи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Международный             математический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нкурс «Кенгуру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Школьная олимпиада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по русскому языку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1 место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676160"/>
            <a:ext cx="40417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2 место в школ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Тушканова Виктория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Международный математический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нкурс «Кенгуру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Школьная олимпиада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по математик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2 место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29Z</dcterms:created>
  <dc:creator>Татьяна</dc:creator>
  <dc:description/>
  <dc:language>en-US</dc:language>
  <cp:lastModifiedBy>Учитель</cp:lastModifiedBy>
  <dcterms:modified xsi:type="dcterms:W3CDTF">2013-02-12T08:45:34Z</dcterms:modified>
  <cp:revision>169</cp:revision>
  <dc:subject/>
  <dc:title>Слайд 1</dc:title>
</cp:coreProperties>
</file>