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699-D0E0-47FA-9A96-CABD909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3D6-5642-4B81-B9DD-44CAF6CF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8B0-CD43-4FA2-8BB9-285F063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EDC-1DE2-475E-A397-E79A8D66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210-9936-457C-8A8F-39D2C8E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6EFA-072F-4520-9AC1-DAF3CA4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16B-357C-40F4-A1DB-2F097F0F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21C-6E15-46FD-B4E8-63E6438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2C6-9C36-4DC7-ADBF-2895DD94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E94-F993-4233-93E5-E6A5C7E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326-251C-4B36-8379-7329328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815-B0A0-411F-8295-A6B90AA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47A-9A02-4F06-B82E-3E626C1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9A9C-F41B-4F41-B7E4-BFCA770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2394-6B93-4849-A9D9-C4306BC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9272-1F99-4B28-9A15-3D4A7032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3D63-5F80-4946-BBDF-C7CD3CED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DA3DF-80C0-499C-8C75-D5177E13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C4102-9F1C-449A-9011-801982C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49F55-EA52-4312-8CC8-F914DBA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77CDC-D330-40A1-999E-3B761B0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971C6-D375-4278-A031-8780199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6E2-B1CF-4D88-BCF1-BB729C5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C758C-ACC7-4153-8470-5C706DF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17F03-A2B5-4884-ABDB-928B91D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40526-9CF4-427A-AF27-A93A625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BD9DB-C2EE-4DF2-9AEE-E2B97C4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B2D59-AC65-4985-8318-5ADDD69F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8C699-A17E-4F84-AFC2-2B68451D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8CD6B-B10A-4ACC-A8DF-5183019C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63A18-6567-49FB-920D-3E8D8D74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0E3E2-7919-44CA-8660-562AF31C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DF8C7-EA9A-49F8-B6CD-4B8F3970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E0A-D327-4F1D-8592-56B0D9D9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866D2-FCA3-40F5-A1F2-04175104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A5C53-5F19-41AB-837D-C261370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D8D26-FCD1-4AD9-B4FB-5D3B1450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60692-A725-452D-96CB-6E50B79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287C3-BF9D-4E59-92B9-5CEE772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2BB09-08CB-4C77-BDEF-9EDDFC1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E30F8-0558-4094-90BA-CC98AD15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4F6DE-94CD-44A3-A984-A33E237D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71A91-7D46-4FA3-831C-12323C98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707EB-CD72-481C-A17C-D595A501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425-61CB-406D-BB39-5E0E019A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6F1CB-4B91-4B42-932E-6783F4F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2F9EB-04EA-4184-90A7-A7F8ECD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71C92-69C3-4291-AE2E-4A558C8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071EB-7BF1-407E-99EF-838C0BC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5C3E9-2C2D-4BB3-9A0A-6C6229D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D0902-9B5D-4646-9478-72CBA3F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48B40-67B0-411F-BD40-96E80628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DB448-9A71-42E8-B353-B90746A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59F48-5DD5-4AA0-97D2-43D2A34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6E5D6-0DA5-4AAE-BB66-91E4EE5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DFC-6E35-4A47-8F98-4B7B1D86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DDD22-298B-48F7-8E94-D601DFF4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CDEA-4A86-4357-85F4-A1908CFC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A6E81-8F26-4300-AB87-3BB313A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302C-2F15-452C-91CD-CCBFF8C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83D2-7372-41D6-A48D-FF61F09F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AF35-5831-4A69-8149-E1FB5F8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FD856-9174-467B-BEAB-0D5B075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7350-1529-4ED0-9A91-E6AB612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4D09-955A-479A-ABE4-089FCC7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1AC1-21AD-4617-B087-B9D4F0C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735-5D37-4388-9EE5-8E2309D0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22FF-6767-409F-9E7A-4FAC20BE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E0E3-5127-4496-9453-0AEEBC95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866E-90C5-463A-BFF6-54F61F6E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D9AA3-8C0D-4B69-B494-410FA217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B0EA7-9CB2-4C0C-A430-390DE25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04357-762D-4595-8D09-4DFA789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587AE-297B-414F-96E8-6DD1E8F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0F16E-9401-4D21-8DE9-36DE2751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67FA8-BDF2-4363-AD6B-EC67D7C9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FD615-DECE-43B1-95E3-E6D1677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716-889A-4D30-BD52-E2ADF8F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B46EB-5D2B-4C19-9419-BAE81DE3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C1D6F-0BA7-43B1-AFF3-5015D71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1F043-2378-487B-8DAF-2F54A9B0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CC813-5F22-4323-A70F-E5D3B73F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E3C9B-C44C-490C-B670-3E9CF19C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E7126-9BA9-4053-B362-A6B99053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CAC0-51A8-4346-89EF-1C367BF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BBB36-575B-4260-8B7B-337B200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E7244-F7BE-46BC-87C9-4C70B235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85FE-7AC9-49F0-B3DC-5227118C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A92-4047-49E4-A532-66A982C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5129-72BF-4971-943F-8BC85F19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A6B4-33C5-43AD-B302-3E03F76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878B-D137-4562-9A57-CCD36C6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68B97-3752-4DFF-B3EE-BE5C958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6D3E-C8E7-4B23-B083-241DE9F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44EB5-F7E3-4AC4-8E0E-4BC12527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667CC-6CF3-4B5F-AA96-EA48B46A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35D-A510-4DBF-8EEC-0998B01E02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5AE-62D5-4032-A02B-43D7C01107E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21F-1353-41CD-99E5-1CD48999AC3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A23-1B7D-4F0F-831D-C3D6AAD9AE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255-2F8D-406A-8A61-85CBE3A32F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DA0-3346-45D1-AE6B-416B5323FD0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713-D102-4BDE-B7A0-C1E83FAB9B7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2C44-4E18-4F2C-811C-1404B6F28C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5643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6360" y="4038480"/>
            <a:ext cx="73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bddc3"/>
                </a:solidFill>
                <a:latin typeface="Calibri"/>
              </a:rPr>
              <a:t>ШОКОЛАД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ыполнила Негробова Поли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Отношение людей к шокола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4" name="Содержимое 3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История шоколад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143080" y="2571840"/>
            <a:ext cx="4757760" cy="356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>
            <a:off x="6738840" y="4224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63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Словом «какао» также называют семена дерева какао и получаемый из них порошок; такое же название имеет и напито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История шоколад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Колумб объявляет открытую землю собственностью испанского корол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700" spc="-1" strike="noStrike">
                <a:solidFill>
                  <a:srgbClr val="ffffff"/>
                </a:solidFill>
                <a:latin typeface="Tahoma"/>
              </a:rPr>
              <a:t>Ферна́ндо Корте́с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испанский конкистадор, завоевавший Мексику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55760" y="2643120"/>
            <a:ext cx="4402080" cy="332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5553000" y="2724120"/>
            <a:ext cx="2592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Дерево кака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214200" y="2571840"/>
            <a:ext cx="5214960" cy="4035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5643720" y="1571760"/>
            <a:ext cx="3360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Производство шоколад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452600" y="1600200"/>
            <a:ext cx="6473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Виды шоколад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928960" y="2071800"/>
            <a:ext cx="5405400" cy="40003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ыкнове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есер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рис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ол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alibri"/>
              </a:rPr>
              <a:t>Полезные свойства шоколад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3580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2:45Z</dcterms:created>
  <dc:creator>Аля</dc:creator>
  <dc:description/>
  <dc:language>en-US</dc:language>
  <cp:lastModifiedBy>1</cp:lastModifiedBy>
  <dcterms:modified xsi:type="dcterms:W3CDTF">2011-01-29T07:32:52Z</dcterms:modified>
  <cp:revision>10</cp:revision>
  <dc:subject/>
  <dc:title>ШОКОЛАД</dc:title>
</cp:coreProperties>
</file>