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338-B8D1-453A-9E32-BFA90E92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7C-AB6D-40A3-B100-8E5A95ED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E75-44F2-426A-8629-8BCDDE7C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159-9463-468D-82A0-1CB8101E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C173-508A-4194-99B2-3559624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8E9-8FB0-4B98-9B44-E4DA5F3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59C-B467-4648-959C-91A419A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FE31-FA22-4D0C-9525-653EE866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20CC-7281-44B7-BB27-630D062C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0FB-CD1E-4267-A38E-75431F3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8A9E-C398-4C29-8C26-8CD319BA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B77-35A9-4C45-9F86-5834B91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9932-E094-4C50-BB71-10204E9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018C-EC9E-4A4D-A566-462A6E5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AB64-97A5-4FA6-B7B6-413D87C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84E6-E3DB-44C7-B254-9FE8C5F6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178-3873-4DC9-894A-3E04ED59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EC00-FDE8-4E7B-8EA2-5B26302A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4566-7803-425E-B180-ACD737C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6E37-F45E-4267-A8D5-7765A4EE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C05C-B28D-4107-87F0-A34F3B4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41A1-0E72-4FF2-A5B4-166D790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805-7BA5-471B-9BA1-FFB23E9A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17AD-E360-453A-A53E-25E8494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AD01-754F-4479-A9D6-02AFE508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959C-8974-44EA-8AEF-A664B7F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EA34-B8BB-4582-96CD-321A0A9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A475-CAF6-4A87-B228-92A8811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268A-C914-4E78-9444-6DF6A3AE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0A5A-D4A9-41B8-A8B4-CA13C916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F503-B5D1-4C93-A42D-F7428D6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C84E-E151-495B-9969-7981270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C29B-04ED-45A3-98DC-9683561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C43-148F-4616-8C8B-25DAFF1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8E10-D7F4-49B8-94D3-37C801C6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1977-52B9-40EC-AB79-40EDBDEF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0B42-07AC-4E44-ACC8-B0ACEEAC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161F-63BB-407B-8241-16074EE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7B06-6F20-4933-8A15-6F39AD1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C492-4689-4535-99E0-6E15737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7AB2-763A-4173-B041-F7E78B5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3CC6-CCA6-4B0D-8CF9-FAE2C451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D852-8163-4BAD-A385-53592AB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B23-65B2-43FE-B559-D745B6C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634-5FF9-48E9-B0BF-46A3574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F77-7A5E-405D-9B19-12E733B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71E-BCB7-4C92-BBB2-9BE08AB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508-2DE2-402D-8A44-68612F0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FE7-5AEB-4CE3-AEA5-8A4905BDBF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9674-7DAA-4E87-A589-B1F5BF319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0C6-BB38-438E-8534-6315439D38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0D5-90BA-40E8-836C-34D52AC1B8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26560" y="2085840"/>
            <a:ext cx="824076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«Системная подготовка к ЕГЭ на уроках математики – залог успешной сдачи экзамен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7120" y="-4788000"/>
            <a:ext cx="2365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 rot="5400000">
            <a:off x="-2448720" y="3033000"/>
            <a:ext cx="6480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идактические принцип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 rot="5400000">
            <a:off x="-1332000" y="3139920"/>
            <a:ext cx="61200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строения систем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220212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оследовательность системы должна быть такова, чтобы выполнение одних работ логически вытекало из предыдущих и готовило почву для выполнения последую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1243080" cy="550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1459080" cy="615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1295640" cy="703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203640" y="2708280"/>
            <a:ext cx="23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3348000" y="3573360"/>
            <a:ext cx="2448000" cy="519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99440" y="25956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Решить уравнение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: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120" y="980640"/>
            <a:ext cx="3285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Решить неравенство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120" y="1988280"/>
            <a:ext cx="332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и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равенство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9640" y="270720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 Решить уравнение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" y="3357000"/>
            <a:ext cx="314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. Решить уравнение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8720" y="2592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0720" y="105156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60720" y="19879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81440" y="26359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35722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Дидактические требов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2044800" cy="2324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220572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дрение в практику российского образования тестовых методов контроля знаний повысит объективность и надежность оценок учебных достижений учащихся, что, безусловно, приведет к повышению качества образования в Росс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омерная, вдумчивая и добросовестная учеба в школе позволит выпускнику хорошо подготовиться к участию в ЕГЭ и успешно решить судьбоносную проблему при переходе на более высокий уровень обучения в ВУЗ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256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Принцип доступности и систематич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ыт работы учителей нашей школы  показывает, что эффективность достигается, если она является одним из составляющих элементов учебного процесса и для нее предусматривается специальное время на уроках, если она проводится планомерно и систематически, а не случайно и эпизодически. Только при этом условии вырабатывается устойчивое умение и навыки, и наращиваются темпы в выполнении зад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914400" cy="476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1400040" cy="485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1190520" cy="47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796000" y="4221000"/>
            <a:ext cx="1228680" cy="505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36720" y="9068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1240" y="1373400"/>
            <a:ext cx="46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 сложения: 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2=0,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 подстанов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75160" y="256428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рафический спосо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8200" y="3899880"/>
            <a:ext cx="5036040" cy="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усть (х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; у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– решение систем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640" y="4763160"/>
            <a:ext cx="3346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ти разность х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у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256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Принцип постепенности в нарастании труд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ервых порах работа на уроке носит характер подражания. Работе учащихся предшествует наглядный показ приемов работы учителя, сопровождаемый четкими объяснениями, записями на доске. Эта работа не развивает самостоятельности в подлинном смысле слова, но имеет большое значение для формирования более сложных навыков и умений, благодаря которым учащиеся оказываются способными разрабатывать и применять свои методы решения задач различного характ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865440" cy="338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3240000" cy="504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1463760" cy="360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37240" y="27144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Решить уравнени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0440" y="145296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83680" y="2302560"/>
            <a:ext cx="398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Решить неравенство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360" y="691200"/>
            <a:ext cx="5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05968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инцип дифференциального подхода к учащим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ая за ходом работы класса в целом и отдельных учащихся, учитель должен вовремя переключать успешно справившихся с заданиями на выполнение более сложных. Некоторым учащимся количество тренировочных упражнений можно свести до минимума. Другим дать значительно больше работы в различных вариациях, чтобы они усвоили новый материал и научились самостоятельно применять его. Перевод такой группы учащихся на выполнение более сложных заданий должен быть своевременен. Здесь вредна как излишняя торопливость, так и чрезмерно продолжительное «топтание на месте», не продвигающее учащихся вперед в познании нового, в овладении умениями и навык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792000" cy="353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03280" cy="349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576360" cy="379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793800" cy="366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635280" y="2565360"/>
            <a:ext cx="576360" cy="34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4427640" y="2492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44200" y="6912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ример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Вычисл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0560" y="1411920"/>
            <a:ext cx="3570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простить выражение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3280" y="18248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64000" y="1829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4360" y="2491560"/>
            <a:ext cx="31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Решить уравнение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251676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32720" y="2564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1042920" y="386064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2411280" y="3860640"/>
            <a:ext cx="363600" cy="432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4788000" y="4221000"/>
            <a:ext cx="1584360" cy="536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3995640" y="5013360"/>
            <a:ext cx="1511280" cy="334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900000" y="2851560"/>
            <a:ext cx="64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Более сильным учащимся я  предлагаю сразу перейти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ожным заданиям, как на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4. Решить уравнение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5920" y="39330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= 1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26280" y="42915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5. Решить систему уравнен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9720" y="4723200"/>
            <a:ext cx="30412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6. Решить неравенство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1981080" y="4713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256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Принципы творческой актив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ую фазу человека нельзя вызвать по желанию. Интерес к творчеству достигается новизной выдвигаемых задач, необычностью их содержания, раскрытия перед учащимися практического значения предлагаемого задания. Я  прибегаю к приемам, организующим проблемную ситуацию. Это может достигаться разнообразием в формулировках задач, использованием упражнений с обратными действиями, решением их различными методами. Учащиеся всегда проявляют большой интерес к работам, в процессе выполнения которых они исследуют, открывают для себя что-то нов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ведени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372360" y="4175280"/>
            <a:ext cx="2535120" cy="2452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58920" y="1717920"/>
            <a:ext cx="87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 2009 года согласно Федеральному закону «О внесении изменений в Закон Российской Федерации «Об образовании» и Федеральный закон «О высшем и послевузовском профессиональном образовании» в части проведения единого государственного экзамена» от 09.02.2007 г. ЕГЭ вводится в штатный режи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начимость ЕГЭ как для отдельного учащегося, так и для системы образования в целом трудно переоценить, ведь смысл эксперимента состоит в совмещении итоговой аттестации выпускников общеобразовательных учреждений со вступительными испытаниями при поступлении в государственные вузы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833400" cy="381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792000" cy="414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792000" cy="360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2124000" y="2852640"/>
            <a:ext cx="1266840" cy="482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5219640" y="2924280"/>
            <a:ext cx="546120" cy="439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96960" y="48960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Найти значение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00000" y="126756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28720" y="1267560"/>
            <a:ext cx="6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=3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8480" y="1938960"/>
            <a:ext cx="76381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Пусть х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именьший положительный корень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92360" y="288684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39760" y="292320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2=0. Найдит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35160" y="2975040"/>
            <a:ext cx="27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134100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=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7760" y="358524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 Площадь треугольника АВС равна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5724360" y="3645000"/>
            <a:ext cx="24768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68600" y="3859920"/>
            <a:ext cx="59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дите АС, если сторона АВ = 8, и она больш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овины стороны АС, а медиана ВМ=5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79280" y="1197000"/>
            <a:ext cx="8639280" cy="4825440"/>
            <a:chOff x="179280" y="1197000"/>
            <a:chExt cx="8639280" cy="4825440"/>
          </a:xfrm>
        </p:grpSpPr>
        <p:grpSp>
          <p:nvGrpSpPr>
            <p:cNvPr id="348" name=""/>
            <p:cNvGrpSpPr/>
            <p:nvPr/>
          </p:nvGrpSpPr>
          <p:grpSpPr>
            <a:xfrm>
              <a:off x="7187760" y="1847160"/>
              <a:ext cx="1630800" cy="3045960"/>
              <a:chOff x="7187760" y="1847160"/>
              <a:chExt cx="1630800" cy="30459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7871760" y="3328200"/>
                <a:ext cx="876240" cy="1564920"/>
                <a:chOff x="7871760" y="3328200"/>
                <a:chExt cx="876240" cy="156492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7871760" y="4621680"/>
                  <a:ext cx="876240" cy="271440"/>
                  <a:chOff x="7871760" y="4621680"/>
                  <a:chExt cx="876240" cy="2714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8377200" y="4621680"/>
                    <a:ext cx="3708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369">
                        <a:moveTo>
                          <a:pt x="0" y="15"/>
                        </a:moveTo>
                        <a:lnTo>
                          <a:pt x="0" y="158"/>
                        </a:lnTo>
                        <a:lnTo>
                          <a:pt x="0" y="195"/>
                        </a:lnTo>
                        <a:lnTo>
                          <a:pt x="29" y="211"/>
                        </a:lnTo>
                        <a:lnTo>
                          <a:pt x="58" y="223"/>
                        </a:lnTo>
                        <a:lnTo>
                          <a:pt x="88" y="233"/>
                        </a:lnTo>
                        <a:lnTo>
                          <a:pt x="123" y="242"/>
                        </a:lnTo>
                        <a:lnTo>
                          <a:pt x="167" y="254"/>
                        </a:lnTo>
                        <a:lnTo>
                          <a:pt x="214" y="262"/>
                        </a:lnTo>
                        <a:lnTo>
                          <a:pt x="240" y="240"/>
                        </a:lnTo>
                        <a:lnTo>
                          <a:pt x="250" y="254"/>
                        </a:lnTo>
                        <a:lnTo>
                          <a:pt x="264" y="267"/>
                        </a:lnTo>
                        <a:lnTo>
                          <a:pt x="285" y="277"/>
                        </a:lnTo>
                        <a:lnTo>
                          <a:pt x="306" y="289"/>
                        </a:lnTo>
                        <a:lnTo>
                          <a:pt x="378" y="319"/>
                        </a:lnTo>
                        <a:lnTo>
                          <a:pt x="469" y="345"/>
                        </a:lnTo>
                        <a:lnTo>
                          <a:pt x="565" y="364"/>
                        </a:lnTo>
                        <a:lnTo>
                          <a:pt x="627" y="369"/>
                        </a:lnTo>
                        <a:lnTo>
                          <a:pt x="669" y="369"/>
                        </a:lnTo>
                        <a:lnTo>
                          <a:pt x="715" y="363"/>
                        </a:lnTo>
                        <a:lnTo>
                          <a:pt x="744" y="354"/>
                        </a:lnTo>
                        <a:lnTo>
                          <a:pt x="764" y="345"/>
                        </a:lnTo>
                        <a:lnTo>
                          <a:pt x="781" y="333"/>
                        </a:lnTo>
                        <a:lnTo>
                          <a:pt x="805" y="315"/>
                        </a:lnTo>
                        <a:lnTo>
                          <a:pt x="809" y="266"/>
                        </a:lnTo>
                        <a:lnTo>
                          <a:pt x="807" y="245"/>
                        </a:lnTo>
                        <a:lnTo>
                          <a:pt x="803" y="230"/>
                        </a:lnTo>
                        <a:lnTo>
                          <a:pt x="794" y="213"/>
                        </a:lnTo>
                        <a:lnTo>
                          <a:pt x="780" y="197"/>
                        </a:lnTo>
                        <a:lnTo>
                          <a:pt x="762" y="185"/>
                        </a:lnTo>
                        <a:lnTo>
                          <a:pt x="670" y="149"/>
                        </a:lnTo>
                        <a:lnTo>
                          <a:pt x="582" y="109"/>
                        </a:lnTo>
                        <a:lnTo>
                          <a:pt x="509" y="68"/>
                        </a:lnTo>
                        <a:lnTo>
                          <a:pt x="451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871760" y="4621680"/>
                    <a:ext cx="4136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02" h="331">
                        <a:moveTo>
                          <a:pt x="346" y="18"/>
                        </a:moveTo>
                        <a:lnTo>
                          <a:pt x="295" y="49"/>
                        </a:lnTo>
                        <a:lnTo>
                          <a:pt x="237" y="84"/>
                        </a:lnTo>
                        <a:lnTo>
                          <a:pt x="156" y="110"/>
                        </a:lnTo>
                        <a:lnTo>
                          <a:pt x="79" y="132"/>
                        </a:lnTo>
                        <a:lnTo>
                          <a:pt x="51" y="144"/>
                        </a:lnTo>
                        <a:lnTo>
                          <a:pt x="27" y="158"/>
                        </a:lnTo>
                        <a:lnTo>
                          <a:pt x="16" y="169"/>
                        </a:lnTo>
                        <a:lnTo>
                          <a:pt x="8" y="179"/>
                        </a:lnTo>
                        <a:lnTo>
                          <a:pt x="3" y="198"/>
                        </a:lnTo>
                        <a:lnTo>
                          <a:pt x="0" y="211"/>
                        </a:lnTo>
                        <a:lnTo>
                          <a:pt x="3" y="227"/>
                        </a:lnTo>
                        <a:lnTo>
                          <a:pt x="5" y="248"/>
                        </a:lnTo>
                        <a:lnTo>
                          <a:pt x="13" y="270"/>
                        </a:lnTo>
                        <a:lnTo>
                          <a:pt x="25" y="281"/>
                        </a:lnTo>
                        <a:lnTo>
                          <a:pt x="45" y="292"/>
                        </a:lnTo>
                        <a:lnTo>
                          <a:pt x="104" y="314"/>
                        </a:lnTo>
                        <a:lnTo>
                          <a:pt x="159" y="325"/>
                        </a:lnTo>
                        <a:lnTo>
                          <a:pt x="211" y="331"/>
                        </a:lnTo>
                        <a:lnTo>
                          <a:pt x="263" y="329"/>
                        </a:lnTo>
                        <a:lnTo>
                          <a:pt x="338" y="318"/>
                        </a:lnTo>
                        <a:lnTo>
                          <a:pt x="424" y="303"/>
                        </a:lnTo>
                        <a:lnTo>
                          <a:pt x="539" y="274"/>
                        </a:lnTo>
                        <a:lnTo>
                          <a:pt x="652" y="237"/>
                        </a:lnTo>
                        <a:lnTo>
                          <a:pt x="666" y="249"/>
                        </a:lnTo>
                        <a:lnTo>
                          <a:pt x="719" y="246"/>
                        </a:lnTo>
                        <a:lnTo>
                          <a:pt x="763" y="240"/>
                        </a:lnTo>
                        <a:lnTo>
                          <a:pt x="803" y="236"/>
                        </a:lnTo>
                        <a:lnTo>
                          <a:pt x="845" y="224"/>
                        </a:lnTo>
                        <a:lnTo>
                          <a:pt x="877" y="211"/>
                        </a:lnTo>
                        <a:lnTo>
                          <a:pt x="902" y="189"/>
                        </a:lnTo>
                        <a:lnTo>
                          <a:pt x="902" y="161"/>
                        </a:lnTo>
                        <a:lnTo>
                          <a:pt x="898" y="84"/>
                        </a:lnTo>
                        <a:lnTo>
                          <a:pt x="890" y="4"/>
                        </a:lnTo>
                        <a:lnTo>
                          <a:pt x="411" y="0"/>
                        </a:lnTo>
                        <a:lnTo>
                          <a:pt x="346" y="18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8033400" y="3328200"/>
                  <a:ext cx="584640" cy="1361160"/>
                </a:xfrm>
                <a:custGeom>
                  <a:avLst/>
                  <a:gdLst/>
                  <a:ahLst/>
                  <a:rect l="l" t="t" r="r" b="b"/>
                  <a:pathLst>
                    <a:path w="1270" h="1844">
                      <a:moveTo>
                        <a:pt x="93" y="467"/>
                      </a:moveTo>
                      <a:lnTo>
                        <a:pt x="89" y="761"/>
                      </a:lnTo>
                      <a:lnTo>
                        <a:pt x="89" y="985"/>
                      </a:lnTo>
                      <a:lnTo>
                        <a:pt x="70" y="1199"/>
                      </a:lnTo>
                      <a:lnTo>
                        <a:pt x="51" y="1382"/>
                      </a:lnTo>
                      <a:lnTo>
                        <a:pt x="60" y="1518"/>
                      </a:lnTo>
                      <a:lnTo>
                        <a:pt x="23" y="1665"/>
                      </a:lnTo>
                      <a:lnTo>
                        <a:pt x="16" y="1695"/>
                      </a:lnTo>
                      <a:lnTo>
                        <a:pt x="9" y="1724"/>
                      </a:lnTo>
                      <a:lnTo>
                        <a:pt x="0" y="1772"/>
                      </a:lnTo>
                      <a:lnTo>
                        <a:pt x="78" y="1812"/>
                      </a:lnTo>
                      <a:lnTo>
                        <a:pt x="112" y="1822"/>
                      </a:lnTo>
                      <a:lnTo>
                        <a:pt x="156" y="1830"/>
                      </a:lnTo>
                      <a:lnTo>
                        <a:pt x="224" y="1835"/>
                      </a:lnTo>
                      <a:lnTo>
                        <a:pt x="275" y="1835"/>
                      </a:lnTo>
                      <a:lnTo>
                        <a:pt x="338" y="1829"/>
                      </a:lnTo>
                      <a:lnTo>
                        <a:pt x="406" y="1817"/>
                      </a:lnTo>
                      <a:lnTo>
                        <a:pt x="460" y="1805"/>
                      </a:lnTo>
                      <a:lnTo>
                        <a:pt x="504" y="1791"/>
                      </a:lnTo>
                      <a:lnTo>
                        <a:pt x="536" y="1773"/>
                      </a:lnTo>
                      <a:lnTo>
                        <a:pt x="597" y="1224"/>
                      </a:lnTo>
                      <a:lnTo>
                        <a:pt x="632" y="781"/>
                      </a:lnTo>
                      <a:lnTo>
                        <a:pt x="689" y="1063"/>
                      </a:lnTo>
                      <a:lnTo>
                        <a:pt x="706" y="1228"/>
                      </a:lnTo>
                      <a:lnTo>
                        <a:pt x="740" y="1776"/>
                      </a:lnTo>
                      <a:lnTo>
                        <a:pt x="777" y="1787"/>
                      </a:lnTo>
                      <a:lnTo>
                        <a:pt x="816" y="1798"/>
                      </a:lnTo>
                      <a:lnTo>
                        <a:pt x="864" y="1809"/>
                      </a:lnTo>
                      <a:lnTo>
                        <a:pt x="923" y="1820"/>
                      </a:lnTo>
                      <a:lnTo>
                        <a:pt x="1017" y="1835"/>
                      </a:lnTo>
                      <a:lnTo>
                        <a:pt x="1087" y="1843"/>
                      </a:lnTo>
                      <a:lnTo>
                        <a:pt x="1153" y="1844"/>
                      </a:lnTo>
                      <a:lnTo>
                        <a:pt x="1204" y="1838"/>
                      </a:lnTo>
                      <a:lnTo>
                        <a:pt x="1270" y="1823"/>
                      </a:lnTo>
                      <a:lnTo>
                        <a:pt x="1219" y="1634"/>
                      </a:lnTo>
                      <a:lnTo>
                        <a:pt x="1211" y="1413"/>
                      </a:lnTo>
                      <a:lnTo>
                        <a:pt x="1214" y="1189"/>
                      </a:lnTo>
                      <a:lnTo>
                        <a:pt x="1186" y="869"/>
                      </a:lnTo>
                      <a:lnTo>
                        <a:pt x="1166" y="598"/>
                      </a:lnTo>
                      <a:lnTo>
                        <a:pt x="1129" y="396"/>
                      </a:lnTo>
                      <a:lnTo>
                        <a:pt x="1119" y="0"/>
                      </a:lnTo>
                      <a:lnTo>
                        <a:pt x="902" y="46"/>
                      </a:lnTo>
                      <a:lnTo>
                        <a:pt x="654" y="92"/>
                      </a:lnTo>
                      <a:lnTo>
                        <a:pt x="328" y="92"/>
                      </a:lnTo>
                      <a:lnTo>
                        <a:pt x="51" y="46"/>
                      </a:lnTo>
                      <a:lnTo>
                        <a:pt x="93" y="46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839000" y="2491560"/>
                <a:ext cx="864000" cy="974160"/>
                <a:chOff x="7839000" y="2491560"/>
                <a:chExt cx="864000" cy="974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839000" y="2505960"/>
                  <a:ext cx="864000" cy="959760"/>
                </a:xfrm>
                <a:custGeom>
                  <a:avLst/>
                  <a:gdLst/>
                  <a:ahLst/>
                  <a:rect l="l" t="t" r="r" b="b"/>
                  <a:pathLst>
                    <a:path w="1879" h="1296">
                      <a:moveTo>
                        <a:pt x="728" y="11"/>
                      </a:moveTo>
                      <a:lnTo>
                        <a:pt x="608" y="8"/>
                      </a:lnTo>
                      <a:lnTo>
                        <a:pt x="534" y="19"/>
                      </a:lnTo>
                      <a:lnTo>
                        <a:pt x="395" y="11"/>
                      </a:lnTo>
                      <a:lnTo>
                        <a:pt x="296" y="0"/>
                      </a:lnTo>
                      <a:lnTo>
                        <a:pt x="187" y="39"/>
                      </a:lnTo>
                      <a:lnTo>
                        <a:pt x="113" y="77"/>
                      </a:lnTo>
                      <a:lnTo>
                        <a:pt x="0" y="74"/>
                      </a:lnTo>
                      <a:lnTo>
                        <a:pt x="9" y="401"/>
                      </a:lnTo>
                      <a:lnTo>
                        <a:pt x="101" y="416"/>
                      </a:lnTo>
                      <a:lnTo>
                        <a:pt x="194" y="449"/>
                      </a:lnTo>
                      <a:lnTo>
                        <a:pt x="226" y="469"/>
                      </a:lnTo>
                      <a:lnTo>
                        <a:pt x="257" y="523"/>
                      </a:lnTo>
                      <a:lnTo>
                        <a:pt x="292" y="716"/>
                      </a:lnTo>
                      <a:lnTo>
                        <a:pt x="292" y="953"/>
                      </a:lnTo>
                      <a:lnTo>
                        <a:pt x="299" y="1103"/>
                      </a:lnTo>
                      <a:lnTo>
                        <a:pt x="303" y="1199"/>
                      </a:lnTo>
                      <a:lnTo>
                        <a:pt x="307" y="1246"/>
                      </a:lnTo>
                      <a:lnTo>
                        <a:pt x="391" y="1285"/>
                      </a:lnTo>
                      <a:lnTo>
                        <a:pt x="600" y="1285"/>
                      </a:lnTo>
                      <a:lnTo>
                        <a:pt x="798" y="1296"/>
                      </a:lnTo>
                      <a:lnTo>
                        <a:pt x="1039" y="1285"/>
                      </a:lnTo>
                      <a:lnTo>
                        <a:pt x="1275" y="1265"/>
                      </a:lnTo>
                      <a:lnTo>
                        <a:pt x="1403" y="1255"/>
                      </a:lnTo>
                      <a:lnTo>
                        <a:pt x="1495" y="1247"/>
                      </a:lnTo>
                      <a:lnTo>
                        <a:pt x="1542" y="1200"/>
                      </a:lnTo>
                      <a:lnTo>
                        <a:pt x="1542" y="1007"/>
                      </a:lnTo>
                      <a:lnTo>
                        <a:pt x="1573" y="752"/>
                      </a:lnTo>
                      <a:lnTo>
                        <a:pt x="1596" y="596"/>
                      </a:lnTo>
                      <a:lnTo>
                        <a:pt x="1616" y="603"/>
                      </a:lnTo>
                      <a:lnTo>
                        <a:pt x="1666" y="697"/>
                      </a:lnTo>
                      <a:lnTo>
                        <a:pt x="1756" y="603"/>
                      </a:lnTo>
                      <a:lnTo>
                        <a:pt x="1879" y="422"/>
                      </a:lnTo>
                      <a:lnTo>
                        <a:pt x="1767" y="260"/>
                      </a:lnTo>
                      <a:lnTo>
                        <a:pt x="1678" y="147"/>
                      </a:lnTo>
                      <a:lnTo>
                        <a:pt x="1612" y="89"/>
                      </a:lnTo>
                      <a:lnTo>
                        <a:pt x="1519" y="50"/>
                      </a:lnTo>
                      <a:lnTo>
                        <a:pt x="1372" y="35"/>
                      </a:lnTo>
                      <a:lnTo>
                        <a:pt x="1228" y="35"/>
                      </a:lnTo>
                      <a:lnTo>
                        <a:pt x="1205" y="39"/>
                      </a:lnTo>
                      <a:lnTo>
                        <a:pt x="1104" y="109"/>
                      </a:lnTo>
                      <a:lnTo>
                        <a:pt x="961" y="190"/>
                      </a:lnTo>
                      <a:lnTo>
                        <a:pt x="728" y="11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245080" y="2496960"/>
                  <a:ext cx="77040" cy="18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012" y="16438"/>
                      </a:moveTo>
                      <a:arcTo wR="10800" hR="10800" stAng="1888053" swAng="72979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012" y="16438"/>
                      </a:moveTo>
                      <a:arcTo wR="10800" hR="10800" stAng="1888053" swAng="7297934"/>
                    </a:path>
                  </a:pathLst>
                </a:custGeom>
                <a:solidFill>
                  <a:srgbClr val="cc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168040" y="2491560"/>
                  <a:ext cx="226080" cy="239040"/>
                </a:xfrm>
                <a:custGeom>
                  <a:avLst/>
                  <a:gdLst/>
                  <a:ahLst/>
                  <a:rect l="l" t="t" r="r" b="b"/>
                  <a:pathLst>
                    <a:path w="491" h="324">
                      <a:moveTo>
                        <a:pt x="44" y="0"/>
                      </a:moveTo>
                      <a:lnTo>
                        <a:pt x="0" y="61"/>
                      </a:lnTo>
                      <a:lnTo>
                        <a:pt x="147" y="324"/>
                      </a:lnTo>
                      <a:lnTo>
                        <a:pt x="252" y="123"/>
                      </a:lnTo>
                      <a:lnTo>
                        <a:pt x="377" y="310"/>
                      </a:lnTo>
                      <a:lnTo>
                        <a:pt x="491" y="49"/>
                      </a:lnTo>
                      <a:lnTo>
                        <a:pt x="451" y="8"/>
                      </a:lnTo>
                      <a:lnTo>
                        <a:pt x="252" y="126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8241480" y="2665800"/>
                <a:ext cx="117720" cy="901080"/>
              </a:xfrm>
              <a:custGeom>
                <a:avLst/>
                <a:gdLst/>
                <a:ahLst/>
                <a:rect l="l" t="t" r="r" b="b"/>
                <a:pathLst>
                  <a:path w="255" h="1219">
                    <a:moveTo>
                      <a:pt x="56" y="0"/>
                    </a:moveTo>
                    <a:lnTo>
                      <a:pt x="20" y="281"/>
                    </a:lnTo>
                    <a:lnTo>
                      <a:pt x="0" y="637"/>
                    </a:lnTo>
                    <a:lnTo>
                      <a:pt x="2" y="932"/>
                    </a:lnTo>
                    <a:lnTo>
                      <a:pt x="132" y="1219"/>
                    </a:lnTo>
                    <a:lnTo>
                      <a:pt x="255" y="940"/>
                    </a:lnTo>
                    <a:lnTo>
                      <a:pt x="236" y="602"/>
                    </a:lnTo>
                    <a:lnTo>
                      <a:pt x="191" y="273"/>
                    </a:lnTo>
                    <a:lnTo>
                      <a:pt x="12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cc99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122320" y="1847160"/>
                <a:ext cx="320040" cy="739800"/>
                <a:chOff x="8122320" y="1847160"/>
                <a:chExt cx="320040" cy="73980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8122320" y="1847160"/>
                  <a:ext cx="320040" cy="739800"/>
                  <a:chOff x="8122320" y="1847160"/>
                  <a:chExt cx="320040" cy="739800"/>
                </a:xfrm>
              </p:grpSpPr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8122320" y="1870920"/>
                    <a:ext cx="320040" cy="716040"/>
                    <a:chOff x="8122320" y="1870920"/>
                    <a:chExt cx="320040" cy="7160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8389440" y="2151000"/>
                      <a:ext cx="5292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31195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3119588"/>
                        </a:path>
                      </a:pathLst>
                    </a:custGeom>
                    <a:solidFill>
                      <a:srgbClr val="cc99ff"/>
                    </a:solidFill>
                    <a:ln w="4680">
                      <a:solidFill>
                        <a:srgbClr val="201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22320" y="2141640"/>
                      <a:ext cx="5400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48" y="19388"/>
                          </a:moveTo>
                          <a:arcTo wR="10800" hR="10800" stAng="3160469" swAng="1282138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48" y="19388"/>
                          </a:moveTo>
                          <a:arcTo wR="10800" hR="10800" stAng="3160469" swAng="12821384"/>
                        </a:path>
                      </a:pathLst>
                    </a:custGeom>
                    <a:solidFill>
                      <a:srgbClr val="cc99ff"/>
                    </a:solidFill>
                    <a:ln w="4680">
                      <a:solidFill>
                        <a:srgbClr val="201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44280" y="1923480"/>
                      <a:ext cx="278640" cy="663480"/>
                    </a:xfrm>
                    <a:prstGeom prst="ellipse">
                      <a:avLst/>
                    </a:prstGeom>
                    <a:solidFill>
                      <a:srgbClr val="cc99ff"/>
                    </a:solidFill>
                    <a:ln w="4680">
                      <a:solidFill>
                        <a:srgbClr val="201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8147520" y="1870920"/>
                      <a:ext cx="274680" cy="5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106975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10697553"/>
                        </a:path>
                      </a:pathLst>
                    </a:custGeom>
                    <a:solidFill>
                      <a:srgbClr val="cc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"/>
                  <p:cNvSpPr/>
                  <p:nvPr/>
                </p:nvSpPr>
                <p:spPr>
                  <a:xfrm>
                    <a:off x="8133120" y="1847160"/>
                    <a:ext cx="30096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6" h="527">
                        <a:moveTo>
                          <a:pt x="30" y="509"/>
                        </a:moveTo>
                        <a:lnTo>
                          <a:pt x="16" y="445"/>
                        </a:lnTo>
                        <a:lnTo>
                          <a:pt x="8" y="426"/>
                        </a:lnTo>
                        <a:lnTo>
                          <a:pt x="3" y="404"/>
                        </a:lnTo>
                        <a:lnTo>
                          <a:pt x="0" y="384"/>
                        </a:lnTo>
                        <a:lnTo>
                          <a:pt x="3" y="360"/>
                        </a:lnTo>
                        <a:lnTo>
                          <a:pt x="8" y="336"/>
                        </a:lnTo>
                        <a:lnTo>
                          <a:pt x="15" y="293"/>
                        </a:lnTo>
                        <a:lnTo>
                          <a:pt x="15" y="266"/>
                        </a:lnTo>
                        <a:lnTo>
                          <a:pt x="15" y="243"/>
                        </a:lnTo>
                        <a:lnTo>
                          <a:pt x="22" y="170"/>
                        </a:lnTo>
                        <a:lnTo>
                          <a:pt x="26" y="153"/>
                        </a:lnTo>
                        <a:lnTo>
                          <a:pt x="34" y="129"/>
                        </a:lnTo>
                        <a:lnTo>
                          <a:pt x="44" y="113"/>
                        </a:lnTo>
                        <a:lnTo>
                          <a:pt x="55" y="97"/>
                        </a:lnTo>
                        <a:lnTo>
                          <a:pt x="70" y="79"/>
                        </a:lnTo>
                        <a:lnTo>
                          <a:pt x="95" y="59"/>
                        </a:lnTo>
                        <a:lnTo>
                          <a:pt x="112" y="48"/>
                        </a:lnTo>
                        <a:lnTo>
                          <a:pt x="133" y="38"/>
                        </a:lnTo>
                        <a:lnTo>
                          <a:pt x="161" y="30"/>
                        </a:lnTo>
                        <a:lnTo>
                          <a:pt x="200" y="21"/>
                        </a:lnTo>
                        <a:lnTo>
                          <a:pt x="270" y="4"/>
                        </a:lnTo>
                        <a:lnTo>
                          <a:pt x="287" y="0"/>
                        </a:lnTo>
                        <a:lnTo>
                          <a:pt x="297" y="0"/>
                        </a:lnTo>
                        <a:lnTo>
                          <a:pt x="322" y="0"/>
                        </a:lnTo>
                        <a:lnTo>
                          <a:pt x="377" y="7"/>
                        </a:lnTo>
                        <a:lnTo>
                          <a:pt x="392" y="7"/>
                        </a:lnTo>
                        <a:lnTo>
                          <a:pt x="411" y="3"/>
                        </a:lnTo>
                        <a:lnTo>
                          <a:pt x="427" y="2"/>
                        </a:lnTo>
                        <a:lnTo>
                          <a:pt x="471" y="7"/>
                        </a:lnTo>
                        <a:lnTo>
                          <a:pt x="536" y="33"/>
                        </a:lnTo>
                        <a:lnTo>
                          <a:pt x="546" y="39"/>
                        </a:lnTo>
                        <a:lnTo>
                          <a:pt x="555" y="48"/>
                        </a:lnTo>
                        <a:lnTo>
                          <a:pt x="564" y="57"/>
                        </a:lnTo>
                        <a:lnTo>
                          <a:pt x="605" y="78"/>
                        </a:lnTo>
                        <a:lnTo>
                          <a:pt x="616" y="87"/>
                        </a:lnTo>
                        <a:lnTo>
                          <a:pt x="622" y="96"/>
                        </a:lnTo>
                        <a:lnTo>
                          <a:pt x="631" y="112"/>
                        </a:lnTo>
                        <a:lnTo>
                          <a:pt x="638" y="152"/>
                        </a:lnTo>
                        <a:lnTo>
                          <a:pt x="643" y="204"/>
                        </a:lnTo>
                        <a:lnTo>
                          <a:pt x="648" y="239"/>
                        </a:lnTo>
                        <a:lnTo>
                          <a:pt x="648" y="340"/>
                        </a:lnTo>
                        <a:lnTo>
                          <a:pt x="656" y="419"/>
                        </a:lnTo>
                        <a:lnTo>
                          <a:pt x="622" y="527"/>
                        </a:lnTo>
                        <a:lnTo>
                          <a:pt x="608" y="443"/>
                        </a:lnTo>
                        <a:lnTo>
                          <a:pt x="583" y="279"/>
                        </a:lnTo>
                        <a:lnTo>
                          <a:pt x="572" y="222"/>
                        </a:lnTo>
                        <a:lnTo>
                          <a:pt x="558" y="196"/>
                        </a:lnTo>
                        <a:lnTo>
                          <a:pt x="550" y="187"/>
                        </a:lnTo>
                        <a:lnTo>
                          <a:pt x="539" y="180"/>
                        </a:lnTo>
                        <a:lnTo>
                          <a:pt x="528" y="176"/>
                        </a:lnTo>
                        <a:lnTo>
                          <a:pt x="515" y="173"/>
                        </a:lnTo>
                        <a:lnTo>
                          <a:pt x="453" y="176"/>
                        </a:lnTo>
                        <a:lnTo>
                          <a:pt x="428" y="175"/>
                        </a:lnTo>
                        <a:lnTo>
                          <a:pt x="396" y="182"/>
                        </a:lnTo>
                        <a:lnTo>
                          <a:pt x="377" y="186"/>
                        </a:lnTo>
                        <a:lnTo>
                          <a:pt x="363" y="191"/>
                        </a:lnTo>
                        <a:lnTo>
                          <a:pt x="352" y="195"/>
                        </a:lnTo>
                        <a:lnTo>
                          <a:pt x="336" y="204"/>
                        </a:lnTo>
                        <a:lnTo>
                          <a:pt x="319" y="211"/>
                        </a:lnTo>
                        <a:lnTo>
                          <a:pt x="322" y="200"/>
                        </a:lnTo>
                        <a:lnTo>
                          <a:pt x="314" y="189"/>
                        </a:lnTo>
                        <a:lnTo>
                          <a:pt x="306" y="186"/>
                        </a:lnTo>
                        <a:lnTo>
                          <a:pt x="284" y="179"/>
                        </a:lnTo>
                        <a:lnTo>
                          <a:pt x="266" y="178"/>
                        </a:lnTo>
                        <a:lnTo>
                          <a:pt x="254" y="178"/>
                        </a:lnTo>
                        <a:lnTo>
                          <a:pt x="239" y="180"/>
                        </a:lnTo>
                        <a:lnTo>
                          <a:pt x="188" y="191"/>
                        </a:lnTo>
                        <a:lnTo>
                          <a:pt x="173" y="193"/>
                        </a:lnTo>
                        <a:lnTo>
                          <a:pt x="127" y="188"/>
                        </a:lnTo>
                        <a:lnTo>
                          <a:pt x="113" y="188"/>
                        </a:lnTo>
                        <a:lnTo>
                          <a:pt x="103" y="192"/>
                        </a:lnTo>
                        <a:lnTo>
                          <a:pt x="91" y="205"/>
                        </a:lnTo>
                        <a:lnTo>
                          <a:pt x="86" y="222"/>
                        </a:lnTo>
                        <a:lnTo>
                          <a:pt x="83" y="250"/>
                        </a:lnTo>
                        <a:lnTo>
                          <a:pt x="77" y="294"/>
                        </a:lnTo>
                        <a:lnTo>
                          <a:pt x="73" y="350"/>
                        </a:lnTo>
                        <a:lnTo>
                          <a:pt x="59" y="377"/>
                        </a:lnTo>
                        <a:lnTo>
                          <a:pt x="51" y="398"/>
                        </a:lnTo>
                        <a:lnTo>
                          <a:pt x="44" y="424"/>
                        </a:lnTo>
                        <a:lnTo>
                          <a:pt x="41" y="446"/>
                        </a:lnTo>
                        <a:lnTo>
                          <a:pt x="30" y="509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8187840" y="2077200"/>
                  <a:ext cx="195840" cy="374040"/>
                  <a:chOff x="8187840" y="2077200"/>
                  <a:chExt cx="195840" cy="3740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8255880" y="2210040"/>
                    <a:ext cx="640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217">
                        <a:moveTo>
                          <a:pt x="111" y="0"/>
                        </a:moveTo>
                        <a:lnTo>
                          <a:pt x="119" y="67"/>
                        </a:lnTo>
                        <a:lnTo>
                          <a:pt x="127" y="99"/>
                        </a:lnTo>
                        <a:lnTo>
                          <a:pt x="133" y="113"/>
                        </a:lnTo>
                        <a:lnTo>
                          <a:pt x="137" y="125"/>
                        </a:lnTo>
                        <a:lnTo>
                          <a:pt x="141" y="142"/>
                        </a:lnTo>
                        <a:lnTo>
                          <a:pt x="141" y="160"/>
                        </a:lnTo>
                        <a:lnTo>
                          <a:pt x="137" y="179"/>
                        </a:lnTo>
                        <a:lnTo>
                          <a:pt x="131" y="191"/>
                        </a:lnTo>
                        <a:lnTo>
                          <a:pt x="123" y="200"/>
                        </a:lnTo>
                        <a:lnTo>
                          <a:pt x="106" y="209"/>
                        </a:lnTo>
                        <a:lnTo>
                          <a:pt x="87" y="216"/>
                        </a:lnTo>
                        <a:lnTo>
                          <a:pt x="70" y="217"/>
                        </a:lnTo>
                        <a:lnTo>
                          <a:pt x="47" y="216"/>
                        </a:lnTo>
                        <a:lnTo>
                          <a:pt x="31" y="210"/>
                        </a:lnTo>
                        <a:lnTo>
                          <a:pt x="18" y="203"/>
                        </a:lnTo>
                        <a:lnTo>
                          <a:pt x="10" y="196"/>
                        </a:lnTo>
                        <a:lnTo>
                          <a:pt x="4" y="186"/>
                        </a:lnTo>
                        <a:lnTo>
                          <a:pt x="0" y="173"/>
                        </a:lnTo>
                        <a:lnTo>
                          <a:pt x="3" y="159"/>
                        </a:lnTo>
                        <a:lnTo>
                          <a:pt x="8" y="139"/>
                        </a:lnTo>
                        <a:lnTo>
                          <a:pt x="12" y="122"/>
                        </a:lnTo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228160" y="2363760"/>
                    <a:ext cx="1173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79" y="10126"/>
                        </a:moveTo>
                        <a:arcTo wR="10800" hR="10800" stAng="-214789" swAng="1122957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79" y="10126"/>
                        </a:moveTo>
                        <a:arcTo wR="10800" hR="10800" stAng="-214789" swAng="11229578"/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201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87840" y="2103840"/>
                    <a:ext cx="1206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201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253360" y="2077200"/>
                    <a:ext cx="13032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201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23920" y="2168640"/>
                    <a:ext cx="58680" cy="14400"/>
                  </a:xfrm>
                  <a:prstGeom prst="line">
                    <a:avLst/>
                  </a:prstGeom>
                  <a:ln w="4680">
                    <a:solidFill>
                      <a:srgbClr val="201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8196840" y="2166120"/>
                    <a:ext cx="60480" cy="14400"/>
                  </a:xfrm>
                  <a:prstGeom prst="line">
                    <a:avLst/>
                  </a:prstGeom>
                  <a:ln w="4680">
                    <a:solidFill>
                      <a:srgbClr val="201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8374320" y="3347280"/>
                <a:ext cx="174240" cy="461160"/>
                <a:chOff x="8374320" y="3347280"/>
                <a:chExt cx="174240" cy="4611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374320" y="3347280"/>
                  <a:ext cx="164160" cy="46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58" y="15211"/>
                      </a:moveTo>
                      <a:arcTo wR="10800" hR="10800" stAng="1446263" swAng="110298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58" y="15211"/>
                      </a:moveTo>
                      <a:arcTo wR="10800" hR="10800" stAng="1446263" swAng="11029836"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381160" y="3469680"/>
                  <a:ext cx="167400" cy="230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187760" y="2414520"/>
                <a:ext cx="1055160" cy="1384560"/>
                <a:chOff x="7187760" y="2414520"/>
                <a:chExt cx="1055160" cy="138456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7187760" y="2414520"/>
                  <a:ext cx="210960" cy="445320"/>
                  <a:chOff x="7187760" y="2414520"/>
                  <a:chExt cx="210960" cy="445320"/>
                </a:xfrm>
              </p:grpSpPr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7187760" y="2414520"/>
                    <a:ext cx="194040" cy="445320"/>
                    <a:chOff x="7187760" y="2414520"/>
                    <a:chExt cx="194040" cy="445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7187760" y="2414520"/>
                      <a:ext cx="194040" cy="44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603">
                          <a:moveTo>
                            <a:pt x="426" y="241"/>
                          </a:moveTo>
                          <a:lnTo>
                            <a:pt x="350" y="234"/>
                          </a:lnTo>
                          <a:lnTo>
                            <a:pt x="316" y="212"/>
                          </a:lnTo>
                          <a:lnTo>
                            <a:pt x="295" y="191"/>
                          </a:lnTo>
                          <a:lnTo>
                            <a:pt x="252" y="141"/>
                          </a:lnTo>
                          <a:lnTo>
                            <a:pt x="229" y="96"/>
                          </a:lnTo>
                          <a:lnTo>
                            <a:pt x="167" y="53"/>
                          </a:lnTo>
                          <a:lnTo>
                            <a:pt x="109" y="22"/>
                          </a:lnTo>
                          <a:lnTo>
                            <a:pt x="75" y="8"/>
                          </a:lnTo>
                          <a:lnTo>
                            <a:pt x="30" y="0"/>
                          </a:lnTo>
                          <a:lnTo>
                            <a:pt x="10" y="5"/>
                          </a:lnTo>
                          <a:lnTo>
                            <a:pt x="4" y="11"/>
                          </a:lnTo>
                          <a:lnTo>
                            <a:pt x="0" y="22"/>
                          </a:lnTo>
                          <a:lnTo>
                            <a:pt x="0" y="31"/>
                          </a:lnTo>
                          <a:lnTo>
                            <a:pt x="2" y="40"/>
                          </a:lnTo>
                          <a:lnTo>
                            <a:pt x="18" y="45"/>
                          </a:lnTo>
                          <a:lnTo>
                            <a:pt x="40" y="57"/>
                          </a:lnTo>
                          <a:lnTo>
                            <a:pt x="61" y="70"/>
                          </a:lnTo>
                          <a:lnTo>
                            <a:pt x="101" y="107"/>
                          </a:lnTo>
                          <a:lnTo>
                            <a:pt x="167" y="199"/>
                          </a:lnTo>
                          <a:lnTo>
                            <a:pt x="202" y="281"/>
                          </a:lnTo>
                          <a:lnTo>
                            <a:pt x="202" y="339"/>
                          </a:lnTo>
                          <a:lnTo>
                            <a:pt x="214" y="405"/>
                          </a:lnTo>
                          <a:lnTo>
                            <a:pt x="186" y="463"/>
                          </a:lnTo>
                          <a:lnTo>
                            <a:pt x="147" y="514"/>
                          </a:lnTo>
                          <a:lnTo>
                            <a:pt x="118" y="536"/>
                          </a:lnTo>
                          <a:lnTo>
                            <a:pt x="92" y="546"/>
                          </a:lnTo>
                          <a:lnTo>
                            <a:pt x="46" y="545"/>
                          </a:lnTo>
                          <a:lnTo>
                            <a:pt x="36" y="550"/>
                          </a:lnTo>
                          <a:lnTo>
                            <a:pt x="30" y="558"/>
                          </a:lnTo>
                          <a:lnTo>
                            <a:pt x="28" y="571"/>
                          </a:lnTo>
                          <a:lnTo>
                            <a:pt x="35" y="584"/>
                          </a:lnTo>
                          <a:lnTo>
                            <a:pt x="106" y="603"/>
                          </a:lnTo>
                          <a:lnTo>
                            <a:pt x="155" y="596"/>
                          </a:lnTo>
                          <a:lnTo>
                            <a:pt x="204" y="585"/>
                          </a:lnTo>
                          <a:lnTo>
                            <a:pt x="217" y="580"/>
                          </a:lnTo>
                          <a:lnTo>
                            <a:pt x="230" y="571"/>
                          </a:lnTo>
                          <a:lnTo>
                            <a:pt x="276" y="537"/>
                          </a:lnTo>
                          <a:lnTo>
                            <a:pt x="316" y="504"/>
                          </a:lnTo>
                          <a:lnTo>
                            <a:pt x="357" y="463"/>
                          </a:lnTo>
                          <a:lnTo>
                            <a:pt x="366" y="457"/>
                          </a:lnTo>
                          <a:lnTo>
                            <a:pt x="377" y="453"/>
                          </a:lnTo>
                          <a:lnTo>
                            <a:pt x="422" y="448"/>
                          </a:lnTo>
                          <a:lnTo>
                            <a:pt x="426" y="241"/>
                          </a:lnTo>
                          <a:close/>
                        </a:path>
                      </a:pathLst>
                    </a:custGeom>
                    <a:solidFill>
                      <a:srgbClr val="cc99ff"/>
                    </a:solidFill>
                    <a:ln w="4680">
                      <a:solidFill>
                        <a:srgbClr val="201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7233480" y="2426400"/>
                      <a:ext cx="6948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166">
                          <a:moveTo>
                            <a:pt x="0" y="0"/>
                          </a:moveTo>
                          <a:lnTo>
                            <a:pt x="67" y="53"/>
                          </a:lnTo>
                          <a:lnTo>
                            <a:pt x="93" y="84"/>
                          </a:lnTo>
                          <a:lnTo>
                            <a:pt x="122" y="120"/>
                          </a:lnTo>
                          <a:lnTo>
                            <a:pt x="141" y="144"/>
                          </a:lnTo>
                          <a:lnTo>
                            <a:pt x="149" y="166"/>
                          </a:lnTo>
                        </a:path>
                      </a:pathLst>
                    </a:custGeom>
                    <a:solidFill>
                      <a:srgbClr val="cc99ff"/>
                    </a:solidFill>
                    <a:ln w="4680">
                      <a:solidFill>
                        <a:srgbClr val="201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2" name=""/>
                  <p:cNvSpPr/>
                  <p:nvPr/>
                </p:nvSpPr>
                <p:spPr>
                  <a:xfrm>
                    <a:off x="7369200" y="2588400"/>
                    <a:ext cx="29520" cy="171000"/>
                  </a:xfrm>
                  <a:prstGeom prst="rect">
                    <a:avLst/>
                  </a:prstGeom>
                  <a:solidFill>
                    <a:srgbClr val="cc99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390080" y="2502720"/>
                  <a:ext cx="852840" cy="1296360"/>
                  <a:chOff x="7390080" y="2502720"/>
                  <a:chExt cx="852840" cy="12963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390080" y="2502720"/>
                    <a:ext cx="852840" cy="12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3" h="1755">
                        <a:moveTo>
                          <a:pt x="2" y="96"/>
                        </a:moveTo>
                        <a:lnTo>
                          <a:pt x="411" y="89"/>
                        </a:lnTo>
                        <a:lnTo>
                          <a:pt x="804" y="76"/>
                        </a:lnTo>
                        <a:lnTo>
                          <a:pt x="1096" y="76"/>
                        </a:lnTo>
                        <a:lnTo>
                          <a:pt x="1127" y="58"/>
                        </a:lnTo>
                        <a:lnTo>
                          <a:pt x="1158" y="41"/>
                        </a:lnTo>
                        <a:lnTo>
                          <a:pt x="1185" y="27"/>
                        </a:lnTo>
                        <a:lnTo>
                          <a:pt x="1213" y="17"/>
                        </a:lnTo>
                        <a:lnTo>
                          <a:pt x="1242" y="9"/>
                        </a:lnTo>
                        <a:lnTo>
                          <a:pt x="1277" y="1"/>
                        </a:lnTo>
                        <a:lnTo>
                          <a:pt x="1319" y="0"/>
                        </a:lnTo>
                        <a:lnTo>
                          <a:pt x="1350" y="2"/>
                        </a:lnTo>
                        <a:lnTo>
                          <a:pt x="1503" y="18"/>
                        </a:lnTo>
                        <a:lnTo>
                          <a:pt x="1704" y="9"/>
                        </a:lnTo>
                        <a:lnTo>
                          <a:pt x="1807" y="387"/>
                        </a:lnTo>
                        <a:lnTo>
                          <a:pt x="1823" y="462"/>
                        </a:lnTo>
                        <a:lnTo>
                          <a:pt x="1834" y="557"/>
                        </a:lnTo>
                        <a:lnTo>
                          <a:pt x="1843" y="647"/>
                        </a:lnTo>
                        <a:lnTo>
                          <a:pt x="1851" y="732"/>
                        </a:lnTo>
                        <a:lnTo>
                          <a:pt x="1853" y="813"/>
                        </a:lnTo>
                        <a:lnTo>
                          <a:pt x="1832" y="1182"/>
                        </a:lnTo>
                        <a:lnTo>
                          <a:pt x="1825" y="1258"/>
                        </a:lnTo>
                        <a:lnTo>
                          <a:pt x="1815" y="1317"/>
                        </a:lnTo>
                        <a:lnTo>
                          <a:pt x="1806" y="1359"/>
                        </a:lnTo>
                        <a:lnTo>
                          <a:pt x="1789" y="1406"/>
                        </a:lnTo>
                        <a:lnTo>
                          <a:pt x="1774" y="1451"/>
                        </a:lnTo>
                        <a:lnTo>
                          <a:pt x="1757" y="1488"/>
                        </a:lnTo>
                        <a:lnTo>
                          <a:pt x="1731" y="1531"/>
                        </a:lnTo>
                        <a:lnTo>
                          <a:pt x="1622" y="1716"/>
                        </a:lnTo>
                        <a:lnTo>
                          <a:pt x="1568" y="1755"/>
                        </a:lnTo>
                        <a:lnTo>
                          <a:pt x="1451" y="1747"/>
                        </a:lnTo>
                        <a:lnTo>
                          <a:pt x="1373" y="1724"/>
                        </a:lnTo>
                        <a:lnTo>
                          <a:pt x="1281" y="1693"/>
                        </a:lnTo>
                        <a:lnTo>
                          <a:pt x="1219" y="1677"/>
                        </a:lnTo>
                        <a:lnTo>
                          <a:pt x="1126" y="1646"/>
                        </a:lnTo>
                        <a:lnTo>
                          <a:pt x="1056" y="1607"/>
                        </a:lnTo>
                        <a:lnTo>
                          <a:pt x="1093" y="1505"/>
                        </a:lnTo>
                        <a:lnTo>
                          <a:pt x="1123" y="1418"/>
                        </a:lnTo>
                        <a:lnTo>
                          <a:pt x="1165" y="1343"/>
                        </a:lnTo>
                        <a:lnTo>
                          <a:pt x="1196" y="1265"/>
                        </a:lnTo>
                        <a:lnTo>
                          <a:pt x="1211" y="1195"/>
                        </a:lnTo>
                        <a:lnTo>
                          <a:pt x="1227" y="1096"/>
                        </a:lnTo>
                        <a:lnTo>
                          <a:pt x="1238" y="1017"/>
                        </a:lnTo>
                        <a:lnTo>
                          <a:pt x="1250" y="912"/>
                        </a:lnTo>
                        <a:lnTo>
                          <a:pt x="1254" y="807"/>
                        </a:lnTo>
                        <a:lnTo>
                          <a:pt x="1246" y="706"/>
                        </a:lnTo>
                        <a:lnTo>
                          <a:pt x="1227" y="563"/>
                        </a:lnTo>
                        <a:lnTo>
                          <a:pt x="1211" y="517"/>
                        </a:lnTo>
                        <a:lnTo>
                          <a:pt x="1200" y="486"/>
                        </a:lnTo>
                        <a:lnTo>
                          <a:pt x="1165" y="458"/>
                        </a:lnTo>
                        <a:lnTo>
                          <a:pt x="1140" y="442"/>
                        </a:lnTo>
                        <a:lnTo>
                          <a:pt x="1102" y="431"/>
                        </a:lnTo>
                        <a:lnTo>
                          <a:pt x="1064" y="422"/>
                        </a:lnTo>
                        <a:lnTo>
                          <a:pt x="1026" y="416"/>
                        </a:lnTo>
                        <a:lnTo>
                          <a:pt x="979" y="408"/>
                        </a:lnTo>
                        <a:lnTo>
                          <a:pt x="918" y="401"/>
                        </a:lnTo>
                        <a:lnTo>
                          <a:pt x="592" y="387"/>
                        </a:lnTo>
                        <a:lnTo>
                          <a:pt x="243" y="368"/>
                        </a:lnTo>
                        <a:lnTo>
                          <a:pt x="0" y="368"/>
                        </a:lnTo>
                        <a:lnTo>
                          <a:pt x="2" y="96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083080" y="2517120"/>
                    <a:ext cx="150840" cy="76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040">
                        <a:moveTo>
                          <a:pt x="90" y="0"/>
                        </a:moveTo>
                        <a:lnTo>
                          <a:pt x="63" y="82"/>
                        </a:lnTo>
                        <a:lnTo>
                          <a:pt x="28" y="156"/>
                        </a:lnTo>
                        <a:lnTo>
                          <a:pt x="0" y="206"/>
                        </a:lnTo>
                        <a:lnTo>
                          <a:pt x="113" y="265"/>
                        </a:lnTo>
                        <a:lnTo>
                          <a:pt x="51" y="385"/>
                        </a:lnTo>
                        <a:lnTo>
                          <a:pt x="97" y="459"/>
                        </a:lnTo>
                        <a:lnTo>
                          <a:pt x="140" y="540"/>
                        </a:lnTo>
                        <a:lnTo>
                          <a:pt x="218" y="687"/>
                        </a:lnTo>
                        <a:lnTo>
                          <a:pt x="253" y="772"/>
                        </a:lnTo>
                        <a:lnTo>
                          <a:pt x="292" y="869"/>
                        </a:lnTo>
                        <a:lnTo>
                          <a:pt x="315" y="951"/>
                        </a:lnTo>
                        <a:lnTo>
                          <a:pt x="331" y="1040"/>
                        </a:lnTo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8355960" y="2527200"/>
                <a:ext cx="462600" cy="1278360"/>
                <a:chOff x="8355960" y="2527200"/>
                <a:chExt cx="462600" cy="12783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486280" y="3365640"/>
                  <a:ext cx="233280" cy="439920"/>
                </a:xfrm>
                <a:custGeom>
                  <a:avLst/>
                  <a:gdLst/>
                  <a:ahLst/>
                  <a:rect l="l" t="t" r="r" b="b"/>
                  <a:pathLst>
                    <a:path w="508" h="597">
                      <a:moveTo>
                        <a:pt x="362" y="0"/>
                      </a:moveTo>
                      <a:lnTo>
                        <a:pt x="500" y="174"/>
                      </a:lnTo>
                      <a:lnTo>
                        <a:pt x="508" y="232"/>
                      </a:lnTo>
                      <a:lnTo>
                        <a:pt x="496" y="298"/>
                      </a:lnTo>
                      <a:lnTo>
                        <a:pt x="469" y="380"/>
                      </a:lnTo>
                      <a:lnTo>
                        <a:pt x="430" y="473"/>
                      </a:lnTo>
                      <a:lnTo>
                        <a:pt x="395" y="535"/>
                      </a:lnTo>
                      <a:lnTo>
                        <a:pt x="358" y="597"/>
                      </a:lnTo>
                      <a:lnTo>
                        <a:pt x="179" y="446"/>
                      </a:lnTo>
                      <a:lnTo>
                        <a:pt x="86" y="353"/>
                      </a:lnTo>
                      <a:lnTo>
                        <a:pt x="0" y="271"/>
                      </a:lnTo>
                      <a:lnTo>
                        <a:pt x="36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8355960" y="2527200"/>
                  <a:ext cx="462600" cy="976680"/>
                  <a:chOff x="8355960" y="2527200"/>
                  <a:chExt cx="462600" cy="97668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8355960" y="2527200"/>
                    <a:ext cx="462600" cy="9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9" h="1324">
                        <a:moveTo>
                          <a:pt x="80" y="0"/>
                        </a:moveTo>
                        <a:lnTo>
                          <a:pt x="371" y="13"/>
                        </a:lnTo>
                        <a:lnTo>
                          <a:pt x="395" y="17"/>
                        </a:lnTo>
                        <a:lnTo>
                          <a:pt x="417" y="21"/>
                        </a:lnTo>
                        <a:lnTo>
                          <a:pt x="439" y="28"/>
                        </a:lnTo>
                        <a:lnTo>
                          <a:pt x="459" y="37"/>
                        </a:lnTo>
                        <a:lnTo>
                          <a:pt x="487" y="53"/>
                        </a:lnTo>
                        <a:lnTo>
                          <a:pt x="509" y="67"/>
                        </a:lnTo>
                        <a:lnTo>
                          <a:pt x="527" y="84"/>
                        </a:lnTo>
                        <a:lnTo>
                          <a:pt x="547" y="106"/>
                        </a:lnTo>
                        <a:lnTo>
                          <a:pt x="583" y="145"/>
                        </a:lnTo>
                        <a:lnTo>
                          <a:pt x="634" y="211"/>
                        </a:lnTo>
                        <a:lnTo>
                          <a:pt x="733" y="343"/>
                        </a:lnTo>
                        <a:lnTo>
                          <a:pt x="854" y="522"/>
                        </a:lnTo>
                        <a:lnTo>
                          <a:pt x="920" y="614"/>
                        </a:lnTo>
                        <a:lnTo>
                          <a:pt x="982" y="707"/>
                        </a:lnTo>
                        <a:lnTo>
                          <a:pt x="1009" y="754"/>
                        </a:lnTo>
                        <a:lnTo>
                          <a:pt x="1002" y="793"/>
                        </a:lnTo>
                        <a:lnTo>
                          <a:pt x="971" y="847"/>
                        </a:lnTo>
                        <a:lnTo>
                          <a:pt x="908" y="917"/>
                        </a:lnTo>
                        <a:lnTo>
                          <a:pt x="846" y="995"/>
                        </a:lnTo>
                        <a:lnTo>
                          <a:pt x="788" y="1061"/>
                        </a:lnTo>
                        <a:lnTo>
                          <a:pt x="726" y="1131"/>
                        </a:lnTo>
                        <a:lnTo>
                          <a:pt x="691" y="1164"/>
                        </a:lnTo>
                        <a:lnTo>
                          <a:pt x="538" y="1313"/>
                        </a:lnTo>
                        <a:lnTo>
                          <a:pt x="316" y="1107"/>
                        </a:lnTo>
                        <a:lnTo>
                          <a:pt x="552" y="785"/>
                        </a:lnTo>
                        <a:lnTo>
                          <a:pt x="583" y="723"/>
                        </a:lnTo>
                        <a:lnTo>
                          <a:pt x="543" y="675"/>
                        </a:lnTo>
                        <a:lnTo>
                          <a:pt x="489" y="582"/>
                        </a:lnTo>
                        <a:lnTo>
                          <a:pt x="489" y="679"/>
                        </a:lnTo>
                        <a:lnTo>
                          <a:pt x="494" y="759"/>
                        </a:lnTo>
                        <a:lnTo>
                          <a:pt x="503" y="855"/>
                        </a:lnTo>
                        <a:lnTo>
                          <a:pt x="314" y="1109"/>
                        </a:lnTo>
                        <a:lnTo>
                          <a:pt x="363" y="1146"/>
                        </a:lnTo>
                        <a:lnTo>
                          <a:pt x="200" y="1324"/>
                        </a:lnTo>
                        <a:lnTo>
                          <a:pt x="119" y="1259"/>
                        </a:lnTo>
                        <a:lnTo>
                          <a:pt x="95" y="1220"/>
                        </a:lnTo>
                        <a:lnTo>
                          <a:pt x="75" y="1177"/>
                        </a:lnTo>
                        <a:lnTo>
                          <a:pt x="61" y="1129"/>
                        </a:lnTo>
                        <a:lnTo>
                          <a:pt x="52" y="1080"/>
                        </a:lnTo>
                        <a:lnTo>
                          <a:pt x="22" y="916"/>
                        </a:lnTo>
                        <a:lnTo>
                          <a:pt x="0" y="785"/>
                        </a:lnTo>
                        <a:lnTo>
                          <a:pt x="0" y="632"/>
                        </a:lnTo>
                        <a:lnTo>
                          <a:pt x="8" y="501"/>
                        </a:lnTo>
                        <a:lnTo>
                          <a:pt x="22" y="370"/>
                        </a:lnTo>
                        <a:lnTo>
                          <a:pt x="44" y="232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386920" y="2529720"/>
                    <a:ext cx="106200" cy="84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144">
                        <a:moveTo>
                          <a:pt x="155" y="0"/>
                        </a:moveTo>
                        <a:lnTo>
                          <a:pt x="233" y="155"/>
                        </a:lnTo>
                        <a:lnTo>
                          <a:pt x="136" y="221"/>
                        </a:lnTo>
                        <a:lnTo>
                          <a:pt x="206" y="330"/>
                        </a:lnTo>
                        <a:lnTo>
                          <a:pt x="140" y="474"/>
                        </a:lnTo>
                        <a:lnTo>
                          <a:pt x="89" y="612"/>
                        </a:lnTo>
                        <a:lnTo>
                          <a:pt x="46" y="748"/>
                        </a:lnTo>
                        <a:lnTo>
                          <a:pt x="31" y="853"/>
                        </a:lnTo>
                        <a:lnTo>
                          <a:pt x="15" y="947"/>
                        </a:lnTo>
                        <a:lnTo>
                          <a:pt x="8" y="1024"/>
                        </a:lnTo>
                        <a:lnTo>
                          <a:pt x="0" y="1144"/>
                        </a:lnTo>
                      </a:path>
                    </a:pathLst>
                  </a:custGeom>
                  <a:solidFill>
                    <a:srgbClr val="cc99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8397720" y="3365640"/>
                  <a:ext cx="187560" cy="301320"/>
                </a:xfrm>
                <a:custGeom>
                  <a:avLst/>
                  <a:gdLst/>
                  <a:ahLst/>
                  <a:rect l="l" t="t" r="r" b="b"/>
                  <a:pathLst>
                    <a:path w="410" h="408">
                      <a:moveTo>
                        <a:pt x="250" y="0"/>
                      </a:moveTo>
                      <a:lnTo>
                        <a:pt x="214" y="35"/>
                      </a:lnTo>
                      <a:lnTo>
                        <a:pt x="182" y="40"/>
                      </a:lnTo>
                      <a:lnTo>
                        <a:pt x="160" y="44"/>
                      </a:lnTo>
                      <a:lnTo>
                        <a:pt x="130" y="56"/>
                      </a:lnTo>
                      <a:lnTo>
                        <a:pt x="103" y="70"/>
                      </a:lnTo>
                      <a:lnTo>
                        <a:pt x="76" y="90"/>
                      </a:lnTo>
                      <a:lnTo>
                        <a:pt x="0" y="179"/>
                      </a:lnTo>
                      <a:lnTo>
                        <a:pt x="275" y="408"/>
                      </a:lnTo>
                      <a:lnTo>
                        <a:pt x="317" y="363"/>
                      </a:lnTo>
                      <a:lnTo>
                        <a:pt x="335" y="332"/>
                      </a:lnTo>
                      <a:lnTo>
                        <a:pt x="349" y="293"/>
                      </a:lnTo>
                      <a:lnTo>
                        <a:pt x="364" y="231"/>
                      </a:lnTo>
                      <a:lnTo>
                        <a:pt x="372" y="193"/>
                      </a:lnTo>
                      <a:lnTo>
                        <a:pt x="410" y="151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8497440" y="3357720"/>
                <a:ext cx="101160" cy="153360"/>
              </a:xfrm>
              <a:custGeom>
                <a:avLst/>
                <a:gdLst/>
                <a:ahLst/>
                <a:rect l="l" t="t" r="r" b="b"/>
                <a:pathLst>
                  <a:path w="221" h="209">
                    <a:moveTo>
                      <a:pt x="25" y="0"/>
                    </a:moveTo>
                    <a:lnTo>
                      <a:pt x="0" y="22"/>
                    </a:lnTo>
                    <a:lnTo>
                      <a:pt x="203" y="209"/>
                    </a:lnTo>
                    <a:lnTo>
                      <a:pt x="221" y="180"/>
                    </a:lnTo>
                    <a:lnTo>
                      <a:pt x="126" y="9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c99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79280" y="1197000"/>
              <a:ext cx="7008480" cy="482544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13500000" blurRad="0" rotWithShape="0">
                <a:srgbClr val="dfe5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11280" y="1627200"/>
            <a:ext cx="504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ная подготовка к ЕГЭ на уроках математики является залогом успешной сдачи экзаменов за курс основной школы и вступительных экзаменов в ВУЗы. Я, как учитель, продумываю систему работы на уроке, определяю цели, содержание, методы обучения. Это обучает учащихся методам самоконтроля, обучает оценке объективной и субъективной трудности заданий, разумному выбору и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96000" cy="439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00000" y="2565360"/>
            <a:ext cx="748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стем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это, прежде всего, совокупность взаимосвязанных, взаимообуславливающих друг друга, логически вытекающих один из другого и подчиненных общим задачам видов работ. Всякая система должна удовлетворять определенным требованиям или принципам. В противном случае это не система, а случайный набор фактов, объектов, предметов или явл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7120" y="-4788000"/>
            <a:ext cx="23508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-2448720" y="3033000"/>
            <a:ext cx="6480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идактические принцип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 rot="5400000">
            <a:off x="-1332000" y="3139920"/>
            <a:ext cx="61200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строения систем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10809000">
            <a:off x="2626920" y="1698840"/>
            <a:ext cx="609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строенная система должна способствовать решению основных дидактических задач: приобретению учащимися глубоких и прочных знаний, развитию у них познавательных способностей, формированию умения самостоятельно приобретать, расширять и углублять знания, применять их на практи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55640" y="94284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лгоритм предлагаю такой: «Начинайте с того, что вы можете сделать сходу. Пробегите глазами по разделу В, отметьте в нём 2-3 задания, которые вы поняли сразу. К ним вы перейдёте, когда закончите с разделом А. Просмотрите раздел С – один пример в этом разделе всегда решаем. Его вы попробуете решить, когда закончите с разделом В. Затем делайте все задания, как запланировали, если на чём-то застряли, заметьте время и не тратьте на это больше 3 минут – перейдите к следующему примеру. Двигайтесь по спирали и выбирайте то, что «созрело» к данному момен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 rot="5400000">
            <a:off x="-2448720" y="3033000"/>
            <a:ext cx="6480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идактические принцип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5400000">
            <a:off x="-1332000" y="3139920"/>
            <a:ext cx="61200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строения систем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150840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Система должна удовлетворять основным принципам дидактики и, прежде всего, принципам доступности и систематичности, связи теории с практикой, сознательности и творческой активности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24000" y="333360"/>
          <a:ext cx="7695720" cy="5334120"/>
        </p:xfrm>
        <a:graphic>
          <a:graphicData uri="http://schemas.openxmlformats.org/drawingml/2006/table">
            <a:tbl>
              <a:tblPr/>
              <a:tblGrid>
                <a:gridCol w="1297080"/>
                <a:gridCol w="2252880"/>
                <a:gridCol w="2105280"/>
                <a:gridCol w="20404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д решения зада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ждение процентов от чис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ждение числа по его процент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ждение процентного отношения чис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банк выплачивал за деньги, хранящиеся в нём, 3% по истечении года. Сколько процентных денег выплачивали вкладчику, если он положил в банк 4000 рублей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банк выплачивал за деньги, хранящиеся в нём, 3% по истечении года. Какой был вклад, если на него по истечении года было начислено 120 рублей процентных денег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клад в сбербанк был равен 4000 рублей. По истечении года сбербанк заплатил 120 рублей. Сколько процентов годовых платил сбербанк за вклад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образим условие задачи в виде сх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  -  4000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       - х 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  - у 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       - 120 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  -  4000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      - 120 ру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кладчику выплатили 120 рубл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клад составил 4000 рубл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банк платит 3% годов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7120" y="-4788000"/>
            <a:ext cx="23508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2448720" y="3033000"/>
            <a:ext cx="6480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идактические принцип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 rot="5400000">
            <a:off x="-1332000" y="3139920"/>
            <a:ext cx="61200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строения систем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09412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Входящие в систему работы должны быть разнообразны по учебной цели и содержанию, чтобы обеспечить у учащихся формирование разнообразных умений и навы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56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пример:   №1. Найт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у), корни и промежутки знакопостоянства для функции: у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Найти производную для функции: у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Провести исследование функции:  у=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0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9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Найти максимум и минимум функции: у=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2х-8 на промежутк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Найти все значения параметра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при которых функц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=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)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)х возрастает на всей числовой прям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09800" y="2529000"/>
            <a:ext cx="3771720" cy="22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107964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835280" y="1916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935280" cy="4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37:14Z</dcterms:created>
  <dc:creator>дом</dc:creator>
  <dc:description/>
  <dc:language>en-US</dc:language>
  <cp:lastModifiedBy>USER</cp:lastModifiedBy>
  <dcterms:modified xsi:type="dcterms:W3CDTF">2008-01-25T05:24:49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