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ACB-012E-4373-9AA6-F321182E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590-6D79-416E-A748-7106550D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505-2F86-450A-B164-EE876E20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26A-7101-443C-B50B-36ABCA21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588C-D5F1-4CDB-AB13-40ABC0FA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A017-23AC-4E40-9987-0954B1A0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6EA5-7F68-49CA-B4B2-B749AA81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9174-1E1F-4A6D-86D6-96425610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8F60-0DF6-4175-B250-7D5A77FE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D4F8-0899-4021-8E5D-B2B08809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52FD-F75F-4C7E-994D-E75A570D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E92-CB40-4C86-9950-77B0FE9B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FF25-D9B9-4FAD-859D-D3EF5453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4CB7-CE2B-4902-A6B7-20F1E2FE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0EBB-25E2-4AF1-B393-9183C839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FCB7-BE56-4E1B-947F-1560D119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62A5-1610-4B5C-855B-26F16C45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3C2C-790D-43E2-A61E-B6766BF1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0F8-8400-4097-B8F5-68ED8BF3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EB7-B420-4B65-8903-6FC2FC18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BF7-3287-4EFB-ABBA-0DF10FF8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A2F-52EE-4A0D-BF0D-A52829B6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4F4-00EB-464B-BFEB-10F437F7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D48-2D4C-48D8-A1D8-7886AF48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afacc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8f996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8f996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8f8f8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8f8f8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4AF8-E51E-4DB2-8E52-96D7AE03234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afacc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8f996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8f996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8f8f8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8f8f8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CE6F-16C9-4CE3-AAC0-BD763A8CB1A2}" type="slidenum">
              <a:rPr b="0" lang="ru-RU" sz="1200" spc="-1" strike="noStrike">
                <a:solidFill>
                  <a:srgbClr val="f8f8f8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otki.yandex.ru/users/georgs53/view/168025/?page=4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gogol.boom.ru/unikaln/risunki/files/p0000006.jpg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adikal.ru/F/s16.radikal.ru/i190/0907/1e/dd12fe0df29d.jpg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afacc"/>
                </a:solidFill>
                <a:latin typeface="Garamond"/>
              </a:rPr>
              <a:t>Жизненный и творческий  путь Н.В.Гоголя</a:t>
            </a:r>
            <a:br>
              <a:rPr sz="4600"/>
            </a:br>
            <a:endParaRPr b="0" lang="en-US" sz="46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Материал к уроку подготовлен Виноградовой А.А.,учителем русского языка и литературы МБОУ  СОШ №6 г.Пушкино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                                                     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                                                                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1" name="Picture 5" descr="Гоголь-гимназист. 1827. Рисунок неизвестного художника"/>
          <p:cNvPicPr/>
          <p:nvPr/>
        </p:nvPicPr>
        <p:blipFill>
          <a:blip r:embed="rId1"/>
          <a:stretch/>
        </p:blipFill>
        <p:spPr>
          <a:xfrm>
            <a:off x="2411280" y="404640"/>
            <a:ext cx="4172040" cy="568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afacc"/>
                </a:solidFill>
                <a:latin typeface="Garamond"/>
              </a:rPr>
              <a:t>Нежинская гимназия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                                                                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4" name="Picture 4" descr="image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 </a:t>
            </a: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Друг Гоголя Данилевский с женой  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681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7" name="Picture 5" descr="image"/>
          <p:cNvPicPr/>
          <p:nvPr/>
        </p:nvPicPr>
        <p:blipFill>
          <a:blip r:embed="rId1"/>
          <a:stretch/>
        </p:blipFill>
        <p:spPr>
          <a:xfrm>
            <a:off x="2195640" y="1197000"/>
            <a:ext cx="460692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afacc"/>
                </a:solidFill>
                <a:latin typeface="Garamond"/>
              </a:rPr>
              <a:t>Петербург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f8f8"/>
                </a:solidFill>
                <a:latin typeface="Arial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 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afacc"/>
                </a:solidFill>
                <a:latin typeface="Garamond"/>
              </a:rPr>
              <a:t>Преподавание в университете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2" name="Picture 5" descr="0_29058_8cb415e1_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00280"/>
            <a:ext cx="3284640" cy="41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Популярность Гоголя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826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Первая принесшая ему славу книга «Вечера на хуторе близ Диканьки» появилась в 1831–1832 гг.</a:t>
            </a:r>
            <a:br>
              <a:rPr sz="3000"/>
            </a:b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5" name="Picture 5" descr="Н.В. Гоголь, читающий &quot;Мертвые души&quot;. 1839. Рисунок Э. Дмитриева-Мамонова"/>
          <p:cNvPicPr/>
          <p:nvPr/>
        </p:nvPicPr>
        <p:blipFill>
          <a:blip r:embed="rId1"/>
          <a:stretch/>
        </p:blipFill>
        <p:spPr>
          <a:xfrm>
            <a:off x="4859280" y="1268280"/>
            <a:ext cx="3719520" cy="45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afacc"/>
                </a:solidFill>
                <a:latin typeface="Garamond"/>
              </a:rPr>
              <a:t>Гоголь и Пушкин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                                                 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8" name="Picture 5" descr="tb_p00000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052640"/>
            <a:ext cx="3360600" cy="46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1" name="Picture 5" descr="Н.В. Гоголь читает А.С. Пушкину &quot;Мертвые души&quot;. Гравюра с картины Клодта. 1887"/>
          <p:cNvPicPr/>
          <p:nvPr/>
        </p:nvPicPr>
        <p:blipFill>
          <a:blip r:embed="rId1"/>
          <a:stretch/>
        </p:blipFill>
        <p:spPr>
          <a:xfrm>
            <a:off x="468360" y="333360"/>
            <a:ext cx="822780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afacc"/>
                </a:solidFill>
                <a:latin typeface="Garamond"/>
              </a:rPr>
              <a:t>Неизвестный портрет Гоголя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                                                                  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4" name="Picture 5" descr="gogol_73"/>
          <p:cNvPicPr/>
          <p:nvPr/>
        </p:nvPicPr>
        <p:blipFill>
          <a:blip r:embed="rId1"/>
          <a:stretch/>
        </p:blipFill>
        <p:spPr>
          <a:xfrm>
            <a:off x="2916360" y="1125360"/>
            <a:ext cx="357192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Н.В.Гоголь /1809-1852/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                       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0" name="Picture 5" descr="dd12fe0df29d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981000"/>
            <a:ext cx="494820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Рождение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и</a:t>
            </a:r>
            <a:r>
              <a:rPr b="0" lang="ru-RU" sz="26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afacc"/>
                </a:solidFill>
                <a:latin typeface="Garamond"/>
              </a:rPr>
              <a:t>Дом доктора М.Я.Трохимовского в Сорочинцах, где родился Гоголь </a:t>
            </a:r>
            <a:endParaRPr b="0" lang="en-US" sz="38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                                                    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5" name="Picture 5" descr="image"/>
          <p:cNvPicPr/>
          <p:nvPr/>
        </p:nvPicPr>
        <p:blipFill>
          <a:blip r:embed="rId1"/>
          <a:stretch/>
        </p:blipFill>
        <p:spPr>
          <a:xfrm>
            <a:off x="1619280" y="1844640"/>
            <a:ext cx="6264360" cy="36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Родители Гоголя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                                              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8" name="Picture 5" descr="image"/>
          <p:cNvPicPr/>
          <p:nvPr/>
        </p:nvPicPr>
        <p:blipFill>
          <a:blip r:embed="rId1"/>
          <a:stretch/>
        </p:blipFill>
        <p:spPr>
          <a:xfrm>
            <a:off x="1692360" y="1052640"/>
            <a:ext cx="5688000" cy="4181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269440" y="5444280"/>
            <a:ext cx="47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Мария Ивановна и Василий Афанасьевич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Родители Гоголя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f8f8"/>
                </a:solidFill>
                <a:latin typeface="Arial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Родительский дом в Васильевке 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                               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4" name="Picture 5" descr="image"/>
          <p:cNvPicPr/>
          <p:nvPr/>
        </p:nvPicPr>
        <p:blipFill>
          <a:blip r:embed="rId1"/>
          <a:stretch/>
        </p:blipFill>
        <p:spPr>
          <a:xfrm>
            <a:off x="971640" y="1557360"/>
            <a:ext cx="738036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afacc"/>
                </a:solidFill>
                <a:latin typeface="Garamond"/>
              </a:rPr>
              <a:t>ИЗ ВОСПОМИНАНИЙ: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Гоголя я знала мальчиком всегда серьёзным и до того задумчивым, что это чрезвычайно беспокоило его мать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          </a:t>
            </a:r>
            <a:br>
              <a:rPr sz="4000"/>
            </a:br>
            <a:r>
              <a:rPr b="0" i="1" lang="ru-RU" sz="4000" spc="-1" strike="noStrike">
                <a:solidFill>
                  <a:srgbClr val="f8f8f8"/>
                </a:solidFill>
                <a:latin typeface="Arial"/>
              </a:rPr>
              <a:t>                Софья Скалон, знакомая семейства Гоголей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afacc"/>
                </a:solidFill>
                <a:latin typeface="Garamond"/>
              </a:rPr>
              <a:t>Нежинская гимназия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82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8f8f8"/>
                </a:solidFill>
                <a:latin typeface="Arial"/>
              </a:rPr>
              <a:t>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)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6:45:10Z</dcterms:created>
  <dc:creator>Герман</dc:creator>
  <dc:description/>
  <dc:language>en-US</dc:language>
  <cp:lastModifiedBy>User</cp:lastModifiedBy>
  <dcterms:modified xsi:type="dcterms:W3CDTF">2013-02-12T14:22:22Z</dcterms:modified>
  <cp:revision>16</cp:revision>
  <dc:subject/>
  <dc:title>Жизненный и творческий  путь Н.В.Гоголя </dc:title>
</cp:coreProperties>
</file>