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5C2-7484-4F73-86BB-10597A29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4AE-54FA-400E-A28A-8874004D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4F3-A3C9-4DB9-B749-69EA7703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00E-1939-4B7A-8FEA-16C21201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2883-BD13-47E9-B0F8-452A1843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D5AB-E508-48E1-88E5-2083A5E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46B-84B4-4E5F-B12D-593D32C9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F7C-6A19-44EF-9D9D-1D65070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B85-C69E-453C-B836-9C585DFA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C7E9-90B5-41E9-A412-A2E6CE77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2FB9-E1EE-4A87-9268-DA9635F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7D4-9BA9-43A7-80B4-C0DE1B0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426-800C-4375-A7B6-C2EE5F2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115-6084-4694-B77A-27CF4E2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EEAA-5F61-48D9-9844-00F2AA5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7FEA-3D65-4A29-BA28-A45C099B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053-A836-49B4-968C-63E62A6D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5EC-F78F-41D5-9BB8-FDDEE89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3BF-4F8C-4847-816D-CF0317A6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F49-0EBD-42FE-B397-1FE3BE1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A69-4FBA-4085-AEE5-4E2CB3B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6D9-BEB0-439A-BC9B-EB6116C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817-60D8-4D17-B416-2CE4BD3A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BF4-2A2E-4F25-B329-3C3F057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ac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f996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f996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BAF0-FC4F-4424-ACC5-CA5C1E909B6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acc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f996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f996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8f8f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9AA-D964-4703-83F6-816CFA43E586}" type="slidenum">
              <a:rPr b="0" lang="ru-RU" sz="1200" spc="-1" strike="noStrike">
                <a:solidFill>
                  <a:srgbClr val="f8f8f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georgs53/view/168025/?page=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gogol.boom.ru/unikaln/risunki/files/p0000006.jpg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adikal.ru/F/s16.radikal.ru/i190/0907/1e/dd12fe0df29d.jpg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afacc"/>
                </a:solidFill>
                <a:latin typeface="Garamond"/>
              </a:rPr>
              <a:t>Жизненный и творческий  путь Н.В.Гоголя</a:t>
            </a:r>
            <a:br>
              <a:rPr sz="4600"/>
            </a:br>
            <a:endParaRPr b="0" lang="en-US" sz="46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атериал к уроку подготовлен Виноградовой А.А.,учителем русского языка и литературы МБОУ  СОШ №6 г.Пушкин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                                                    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Picture 5" descr="Гоголь-гимназист. 1827. Рисунок неизвестного художника"/>
          <p:cNvPicPr/>
          <p:nvPr/>
        </p:nvPicPr>
        <p:blipFill>
          <a:blip r:embed="rId1"/>
          <a:stretch/>
        </p:blipFill>
        <p:spPr>
          <a:xfrm>
            <a:off x="2411280" y="404640"/>
            <a:ext cx="417204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жинская гимнази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4" descr="image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Друг Гоголя Данилевский с женой 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5" descr="image"/>
          <p:cNvPicPr/>
          <p:nvPr/>
        </p:nvPicPr>
        <p:blipFill>
          <a:blip r:embed="rId1"/>
          <a:stretch/>
        </p:blipFill>
        <p:spPr>
          <a:xfrm>
            <a:off x="2195640" y="1197000"/>
            <a:ext cx="460692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Петербург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Преподавание в университете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Picture 5" descr="0_29058_8cb415e1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328464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Популярность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826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Первая принесшая ему славу книга «Вечера на хуторе близ Диканьки» появилась в 1831–1832 гг.</a:t>
            </a:r>
            <a:br>
              <a:rPr sz="3000"/>
            </a:b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Н.В. Гоголь, читающий &quot;Мертвые души&quot;. 1839. Рисунок Э. Дмитриева-Мамонова"/>
          <p:cNvPicPr/>
          <p:nvPr/>
        </p:nvPicPr>
        <p:blipFill>
          <a:blip r:embed="rId1"/>
          <a:stretch/>
        </p:blipFill>
        <p:spPr>
          <a:xfrm>
            <a:off x="4859280" y="1268280"/>
            <a:ext cx="371952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Гоголь и Пушкин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8" name="Picture 5" descr="tb_p0000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052640"/>
            <a:ext cx="336060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1" name="Picture 5" descr="Н.В. Гоголь читает А.С. Пушкину &quot;Мертвые души&quot;. Гравюра с картины Клодта. 1887"/>
          <p:cNvPicPr/>
          <p:nvPr/>
        </p:nvPicPr>
        <p:blipFill>
          <a:blip r:embed="rId1"/>
          <a:stretch/>
        </p:blipFill>
        <p:spPr>
          <a:xfrm>
            <a:off x="468360" y="333360"/>
            <a:ext cx="8227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известный портрет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4" name="Picture 5" descr="gogol_73"/>
          <p:cNvPicPr/>
          <p:nvPr/>
        </p:nvPicPr>
        <p:blipFill>
          <a:blip r:embed="rId1"/>
          <a:stretch/>
        </p:blipFill>
        <p:spPr>
          <a:xfrm>
            <a:off x="2916360" y="112536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Н.В.Гоголь /1809-1852/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Picture 5" descr="dd12fe0df29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981000"/>
            <a:ext cx="49482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ждение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и</a:t>
            </a: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facc"/>
                </a:solidFill>
                <a:latin typeface="Garamond"/>
              </a:rPr>
              <a:t>Дом доктора М.Я.Трохимовского в Сорочинцах, где родился Гоголь </a:t>
            </a:r>
            <a:endParaRPr b="0" lang="en-US" sz="38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1619280" y="1844640"/>
            <a:ext cx="6264360" cy="36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и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8" name="Picture 5" descr="image"/>
          <p:cNvPicPr/>
          <p:nvPr/>
        </p:nvPicPr>
        <p:blipFill>
          <a:blip r:embed="rId1"/>
          <a:stretch/>
        </p:blipFill>
        <p:spPr>
          <a:xfrm>
            <a:off x="1692360" y="1052640"/>
            <a:ext cx="5688000" cy="4181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69440" y="5444280"/>
            <a:ext cx="47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ария Ивановна и Василий Афанасьевич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и Гогол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afacc"/>
                </a:solidFill>
                <a:latin typeface="Garamond"/>
              </a:rPr>
              <a:t>Родительский дом в Васильевке 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                               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5" descr="image"/>
          <p:cNvPicPr/>
          <p:nvPr/>
        </p:nvPicPr>
        <p:blipFill>
          <a:blip r:embed="rId1"/>
          <a:stretch/>
        </p:blipFill>
        <p:spPr>
          <a:xfrm>
            <a:off x="971640" y="1557360"/>
            <a:ext cx="738036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ИЗ ВОСПОМИНАНИЙ: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Гоголя я знала мальчиком всегда серьёзным и до того задумчивым, что это чрезвычайно беспокоило его мать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          </a:t>
            </a:r>
            <a:br>
              <a:rPr sz="4000"/>
            </a:b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                Софья Скалон, знакомая семейства Гоголей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afacc"/>
                </a:solidFill>
                <a:latin typeface="Garamond"/>
              </a:rPr>
              <a:t>Нежинская гимназия</a:t>
            </a:r>
            <a:endParaRPr b="0" lang="en-US" sz="4200" spc="-1" strike="noStrike">
              <a:solidFill>
                <a:srgbClr val="fafacc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82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8f8f8"/>
                </a:solidFill>
                <a:latin typeface="Arial"/>
              </a:rPr>
              <a:t>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6:45:10Z</dcterms:created>
  <dc:creator>Герман</dc:creator>
  <dc:description/>
  <dc:language>en-US</dc:language>
  <cp:lastModifiedBy>User</cp:lastModifiedBy>
  <dcterms:modified xsi:type="dcterms:W3CDTF">2013-02-12T14:22:22Z</dcterms:modified>
  <cp:revision>16</cp:revision>
  <dc:subject/>
  <dc:title>Жизненный и творческий  путь Н.В.Гоголя </dc:title>
</cp:coreProperties>
</file>