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545-F510-45B9-A197-4D5C376D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016-7784-499A-BC8E-8B33A2C3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47D-B2A4-48F4-A524-C15EF4DC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1B9-7F4F-4968-A400-0A9ABC70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CAD-AC19-407F-9D23-79CE7981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F75-666D-4066-A15B-5092614C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7F2-CA30-4863-9B96-6C3D5779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909-419C-48C8-8546-375DF7B9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42A-FD1B-43A1-9B2F-3DCD0AA8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3FD-192F-4BE4-94F5-ABEEE1AA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D74-DF78-4132-8FD1-017F812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F64-DAA3-473B-965C-C7F3C81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01E-3274-402E-A6A2-D6812740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G:/MOSCOW/Things/14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G:/MOSCOW/Biographies/fedor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549360"/>
            <a:ext cx="75596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МУТНОЕ ВРЕМ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692280"/>
            <a:ext cx="79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 смертью Дмитрия прекратилась династия Рюриковичей, правившая Русью 7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 1598 г. начинается процесс дестабилизации внутреннего равновесия российского общества из-за утраты законной власти монар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13000"/>
            <a:ext cx="813744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термин «СМУТА», «СМУТНОЕ ВРЕМЯ» был принят историк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–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. В советский период историки отвергли его как «дворянско-буржуазный», предложив взамен «крестьянскую войну и иностранную интервенцию», что, безусловно, не соответствует полностью определению этого периода. Сейчас понятие «Смуты» возвращается, и одновременно предлагается называть события на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В России гражданской войной, ибо в них были задействованы практически все социальные группы и сл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978080" cy="604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549360"/>
            <a:ext cx="30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. 1552–1605) (Борис Федорович Годунов), русский царь (1598–1605). Точная дата его рождения неизвестна. Происходил он из семьи, имевшей татарские корни, глава которой в 14 в. поступил на службу к московским князь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6093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Борис Году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404640"/>
            <a:ext cx="842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лся при дворе Ивана Грозного. Из рядового опричника стал приближенным царя. Был женат на дочери Малюты Скуратова, главы опричников. Сестра Бориса Ирина стала женой Федора – сына Ивана I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584, незадолго до смерти, Иван назначил Никиту Романовича, дядю Федора, его опекуном – главой т.н. Регентского совета – с целью надзора за государственными делами, поскольку не доверял умственным способностям сына. Однако в 1586 Никита Романович умер, а Борис Годунов (член Регентского совета) стал фактическим правителе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941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правил умело и стяжал народное признание. Он прекратил террор Ивана IV, но продолжал его политику укрепления самодержавной власти ц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569080" cy="62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ослабил влияние важнейших боярских родов (Шуйских, Романовых и др.), пытавшихся сместить Федора, чтобы посадить на трон его брата Дмитрия – сына Ивана от последней, пятой жены, или же хотя бы развести Федора и сестру Бориса ввиду их бездетности. Годунов продолжал опираться на служилое дворянство, которое за службу щедро вознаграждалось поместь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стьяне были окончательно закреплены за владельц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укрепил государственные финансы, поддерживал торговлю с англичанами и голландцами, стремился наладить отношения с Западной Европ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войны с Швецией в 1590–1593 были возвращены города Ям, Орешек, Ивангород и другие, влияние России распространилось на Кавказ (расширились связи с Грузией, была построена крепость в устье р.Терек), закрепилось в Сиби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76280"/>
            <a:ext cx="41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м достижением периода опекунства Бориса стало возвышение в 1589 Московской митрополии до статуса патриархата, что сделало Русскую церковь независимой от Греческой и укрепляло ее международ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92720" y="476280"/>
            <a:ext cx="3286080" cy="340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48360" y="4076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триаршая митра. XVI 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72428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м патриархом 23 января 1589 г. избран митрополит московский И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932360" y="476280"/>
            <a:ext cx="403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598, после смерти Федора, не оставившего наследников, Борис был избран царем на Земском соборе – собрании бояр, высшего духовенства и представителей купечества, городов и земель. Со смертью Федора пресеклась царская династия Рюриковичей, ибо в 1591 при загадочных обстоятельствах умер его единокровный брат Дмит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300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агия Бориса Годунов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4011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333360"/>
            <a:ext cx="842472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продолжал политику, которая осуществлялась им при опекунстве, однако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1601–1603 страну постиг страшный голо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довольство народа и боярские козни создавали угрозу царской власти. Борис возродил разветвленную систему шпионов и соглядатаев, а также многие жестокости времен Ивана I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603 в Польше появился претендент на русский престол, который объявил себя Дмитрием, якобы чудом избежавшим смерти. В 1604 при поддержке поляков самозванец предпринял поход на Москву. Хотя его небольшое войско быстро росло за счет восставших крестьян, разрозненных русских отрядов и казаков, Лжедмитрий не добился особых успехов до 13 (23) апреля 1605, когда Борис скоропостижно скончался. Престол наследовал его сын Федор, но бояре оказали поддержку претенденту, и законный царь был убит. Смерть Бориса знаменовала наступление кризисной эпохи в истории России – Смутного времени, продолжавшегося до 16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стрение внутриполитической ситуации привело к резкому падению авторитета нового царя – и не только в народных массах, но и в среде феод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773360"/>
            <a:ext cx="792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их непростых условиях на Руси появился Лжедмитр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был послушник Чудова монастыря ГРИГОРИЙ ОТРЕПЬЕВ (в миру Юрий Богданович Отрепьев), который выдавал себя за якобы чудесным образом спасшегося в Угличе царевича Дмитрия. Отрепьева поддержал польский король Сигизмунд, польские магнаты, шляхта и католическое духо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04 г. Лжедмитр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ял первый поход на Москву. Откликаясь на призывы самозванца, местные жители встают под знамена «царевича Дмитр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поведные г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ы, в которые запрещались крестьянские перех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781360"/>
            <a:ext cx="82803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яжелая и неудачная для России Ливонская война, опричнина заставила власти ввести с 1581 года «заповедные лета», запретить выход крестьян от своих хозяев. Первоначально «заповедь» мыслилась как временный запрет, но потом, после 1592-1593 годов выход крестьян был отменен окончательно. А в 1597 году правительство Федора Иоанновича приняло Указ об урочных летах, согласно которому были введены лета, в течение которых можно было сыскивать и возвращать прежним владельцам бегл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УРОЧНЫЕ ЛЕ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, В ПЕРИОД КОТОРОГО ПОМЕЩИКИ ИМЕЛИ ПРАВО НА РОЗЫСК СВОИХ БЕГЛЫХ КРЕСТЬЯН. Обычно пяти-пятнадцатилетние периоды. Впервые введены в 90-е год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486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ок сыска беглых, установлен 5 летний срок в 1597 году. С 1592 стали составляться «писцовые книги», закрепляющие крестьян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47628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i="1" lang="en-US" sz="3200" spc="-1" strike="noStrike">
                <a:solidFill>
                  <a:srgbClr val="bfbce2"/>
                </a:solidFill>
                <a:latin typeface="Arial"/>
              </a:rPr>
              <a:t>Конец династии Рюрикович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fbce2"/>
                </a:solidFill>
                <a:latin typeface="Arial"/>
              </a:rPr>
              <a:t>Смут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fbce2"/>
                </a:solidFill>
                <a:latin typeface="Arial"/>
              </a:rPr>
              <a:t>1584-1607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63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характеризовать состояние Руси после смерти Ивана Грозного и политику Бориса Годунова, определить причины С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86064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сновные понятия:</a:t>
            </a:r>
            <a:r>
              <a:rPr b="1" lang="en-US" sz="2400" spc="-1" strike="noStrike">
                <a:solidFill>
                  <a:srgbClr val="bfbce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ЧНЫЕ Л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ВЕДНЫЕ Г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ТРИАР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ЗВАН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60280"/>
            <a:ext cx="8640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ой стороной развития поземельных отношений в Московском государстве конце 15 - 16 веках стало прогрессирующее закрепощение владельческих крестьян. В 1497 году Судебник Ивана 3 ввел единый общерусский срок перехода крестьян от одного владельца к другому – Юрьев день осенний, 26 ноября. Крестьянам разрешалось выходить на новое место жительства в течение недели до 26 ноября и в течение недели после. Также было установлено пожилое – плата за проживание на земле старого хозяина в зависимости от срока, который прожил крестьянин. Размеры пожилого варьировались от полтины (50 копеек) в лесах до 1 рубля серебром в по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ебник 1550 года подтвердил правило Юрьева дня и увеличил размеры пожилого на 6 копеек. Кроме того, на крестьян были возложены и иные обязанности перед выходом от помещика, к примеру, засев озимых и подготовка инвентаря к новому сезону. В документах ряда вотчин после этого появились сведения о том, что часть крестьян не выходит в Юрьев день по закону, а «выбегает» от своего владельца. Распространяются случаи и перевоза крестьян от одних хозяев к другим, инициируемые самими владель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Юрье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рок, ограничивающий переход крестьян от старых хозяев к новым, был установлен Судебников 1497 года, включал одну неделю до Ю.д.(26 ноября) и одну неделю после него. Свидетельство юридического оформления системы крепостного пр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дебник 1497 г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 крестьянских перех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христианском (крестьянском) отказ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А христианам переходить из волости в волость, из села в село, один срок в году, за неделю до Юрьева дня осеннего и неделю после Юрьева дня осеннего. Дворы, находящиеся в полях платят пожилое за двор рубль, а в лесах полтина. А который христианин проживет на нем год, да и пойдет прочь, и он платит четверть двора, а два года поживет да и пойдет прочь, и он полдвора платит; а три года поживет и пойдет прочь, и он платит три четверти двора; а четыре года проживет, и он весь двор пла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404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90-х гг. наметившийся было экономический подъем был прерван неурожаем. В стране начался голод, цена на хлеб поднялась примерно в 100 раз. Правительство Бориса Годунова пыталось бороться с голодом, однако предпринимаемые меры не дали желаемых результатов. Голод привел к восст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284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 1603 г. началось восстание ХЛОПК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о вспыхнуло в юго-западных уездах страны, где собрались тысячи холопов. Они собрали войско и двинулись к столице. С большим трудом правительственным войскам удалось подавить восс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Земский Соб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шие сословно-представительные учреждения с законосовещательными функциями в середине 16 -конце 17 вв. Включали членов Освященного собора (архиепископы, епископы и др. во главе с митрополитом, с 1589 - с патриархом), Боярской думы, Государева двора, выборных от городовых дворян и посадских людей. З.с. рассматривали важнейшие общегосударственные вопросы (избрание на царство, присоединение новых территорий, принятие важнейших законов и т. п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жедмитри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02 г. в Литве объявился человек, выдававший себя за Дмитрия. Он нашел покровительство у самборского воеводы Юрия Мни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ьше Лжедмитрий принял католичество и обещал распространить католицизм в России. Было заключено несколько тайных соглашений, о том, что по достижении престола Лжедмитрий поможет Речи Посполитой в войне со Швецией; северские, смоленские земли, Новгород и Псков будут переданы невесте самозванца Марине Мнише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Федора Ионнов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ическ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Бориса Годун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первого самозва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Василия Шуйского. Восстание Болотни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5493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ажнейшие д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592-1593 гг. – указы об отмене Юрьева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589 г. – установление патриаршества на Рус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598 – 1605 гг. – правление Бориса Годун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605 – 1613 гг. – Смут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62064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ладельческие крестьян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крестьяне, находившиеся во владении частных лиц (помещиков, вотчи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орцовые крестьян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крестьяне, жившие на землях, принадлежавших лично великому княз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рносошные крестьян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лично свободные крестьяне, владевшие общинными землями и несшие государственные пови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221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ха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единица обложения, введенная при Иване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ягло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плекс натуральных и денежных сборов с населения в пользу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жило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денежный сбор с крестьян при уходе от феодала в Юрье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476280"/>
            <a:ext cx="777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века в стране резко обострились социальные противоречия. Тяжелый хозяйственный кризис, порожденный опричниной и войнами, привел к новому витку закрепостительных мер. В 1581 г. были введены «ЗАПОВЕДНЫЕ ГОД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1597 г. принимаются указы об «УРОЧНЫХ ЛЕТАХ» и усилении зависимости холо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50864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Однако эти меры означали еще только начало крепостнич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КРЕСТЬЯНЕ ПРИКРЕПЛЯЛИСЬ К ЗЕМЛЕ, а не к землевладель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692280"/>
            <a:ext cx="2666880" cy="36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836640"/>
            <a:ext cx="46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.05.1557-6.01.1598), русский царь. Сын русского цар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вана IV Васильевича Гроз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царицы Анастасии Романовны (дочери московского боярина Романа Юрьевича Захарьи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26028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о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оан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3500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ор стал русским царем после смерти отца в 158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365720"/>
            <a:ext cx="8280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был добрый, безвольный и слабоумный человек, проводивший время в забавах с придворными шутами и в поездках на богомолье. Незадолго до смерти Иван Грозный учредил опекунский совет, который должен было управлять Россией в царствование его неполноценного сын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47628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царствование Федора резко ухудшилось положение крестьян. Около 1592 они были лишены права переходить от одного господина к другому, а в 1597 вышел царский указ о пятилетнем сыске беглых крепостных. Был издан указ, запрещающий закабаленным людям выкупаться на свободу. В 1586 — 93 в Москве была сооружена из кирпича и белого камня еще одна мощная оборонительная линия — Белый г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84480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писцы отмечали, что Федор был “прекроток и незлоблив”, многих миловал, богато “одарял” города, села, монастыри. Некоторые источники сообщают, что он был отравлен Борисом Годуновым, желавшим стать царем в России. При исследовании скелета Федора в его костях найден мышьяк. С его смертью прервался род московски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юрикович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602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 Ивана Грозного было два сына: ФЕДОР и ДМИТ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800280"/>
            <a:ext cx="864072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МИТРИЙ ИВАНОВИ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82, Москва - 1591, Углич) - царевич. Сын Ивана IV Васильевича Грозного и Марии Нагой. В 1584 Д. с матерью получил в удел г. Углич и был отправлен туда, что было фактической ссылкой опасного конкурента в борьбе за власть. 15 мая 1591 во время игры с ножом получил смертельную рану в горло. Существует три версии случившего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давший эпилепсией Д. накололся на нож во время припадка (эту точку зрения высказали М.П. Погодин, С.Ф. Платонов, В.К. Клейн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. был убит по приказу Бориса Годунова (так считали Н.М. Карамзин, С.М. Соловьев, В.О. Ключевский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. пытались убить, но он спасся (такую возможность допускали К.Н. Бестужев-Рюмин, И.Д. Беляев и др.). Последняя, наименее вероятная версия была поводом для появления самозванцев Лжедмитрия 1 и Лжедмитрия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17:55Z</dcterms:created>
  <dc:creator>user</dc:creator>
  <dc:description/>
  <dc:language>en-US</dc:language>
  <cp:lastModifiedBy>user</cp:lastModifiedBy>
  <dcterms:modified xsi:type="dcterms:W3CDTF">2008-11-14T21:31:21Z</dcterms:modified>
  <cp:revision>4</cp:revision>
  <dc:subject/>
  <dc:title>Слайд 1</dc:title>
</cp:coreProperties>
</file>