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1EC-B918-4BDD-AAD4-0CBF6828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319-1571-41DC-9E72-42D65C81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5AA-FE7D-474C-942C-09CD075B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E4F-EF57-4281-9E35-2118A7A7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C851-5DFC-4C60-8A5F-4469026E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60C8-5087-4B61-854C-17DA0C0A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6B6B-A1E8-4003-86AA-6960565A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D6D1-8371-4FE6-B320-FCA55FE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50B3-C70C-4FD4-AFF9-507F5048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12A9-EC54-4804-A943-9C27E4A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A3A8-7FED-4299-B947-1384317A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522-2D19-42D8-9076-8CFD9954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0CD0-14D8-40EB-AA70-DA844B58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C93D-AF32-41D2-AB08-197F9BED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2505-EC5E-4407-903C-DDFDB12E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F559-D08F-4F04-9299-93750BCF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FAB5-AB27-4F2A-A7C3-CEB0A991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E3B-6F16-45F5-B677-FB756DF2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2C9-AC74-45BC-BB92-96A784D0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A81-9421-4E63-840F-2162BD3A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38C-0220-4866-8962-9B70CB99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A1F-5974-425C-8518-D7257807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ED7-5E94-454F-8252-0263758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0D9-E068-4C3E-BE20-B185A684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687-2548-457C-939B-8CE57DA425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7845-62FC-4F49-BF12-9B97513CC3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12_&#1076;&#1077;&#1082;&#1072;&#1073;&#1088;&#1103;" TargetMode="External"/><Relationship Id="rId3" Type="http://schemas.openxmlformats.org/officeDocument/2006/relationships/hyperlink" Target="http://ru.wikipedia.org/wiki/1896_&#1075;&#1086;&#1076;" TargetMode="External"/><Relationship Id="rId4" Type="http://schemas.openxmlformats.org/officeDocument/2006/relationships/hyperlink" Target="http://ru.wikipedia.org/wiki/24_&#1072;&#1074;&#1075;&#1091;&#1089;&#1090;&#1072;" TargetMode="External"/><Relationship Id="rId5" Type="http://schemas.openxmlformats.org/officeDocument/2006/relationships/hyperlink" Target="http://ru.wikipedia.org/wiki/1950_&#1075;&#1086;&#1076;" TargetMode="External"/><Relationship Id="rId6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7" Type="http://schemas.openxmlformats.org/officeDocument/2006/relationships/hyperlink" Target="http://ru.wikipedia.org/wiki/&#1043;&#1077;&#1085;&#1077;&#1088;&#1072;&#1083;-&#1087;&#1086;&#1083;&#1082;&#1086;&#1074;&#1085;&#1080;&#1082;" TargetMode="External"/><Relationship Id="rId8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9" Type="http://schemas.openxmlformats.org/officeDocument/2006/relationships/hyperlink" Target="http://ru.wikipedia.org/wiki/21-&#1103;_&#1072;&#1088;&#1084;&#1080;&#1103;_(&#1057;&#1057;&#1057;&#1056;)" TargetMode="External"/><Relationship Id="rId10" Type="http://schemas.openxmlformats.org/officeDocument/2006/relationships/hyperlink" Target="http://ru.wikipedia.org/wiki/&#1040;&#1074;&#1075;&#1091;&#1089;&#1090;" TargetMode="External"/><Relationship Id="rId11" Type="http://schemas.openxmlformats.org/officeDocument/2006/relationships/hyperlink" Target="http://ru.wikipedia.org/wiki/1942_&#1075;&#1086;&#1076;" TargetMode="External"/><Relationship Id="rId12" Type="http://schemas.openxmlformats.org/officeDocument/2006/relationships/hyperlink" Target="http://ru.wikipedia.org/wiki/&#1057;&#1090;&#1072;&#1083;&#1080;&#1085;&#1075;&#1088;&#1072;&#1076;&#1089;&#1082;&#1080;&#1081;_&#1092;&#1088;&#1086;&#1085;&#1090;" TargetMode="External"/><Relationship Id="rId13" Type="http://schemas.openxmlformats.org/officeDocument/2006/relationships/hyperlink" Target="http://ru.wikipedia.org/wiki/&#1057;&#1090;&#1072;&#1083;&#1080;&#1085;&#1075;&#1088;&#1072;&#1076;" TargetMode="External"/><Relationship Id="rId14" Type="http://schemas.openxmlformats.org/officeDocument/2006/relationships/hyperlink" Target="http://ru.wikipedia.org/wiki/33-&#1103;_&#1072;&#1088;&#1084;&#1080;&#1103;_(&#1057;&#1057;&#1057;&#1056;)" TargetMode="External"/><Relationship Id="rId15" Type="http://schemas.openxmlformats.org/officeDocument/2006/relationships/hyperlink" Target="http://ru.wikipedia.org/wiki/1943_&#1075;&#1086;&#1076;" TargetMode="External"/><Relationship Id="rId16" Type="http://schemas.openxmlformats.org/officeDocument/2006/relationships/hyperlink" Target="http://ru.wikipedia.org/w/index.php?title=&#1056;&#1078;&#1077;&#1074;&#1089;&#1082;&#1086;-&#1042;&#1103;&#1079;&#1077;&#1084;&#1089;&#1082;&#1072;&#1103;_&#1086;&#1087;&#1077;&#1088;&#1072;&#1094;&#1080;&#1103;_(1943)&amp;action=edit&amp;redlink=1" TargetMode="External"/><Relationship Id="rId17" Type="http://schemas.openxmlformats.org/officeDocument/2006/relationships/hyperlink" Target="http://ru.wikipedia.org/wiki/&#1057;&#1084;&#1086;&#1083;&#1077;&#1085;&#1089;&#1082;&#1072;&#1103;_&#1085;&#1072;&#1089;&#1090;&#1091;&#1087;&#1072;&#1090;&#1077;&#1083;&#1100;&#1085;&#1072;&#1103;_&#1086;&#1087;&#1077;&#1088;&#1072;&#1094;&#1080;&#1103;" TargetMode="External"/><Relationship Id="rId18" Type="http://schemas.openxmlformats.org/officeDocument/2006/relationships/hyperlink" Target="http://ru.wikipedia.org/wiki/&#1054;&#1088;&#1096;&#1072;&#1085;&#1089;&#1082;&#1072;&#1103;_&#1085;&#1072;&#1089;&#1090;&#1091;&#1087;&#1072;&#1090;&#1077;&#1083;&#1100;&#1085;&#1072;&#1103;_&#1086;&#1087;&#1077;&#1088;&#1072;&#1094;&#1080;&#1103;" TargetMode="External"/><Relationship Id="rId19" Type="http://schemas.openxmlformats.org/officeDocument/2006/relationships/hyperlink" Target="http://ru.wikipedia.org/wiki/&#1042;&#1080;&#1090;&#1077;&#1073;&#1089;&#1082;&#1072;&#1103;_&#1085;&#1072;&#1089;&#1090;&#1091;&#1087;&#1072;&#1090;&#1077;&#1083;&#1100;&#1085;&#1072;&#1103;_&#1086;&#1087;&#1077;&#1088;&#1072;&#1094;&#1080;&#1103;" TargetMode="External"/><Relationship Id="rId20" Type="http://schemas.openxmlformats.org/officeDocument/2006/relationships/hyperlink" Target="http://ru.wikipedia.org/wiki/1944_&#1075;&#1086;&#1076;" TargetMode="External"/><Relationship Id="rId21" Type="http://schemas.openxmlformats.org/officeDocument/2006/relationships/hyperlink" Target="http://ru.wikipedia.org/wiki/3-&#1103;_&#1075;&#1074;&#1072;&#1088;&#1076;&#1077;&#1081;&#1089;&#1082;&#1072;&#1103;_&#1072;&#1088;&#1084;&#1080;&#1103;" TargetMode="External"/><Relationship Id="rId22" Type="http://schemas.openxmlformats.org/officeDocument/2006/relationships/hyperlink" Target="http://ru.wikipedia.org/wiki/1-&#1081;_&#1059;&#1082;&#1088;&#1072;&#1080;&#1085;&#1089;&#1082;&#1080;&#1081;_&#1092;&#1088;&#1086;&#1085;&#1090;" TargetMode="External"/><Relationship Id="rId23" Type="http://schemas.openxmlformats.org/officeDocument/2006/relationships/hyperlink" Target="http://ru.wikipedia.org/wiki/&#1042;&#1077;&#1088;&#1093;&#1085;&#1077;-&#1057;&#1080;&#1083;&#1077;&#1079;&#1089;&#1082;&#1072;&#1103;_&#1085;&#1072;&#1089;&#1090;&#1091;&#1087;&#1072;&#1090;&#1077;&#1083;&#1100;&#1085;&#1072;&#1103;_&#1086;&#1087;&#1077;&#1088;&#1072;&#1094;&#1080;&#1103;" TargetMode="External"/><Relationship Id="rId24" Type="http://schemas.openxmlformats.org/officeDocument/2006/relationships/hyperlink" Target="http://ru.wikipedia.org/wiki/&#1050;&#1077;&#1083;&#1100;&#1094;&#1077;" TargetMode="External"/><Relationship Id="rId25" Type="http://schemas.openxmlformats.org/officeDocument/2006/relationships/hyperlink" Target="http://ru.wikipedia.org/wiki/1945_&#1075;&#1086;&#1076;" TargetMode="External"/><Relationship Id="rId26" Type="http://schemas.openxmlformats.org/officeDocument/2006/relationships/hyperlink" Target="http://ru.wikipedia.org/wiki/&#1041;&#1077;&#1088;&#1083;&#1080;&#1085;&#1089;&#1082;&#1072;&#1103;_&#1085;&#1072;&#1089;&#1090;&#1091;&#1087;&#1072;&#1090;&#1077;&#1083;&#1100;&#1085;&#1072;&#1103;_&#1086;&#1087;&#1077;&#1088;&#1072;&#1094;&#1080;&#1103;" TargetMode="External"/><Relationship Id="rId27" Type="http://schemas.openxmlformats.org/officeDocument/2006/relationships/hyperlink" Target="http://ru.wikipedia.org/wiki/&#1055;&#1088;&#1072;&#1078;&#1089;&#1082;&#1072;&#1103;_&#1085;&#1072;&#1089;&#1090;&#1091;&#1087;&#1072;&#1090;&#1077;&#1083;&#1100;&#1085;&#1072;&#1103;_&#1086;&#1087;&#1077;&#1088;&#1072;&#1094;&#1080;&#1103;" TargetMode="External"/><Relationship Id="rId28" Type="http://schemas.openxmlformats.org/officeDocument/2006/relationships/image" Target="../media/image2.jpe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80;&#1091;&#1084;_&#1042;&#1077;&#1088;&#1093;&#1086;&#1074;&#1085;&#1086;&#1075;&#1086;_&#1057;&#1086;&#1074;&#1077;&#1090;&#1072;_&#1057;&#1057;&#1057;&#1056;" TargetMode="External"/><Relationship Id="rId2" Type="http://schemas.openxmlformats.org/officeDocument/2006/relationships/hyperlink" Target="http://ru.wikipedia.org/wiki/6_&#1072;&#1087;&#1088;&#1077;&#1083;&#1103;" TargetMode="External"/><Relationship Id="rId3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4" Type="http://schemas.openxmlformats.org/officeDocument/2006/relationships/hyperlink" Target="http://ru.wikipedia.org/wiki/&#1055;&#1088;&#1080;&#1074;&#1086;&#1083;&#1078;&#1089;&#1082;&#1080;&#1081;_&#1074;&#1086;&#1077;&#1085;&#1085;&#1099;&#1081;_&#1086;&#1082;&#1088;&#1091;&#1075;" TargetMode="External"/><Relationship Id="rId5" Type="http://schemas.openxmlformats.org/officeDocument/2006/relationships/hyperlink" Target="http://ru.wikipedia.org/wiki/1946_&#1075;&#1086;&#1076;" TargetMode="External"/><Relationship Id="rId6" Type="http://schemas.openxmlformats.org/officeDocument/2006/relationships/hyperlink" Target="http://ru.wikipedia.org/wiki/1947_&#1075;&#1086;&#1076;" TargetMode="External"/><Relationship Id="rId7" Type="http://schemas.openxmlformats.org/officeDocument/2006/relationships/hyperlink" Target="http://ru.wikipedia.org/wiki/&#1042;&#1086;&#1077;&#1085;&#1085;&#1072;&#1103;_&#1082;&#1086;&#1083;&#1083;&#1077;&#1075;&#1080;&#1103;_&#1042;&#1077;&#1088;&#1093;&#1086;&#1074;&#1085;&#1086;&#1075;&#1086;_&#1089;&#1091;&#1076;&#1072;_&#1057;&#1057;&#1057;&#1056;" TargetMode="External"/><Relationship Id="rId8" Type="http://schemas.openxmlformats.org/officeDocument/2006/relationships/hyperlink" Target="http://ru.wikipedia.org/wiki/&#1042;&#1077;&#1088;&#1093;&#1086;&#1074;&#1085;&#1099;&#1081;_&#1057;&#1091;&#1076;_&#1057;&#1057;&#1057;&#1056;" TargetMode="External"/><Relationship Id="rId9" Type="http://schemas.openxmlformats.org/officeDocument/2006/relationships/hyperlink" Target="http://ru.wikipedia.org/wiki/&#1042;&#1099;&#1089;&#1096;&#1072;&#1103;_&#1084;&#1077;&#1088;&#1072;_&#1085;&#1072;&#1082;&#1072;&#1079;&#1072;&#1085;&#1080;&#1103;" TargetMode="External"/><Relationship Id="rId10" Type="http://schemas.openxmlformats.org/officeDocument/2006/relationships/hyperlink" Target="http://ru.wikipedia.org/wiki/11_&#1072;&#1087;&#1088;&#1077;&#1083;&#1103;" TargetMode="External"/><Relationship Id="rId11" Type="http://schemas.openxmlformats.org/officeDocument/2006/relationships/hyperlink" Target="http://ru.wikipedia.org/wiki/1956_&#1075;&#1086;&#1076;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4_&#1086;&#1082;&#1090;&#1103;&#1073;&#1088;&#1103;" TargetMode="External"/><Relationship Id="rId2" Type="http://schemas.openxmlformats.org/officeDocument/2006/relationships/hyperlink" Target="http://ru.wikipedia.org/wiki/1892_&#1075;&#1086;&#1076;" TargetMode="External"/><Relationship Id="rId3" Type="http://schemas.openxmlformats.org/officeDocument/2006/relationships/hyperlink" Target="http://ru.wikipedia.org/wiki/&#1052;&#1072;&#1088;&#1082;&#1086;&#1074;&#1082;&#1072;_(&#1051;&#1091;&#1075;&#1072;&#1085;&#1089;&#1082;&#1072;&#1103;_&#1086;&#1073;&#1083;&#1072;&#1089;&#1090;&#1100;)" TargetMode="External"/><Relationship Id="rId4" Type="http://schemas.openxmlformats.org/officeDocument/2006/relationships/hyperlink" Target="http://ru.wikipedia.org/wiki/&#1051;&#1091;&#1075;&#1072;&#1085;&#1089;&#1082;&#1072;&#1103;_&#1086;&#1073;&#1083;&#1072;&#1089;&#1090;&#1100;" TargetMode="External"/><Relationship Id="rId5" Type="http://schemas.openxmlformats.org/officeDocument/2006/relationships/hyperlink" Target="http://ru.wikipedia.org/wiki/19_&#1085;&#1086;&#1103;&#1073;&#1088;&#1103;" TargetMode="External"/><Relationship Id="rId6" Type="http://schemas.openxmlformats.org/officeDocument/2006/relationships/hyperlink" Target="http://ru.wikipedia.org/wiki/1970_&#1075;&#1086;&#1076;" TargetMode="External"/><Relationship Id="rId7" Type="http://schemas.openxmlformats.org/officeDocument/2006/relationships/hyperlink" Target="http://ru.wikipedia.org/wiki/&#1052;&#1086;&#1089;&#1082;&#1074;&#1072;" TargetMode="External"/><Relationship Id="rId8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9" Type="http://schemas.openxmlformats.org/officeDocument/2006/relationships/hyperlink" Target="http://ru.wikipedia.org/wiki/&#1052;&#1072;&#1088;&#1096;&#1072;&#1083;_&#1057;&#1086;&#1074;&#1077;&#1090;&#1089;&#1082;&#1086;&#1075;&#1086;_&#1057;&#1086;&#1102;&#1079;&#1072;" TargetMode="External"/><Relationship Id="rId10" Type="http://schemas.openxmlformats.org/officeDocument/2006/relationships/hyperlink" Target="http://ru.wikipedia.org/wiki/1955" TargetMode="External"/><Relationship Id="rId11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12" Type="http://schemas.openxmlformats.org/officeDocument/2006/relationships/hyperlink" Target="http://ru.wikipedia.org/wiki/1944" TargetMode="External"/><Relationship Id="rId13" Type="http://schemas.openxmlformats.org/officeDocument/2006/relationships/hyperlink" Target="http://ru.wikipedia.org/wiki/&#1062;&#1050;_&#1050;&#1055;&#1057;&#1057;" TargetMode="External"/><Relationship Id="rId14" Type="http://schemas.openxmlformats.org/officeDocument/2006/relationships/hyperlink" Target="http://ru.wikipedia.org/wiki/1918_&#1075;&#1086;&#1076;" TargetMode="External"/><Relationship Id="rId15" Type="http://schemas.openxmlformats.org/officeDocument/2006/relationships/hyperlink" Target="http://ru.wikipedia.org/wiki/&#1058;&#1080;&#1084;&#1086;&#1096;&#1077;&#1085;&#1082;&#1086;,_&#1057;&#1077;&#1084;&#1105;&#1085;_&#1050;&#1086;&#1085;&#1089;&#1090;&#1072;&#1085;&#1090;&#1080;&#1085;&#1086;&#1074;&#1080;&#1095;" TargetMode="External"/><Relationship Id="rId16" Type="http://schemas.openxmlformats.org/officeDocument/2006/relationships/hyperlink" Target="http://ru.wikipedia.org/wiki/&#1047;&#1072;&#1087;&#1072;&#1076;&#1085;&#1099;&#1081;_&#1092;&#1088;&#1086;&#1085;&#1090;_(&#1042;&#1077;&#1083;&#1080;&#1082;&#1072;&#1103;_&#1054;&#1090;&#1077;&#1095;&#1077;&#1089;&#1090;&#1074;&#1077;&#1085;&#1085;&#1072;&#1103;_&#1074;&#1086;&#1081;&#1085;&#1072;)" TargetMode="External"/><Relationship Id="rId17" Type="http://schemas.openxmlformats.org/officeDocument/2006/relationships/hyperlink" Target="http://ru.wikipedia.org/wiki/&#1045;&#1088;&#1105;&#1084;&#1077;&#1085;&#1082;&#1086;,_&#1040;&#1085;&#1076;&#1088;&#1077;&#1081;_&#1048;&#1074;&#1072;&#1085;&#1086;&#1074;&#1080;&#1095;#cite_note-1" TargetMode="External"/><Relationship Id="rId18" Type="http://schemas.openxmlformats.org/officeDocument/2006/relationships/hyperlink" Target="http://ru.wikipedia.org/wiki/&#1043;&#1077;&#1085;&#1077;&#1088;&#1072;&#1083;_&#1072;&#1088;&#1084;&#1080;&#1080;" TargetMode="External"/><Relationship Id="rId19" Type="http://schemas.openxmlformats.org/officeDocument/2006/relationships/hyperlink" Target="http://ru.wikipedia.org/wiki/&#1055;&#1072;&#1074;&#1083;&#1086;&#1074;,_&#1044;&#1084;&#1080;&#1090;&#1088;&#1080;&#1081;_&#1043;&#1088;&#1080;&#1075;&#1086;&#1088;&#1100;&#1077;&#1074;&#1080;&#1095;" TargetMode="External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1_&#1076;&#1077;&#1082;&#1072;&#1073;&#1088;&#1103;" TargetMode="External"/><Relationship Id="rId2" Type="http://schemas.openxmlformats.org/officeDocument/2006/relationships/hyperlink" Target="http://ru.wikipedia.org/wiki/1896_&#1075;&#1086;&#1076;" TargetMode="External"/><Relationship Id="rId3" Type="http://schemas.openxmlformats.org/officeDocument/2006/relationships/hyperlink" Target="http://ru.wikipedia.org/wiki/&#1042;&#1072;&#1088;&#1096;&#1072;&#1074;&#1072;" TargetMode="External"/><Relationship Id="rId4" Type="http://schemas.openxmlformats.org/officeDocument/2006/relationships/hyperlink" Target="http://ru.wikipedia.org/wiki/3_&#1072;&#1074;&#1075;&#1091;&#1089;&#1090;&#1072;" TargetMode="External"/><Relationship Id="rId5" Type="http://schemas.openxmlformats.org/officeDocument/2006/relationships/hyperlink" Target="http://ru.wikipedia.org/wiki/1968_&#1075;&#1086;&#1076;" TargetMode="External"/><Relationship Id="rId6" Type="http://schemas.openxmlformats.org/officeDocument/2006/relationships/hyperlink" Target="http://ru.wikipedia.org/wiki/&#1052;&#1086;&#1089;&#1082;&#1074;&#1072;" TargetMode="External"/><Relationship Id="rId7" Type="http://schemas.openxmlformats.org/officeDocument/2006/relationships/hyperlink" Target="http://ru.wikipedia.org/wiki/&#1057;&#1057;&#1057;&#1056;" TargetMode="External"/><Relationship Id="rId8" Type="http://schemas.openxmlformats.org/officeDocument/2006/relationships/hyperlink" Target="http://ru.wikipedia.org/wiki/&#1052;&#1072;&#1088;&#1096;&#1072;&#1083;_&#1057;&#1086;&#1074;&#1077;&#1090;&#1089;&#1082;&#1086;&#1075;&#1086;_&#1057;&#1086;&#1102;&#1079;&#1072;" TargetMode="External"/><Relationship Id="rId9" Type="http://schemas.openxmlformats.org/officeDocument/2006/relationships/hyperlink" Target="http://ru.wikipedia.org/wiki/&#1052;&#1072;&#1088;&#1096;&#1072;&#1083;_&#1055;&#1086;&#1083;&#1100;&#1096;&#1080;" TargetMode="External"/><Relationship Id="rId10" Type="http://schemas.openxmlformats.org/officeDocument/2006/relationships/hyperlink" Target="http://ru.wikipedia.org/wiki/&#1055;&#1072;&#1088;&#1072;&#1076;_&#1055;&#1086;&#1073;&#1077;&#1076;&#1099;" TargetMode="Externa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79;&#1077;&#1083;&#1100;&#1089;&#1082;" TargetMode="External"/><Relationship Id="rId2" Type="http://schemas.openxmlformats.org/officeDocument/2006/relationships/hyperlink" Target="http://ru.wikipedia.org/wiki/23_&#1084;&#1072;&#1103;" TargetMode="External"/><Relationship Id="rId3" Type="http://schemas.openxmlformats.org/officeDocument/2006/relationships/hyperlink" Target="http://ru.wikipedia.org/wiki/&#1057;&#1091;&#1093;&#1080;&#1085;&#1080;&#1095;&#1080;" TargetMode="External"/><Relationship Id="rId4" Type="http://schemas.openxmlformats.org/officeDocument/2006/relationships/hyperlink" Target="http://ru.wikipedia.org/wiki/30_&#1089;&#1077;&#1085;&#1090;&#1103;&#1073;&#1088;&#1103;" TargetMode="External"/><Relationship Id="rId5" Type="http://schemas.openxmlformats.org/officeDocument/2006/relationships/hyperlink" Target="http://ru.wikipedia.org/wiki/1942_&#1075;&#1086;&#1076;" TargetMode="External"/><Relationship Id="rId6" Type="http://schemas.openxmlformats.org/officeDocument/2006/relationships/hyperlink" Target="http://ru.wikipedia.org/wiki/&#1043;&#1077;&#1085;&#1077;&#1088;&#1072;&#1083;-&#1083;&#1077;&#1081;&#1090;&#1077;&#1085;&#1072;&#1085;&#1090;" TargetMode="External"/><Relationship Id="rId7" Type="http://schemas.openxmlformats.org/officeDocument/2006/relationships/hyperlink" Target="http://ru.wikipedia.org/wiki/&#1044;&#1086;&#1085;&#1089;&#1082;&#1086;&#1081;_&#1092;&#1088;&#1086;&#1085;&#1090;" TargetMode="External"/><Relationship Id="rId8" Type="http://schemas.openxmlformats.org/officeDocument/2006/relationships/hyperlink" Target="http://ru.wikipedia.org/wiki/&#1054;&#1087;&#1077;&#1088;&#1072;&#1094;&#1080;&#1103;_&#171;&#1059;&#1088;&#1072;&#1085;&#187;" TargetMode="External"/><Relationship Id="rId9" Type="http://schemas.openxmlformats.org/officeDocument/2006/relationships/hyperlink" Target="http://ru.wikipedia.org/wiki/19_&#1085;&#1086;&#1103;&#1073;&#1088;&#1103;" TargetMode="External"/><Relationship Id="rId10" Type="http://schemas.openxmlformats.org/officeDocument/2006/relationships/hyperlink" Target="http://ru.wikipedia.org/wiki/1942_&#1075;&#1086;&#1076;" TargetMode="External"/><Relationship Id="rId11" Type="http://schemas.openxmlformats.org/officeDocument/2006/relationships/hyperlink" Target="http://ru.wikipedia.org/wiki/23_&#1085;&#1086;&#1103;&#1073;&#1088;&#1103;" TargetMode="External"/><Relationship Id="rId12" Type="http://schemas.openxmlformats.org/officeDocument/2006/relationships/hyperlink" Target="http://ru.wikipedia.org/wiki/&#1055;&#1072;&#1091;&#1083;&#1102;&#1089;,_&#1060;&#1088;&#1080;&#1076;&#1088;&#1080;&#1093;_&#1042;&#1080;&#1083;&#1100;&#1075;&#1077;&#1083;&#1100;&#1084;_&#1069;&#1088;&#1085;&#1089;&#1090;" TargetMode="External"/><Relationship Id="rId13" Type="http://schemas.openxmlformats.org/officeDocument/2006/relationships/hyperlink" Target="http://ru.wikipedia.org/wiki/&#1043;&#1077;&#1085;&#1077;&#1088;&#1072;&#1083;-&#1087;&#1086;&#1083;&#1082;&#1086;&#1074;&#1085;&#1080;&#1082;" TargetMode="External"/><Relationship Id="rId14" Type="http://schemas.openxmlformats.org/officeDocument/2006/relationships/hyperlink" Target="http://ru.wikipedia.org/wiki/31_&#1103;&#1085;&#1074;&#1072;&#1088;&#1103;" TargetMode="External"/><Relationship Id="rId15" Type="http://schemas.openxmlformats.org/officeDocument/2006/relationships/hyperlink" Target="http://ru.wikipedia.org/wiki/1943_&#1075;&#1086;&#1076;" TargetMode="External"/><Relationship Id="rId16" Type="http://schemas.openxmlformats.org/officeDocument/2006/relationships/hyperlink" Target="http://ru.wikipedia.org/wiki/28_&#1103;&#1085;&#1074;&#1072;&#1088;&#1103;" TargetMode="External"/><Relationship Id="rId17" Type="http://schemas.openxmlformats.org/officeDocument/2006/relationships/hyperlink" Target="http://ru.wikipedia.org/wiki/&#1054;&#1088;&#1076;&#1077;&#1085;_&#1057;&#1091;&#1074;&#1086;&#1088;&#1086;&#1074;&#1072;" TargetMode="External"/><Relationship Id="rId18" Type="http://schemas.openxmlformats.org/officeDocument/2006/relationships/hyperlink" Target="http://ru.wikipedia.org/wiki/&#1064;&#1072;&#1087;&#1086;&#1096;&#1085;&#1080;&#1082;&#1086;&#1074;,_&#1041;&#1086;&#1088;&#1080;&#1089;_&#1052;&#1080;&#1093;&#1072;&#1081;&#1083;&#1086;&#1074;&#1080;&#1095;" TargetMode="Externa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_&#1085;&#1086;&#1103;&#1073;&#1088;&#1103;" TargetMode="External"/><Relationship Id="rId2" Type="http://schemas.openxmlformats.org/officeDocument/2006/relationships/hyperlink" Target="http://ru.wikipedia.org/wiki/1895_&#1075;&#1086;&#1076;" TargetMode="External"/><Relationship Id="rId3" Type="http://schemas.openxmlformats.org/officeDocument/2006/relationships/hyperlink" Target="http://ru.wikipedia.org/wiki/28_&#1080;&#1102;&#1085;&#1103;" TargetMode="External"/><Relationship Id="rId4" Type="http://schemas.openxmlformats.org/officeDocument/2006/relationships/hyperlink" Target="http://ru.wikipedia.org/wiki/1975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Tahoma"/>
              </a:rPr>
              <a:t>Сталинградская битва</a:t>
            </a:r>
            <a:br>
              <a:rPr sz="5400"/>
            </a:br>
            <a:r>
              <a:rPr b="1" i="1" lang="ru-RU" sz="4800" spc="-1" strike="noStrike">
                <a:solidFill>
                  <a:srgbClr val="ffffcc"/>
                </a:solidFill>
                <a:latin typeface="Tahoma"/>
              </a:rPr>
              <a:t>(17 июля 1942-</a:t>
            </a:r>
            <a:br>
              <a:rPr sz="4800"/>
            </a:br>
            <a:r>
              <a:rPr b="1" i="1" lang="ru-RU" sz="4800" spc="-1" strike="noStrike">
                <a:solidFill>
                  <a:srgbClr val="ffffcc"/>
                </a:solidFill>
                <a:latin typeface="Tahoma"/>
              </a:rPr>
              <a:t>2 февраля 1943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64-ая арм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(10 июля 194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64-ая арм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4470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формирована 10 июля 1942 г. на основании директивы Ставки ВГК от 9 июля 1942 г. на базе 1-й резерв­ной армии. В нее вошли 18, 29, 112, 131, 214 и 229-я стрелковые дивизии, 66-я и 154-я морские стрелковые, 137-я и 40-я танковые бригады, полки курсантов Житомирского, Краснодарского, 1-го и 3-го Орджоникидзевских военных учи­лищ, артиллерийские и другие ча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 июля 1942 г. армия была включена во вновь образованный Сталинградский фронт. С началом Сталинградской стра­тегической оборонительной операции (17 июля — 18 ноября) ее передовые от­ряды вели упорные бои с авангардами 6-й немецкой армии на реке Цимла. В последующем соединения армии от­ражали наступление южной ударной группировки противника на рубеже Суровикино — Рычково и далее по левому берегу Дон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начале августа 1942 г., ввиду угро­зы прорыва 4-й танковой армии против­ника к Сталинграду с юго-запада, войска армии были отведены на внешний оборонительный обвод Сталинграда, где продолжали вести оборонительные бо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7 августа армия входила в Юго-Вос­точный (с 28 сентября — Сталинград­ский 2-го формирования) фронт. В кон­це августа отражала атаки противника на среднем обводе, а в начале сентября была отведена на внутренний оборони­тельный обвод Сталинграда и закрепи­лась на рубеже Старо-Дубовка — Елхи — Ивановка, на котором вела упорные бои до 12 сентября. В дальнейшем ее соединения и части обороняли юго-западную окраину и южную часть Сталингра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прорыва противником оборо­ны Юго-Восточного фронта на стыке 62-й и 64-й армий и выхода его войск к Волге в районе Купоросное основные силы ар­мии обороняли район южнее и юго-запад­нее Сталинграда, откуда систематичес­ки предпринимали контратаки и контр­удары по флангу вражеской группиров­ки, пытавшейся овладеть городом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переходе советских войск в контрнаступление (19 ноября 1942 г. — 2 февраля 1943 г.) армия наступала в со­ставе главной ударной группировки Ста­линградского фронта в направлении Советский, Калач. 23 ноября вышла к реке Червленная и в последующем вела боевые действия на внутреннем фрон­те окружения противник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 января 1943 г. в составе Донского фронта армия участвовала в ликвидации окруженной группировки немецких войск под Сталинградом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завершения Сталинградской битвы армия с 6 февраля 1943 г. входи­ла в группу войск под командованием генерал-лейтенанта К. П. Трубникова (с 27 февраля — Сталинградская группа войск), находившуюся в резерве Став­ки ВГК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марта армия была передана Воро­нежскому фронту и в его составе вела оборонительные бои на реке Северский Донец в районе Белгоро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мая 1943 г. армия была преобразо­вана в 7-ю гвардейскую армию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андующие армией: генерал-лей­тенант Чуйков В. И. (июль — август 1942 г.); генерал-майор, с декабря 1942 г. — генерал-лейтенант Шуми­лов М. С. (август 1942 г. — апрель 1943 г.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лен Военного совета армии — бригад­ный комиссар, с октября 1943 г. — полковник, с марта 1943 г. — генерал-майор Сер­дюк 3. Т. (июль 1942 г. - апрель 1943 г.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чальники штаба армии: полковник Новик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Н. М. (июль — сентябрь 1942 г.); генерал-майор Ласкин И. А. (сентябрь 1942 г. - апрель 1943 г.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ордов Василий Николаевич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30 ноября 1896-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12 декабря 1951гг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2 декабр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896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24 авгус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50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 — советский военачальник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Герой Советского Союз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генерал-полковник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начал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Великой Отечественной войны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генерал-майор Гордов — командующий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21-й армие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В июле—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авгус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1942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командующий войсками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Сталинградского фрон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оборонявшегося на дальних подступах к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Сталинграду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На этой должности допустил ряд ошибок при организации обороны и был отстранён от должности. С 18 октября 1942 года — командующий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33-й армие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В март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1943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армия участвовала в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Ржевско-Вяземской наступательной операци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а затем в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Смолен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Оршан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9"/>
              </a:rPr>
              <a:t>Витеб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наступательных операциях. В апрел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0"/>
              </a:rPr>
              <a:t>1944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генерал-полковник Гордов назначен командующим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1"/>
              </a:rPr>
              <a:t>3-й гвардейской армие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2"/>
              </a:rPr>
              <a:t>1-го Украинского фрон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В ход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3"/>
              </a:rPr>
              <a:t>Верхнесилезской наступательной операци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армия Гордова, находясь на острие главного удара, прорвала оборону немецких войск и разгромила противника в районе города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4"/>
              </a:rPr>
              <a:t>Кельц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В апреле—ма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5"/>
              </a:rPr>
              <a:t>1945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3-я гвардейская армия под командованием В. Н. Гордова принимала участие в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6"/>
              </a:rPr>
              <a:t>Берлин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7"/>
              </a:rPr>
              <a:t>Пражско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наступательных операциях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showImage"/>
          <p:cNvPicPr/>
          <p:nvPr/>
        </p:nvPicPr>
        <p:blipFill>
          <a:blip r:embed="rId28"/>
          <a:stretch/>
        </p:blipFill>
        <p:spPr>
          <a:xfrm>
            <a:off x="0" y="1484280"/>
            <a:ext cx="4572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218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азом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иума Верховного Совета ССС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от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6 апре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1945 года за умелое руководство войсками и проявленные при этом мужество и героизм Василию Николаевичу Гордову присвоено звание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Героя Совет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ойны В. Н. Гордов — командующий войсками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Приволжского военного окру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С ноября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46 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 отста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 января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47 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асилий Николаевич Гордов был арестован, затем осуждён по обвинению в вынашивании террористических планов в отношении членов советского правительства, а 24 августа 1950 года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военной коллегией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Верховного Суда ССС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приговорён к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высшей мере наказ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иговор приведён в исполнение в тот же день в Лефортовской тюрьме в Москве. Тело захоронено на территории Донского кладбища. В память об этом на участке 3 установлен памятник жертвам политических репрессий, на котором выбито имя В. Н. Горд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билитирован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11 апре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1956 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Ерёменко Андрей Иванович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14 октября 1892-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19 ноября 1970гг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14 октя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892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с.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Ма́рковк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нын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Луганской област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 ноя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7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Москв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 — советский полководец, участник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Великой Отечественной войны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Маршал Советского Союз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195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Герой Советского Союз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1944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, член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ЦК КПСС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В Советской Армии с </a:t>
            </a:r>
            <a:r>
              <a:rPr b="0" lang="ru-RU" sz="10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1918 года</a:t>
            </a: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кануне войны с Германией, 19 июня 1941 года, получил телеграмму наркома обороны СССР маршала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С. К. Тимошенко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сдать армию и немедленно выехать в Москву. 22 июня, уже получив известие о нападении Германии, выехал в столицу СССР, куда прибыл 28 июня и где он был назначен новым командующим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Западного фронта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[1]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предыдущий командующий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генерал арми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9"/>
              </a:rPr>
              <a:t>Д. Г. Павлов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был отстранён от командования и вскоре расстрелян). 30 июня вступил в командование фронтом, которым руководил до прибытия маршала Тимошенко (который был назначен командующим фронтом 2 июля, прибыл в войска 4 июля), после чего оставлен заместителем командующего Западного фронта.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1311333157_post-16-1209148211"/>
          <p:cNvPicPr/>
          <p:nvPr/>
        </p:nvPicPr>
        <p:blipFill>
          <a:blip r:embed="rId20"/>
          <a:stretch/>
        </p:blipFill>
        <p:spPr>
          <a:xfrm>
            <a:off x="0" y="1515960"/>
            <a:ext cx="4572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окоссовский Константин Константинович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21 декабря 1896-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3 августа 1968гг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21 дека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896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Варшав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3 авгус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68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Москв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 —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советски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военачальник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Маршал Советского Союз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1944)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маршал Польш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(05.11.1949). Командовал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парадом Победы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ажды Герой Советского Союза (1944, 194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Файл:Rokos.jpg"/>
          <p:cNvPicPr/>
          <p:nvPr/>
        </p:nvPicPr>
        <p:blipFill>
          <a:blip r:embed="rId11"/>
          <a:stretch/>
        </p:blipFill>
        <p:spPr>
          <a:xfrm>
            <a:off x="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8 марта 1942 года Рокоссовский был ранен осколком снаряда. Ранение оказалось тяжёлым — были задеты правое лёгкое, печень, рёбра и позвоночник. После операции в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озельс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был доставлен в московский госпиталь в здании Тимирязевской академии, где проходил лечение до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23 ма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194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6 мая прибыл в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Сухинич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вновь принял командование 16-й армией.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30 сентяб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42 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генерал-лейтенан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. К. Рокоссовский был назначен командующим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онским фронт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При его участии был разработан план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операции «Уран»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по окружению и уничтожению вражеской группировки, наступавшей на Сталинград. Силами нескольких фронтов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19 нояб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1942 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началось проведение операции,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23 нояб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ольцо вокруг 6-й армии генерала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Ф. Паулюс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было замкнуто. Позже Рокоссовский подвёл итог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...успешно была выполнена задача, связанная с участием войск Донского фронта в общем наступлении, проводимом по замыслу товарища Сталина, вылившаяся в полное окружение всей Сталинградской группировки немцев..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уководство по разгрому вражеской группировки Ставка поручила Донскому фронту во главе с К. К. Рокоссовским, который 15 января 1943 года получил звание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генерал-полковни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31 янва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1943 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войска под командованием К. К. Рокоссовского пленили фельдмаршала Ф. фон Паулюса, 24 генерала, 2500 немецких офицеров, 90 тыс. солдат.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28 янва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он был награждён только что учреждённым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орденом Суворо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С этого момента И. В. Сталин стал называть К. К. Рокоссовского по имени и отчеству, такого обращения удостаивался лишь маршал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Б. М. Шапошн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Шумилов Михаил Степанович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5 ноября 1895-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28 июня 1975гг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5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[17] ноя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89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28 июн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197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 — советский военачальник, командующий 64-й армией, Герой Советского Союз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sjoemilov3"/>
          <p:cNvPicPr/>
          <p:nvPr/>
        </p:nvPicPr>
        <p:blipFill>
          <a:blip r:embed="rId5"/>
          <a:stretch/>
        </p:blipFill>
        <p:spPr>
          <a:xfrm>
            <a:off x="0" y="1557360"/>
            <a:ext cx="450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08:14Z</dcterms:created>
  <dc:creator>1</dc:creator>
  <dc:description/>
  <dc:language>en-US</dc:language>
  <cp:lastModifiedBy>CherbininaOV</cp:lastModifiedBy>
  <dcterms:modified xsi:type="dcterms:W3CDTF">2013-02-05T09:58:15Z</dcterms:modified>
  <cp:revision>3</cp:revision>
  <dc:subject/>
  <dc:title>Сталинградская битва (17 июля 1942- 2 февраля 1943)</dc:title>
</cp:coreProperties>
</file>