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4.wmf" ContentType="image/x-wmf"/>
  <Override PartName="/ppt/media/image24.jpeg" ContentType="image/jpeg"/>
  <Override PartName="/ppt/media/image10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4B68-FD5C-4BE0-BCDD-1984BBFA4A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01A6-58B6-4B6F-95E1-F03A02ADA80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я: М - меланхол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- холер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 - флегмат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- сангви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F714-A1C6-4384-9FF0-D9DF9BDE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44A8-2259-4651-B2AD-779D5E9E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447BB-3380-4C65-B245-0407D290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212D6-1B36-49E6-A4DE-54FF8820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9AA52-1012-421B-9193-4E7D1FBF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CBA141-15FC-4CB0-A894-A71605D7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D88D4-1C81-41AC-A0C8-9DD9960F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7A367-A9B7-4D2D-BC8F-81113ED2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6F202-765D-4973-85A0-2A7F9664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2CD804-3463-4783-8A03-0F38DAABB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72C9F-0815-4E66-A07E-70EE68C98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1556-3F53-4BD0-A5B4-5C058C75D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8BFD-010D-429B-9FD2-ED132E5FA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3FBC-0D23-491A-B4E8-F60669D31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BEF7-CA89-438C-A846-B293E26B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FF89-7531-4E73-93A5-B63D9FA1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924A-EFDE-44C2-A818-579DD5E6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745E-5B60-4883-AD05-274BA880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EA3B-E2A6-4BE0-8827-B07874AA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E40E-E95D-47BE-BB7D-35969286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2AFA-89EC-41A6-AF9E-2132BDC3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1B2D-F7E4-47C4-9B61-2E7EB9DF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7FE6-B514-4BA4-A730-B6B0936A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D831-462A-4B37-998F-DE662576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46C0-65EC-4A32-A407-95F241B76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7F43-B4D2-4901-A4D4-86F81B105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2058D9-4FC2-4E4B-A272-7B3E1B676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0EDE5F-4063-4A8F-8112-A9BEE7FC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0B8C32-DFB1-4C61-A18F-CB909402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A8DEA8-8A3B-4004-8E6D-590DA30C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3562F2-FE2E-491F-AE23-A5C2A9D3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D466-B15A-48D1-A25F-5BB5AAD0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787CCF-A0A1-478B-AE3A-173C9AE1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A41EDE-C4EF-484C-AFF2-B0581AF1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526F57-2976-4CC2-BB90-A5F7E2E2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7A32D5-33A4-4149-9653-FC5B51CC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FFFE74-FD03-47AF-AF94-04A366E5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C305B2-8AB8-4165-867C-0FBD8B67C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A8BBAE-370B-47E7-98BA-C5A62E7A5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46667-B945-4ED4-A803-215D83E77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959B9-F5A7-4273-AE09-A2BBBF4F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87619-1C93-4D2A-B631-D3FE55C0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31AC-D4FA-4447-BD78-8AC8953A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E735D-FF02-4EC7-8B77-D83A9AD2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4E6EC-A8A8-4856-8766-4EC4094A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9EA9E-9535-47B1-B5B8-FA832C32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A5D00-5014-49E8-A8C7-97A3312F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B3C2F-C31D-4F11-8291-45C2E220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14E84-8F08-4AD1-971C-47D74B8E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45C08-C2D7-4211-B48E-9C7BD522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EB674-8FFB-4C67-95CD-E8F116E5C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61C91-CE4F-43F8-AED2-61E6FFDA3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F4A87-B9C8-4A28-B922-BD1562D2B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2A60-60AE-4B6F-801A-949404C5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CBC8D-B90B-497A-8A94-1768200A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7BBDF-57B9-4EDB-B7E2-FE43E73E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83B92-EFC0-412D-8CE9-EBA1510F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6532E-01B8-46CF-90A9-D8D6312A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5A689-F524-4053-A115-739D835F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DA386-2A68-48CE-90AD-7B1AF81F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056A7-609F-4B1F-BA6C-D5DE148E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5DB64-E01A-4560-9A29-FAB96D55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D6DEA-1D0F-479D-85ED-961A1F58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49DE6-2C70-43F4-B74D-30D7C504B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4105-5D21-4C7D-904E-C0F34304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FC258-0B8C-4CD6-80B2-2B6DAB2A1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66038F-1133-4BB2-9E5D-3C261FDA7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1B4C90-BC46-401D-8FA1-4C012100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D98288-1B0F-42F9-90F9-3B372088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F3A300-63B6-4402-B279-CFC70553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0DA1BE-010F-4ED4-B150-5D7BB992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C45DBB-608B-4F53-A67A-3B8745FC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B1C88E-37B3-415C-A310-04B31AE3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890AA2-B1C6-4D0E-9D3D-7E5683B2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88F1EF-FA27-4DD8-A671-7ABC0DD9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184E-B180-4DF3-B6D2-9DC1D596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9C0607-D4EE-44DD-BC88-1DE29F5A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DD6CE1-4BBA-4BB6-9FC4-23135402F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D01CA4-9ADC-43A9-A335-E1533ED51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16627-4B20-43F8-B83B-CABF428AE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447EF-54C1-4CB4-9012-AD79955F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E9D98-EA73-4919-B372-524C905B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D46B0-C12C-4AB1-9A09-1F84D6F1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359EF-D52E-4C1C-B907-E60065BF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DA056-1AF5-49B2-899A-D5ABE9E4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34533-39A8-4FF1-91E0-44F2076C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7B6F-A280-4B80-8ABB-92971534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10D7D-D2C2-464A-B2FD-0267C7BF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0BAC4-CB63-4F66-8830-DC113367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BB164-CDA5-4B0C-ADC6-3A7C111A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76D3C-9418-48DC-BDF4-34407C4EB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3B395-40F2-46BC-80DC-9EB787E38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A0B46-DAB4-400D-A691-3D646E135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CB8FD-D9F1-49B3-AA83-177C3113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24E31-9B85-49E9-B800-DC999F31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160A7-A211-4B12-BBA6-C92773D0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8D9A8-B5D8-4AE1-9007-B23C5137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6BD0-8849-481E-BE92-87606300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65639-AE77-4658-B9AE-C35C64A6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7AFE0-1613-459F-BFF2-BEED6915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8C07D-79DB-491E-9055-59F86182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4E34F-8DDB-4880-A2DB-7F75DC4A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67C62-98A5-4934-81E5-C8E92495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FDB6F-48BD-4EB0-9D1F-A7090B948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45C95-735C-4A5A-A81D-0165A7C47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5E237-E5EC-4525-BC2C-D0CE816E0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6D145-EBEE-40C4-B737-67D2884D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DBDF6-57BB-472E-98D5-7A3C2032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0D27-600F-4432-AF29-6130CF88AF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2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4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9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70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6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7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8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9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0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1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2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3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5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86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89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1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2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3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4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5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6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7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98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A528-BE26-4BB9-818C-83974EC036D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48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9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6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6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7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8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2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3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8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9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0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1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4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5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0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1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2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3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4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5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6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7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8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9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0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1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2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3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4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5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6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7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8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9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0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1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2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3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4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5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6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7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8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9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0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1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2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3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4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5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6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7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8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9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0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1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2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3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4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5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6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8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9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0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1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2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3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4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5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6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7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8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9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0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1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2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3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4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5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6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7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8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9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0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1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2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3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4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5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6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7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8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9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0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1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2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3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4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5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6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7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8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9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0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1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2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D46F-4A01-40AB-ABEE-BECA38057A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DDD7-9D23-4806-B56D-2B2E50DE1FA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1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13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4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5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6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7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8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9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0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1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2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2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2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2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43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3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43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40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1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42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443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4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445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46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7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8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9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50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51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52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53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45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BD7E-FBE2-4D55-813A-345C780CA8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FAD2-211D-431A-BD56-EB877CFBD8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75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76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577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8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9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0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1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2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3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4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5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6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7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8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9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0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1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2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3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4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5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6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7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8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9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0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1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02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603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4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5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6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7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8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9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0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1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2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3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4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5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6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7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18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619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0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21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622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3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4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5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6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7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8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9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0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31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2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3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4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5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6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7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8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19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20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AF05-EE2E-4767-913C-1887324D9A8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681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2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3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4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5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6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7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8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9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0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1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2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3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4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5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6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7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8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9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0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1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2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3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4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5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6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7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8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9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0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1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2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3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4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5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6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7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8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9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0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1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2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3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4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5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6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7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8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9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0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1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2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3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4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5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6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7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8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9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0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1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2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3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4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5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6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7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8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9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0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1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2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3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4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5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6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7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8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9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0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1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2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3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4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5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6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7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8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9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0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1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2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3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4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5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6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7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8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9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0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1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2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3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4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5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6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7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8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9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0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1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2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3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4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5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6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7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8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9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0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1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2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3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4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5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6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7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8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9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0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1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2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3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4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5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6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7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8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9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0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1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2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3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4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5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6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7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8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9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0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1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2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3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4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5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6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7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8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9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0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1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2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3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4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5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6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7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8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9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0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1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2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3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4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5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6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7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8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9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0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1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2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3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4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5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6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7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8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9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0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1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2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3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4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5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6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7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8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9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0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1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2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3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4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5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6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7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8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9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0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1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2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3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4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5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9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019C-9DFB-4596-B5BD-791FF39970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4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4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94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4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5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95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95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F582-192D-4196-920D-364111D6166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2.xml"/><Relationship Id="rId4" Type="http://schemas.openxmlformats.org/officeDocument/2006/relationships/slide" Target="slide23.xml"/><Relationship Id="rId5" Type="http://schemas.openxmlformats.org/officeDocument/2006/relationships/slide" Target="slide24.xml"/><Relationship Id="rId6" Type="http://schemas.openxmlformats.org/officeDocument/2006/relationships/slide" Target="slide25.xml"/><Relationship Id="rId7" Type="http://schemas.openxmlformats.org/officeDocument/2006/relationships/slide" Target="slide26.xml"/><Relationship Id="rId8" Type="http://schemas.openxmlformats.org/officeDocument/2006/relationships/slide" Target="slide4.xml"/><Relationship Id="rId9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3.xml"/><Relationship Id="rId6" Type="http://schemas.openxmlformats.org/officeDocument/2006/relationships/slide" Target="slide15.xml"/><Relationship Id="rId7" Type="http://schemas.openxmlformats.org/officeDocument/2006/relationships/slide" Target="slide14.xml"/><Relationship Id="rId8" Type="http://schemas.openxmlformats.org/officeDocument/2006/relationships/slide" Target="slide16.xml"/><Relationship Id="rId9" Type="http://schemas.openxmlformats.org/officeDocument/2006/relationships/slide" Target="slide19.xml"/><Relationship Id="rId10" Type="http://schemas.openxmlformats.org/officeDocument/2006/relationships/slide" Target="slide19.xml"/><Relationship Id="rId11" Type="http://schemas.openxmlformats.org/officeDocument/2006/relationships/slide" Target="slide27.xml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324000" y="693360"/>
            <a:ext cx="8385120" cy="863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РЕЗЕНТАЦИЯ ПО ПСИХОЛОГ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1187280" y="2205000"/>
            <a:ext cx="64008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 тем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99ff"/>
                </a:solidFill>
                <a:uFillTx/>
                <a:latin typeface="Tahoma"/>
              </a:rPr>
              <a:t>ТЕМПЕРАМЕ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99ff"/>
                </a:solidFill>
                <a:uFillTx/>
                <a:latin typeface="Tahoma"/>
              </a:rPr>
              <a:t>Педагог Казакова С.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Характеристики темпераментов</a:t>
            </a:r>
            <a:br>
              <a:rPr sz="3600"/>
            </a:br>
            <a:r>
              <a:rPr b="1" lang="ru-RU" sz="3600" spc="-1" strike="noStrike">
                <a:solidFill>
                  <a:srgbClr val="66ccff"/>
                </a:solidFill>
                <a:latin typeface="Tahoma"/>
              </a:rPr>
              <a:t>меланхоли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ловек с меланхолическим темпераментом обычно живет сложной и напряженной внутренней жизнью, придаёт большое значение всему, что касается, обладает повышенной тревожностью и ранимой душой. Меланхолик почти всегда человек сдержанный и слов на ветер не бросает. Когда он не может выполнить обещанное, то искренне страдает, даже если знает, что от него ничего не зависел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удя по всему, принц Гамлет и Евгений Онегин были типичными меланхоликами.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1" name="Picture 7" descr="меланхолик 1"/>
          <p:cNvPicPr/>
          <p:nvPr/>
        </p:nvPicPr>
        <p:blipFill>
          <a:blip r:embed="rId1"/>
          <a:stretch/>
        </p:blipFill>
        <p:spPr>
          <a:xfrm>
            <a:off x="6886440" y="92160"/>
            <a:ext cx="2006640" cy="2006640"/>
          </a:xfrm>
          <a:prstGeom prst="rect">
            <a:avLst/>
          </a:prstGeom>
          <a:ln w="0">
            <a:noFill/>
          </a:ln>
        </p:spPr>
      </p:pic>
    </p:spTree>
  </p:cSld>
  <p:transition spd="med">
    <p:cut thruBlk="true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700"/>
                            </p:stCondLst>
                            <p:childTnLst>
                              <p:par>
                                <p:cTn id="1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1000"/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700"/>
                            </p:stCondLst>
                            <p:childTnLst>
                              <p:par>
                                <p:cTn id="1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1000"/>
                                        <p:tgtEl>
                                          <p:spTgt spid="10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67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2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AutoShape 6"/>
          <p:cNvSpPr/>
          <p:nvPr/>
        </p:nvSpPr>
        <p:spPr>
          <a:xfrm>
            <a:off x="250920" y="2319480"/>
            <a:ext cx="8229600" cy="2892240"/>
          </a:xfrm>
          <a:prstGeom prst="roundRect">
            <a:avLst>
              <a:gd name="adj" fmla="val 16667"/>
            </a:avLst>
          </a:prstGeom>
          <a:solidFill>
            <a:srgbClr val="ff0000">
              <a:alpha val="51000"/>
            </a:srgbClr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Характеристики темпераментов</a:t>
            </a:r>
            <a:br>
              <a:rPr sz="4000"/>
            </a:br>
            <a:r>
              <a:rPr b="1" lang="ru-RU" sz="3600" spc="-1" strike="noStrike">
                <a:solidFill>
                  <a:srgbClr val="6666ff"/>
                </a:solidFill>
                <a:latin typeface="Tahoma"/>
              </a:rPr>
              <a:t>холерик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250920" y="2565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акой человек обычно очень вспыльчив, горяч и несдержан. Вместе с тем холерик быстро остывает и успокаивается, если ему уступают и идут на встречу. Его душевные движения порывисты, но непродолжительны, настроение часто меняетс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спомним рыцаря Дон Кихота, быстро сменявшего гнев на милость, а благородную ярость – на уныние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5" name="Picture 7" descr="холерик 1"/>
          <p:cNvPicPr/>
          <p:nvPr/>
        </p:nvPicPr>
        <p:blipFill>
          <a:blip r:embed="rId1"/>
          <a:stretch/>
        </p:blipFill>
        <p:spPr>
          <a:xfrm>
            <a:off x="7093080" y="4478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200"/>
                            </p:stCondLst>
                            <p:childTnLst>
                              <p:par>
                                <p:cTn id="2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200"/>
                            </p:stCondLst>
                            <p:childTnLst>
                              <p:par>
                                <p:cTn id="2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200"/>
                            </p:stCondLst>
                            <p:childTnLst>
                              <p:par>
                                <p:cTn id="2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72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ff"/>
            </a:gs>
            <a:gs pos="50000">
              <a:srgbClr val="6699ff"/>
            </a:gs>
            <a:gs pos="100000">
              <a:srgbClr val="9900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AutoShape 7"/>
          <p:cNvSpPr/>
          <p:nvPr/>
        </p:nvSpPr>
        <p:spPr>
          <a:xfrm>
            <a:off x="457200" y="1628640"/>
            <a:ext cx="8229600" cy="4475160"/>
          </a:xfrm>
          <a:prstGeom prst="roundRect">
            <a:avLst>
              <a:gd name="adj" fmla="val 16667"/>
            </a:avLst>
          </a:prstGeom>
          <a:solidFill>
            <a:srgbClr val="99ccff">
              <a:alpha val="65000"/>
            </a:srgbClr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Характеристики темпераментов</a:t>
            </a:r>
            <a:br>
              <a:rPr sz="4000"/>
            </a:br>
            <a:r>
              <a:rPr b="1" lang="ru-RU" sz="3600" spc="-1" strike="noStrike">
                <a:solidFill>
                  <a:srgbClr val="010199"/>
                </a:solidFill>
                <a:latin typeface="Tahoma"/>
              </a:rPr>
              <a:t>флегмати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ладатель этого темперамента хладнокровен. Он больше склонен к бездеятельности, чем к напряженной, активной работе. Такой человек медленно приходит в состояние возбуждения, но и успокаивается постепенно. Мимика и движения флегматика невыразительны и медлитель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лья Ильич Обломов, который проводил все время на диване, в ленивой полудреме – яркий флегмати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жизни редко приходится встречать «стопроцентных» флегматиков или сангвиников,  так как большинство людей соединяют в себе черты разных темперамент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9" name="AutoShape 8">
            <a:hlinkClick r:id="rId1" action="ppaction://hlinksldjump"/>
          </p:cNvPr>
          <p:cNvSpPr/>
          <p:nvPr/>
        </p:nvSpPr>
        <p:spPr>
          <a:xfrm>
            <a:off x="7667640" y="6524640"/>
            <a:ext cx="1476360" cy="333360"/>
          </a:xfrm>
          <a:custGeom>
            <a:avLst/>
            <a:gdLst>
              <a:gd name="textAreaLeft" fmla="*/ 21600 w 1476360"/>
              <a:gd name="textAreaRight" fmla="*/ 1454760 w 1476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95581" h="21600">
                <a:moveTo>
                  <a:pt x="0" y="0"/>
                </a:moveTo>
                <a:lnTo>
                  <a:pt x="95581" y="0"/>
                </a:lnTo>
                <a:lnTo>
                  <a:pt x="95581" y="21600"/>
                </a:lnTo>
                <a:lnTo>
                  <a:pt x="0" y="21600"/>
                </a:lnTo>
                <a:close/>
              </a:path>
              <a:path fill="lightenLess" w="95581" h="21600">
                <a:moveTo>
                  <a:pt x="0" y="0"/>
                </a:moveTo>
                <a:lnTo>
                  <a:pt x="95581" y="0"/>
                </a:lnTo>
                <a:lnTo>
                  <a:pt x="94181" y="1400"/>
                </a:lnTo>
                <a:lnTo>
                  <a:pt x="1400" y="1400"/>
                </a:lnTo>
                <a:close/>
              </a:path>
              <a:path fill="darken" w="95581" h="21600">
                <a:moveTo>
                  <a:pt x="95581" y="0"/>
                </a:moveTo>
                <a:lnTo>
                  <a:pt x="95581" y="21600"/>
                </a:lnTo>
                <a:lnTo>
                  <a:pt x="94181" y="20200"/>
                </a:lnTo>
                <a:lnTo>
                  <a:pt x="94181" y="1400"/>
                </a:lnTo>
                <a:close/>
              </a:path>
              <a:path fill="darkenLess" w="95581" h="21600">
                <a:moveTo>
                  <a:pt x="955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181" y="20200"/>
                </a:lnTo>
                <a:close/>
              </a:path>
              <a:path fill="lighten" w="955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5581" h="21600">
                <a:moveTo>
                  <a:pt x="40784" y="10800"/>
                </a:moveTo>
                <a:lnTo>
                  <a:pt x="54797" y="3794"/>
                </a:lnTo>
                <a:lnTo>
                  <a:pt x="54797" y="17806"/>
                </a:lnTo>
                <a:close/>
              </a:path>
            </a:pathLst>
          </a:custGeom>
          <a:solidFill>
            <a:srgbClr val="33cccc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0" name="Picture 9" descr="флегматик 1"/>
          <p:cNvPicPr/>
          <p:nvPr/>
        </p:nvPicPr>
        <p:blipFill>
          <a:blip r:embed="rId2"/>
          <a:stretch/>
        </p:blipFill>
        <p:spPr>
          <a:xfrm>
            <a:off x="7128000" y="37620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2000"/>
                                        <p:tgtEl>
                                          <p:spTgt spid="1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0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0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800" fill="hold"/>
                                        <p:tgtEl>
                                          <p:spTgt spid="10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0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0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0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000"/>
                            </p:stCondLst>
                            <p:childTnLst>
                              <p:par>
                                <p:cTn id="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9933"/>
            </a:gs>
            <a:gs pos="100000">
              <a:srgbClr val="ff33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AutoShape 5"/>
          <p:cNvSpPr/>
          <p:nvPr/>
        </p:nvSpPr>
        <p:spPr>
          <a:xfrm>
            <a:off x="179280" y="1096920"/>
            <a:ext cx="8964720" cy="5427720"/>
          </a:xfrm>
          <a:prstGeom prst="roundRect">
            <a:avLst>
              <a:gd name="adj" fmla="val 16667"/>
            </a:avLst>
          </a:prstGeom>
          <a:solidFill>
            <a:srgbClr val="9999ff">
              <a:alpha val="76000"/>
            </a:srgbClr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Темперамент и свойства нервной систе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964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Определенные устойчивые сочетания свойств нервной систем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образуют типы высшей нервной деятельности,  или сокращенно – тип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ВНД. Темперамент, по мнению И.П.Павлова – психическое проявл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общего типа нервной системы, а типы  ВНД могут быть соотнесены 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классификацией темпераментов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451"/>
              </a:spcBef>
              <a:buSzPct val="1235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«живой» тип ВНД – сильный, уравновешенный, легко приспосабливающийся</a:t>
            </a: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eaeaea"/>
                </a:solidFill>
                <a:latin typeface="Tahoma"/>
              </a:rPr>
              <a:t>(сангвиник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451"/>
              </a:spcBef>
              <a:buSzPct val="1235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«безудержный» тип ВНД – сильный, неуравновешенный, подвижный, большая жизненная энергия, отсутствие самообладания, вспыльчивый, несдержанный </a:t>
            </a:r>
            <a:r>
              <a:rPr b="1" i="1" lang="ru-RU" sz="1800" spc="-1" strike="noStrike">
                <a:solidFill>
                  <a:srgbClr val="eaeaea"/>
                </a:solidFill>
                <a:latin typeface="Tahoma"/>
              </a:rPr>
              <a:t>(холерик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451"/>
              </a:spcBef>
              <a:buSzPct val="1235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«инертный» тип ВНД – сильный, спокойный, медлительный </a:t>
            </a:r>
            <a:r>
              <a:rPr b="1" i="1" lang="ru-RU" sz="1800" spc="-1" strike="noStrike">
                <a:solidFill>
                  <a:srgbClr val="eaeaea"/>
                </a:solidFill>
                <a:latin typeface="Tahoma"/>
              </a:rPr>
              <a:t>(флегматик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451"/>
              </a:spcBef>
              <a:buSzPct val="1235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«слабый» тип ВНД – плохая сопротивляемость к стимулам внешней среды, пассивность, высокая чувствительность </a:t>
            </a:r>
            <a:r>
              <a:rPr b="1" i="1" lang="ru-RU" sz="1800" spc="-1" strike="noStrike">
                <a:solidFill>
                  <a:srgbClr val="eaeaea"/>
                </a:solidFill>
                <a:latin typeface="Tahoma"/>
              </a:rPr>
              <a:t>(меланхолик)</a:t>
            </a:r>
            <a:r>
              <a:rPr b="1" i="1" lang="ru-RU" sz="1800" spc="-1" strike="noStrike">
                <a:solidFill>
                  <a:srgbClr val="66ffcc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cc3300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4" name="AutoShape 7">
            <a:hlinkClick r:id="rId5" action="ppaction://hlinksldjump"/>
          </p:cNvPr>
          <p:cNvSpPr/>
          <p:nvPr/>
        </p:nvSpPr>
        <p:spPr>
          <a:xfrm>
            <a:off x="7505640" y="6524640"/>
            <a:ext cx="1638360" cy="333360"/>
          </a:xfrm>
          <a:custGeom>
            <a:avLst/>
            <a:gdLst>
              <a:gd name="textAreaLeft" fmla="*/ 21600 w 1638360"/>
              <a:gd name="textAreaRight" fmla="*/ 1616760 w 1638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106066" h="21600">
                <a:moveTo>
                  <a:pt x="0" y="0"/>
                </a:moveTo>
                <a:lnTo>
                  <a:pt x="106066" y="0"/>
                </a:lnTo>
                <a:lnTo>
                  <a:pt x="106066" y="21600"/>
                </a:lnTo>
                <a:lnTo>
                  <a:pt x="0" y="21600"/>
                </a:lnTo>
                <a:close/>
              </a:path>
              <a:path fill="lightenLess" w="106066" h="21600">
                <a:moveTo>
                  <a:pt x="0" y="0"/>
                </a:moveTo>
                <a:lnTo>
                  <a:pt x="106066" y="0"/>
                </a:lnTo>
                <a:lnTo>
                  <a:pt x="104666" y="1400"/>
                </a:lnTo>
                <a:lnTo>
                  <a:pt x="1400" y="1400"/>
                </a:lnTo>
                <a:close/>
              </a:path>
              <a:path fill="darken" w="106066" h="21600">
                <a:moveTo>
                  <a:pt x="106066" y="0"/>
                </a:moveTo>
                <a:lnTo>
                  <a:pt x="106066" y="21600"/>
                </a:lnTo>
                <a:lnTo>
                  <a:pt x="104666" y="20200"/>
                </a:lnTo>
                <a:lnTo>
                  <a:pt x="104666" y="1400"/>
                </a:lnTo>
                <a:close/>
              </a:path>
              <a:path fill="darkenLess" w="106066" h="21600">
                <a:moveTo>
                  <a:pt x="106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666" y="20200"/>
                </a:lnTo>
                <a:close/>
              </a:path>
              <a:path fill="lighten" w="106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6066" h="21600">
                <a:moveTo>
                  <a:pt x="49534" y="10800"/>
                </a:moveTo>
                <a:lnTo>
                  <a:pt x="60039" y="3794"/>
                </a:lnTo>
                <a:lnTo>
                  <a:pt x="60039" y="17806"/>
                </a:lnTo>
                <a:close/>
              </a:path>
              <a:path fill="darken" w="106066" h="21600">
                <a:moveTo>
                  <a:pt x="46027" y="3794"/>
                </a:moveTo>
                <a:lnTo>
                  <a:pt x="47689" y="3794"/>
                </a:lnTo>
                <a:lnTo>
                  <a:pt x="47689" y="17806"/>
                </a:lnTo>
                <a:lnTo>
                  <a:pt x="46027" y="17806"/>
                </a:lnTo>
                <a:close/>
              </a:path>
            </a:pathLst>
          </a:custGeom>
          <a:solidFill>
            <a:srgbClr val="99cc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out" orient="ver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0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0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0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0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0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0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0"/>
                            </p:stCondLst>
                            <p:childTnLst>
                              <p:par>
                                <p:cTn id="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0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0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0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7000"/>
                            </p:stCondLst>
                            <p:childTnLst>
                              <p:par>
                                <p:cTn id="3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0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0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0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900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0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0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0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0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0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0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0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0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0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99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ип темперамента в зависимости от свойств ли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-108000" y="980640"/>
            <a:ext cx="925200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Знаменитый английский психолог Айзенк предложил определить тип темперамента в зависимости от свойств личности:</a:t>
            </a:r>
            <a:r>
              <a:rPr b="1" lang="ru-RU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1) </a:t>
            </a:r>
            <a:r>
              <a:rPr b="1" i="1" lang="ru-RU" sz="1800" spc="-1" strike="noStrike">
                <a:solidFill>
                  <a:srgbClr val="ffffcc"/>
                </a:solidFill>
                <a:latin typeface="Times New Roman"/>
              </a:rPr>
              <a:t>экстраверсия - интроверсия</a:t>
            </a: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 2) </a:t>
            </a:r>
            <a:r>
              <a:rPr b="1" i="1" lang="ru-RU" sz="1800" spc="-1" strike="noStrike">
                <a:solidFill>
                  <a:srgbClr val="ffffcc"/>
                </a:solidFill>
                <a:latin typeface="Times New Roman"/>
              </a:rPr>
              <a:t>нейротизм - эмоциональная стаби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ru-RU" sz="1800" spc="-1" strike="noStrike">
                <a:solidFill>
                  <a:srgbClr val="ffff99"/>
                </a:solidFill>
                <a:latin typeface="Times New Roman"/>
              </a:rPr>
              <a:t>Экстравертам</a:t>
            </a: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 свойственны общительность, стремление быть среди людей,     импульсивность, гибкость поведения, большая инициативность и высокая социальная адаптирова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i="1" lang="ru-RU" sz="1800" spc="-1" strike="noStrike">
                <a:solidFill>
                  <a:srgbClr val="ffff99"/>
                </a:solidFill>
                <a:latin typeface="Times New Roman"/>
              </a:rPr>
              <a:t>Интровертам</a:t>
            </a: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 присущи : необщительность,  уход в себя, богатый внутренний мир, социальная пассивность, склонность к самоанализ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Показатель </a:t>
            </a:r>
            <a:r>
              <a:rPr b="1" i="1" lang="ru-RU" sz="1800" spc="-1" strike="noStrike">
                <a:solidFill>
                  <a:srgbClr val="ffff99"/>
                </a:solidFill>
                <a:latin typeface="Times New Roman"/>
              </a:rPr>
              <a:t>"экстраверсия - интроверсия"</a:t>
            </a: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  характеризует индивидуально – психологическую ориентацию человека либо на мир внешних объектов (</a:t>
            </a:r>
            <a:r>
              <a:rPr b="1" i="1" lang="ru-RU" sz="1800" spc="-1" strike="noStrike">
                <a:solidFill>
                  <a:srgbClr val="ffffcc"/>
                </a:solidFill>
                <a:latin typeface="Times New Roman"/>
              </a:rPr>
              <a:t>экстраверсия</a:t>
            </a: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), либо на внутренний субъективный мир (</a:t>
            </a:r>
            <a:r>
              <a:rPr b="1" i="1" lang="ru-RU" sz="1800" spc="-1" strike="noStrike">
                <a:solidFill>
                  <a:srgbClr val="ffffcc"/>
                </a:solidFill>
                <a:latin typeface="Times New Roman"/>
              </a:rPr>
              <a:t>интроверсия</a:t>
            </a: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Показатель </a:t>
            </a:r>
            <a:r>
              <a:rPr b="1" i="1" lang="ru-RU" sz="1800" spc="-1" strike="noStrike">
                <a:solidFill>
                  <a:srgbClr val="ffff99"/>
                </a:solidFill>
                <a:latin typeface="Times New Roman"/>
              </a:rPr>
              <a:t>"нейротизма"</a:t>
            </a: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  характеризует человека со стороны эмоциональной устойчивости. Показатель типов биополярен и образует шкалу, на одном полюсе которой находятся люди, характеризующиеся высокой эмоциональной устойчивостью, а на другом – нервозные, неустойчивые и плохо адаптированные индиви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16"/>
          <p:cNvSpPr/>
          <p:nvPr/>
        </p:nvSpPr>
        <p:spPr>
          <a:xfrm>
            <a:off x="9468000" y="4076640"/>
            <a:ext cx="280800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8" name="AutoShape 25">
            <a:hlinkClick r:id="rId1" action="ppaction://hlinksldjump"/>
          </p:cNvPr>
          <p:cNvSpPr/>
          <p:nvPr/>
        </p:nvSpPr>
        <p:spPr>
          <a:xfrm>
            <a:off x="7524720" y="6453360"/>
            <a:ext cx="1619280" cy="404640"/>
          </a:xfrm>
          <a:custGeom>
            <a:avLst/>
            <a:gdLst>
              <a:gd name="textAreaLeft" fmla="*/ 25920 w 1619280"/>
              <a:gd name="textAreaRight" fmla="*/ 1593360 w 1619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86381" h="21600">
                <a:moveTo>
                  <a:pt x="0" y="0"/>
                </a:moveTo>
                <a:lnTo>
                  <a:pt x="86381" y="0"/>
                </a:lnTo>
                <a:lnTo>
                  <a:pt x="86381" y="21600"/>
                </a:lnTo>
                <a:lnTo>
                  <a:pt x="0" y="21600"/>
                </a:lnTo>
                <a:close/>
              </a:path>
              <a:path fill="lightenLess" w="86381" h="21600">
                <a:moveTo>
                  <a:pt x="0" y="0"/>
                </a:moveTo>
                <a:lnTo>
                  <a:pt x="86381" y="0"/>
                </a:lnTo>
                <a:lnTo>
                  <a:pt x="84981" y="1400"/>
                </a:lnTo>
                <a:lnTo>
                  <a:pt x="1400" y="1400"/>
                </a:lnTo>
                <a:close/>
              </a:path>
              <a:path fill="darken" w="86381" h="21600">
                <a:moveTo>
                  <a:pt x="86381" y="0"/>
                </a:moveTo>
                <a:lnTo>
                  <a:pt x="86381" y="21600"/>
                </a:lnTo>
                <a:lnTo>
                  <a:pt x="84981" y="20200"/>
                </a:lnTo>
                <a:lnTo>
                  <a:pt x="84981" y="1400"/>
                </a:lnTo>
                <a:close/>
              </a:path>
              <a:path fill="darkenLess" w="86381" h="21600">
                <a:moveTo>
                  <a:pt x="8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1" y="20200"/>
                </a:lnTo>
                <a:close/>
              </a:path>
              <a:path fill="lighten" w="8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81" h="21600">
                <a:moveTo>
                  <a:pt x="36184" y="10800"/>
                </a:moveTo>
                <a:lnTo>
                  <a:pt x="50197" y="3794"/>
                </a:lnTo>
                <a:lnTo>
                  <a:pt x="50197" y="17806"/>
                </a:lnTo>
                <a:close/>
              </a:path>
            </a:pathLst>
          </a:custGeom>
          <a:solidFill>
            <a:srgbClr val="bbe0e3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vert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000"/>
                            </p:stCondLst>
                            <p:childTnLst>
                              <p:par>
                                <p:cTn id="36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000"/>
                            </p:stCondLst>
                            <p:childTnLst>
                              <p:par>
                                <p:cTn id="37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4000"/>
                            </p:stCondLst>
                            <p:childTnLst>
                              <p:par>
                                <p:cTn id="38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0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0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4500"/>
                            </p:stCondLst>
                            <p:childTnLst>
                              <p:par>
                                <p:cTn id="39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0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0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Oval 54"/>
          <p:cNvSpPr/>
          <p:nvPr/>
        </p:nvSpPr>
        <p:spPr>
          <a:xfrm>
            <a:off x="4695840" y="5373720"/>
            <a:ext cx="2376360" cy="21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ткрыт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0" name="Oval 58"/>
          <p:cNvSpPr/>
          <p:nvPr/>
        </p:nvSpPr>
        <p:spPr>
          <a:xfrm>
            <a:off x="3506760" y="6622920"/>
            <a:ext cx="2181240" cy="262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стабильнос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1" name="Oval 35"/>
          <p:cNvSpPr/>
          <p:nvPr/>
        </p:nvSpPr>
        <p:spPr>
          <a:xfrm>
            <a:off x="6062760" y="2419200"/>
            <a:ext cx="2376360" cy="21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спыльчив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2" name="Oval 57"/>
          <p:cNvSpPr/>
          <p:nvPr/>
        </p:nvSpPr>
        <p:spPr>
          <a:xfrm>
            <a:off x="3376440" y="441360"/>
            <a:ext cx="2563920" cy="32364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ейротиз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68240" y="-73080"/>
            <a:ext cx="38163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Круг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Айзенк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4" name="Line 7"/>
          <p:cNvSpPr/>
          <p:nvPr/>
        </p:nvSpPr>
        <p:spPr>
          <a:xfrm flipH="1">
            <a:off x="4597200" y="3284640"/>
            <a:ext cx="6120" cy="121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5" name="AutoShape 21"/>
          <p:cNvSpPr/>
          <p:nvPr/>
        </p:nvSpPr>
        <p:spPr>
          <a:xfrm rot="8328600">
            <a:off x="4500000" y="3993840"/>
            <a:ext cx="780840" cy="360360"/>
          </a:xfrm>
          <a:prstGeom prst="pie">
            <a:avLst/>
          </a:prstGeom>
          <a:solidFill>
            <a:srgbClr val="6699ff">
              <a:alpha val="6000"/>
            </a:srgbClr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6" name="AutoShape 22"/>
          <p:cNvSpPr/>
          <p:nvPr/>
        </p:nvSpPr>
        <p:spPr>
          <a:xfrm rot="13065600">
            <a:off x="3816360" y="3993840"/>
            <a:ext cx="781200" cy="360360"/>
          </a:xfrm>
          <a:prstGeom prst="pie">
            <a:avLst/>
          </a:prstGeom>
          <a:solidFill>
            <a:srgbClr val="6699ff">
              <a:alpha val="6000"/>
            </a:srgbClr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Ф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7" name="AutoShape 23"/>
          <p:cNvSpPr/>
          <p:nvPr/>
        </p:nvSpPr>
        <p:spPr>
          <a:xfrm rot="2848800">
            <a:off x="4499640" y="3177360"/>
            <a:ext cx="780840" cy="360360"/>
          </a:xfrm>
          <a:prstGeom prst="pie">
            <a:avLst/>
          </a:prstGeom>
          <a:solidFill>
            <a:srgbClr val="6699ff">
              <a:alpha val="6000"/>
            </a:srgbClr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8" name="AutoShape 24"/>
          <p:cNvSpPr/>
          <p:nvPr/>
        </p:nvSpPr>
        <p:spPr>
          <a:xfrm rot="19111800">
            <a:off x="3822840" y="3212640"/>
            <a:ext cx="780840" cy="360360"/>
          </a:xfrm>
          <a:prstGeom prst="pie">
            <a:avLst/>
          </a:prstGeom>
          <a:solidFill>
            <a:srgbClr val="6699ff">
              <a:alpha val="6000"/>
            </a:srgbClr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9" name="Oval 25"/>
          <p:cNvSpPr/>
          <p:nvPr/>
        </p:nvSpPr>
        <p:spPr>
          <a:xfrm>
            <a:off x="90360" y="3649680"/>
            <a:ext cx="1187640" cy="210960"/>
          </a:xfrm>
          <a:prstGeom prst="ellipse">
            <a:avLst/>
          </a:prstGeom>
          <a:solidFill>
            <a:srgbClr val="6699ff">
              <a:alpha val="35000"/>
            </a:srgbClr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интроверс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0" name="Oval 26"/>
          <p:cNvSpPr/>
          <p:nvPr/>
        </p:nvSpPr>
        <p:spPr>
          <a:xfrm>
            <a:off x="7524720" y="3645000"/>
            <a:ext cx="1619280" cy="210960"/>
          </a:xfrm>
          <a:prstGeom prst="ellipse">
            <a:avLst/>
          </a:prstGeom>
          <a:solidFill>
            <a:srgbClr val="6699ff">
              <a:alpha val="35000"/>
            </a:srgbClr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экстраверс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1" name="Line 6"/>
          <p:cNvSpPr/>
          <p:nvPr/>
        </p:nvSpPr>
        <p:spPr>
          <a:xfrm>
            <a:off x="1370160" y="3789360"/>
            <a:ext cx="6271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2" name="Oval 27"/>
          <p:cNvSpPr/>
          <p:nvPr/>
        </p:nvSpPr>
        <p:spPr>
          <a:xfrm>
            <a:off x="4500720" y="1197000"/>
            <a:ext cx="215640" cy="1800360"/>
          </a:xfrm>
          <a:prstGeom prst="ellipse">
            <a:avLst/>
          </a:prstGeom>
          <a:solidFill>
            <a:srgbClr val="6699ff">
              <a:alpha val="35000"/>
            </a:srgbClr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Ч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3" name="Oval 29"/>
          <p:cNvSpPr/>
          <p:nvPr/>
        </p:nvSpPr>
        <p:spPr>
          <a:xfrm>
            <a:off x="544680" y="2455920"/>
            <a:ext cx="2376360" cy="21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бидчив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4" name="Oval 30"/>
          <p:cNvSpPr/>
          <p:nvPr/>
        </p:nvSpPr>
        <p:spPr>
          <a:xfrm>
            <a:off x="258840" y="2671920"/>
            <a:ext cx="2376360" cy="21564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ревож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5" name="Oval 31"/>
          <p:cNvSpPr/>
          <p:nvPr/>
        </p:nvSpPr>
        <p:spPr>
          <a:xfrm>
            <a:off x="1446120" y="1339920"/>
            <a:ext cx="2376720" cy="21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печатлитель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6" name="Oval 32"/>
          <p:cNvSpPr/>
          <p:nvPr/>
        </p:nvSpPr>
        <p:spPr>
          <a:xfrm>
            <a:off x="907920" y="1808280"/>
            <a:ext cx="2376720" cy="21564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ессимистич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7" name="Oval 33"/>
          <p:cNvSpPr/>
          <p:nvPr/>
        </p:nvSpPr>
        <p:spPr>
          <a:xfrm>
            <a:off x="1173240" y="1555920"/>
            <a:ext cx="2376360" cy="21564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еобщитель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8" name="Oval 34"/>
          <p:cNvSpPr/>
          <p:nvPr/>
        </p:nvSpPr>
        <p:spPr>
          <a:xfrm>
            <a:off x="695160" y="2239920"/>
            <a:ext cx="2376720" cy="21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держан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Oval 36"/>
          <p:cNvSpPr/>
          <p:nvPr/>
        </p:nvSpPr>
        <p:spPr>
          <a:xfrm>
            <a:off x="5254560" y="1771560"/>
            <a:ext cx="2376720" cy="21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птимистич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0" name="Oval 37"/>
          <p:cNvSpPr/>
          <p:nvPr/>
        </p:nvSpPr>
        <p:spPr>
          <a:xfrm>
            <a:off x="6442200" y="2635200"/>
            <a:ext cx="2376360" cy="21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идирующ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1" name="Oval 38"/>
          <p:cNvSpPr/>
          <p:nvPr/>
        </p:nvSpPr>
        <p:spPr>
          <a:xfrm>
            <a:off x="5465880" y="1987560"/>
            <a:ext cx="2376360" cy="21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мпульсив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2" name="Oval 39"/>
          <p:cNvSpPr/>
          <p:nvPr/>
        </p:nvSpPr>
        <p:spPr>
          <a:xfrm>
            <a:off x="5621400" y="2203560"/>
            <a:ext cx="2376360" cy="21564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грессив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3" name="Oval 40"/>
          <p:cNvSpPr/>
          <p:nvPr/>
        </p:nvSpPr>
        <p:spPr>
          <a:xfrm>
            <a:off x="5254560" y="1339920"/>
            <a:ext cx="2376720" cy="21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ддающийся насил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4" name="Oval 41"/>
          <p:cNvSpPr/>
          <p:nvPr/>
        </p:nvSpPr>
        <p:spPr>
          <a:xfrm>
            <a:off x="5254560" y="1555920"/>
            <a:ext cx="2376720" cy="21564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здражитель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5" name="Oval 42"/>
          <p:cNvSpPr/>
          <p:nvPr/>
        </p:nvSpPr>
        <p:spPr>
          <a:xfrm>
            <a:off x="969840" y="4678200"/>
            <a:ext cx="2376720" cy="21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ассив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6" name="Oval 43"/>
          <p:cNvSpPr/>
          <p:nvPr/>
        </p:nvSpPr>
        <p:spPr>
          <a:xfrm>
            <a:off x="536400" y="4425840"/>
            <a:ext cx="2376720" cy="21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таратель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Oval 44"/>
          <p:cNvSpPr/>
          <p:nvPr/>
        </p:nvSpPr>
        <p:spPr>
          <a:xfrm>
            <a:off x="1415880" y="5110200"/>
            <a:ext cx="2376720" cy="21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думчив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Oval 45"/>
          <p:cNvSpPr/>
          <p:nvPr/>
        </p:nvSpPr>
        <p:spPr>
          <a:xfrm>
            <a:off x="247680" y="4210200"/>
            <a:ext cx="2376360" cy="21564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ролюбив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9" name="Oval 46"/>
          <p:cNvSpPr/>
          <p:nvPr/>
        </p:nvSpPr>
        <p:spPr>
          <a:xfrm>
            <a:off x="1224000" y="4894200"/>
            <a:ext cx="2376360" cy="21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деж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0" name="Oval 47"/>
          <p:cNvSpPr/>
          <p:nvPr/>
        </p:nvSpPr>
        <p:spPr>
          <a:xfrm>
            <a:off x="1690560" y="5326200"/>
            <a:ext cx="2376720" cy="21564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змерен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1" name="Oval 48"/>
          <p:cNvSpPr/>
          <p:nvPr/>
        </p:nvSpPr>
        <p:spPr>
          <a:xfrm>
            <a:off x="1976400" y="5541840"/>
            <a:ext cx="2376360" cy="21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покой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2" name="Oval 49"/>
          <p:cNvSpPr/>
          <p:nvPr/>
        </p:nvSpPr>
        <p:spPr>
          <a:xfrm>
            <a:off x="6062760" y="4292640"/>
            <a:ext cx="2376360" cy="21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юбящий удобст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3" name="Oval 50"/>
          <p:cNvSpPr/>
          <p:nvPr/>
        </p:nvSpPr>
        <p:spPr>
          <a:xfrm>
            <a:off x="5265720" y="4941720"/>
            <a:ext cx="2376360" cy="21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беззабот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4" name="Oval 51"/>
          <p:cNvSpPr/>
          <p:nvPr/>
        </p:nvSpPr>
        <p:spPr>
          <a:xfrm>
            <a:off x="4287960" y="5589720"/>
            <a:ext cx="2376360" cy="21564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жив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Oval 52"/>
          <p:cNvSpPr/>
          <p:nvPr/>
        </p:nvSpPr>
        <p:spPr>
          <a:xfrm>
            <a:off x="4948200" y="5157720"/>
            <a:ext cx="2376360" cy="21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оступ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6" name="Oval 53"/>
          <p:cNvSpPr/>
          <p:nvPr/>
        </p:nvSpPr>
        <p:spPr>
          <a:xfrm>
            <a:off x="5703840" y="4508640"/>
            <a:ext cx="2376360" cy="21564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зговорчив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7" name="Oval 55"/>
          <p:cNvSpPr/>
          <p:nvPr/>
        </p:nvSpPr>
        <p:spPr>
          <a:xfrm>
            <a:off x="5477040" y="4724280"/>
            <a:ext cx="2376360" cy="21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бщитель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8" name="Oval 28"/>
          <p:cNvSpPr/>
          <p:nvPr/>
        </p:nvSpPr>
        <p:spPr>
          <a:xfrm>
            <a:off x="4476600" y="4537080"/>
            <a:ext cx="252720" cy="2060640"/>
          </a:xfrm>
          <a:prstGeom prst="ellipse">
            <a:avLst/>
          </a:prstGeom>
          <a:solidFill>
            <a:srgbClr val="6699ff">
              <a:alpha val="35000"/>
            </a:srgbClr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Ч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9" name="Oval 59"/>
          <p:cNvSpPr/>
          <p:nvPr/>
        </p:nvSpPr>
        <p:spPr>
          <a:xfrm>
            <a:off x="654120" y="2023920"/>
            <a:ext cx="2630520" cy="24624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еподатлив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0" name="AutoShape 60">
            <a:hlinkClick r:id="rId1" action="ppaction://hlinksldjump"/>
          </p:cNvPr>
          <p:cNvSpPr/>
          <p:nvPr/>
        </p:nvSpPr>
        <p:spPr>
          <a:xfrm>
            <a:off x="7853400" y="6558120"/>
            <a:ext cx="1290600" cy="299880"/>
          </a:xfrm>
          <a:custGeom>
            <a:avLst/>
            <a:gdLst>
              <a:gd name="textAreaLeft" fmla="*/ 19440 w 1290600"/>
              <a:gd name="textAreaRight" fmla="*/ 1271160 w 129060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92875" h="21600">
                <a:moveTo>
                  <a:pt x="0" y="0"/>
                </a:moveTo>
                <a:lnTo>
                  <a:pt x="92875" y="0"/>
                </a:lnTo>
                <a:lnTo>
                  <a:pt x="92875" y="21600"/>
                </a:lnTo>
                <a:lnTo>
                  <a:pt x="0" y="21600"/>
                </a:lnTo>
                <a:close/>
              </a:path>
              <a:path fill="lightenLess" w="92875" h="21600">
                <a:moveTo>
                  <a:pt x="0" y="0"/>
                </a:moveTo>
                <a:lnTo>
                  <a:pt x="92875" y="0"/>
                </a:lnTo>
                <a:lnTo>
                  <a:pt x="91475" y="1400"/>
                </a:lnTo>
                <a:lnTo>
                  <a:pt x="1400" y="1400"/>
                </a:lnTo>
                <a:close/>
              </a:path>
              <a:path fill="darken" w="92875" h="21600">
                <a:moveTo>
                  <a:pt x="92875" y="0"/>
                </a:moveTo>
                <a:lnTo>
                  <a:pt x="92875" y="21600"/>
                </a:lnTo>
                <a:lnTo>
                  <a:pt x="91475" y="20200"/>
                </a:lnTo>
                <a:lnTo>
                  <a:pt x="91475" y="1400"/>
                </a:lnTo>
                <a:close/>
              </a:path>
              <a:path fill="darkenLess" w="92875" h="21600">
                <a:moveTo>
                  <a:pt x="928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475" y="20200"/>
                </a:lnTo>
                <a:close/>
              </a:path>
              <a:path fill="lighten" w="928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2875" h="21600">
                <a:moveTo>
                  <a:pt x="39431" y="10800"/>
                </a:moveTo>
                <a:lnTo>
                  <a:pt x="53444" y="3794"/>
                </a:lnTo>
                <a:lnTo>
                  <a:pt x="53444" y="17806"/>
                </a:lnTo>
                <a:close/>
              </a:path>
            </a:pathLst>
          </a:custGeom>
          <a:solidFill>
            <a:srgbClr val="3366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horz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000"/>
                            </p:stCondLst>
                            <p:childTnLst>
                              <p:par>
                                <p:cTn id="41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400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0"/>
                            </p:stCondLst>
                            <p:childTnLst>
                              <p:par>
                                <p:cTn id="4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6000"/>
                            </p:stCondLst>
                            <p:childTnLst>
                              <p:par>
                                <p:cTn id="4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7000"/>
                            </p:stCondLst>
                            <p:childTnLst>
                              <p:par>
                                <p:cTn id="4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8000"/>
                            </p:stCondLst>
                            <p:childTnLst>
                              <p:par>
                                <p:cTn id="4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9000"/>
                            </p:stCondLst>
                            <p:childTnLst>
                              <p:par>
                                <p:cTn id="4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3000"/>
                            </p:stCondLst>
                            <p:childTnLst>
                              <p:par>
                                <p:cTn id="47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9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9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9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9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9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9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9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5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9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9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9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9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9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9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9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6000"/>
                            </p:stCondLst>
                            <p:childTnLst>
                              <p:par>
                                <p:cTn id="5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9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9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9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9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9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9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7000"/>
                            </p:stCondLst>
                            <p:childTnLst>
                              <p:par>
                                <p:cTn id="6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9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9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9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9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9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9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9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323640" y="765000"/>
            <a:ext cx="8459640" cy="41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c1c1c"/>
                </a:solidFill>
                <a:latin typeface="Times New Roman"/>
              </a:rPr>
              <a:t>ПРОВЕДЕМ ЕЩЁ ОДИН  ТЕСТ!</a:t>
            </a: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Хотите узнать кто вы: экстраверт или интроверт?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Вам понадобится листочек и ручка!</a:t>
            </a:r>
            <a:br>
              <a:rPr sz="2800"/>
            </a:br>
            <a:br>
              <a:rPr sz="3200"/>
            </a:br>
            <a:r>
              <a:rPr b="0" lang="ru-RU" sz="3200" spc="-1" strike="noStrike">
                <a:solidFill>
                  <a:srgbClr val="1c1c1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1c1c1c"/>
                </a:solidFill>
                <a:latin typeface="Times New Roman"/>
              </a:rPr>
              <a:t>На предлагаемые вопросы нужно ответить «да» или «нет», не задумываясь.</a:t>
            </a:r>
            <a:br>
              <a:rPr sz="2400"/>
            </a:br>
            <a:r>
              <a:rPr b="1" lang="ru-RU" sz="2400" spc="-1" strike="noStrike">
                <a:solidFill>
                  <a:srgbClr val="1c1c1c"/>
                </a:solidFill>
                <a:latin typeface="Times New Roman"/>
              </a:rPr>
              <a:t>         </a:t>
            </a:r>
            <a:r>
              <a:rPr b="1" i="1" lang="ru-RU" sz="1800" spc="-1" strike="noStrike">
                <a:solidFill>
                  <a:srgbClr val="1c1c1c"/>
                </a:solidFill>
                <a:latin typeface="Times New Roman"/>
              </a:rPr>
              <a:t>(ТЕСТ И КЛЮЧ К ТЕСТУ</a:t>
            </a:r>
            <a:r>
              <a:rPr b="1" i="1" lang="en-US" sz="18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1c1c1c"/>
                </a:solidFill>
                <a:latin typeface="Times New Roman"/>
              </a:rPr>
              <a:t>ПРИВЕДЕНЫ НА СЛЕДУЮЩИХ СЛАЙДА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AutoShape 4"/>
          <p:cNvSpPr/>
          <p:nvPr/>
        </p:nvSpPr>
        <p:spPr>
          <a:xfrm>
            <a:off x="0" y="0"/>
            <a:ext cx="7885080" cy="6858000"/>
          </a:xfrm>
          <a:prstGeom prst="roundRect">
            <a:avLst>
              <a:gd name="adj" fmla="val 16667"/>
            </a:avLst>
          </a:prstGeom>
          <a:solidFill>
            <a:srgbClr val="808080">
              <a:alpha val="4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1" i="1" lang="ru-RU" sz="1600" spc="-1" strike="noStrike">
                <a:solidFill>
                  <a:srgbClr val="ffff66"/>
                </a:solidFill>
                <a:latin typeface="Times New Roman"/>
              </a:rPr>
              <a:t>Верно ли, что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ам нравится тихо сидеть наедине со своими мысля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ас раздражают автомобильные пробк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ам нравится глубоко исследовать один предмет, чем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стоянно искать новы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ы чувствуете, что постоянно находитесь в движени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ы предпочитаете поговорить с клиентом по телефону, чем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стречаться с ни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ас раздражают водители, которые медленно ездят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ы неуютно себя чувствуете, если во время разговора собеседник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дходит к вам слишком близко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ам больше нравится принимать участие в театральных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становках, чем смотреть их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ы предпочитаете спокойный пассивный отдых активном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ам нравится, когда одновременно происходит много интересного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ы стараетесь  избегать встреч с людь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ам больше нравится, когда герои романа действуют, а не говорят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Иногда вам хочется расслабитс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ы согласны с утверждением: «Чем больше, тем лучше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ам нравится размышлять над своей жизнью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Бывают моменты, когда вы ощущаете в себе взрывную энергию 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ам необходимо немедленно действоват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редпочитаете работать в одиночк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ас больше привлекает работа, требующая немедленного действия, 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не долгого обдумывани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ы редко рассказываете о себе своим друзья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ам нравится немножко пошуметь с близкими друзьями или даж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знакомыми вам людь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7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Rectangle 5"/>
          <p:cNvSpPr/>
          <p:nvPr/>
        </p:nvSpPr>
        <p:spPr>
          <a:xfrm>
            <a:off x="900000" y="549360"/>
            <a:ext cx="72010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люч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Если вы ответили «да» на восемь и более четных вопросов  и «нет» на восемь и более нечетных, значит, у вас экстравертный характер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Обратное распределение положительных и отрицательных ответов свидетельствует об  интроспективном отношении к жизн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4" name="AutoShape 6">
            <a:hlinkClick r:id="rId1" action="ppaction://hlinksldjump"/>
          </p:cNvPr>
          <p:cNvSpPr/>
          <p:nvPr/>
        </p:nvSpPr>
        <p:spPr>
          <a:xfrm>
            <a:off x="7524720" y="6453360"/>
            <a:ext cx="1619280" cy="395280"/>
          </a:xfrm>
          <a:custGeom>
            <a:avLst/>
            <a:gdLst>
              <a:gd name="textAreaLeft" fmla="*/ 25560 w 1619280"/>
              <a:gd name="textAreaRight" fmla="*/ 1593720 w 161928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88424" h="21600">
                <a:moveTo>
                  <a:pt x="0" y="0"/>
                </a:moveTo>
                <a:lnTo>
                  <a:pt x="88424" y="0"/>
                </a:lnTo>
                <a:lnTo>
                  <a:pt x="88424" y="21600"/>
                </a:lnTo>
                <a:lnTo>
                  <a:pt x="0" y="21600"/>
                </a:lnTo>
                <a:close/>
              </a:path>
              <a:path fill="lightenLess" w="88424" h="21600">
                <a:moveTo>
                  <a:pt x="0" y="0"/>
                </a:moveTo>
                <a:lnTo>
                  <a:pt x="88424" y="0"/>
                </a:lnTo>
                <a:lnTo>
                  <a:pt x="87024" y="1400"/>
                </a:lnTo>
                <a:lnTo>
                  <a:pt x="1400" y="1400"/>
                </a:lnTo>
                <a:close/>
              </a:path>
              <a:path fill="darken" w="88424" h="21600">
                <a:moveTo>
                  <a:pt x="88424" y="0"/>
                </a:moveTo>
                <a:lnTo>
                  <a:pt x="88424" y="21600"/>
                </a:lnTo>
                <a:lnTo>
                  <a:pt x="87024" y="20200"/>
                </a:lnTo>
                <a:lnTo>
                  <a:pt x="87024" y="1400"/>
                </a:lnTo>
                <a:close/>
              </a:path>
              <a:path fill="darkenLess" w="88424" h="21600">
                <a:moveTo>
                  <a:pt x="8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024" y="20200"/>
                </a:lnTo>
                <a:close/>
              </a:path>
              <a:path fill="lighten" w="8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8424" h="21600">
                <a:moveTo>
                  <a:pt x="37206" y="10800"/>
                </a:moveTo>
                <a:lnTo>
                  <a:pt x="51219" y="3794"/>
                </a:lnTo>
                <a:lnTo>
                  <a:pt x="51219" y="17806"/>
                </a:lnTo>
                <a:close/>
              </a:path>
            </a:pathLst>
          </a:custGeom>
          <a:solidFill>
            <a:srgbClr val="00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явление качеств личности в зависимости от темпера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4"/>
          <p:cNvSpPr/>
          <p:nvPr/>
        </p:nvSpPr>
        <p:spPr>
          <a:xfrm>
            <a:off x="2556000" y="2205000"/>
            <a:ext cx="3673440" cy="3060720"/>
          </a:xfrm>
          <a:prstGeom prst="roundRect">
            <a:avLst>
              <a:gd name="adj" fmla="val 16667"/>
            </a:avLst>
          </a:prstGeom>
          <a:solidFill>
            <a:srgbClr val="ccffcc">
              <a:alpha val="75000"/>
            </a:srgbClr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Роль в общен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Самооцен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Уверенность в себ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Дружба и любов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Движения и поход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ahoma"/>
                <a:hlinkClick r:id="rId6" action="ppaction://hlinksldjump"/>
              </a:rPr>
              <a:t>Аппети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ahoma"/>
                <a:hlinkClick r:id="rId7" action="ppaction://hlinksldjump"/>
              </a:rPr>
              <a:t>Со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7" name="AutoShape 7">
            <a:hlinkClick r:id="rId8" action="ppaction://hlinksldjump"/>
          </p:cNvPr>
          <p:cNvSpPr/>
          <p:nvPr/>
        </p:nvSpPr>
        <p:spPr>
          <a:xfrm>
            <a:off x="7631280" y="6391440"/>
            <a:ext cx="1512720" cy="466560"/>
          </a:xfrm>
          <a:custGeom>
            <a:avLst/>
            <a:gdLst>
              <a:gd name="textAreaLeft" fmla="*/ 30240 w 1512720"/>
              <a:gd name="textAreaRight" fmla="*/ 1482480 w 15127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9996" h="21600">
                <a:moveTo>
                  <a:pt x="0" y="0"/>
                </a:moveTo>
                <a:lnTo>
                  <a:pt x="69996" y="0"/>
                </a:lnTo>
                <a:lnTo>
                  <a:pt x="69996" y="21600"/>
                </a:lnTo>
                <a:lnTo>
                  <a:pt x="0" y="21600"/>
                </a:lnTo>
                <a:close/>
              </a:path>
              <a:path fill="lightenLess" w="69996" h="21600">
                <a:moveTo>
                  <a:pt x="0" y="0"/>
                </a:moveTo>
                <a:lnTo>
                  <a:pt x="69996" y="0"/>
                </a:lnTo>
                <a:lnTo>
                  <a:pt x="68596" y="1400"/>
                </a:lnTo>
                <a:lnTo>
                  <a:pt x="1400" y="1400"/>
                </a:lnTo>
                <a:close/>
              </a:path>
              <a:path fill="darken" w="69996" h="21600">
                <a:moveTo>
                  <a:pt x="69996" y="0"/>
                </a:moveTo>
                <a:lnTo>
                  <a:pt x="69996" y="21600"/>
                </a:lnTo>
                <a:lnTo>
                  <a:pt x="68596" y="20200"/>
                </a:lnTo>
                <a:lnTo>
                  <a:pt x="68596" y="1400"/>
                </a:lnTo>
                <a:close/>
              </a:path>
              <a:path fill="darkenLess" w="69996" h="21600">
                <a:moveTo>
                  <a:pt x="69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596" y="20200"/>
                </a:lnTo>
                <a:close/>
              </a:path>
              <a:path fill="lighten" w="69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996" h="21600">
                <a:moveTo>
                  <a:pt x="27992" y="10800"/>
                </a:moveTo>
                <a:lnTo>
                  <a:pt x="42004" y="3794"/>
                </a:lnTo>
                <a:lnTo>
                  <a:pt x="42004" y="17806"/>
                </a:lnTo>
                <a:close/>
              </a:path>
            </a:pathLst>
          </a:custGeom>
          <a:solidFill>
            <a:srgbClr val="6699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РЕЗЕНТАЦИЯ ПО ПСИХОЛОГ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 тем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99ff"/>
                </a:solidFill>
                <a:uFillTx/>
                <a:latin typeface="Tahoma"/>
              </a:rPr>
              <a:t>ТЕМПЕРАМЕ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99ff"/>
                </a:solidFill>
                <a:latin typeface="Tahoma"/>
              </a:rPr>
              <a:t>             </a:t>
            </a:r>
            <a:r>
              <a:rPr b="1" lang="ru-RU" sz="2800" spc="-1" strike="noStrike">
                <a:solidFill>
                  <a:srgbClr val="6699ff"/>
                </a:solidFill>
                <a:latin typeface="Tahoma"/>
              </a:rPr>
              <a:t>Педагог: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99ff"/>
                </a:solidFill>
                <a:latin typeface="Tahoma"/>
              </a:rPr>
              <a:t>             </a:t>
            </a:r>
            <a:r>
              <a:rPr b="1" lang="ru-RU" sz="2800" spc="-1" strike="noStrike">
                <a:solidFill>
                  <a:srgbClr val="6699ff"/>
                </a:solidFill>
                <a:latin typeface="Tahoma"/>
              </a:rPr>
              <a:t>Казакова</a:t>
            </a:r>
            <a:r>
              <a:rPr b="1" lang="ru-RU" sz="2800" spc="-1" strike="noStrike" u="sng">
                <a:solidFill>
                  <a:srgbClr val="6699ff"/>
                </a:solidFill>
                <a:uFillTx/>
                <a:latin typeface="Tahoma"/>
              </a:rPr>
              <a:t> С.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527c"/>
            </a:gs>
            <a:gs pos="100000">
              <a:srgbClr val="99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28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оль в общении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19" name="AutoShape 4"/>
          <p:cNvSpPr/>
          <p:nvPr/>
        </p:nvSpPr>
        <p:spPr>
          <a:xfrm>
            <a:off x="4643280" y="1844640"/>
            <a:ext cx="1738440" cy="531720"/>
          </a:xfrm>
          <a:prstGeom prst="octagon">
            <a:avLst>
              <a:gd name="adj" fmla="val 29287"/>
            </a:avLst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АНГВИН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0" name="AutoShape 5"/>
          <p:cNvSpPr/>
          <p:nvPr/>
        </p:nvSpPr>
        <p:spPr>
          <a:xfrm>
            <a:off x="2523960" y="1881360"/>
            <a:ext cx="1801800" cy="531720"/>
          </a:xfrm>
          <a:prstGeom prst="octagon">
            <a:avLst>
              <a:gd name="adj" fmla="val 29287"/>
            </a:avLst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ХОЛЕР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1" name="AutoShape 6"/>
          <p:cNvSpPr/>
          <p:nvPr/>
        </p:nvSpPr>
        <p:spPr>
          <a:xfrm>
            <a:off x="324000" y="3191040"/>
            <a:ext cx="1800000" cy="531720"/>
          </a:xfrm>
          <a:prstGeom prst="octagon">
            <a:avLst>
              <a:gd name="adj" fmla="val 29287"/>
            </a:avLst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ФЛЕГМАТ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2" name="AutoShape 7"/>
          <p:cNvSpPr/>
          <p:nvPr/>
        </p:nvSpPr>
        <p:spPr>
          <a:xfrm>
            <a:off x="6823080" y="3184560"/>
            <a:ext cx="2089080" cy="531720"/>
          </a:xfrm>
          <a:prstGeom prst="octagon">
            <a:avLst>
              <a:gd name="adj" fmla="val 29287"/>
            </a:avLst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ЕЛАНХОЛ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123" name="AutoShape 9"/>
          <p:cNvCxnSpPr>
            <a:stCxn id="1119" idx="2"/>
            <a:endCxn id="1124" idx="0"/>
          </p:cNvCxnSpPr>
          <p:nvPr/>
        </p:nvCxnSpPr>
        <p:spPr>
          <a:xfrm>
            <a:off x="5513040" y="2376360"/>
            <a:ext cx="1080" cy="1145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124" name="AutoShape 10"/>
          <p:cNvSpPr/>
          <p:nvPr/>
        </p:nvSpPr>
        <p:spPr>
          <a:xfrm>
            <a:off x="4557240" y="3521880"/>
            <a:ext cx="1911960" cy="9126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развлекатель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тарается всех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развесели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5" name="AutoShape 12"/>
          <p:cNvSpPr/>
          <p:nvPr/>
        </p:nvSpPr>
        <p:spPr>
          <a:xfrm>
            <a:off x="2560320" y="3523320"/>
            <a:ext cx="1732320" cy="9126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одчиняет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епреклонен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ласте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6" name="AutoShape 13"/>
          <p:cNvSpPr/>
          <p:nvPr/>
        </p:nvSpPr>
        <p:spPr>
          <a:xfrm>
            <a:off x="395280" y="4514760"/>
            <a:ext cx="1643040" cy="6433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покойный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озерцател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7" name="AutoShape 14"/>
          <p:cNvSpPr/>
          <p:nvPr/>
        </p:nvSpPr>
        <p:spPr>
          <a:xfrm>
            <a:off x="6991560" y="4365720"/>
            <a:ext cx="1749240" cy="6433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одопечный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беззащитны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128" name="AutoShape 15"/>
          <p:cNvCxnSpPr>
            <a:stCxn id="1120" idx="2"/>
            <a:endCxn id="1125" idx="0"/>
          </p:cNvCxnSpPr>
          <p:nvPr/>
        </p:nvCxnSpPr>
        <p:spPr>
          <a:xfrm>
            <a:off x="3425400" y="2413080"/>
            <a:ext cx="2520" cy="11102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129" name="AutoShape 16"/>
          <p:cNvCxnSpPr>
            <a:stCxn id="1121" idx="2"/>
            <a:endCxn id="1126" idx="0"/>
          </p:cNvCxnSpPr>
          <p:nvPr/>
        </p:nvCxnSpPr>
        <p:spPr>
          <a:xfrm flipH="1">
            <a:off x="1217160" y="3722760"/>
            <a:ext cx="7200" cy="7927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130" name="AutoShape 17"/>
          <p:cNvCxnSpPr>
            <a:stCxn id="1122" idx="2"/>
            <a:endCxn id="1127" idx="0"/>
          </p:cNvCxnSpPr>
          <p:nvPr/>
        </p:nvCxnSpPr>
        <p:spPr>
          <a:xfrm flipH="1">
            <a:off x="7865280" y="3716280"/>
            <a:ext cx="2520" cy="650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131" name="AutoShape 19">
            <a:hlinkClick r:id="rId1" action="ppaction://hlinksldjump"/>
          </p:cNvPr>
          <p:cNvSpPr/>
          <p:nvPr/>
        </p:nvSpPr>
        <p:spPr>
          <a:xfrm>
            <a:off x="0" y="0"/>
            <a:ext cx="1327320" cy="404640"/>
          </a:xfrm>
          <a:custGeom>
            <a:avLst/>
            <a:gdLst>
              <a:gd name="textAreaLeft" fmla="*/ 25920 w 1327320"/>
              <a:gd name="textAreaRight" fmla="*/ 1301400 w 13273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70810" h="21600">
                <a:moveTo>
                  <a:pt x="0" y="0"/>
                </a:moveTo>
                <a:lnTo>
                  <a:pt x="70810" y="0"/>
                </a:lnTo>
                <a:lnTo>
                  <a:pt x="70810" y="21600"/>
                </a:lnTo>
                <a:lnTo>
                  <a:pt x="0" y="21600"/>
                </a:lnTo>
                <a:close/>
              </a:path>
              <a:path fill="lightenLess" w="70810" h="21600">
                <a:moveTo>
                  <a:pt x="0" y="0"/>
                </a:moveTo>
                <a:lnTo>
                  <a:pt x="70810" y="0"/>
                </a:lnTo>
                <a:lnTo>
                  <a:pt x="69410" y="1400"/>
                </a:lnTo>
                <a:lnTo>
                  <a:pt x="1400" y="1400"/>
                </a:lnTo>
                <a:close/>
              </a:path>
              <a:path fill="darken" w="70810" h="21600">
                <a:moveTo>
                  <a:pt x="70810" y="0"/>
                </a:moveTo>
                <a:lnTo>
                  <a:pt x="70810" y="21600"/>
                </a:lnTo>
                <a:lnTo>
                  <a:pt x="69410" y="20200"/>
                </a:lnTo>
                <a:lnTo>
                  <a:pt x="69410" y="1400"/>
                </a:lnTo>
                <a:close/>
              </a:path>
              <a:path fill="darkenLess" w="70810" h="21600">
                <a:moveTo>
                  <a:pt x="70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410" y="20200"/>
                </a:lnTo>
                <a:close/>
              </a:path>
              <a:path fill="lighten" w="70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0810" h="21600">
                <a:moveTo>
                  <a:pt x="28398" y="10800"/>
                </a:moveTo>
                <a:lnTo>
                  <a:pt x="42411" y="3794"/>
                </a:lnTo>
                <a:lnTo>
                  <a:pt x="42411" y="17806"/>
                </a:lnTo>
                <a:close/>
              </a:path>
            </a:pathLst>
          </a:custGeom>
          <a:solidFill>
            <a:srgbClr val="6666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 начал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500"/>
                            </p:stCondLst>
                            <p:childTnLst>
                              <p:par>
                                <p:cTn id="67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4" dur="1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500"/>
                            </p:stCondLst>
                            <p:childTnLst>
                              <p:par>
                                <p:cTn id="6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3000"/>
                            </p:stCondLst>
                            <p:childTnLst>
                              <p:par>
                                <p:cTn id="6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500"/>
                            </p:stCondLst>
                            <p:childTnLst>
                              <p:par>
                                <p:cTn id="68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7" dur="1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4500"/>
                            </p:stCondLst>
                            <p:childTnLst>
                              <p:par>
                                <p:cTn id="6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000"/>
                            </p:stCondLst>
                            <p:childTnLst>
                              <p:par>
                                <p:cTn id="6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500"/>
                            </p:stCondLst>
                            <p:childTnLst>
                              <p:par>
                                <p:cTn id="69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0" dur="1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6500"/>
                            </p:stCondLst>
                            <p:childTnLst>
                              <p:par>
                                <p:cTn id="7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7000"/>
                            </p:stCondLst>
                            <p:childTnLst>
                              <p:par>
                                <p:cTn id="7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7500"/>
                            </p:stCondLst>
                            <p:childTnLst>
                              <p:par>
                                <p:cTn id="71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3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527c"/>
            </a:gs>
            <a:gs pos="100000">
              <a:srgbClr val="99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AutoShape 23"/>
          <p:cNvSpPr/>
          <p:nvPr/>
        </p:nvSpPr>
        <p:spPr>
          <a:xfrm rot="1148400">
            <a:off x="912960" y="2058840"/>
            <a:ext cx="231480" cy="1789200"/>
          </a:xfrm>
          <a:prstGeom prst="downArrow">
            <a:avLst>
              <a:gd name="adj1" fmla="val 50000"/>
              <a:gd name="adj2" fmla="val 193235"/>
            </a:avLst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3" name="AutoShape 24"/>
          <p:cNvSpPr/>
          <p:nvPr/>
        </p:nvSpPr>
        <p:spPr>
          <a:xfrm>
            <a:off x="3259080" y="3141720"/>
            <a:ext cx="319320" cy="1582560"/>
          </a:xfrm>
          <a:prstGeom prst="downArrow">
            <a:avLst>
              <a:gd name="adj1" fmla="val 50000"/>
              <a:gd name="adj2" fmla="val 123901"/>
            </a:avLst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4" name="AutoShape 25"/>
          <p:cNvSpPr/>
          <p:nvPr/>
        </p:nvSpPr>
        <p:spPr>
          <a:xfrm>
            <a:off x="5799240" y="3141720"/>
            <a:ext cx="288720" cy="1582560"/>
          </a:xfrm>
          <a:prstGeom prst="downArrow">
            <a:avLst>
              <a:gd name="adj1" fmla="val 50000"/>
              <a:gd name="adj2" fmla="val 137032"/>
            </a:avLst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5" name="AutoShape 26"/>
          <p:cNvSpPr/>
          <p:nvPr/>
        </p:nvSpPr>
        <p:spPr>
          <a:xfrm flipH="1" rot="20722800">
            <a:off x="7859880" y="2063880"/>
            <a:ext cx="277560" cy="1782360"/>
          </a:xfrm>
          <a:prstGeom prst="downArrow">
            <a:avLst>
              <a:gd name="adj1" fmla="val 50000"/>
              <a:gd name="adj2" fmla="val 160538"/>
            </a:avLst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амооценка в зависимости от темперамент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37" name="AutoShape 15"/>
          <p:cNvSpPr/>
          <p:nvPr/>
        </p:nvSpPr>
        <p:spPr>
          <a:xfrm>
            <a:off x="0" y="3646440"/>
            <a:ext cx="1662120" cy="14353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неустойчивая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повышенная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рассказывает об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успехах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у всех на вид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8" name="AutoShape 16"/>
          <p:cNvSpPr/>
          <p:nvPr/>
        </p:nvSpPr>
        <p:spPr>
          <a:xfrm>
            <a:off x="2455920" y="4535640"/>
            <a:ext cx="1606320" cy="14349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наивысшая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стремление к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первенству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соперн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9" name="AutoShape 17"/>
          <p:cNvSpPr/>
          <p:nvPr/>
        </p:nvSpPr>
        <p:spPr>
          <a:xfrm>
            <a:off x="5129280" y="4535640"/>
            <a:ext cx="1517760" cy="14349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заниже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скромен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не на вид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0" name="AutoShape 18"/>
          <p:cNvSpPr/>
          <p:nvPr/>
        </p:nvSpPr>
        <p:spPr>
          <a:xfrm>
            <a:off x="7464600" y="3646440"/>
            <a:ext cx="1461960" cy="14353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низкая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стеснителен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в групп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держится 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тен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Oval 19"/>
          <p:cNvSpPr/>
          <p:nvPr/>
        </p:nvSpPr>
        <p:spPr>
          <a:xfrm>
            <a:off x="457200" y="1628640"/>
            <a:ext cx="1606680" cy="6588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ангвин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2" name="Oval 20"/>
          <p:cNvSpPr/>
          <p:nvPr/>
        </p:nvSpPr>
        <p:spPr>
          <a:xfrm>
            <a:off x="2616120" y="2670120"/>
            <a:ext cx="1606680" cy="6588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холер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3" name="Oval 21"/>
          <p:cNvSpPr/>
          <p:nvPr/>
        </p:nvSpPr>
        <p:spPr>
          <a:xfrm>
            <a:off x="5040360" y="2670120"/>
            <a:ext cx="1606680" cy="6588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флегмат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4" name="Oval 22"/>
          <p:cNvSpPr/>
          <p:nvPr/>
        </p:nvSpPr>
        <p:spPr>
          <a:xfrm>
            <a:off x="7080120" y="1628640"/>
            <a:ext cx="1606680" cy="6588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еланхол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5" name="AutoShape 27">
            <a:hlinkClick r:id="rId1" action="ppaction://hlinksldjump"/>
          </p:cNvPr>
          <p:cNvSpPr/>
          <p:nvPr/>
        </p:nvSpPr>
        <p:spPr>
          <a:xfrm>
            <a:off x="0" y="0"/>
            <a:ext cx="1204920" cy="358920"/>
          </a:xfrm>
          <a:custGeom>
            <a:avLst/>
            <a:gdLst>
              <a:gd name="textAreaLeft" fmla="*/ 23040 w 1204920"/>
              <a:gd name="textAreaRight" fmla="*/ 1181880 w 12049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72462" h="21600">
                <a:moveTo>
                  <a:pt x="0" y="0"/>
                </a:moveTo>
                <a:lnTo>
                  <a:pt x="72462" y="0"/>
                </a:lnTo>
                <a:lnTo>
                  <a:pt x="72462" y="21600"/>
                </a:lnTo>
                <a:lnTo>
                  <a:pt x="0" y="21600"/>
                </a:lnTo>
                <a:close/>
              </a:path>
              <a:path fill="lightenLess" w="72462" h="21600">
                <a:moveTo>
                  <a:pt x="0" y="0"/>
                </a:moveTo>
                <a:lnTo>
                  <a:pt x="72462" y="0"/>
                </a:lnTo>
                <a:lnTo>
                  <a:pt x="71062" y="1400"/>
                </a:lnTo>
                <a:lnTo>
                  <a:pt x="1400" y="1400"/>
                </a:lnTo>
                <a:close/>
              </a:path>
              <a:path fill="darken" w="72462" h="21600">
                <a:moveTo>
                  <a:pt x="72462" y="0"/>
                </a:moveTo>
                <a:lnTo>
                  <a:pt x="72462" y="21600"/>
                </a:lnTo>
                <a:lnTo>
                  <a:pt x="71062" y="20200"/>
                </a:lnTo>
                <a:lnTo>
                  <a:pt x="71062" y="1400"/>
                </a:lnTo>
                <a:close/>
              </a:path>
              <a:path fill="darkenLess" w="72462" h="21600">
                <a:moveTo>
                  <a:pt x="72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062" y="20200"/>
                </a:lnTo>
                <a:close/>
              </a:path>
              <a:path fill="lighten" w="72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2462" h="21600">
                <a:moveTo>
                  <a:pt x="29224" y="10800"/>
                </a:moveTo>
                <a:lnTo>
                  <a:pt x="43237" y="3794"/>
                </a:lnTo>
                <a:lnTo>
                  <a:pt x="43237" y="17806"/>
                </a:lnTo>
                <a:close/>
              </a:path>
            </a:pathLst>
          </a:custGeom>
          <a:solidFill>
            <a:srgbClr val="66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 начал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500"/>
                            </p:stCondLst>
                            <p:childTnLst>
                              <p:par>
                                <p:cTn id="7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2000"/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3500"/>
                            </p:stCondLst>
                            <p:childTnLst>
                              <p:par>
                                <p:cTn id="7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4000"/>
                            </p:stCondLst>
                            <p:childTnLst>
                              <p:par>
                                <p:cTn id="7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8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8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8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8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0"/>
                            </p:stCondLst>
                            <p:childTnLst>
                              <p:par>
                                <p:cTn id="7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5500"/>
                            </p:stCondLst>
                            <p:childTnLst>
                              <p:par>
                                <p:cTn id="7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7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1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1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1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1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8000"/>
                            </p:stCondLst>
                            <p:childTnLst>
                              <p:par>
                                <p:cTn id="7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8500"/>
                            </p:stCondLst>
                            <p:childTnLst>
                              <p:par>
                                <p:cTn id="78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8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8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8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8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9500"/>
                            </p:stCondLst>
                            <p:childTnLst>
                              <p:par>
                                <p:cTn id="7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0500"/>
                            </p:stCondLst>
                            <p:childTnLst>
                              <p:par>
                                <p:cTn id="8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2000"/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2000" fill="hold"/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0" fill="hold"/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2500"/>
                            </p:stCondLst>
                            <p:childTnLst>
                              <p:par>
                                <p:cTn id="8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3000"/>
                            </p:stCondLst>
                            <p:childTnLst>
                              <p:par>
                                <p:cTn id="82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8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8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8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8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4000"/>
                            </p:stCondLst>
                            <p:childTnLst>
                              <p:par>
                                <p:cTn id="8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4500"/>
                            </p:stCondLst>
                            <p:childTnLst>
                              <p:par>
                                <p:cTn id="8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8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2000"/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2000" fill="hold"/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7000"/>
                            </p:stCondLst>
                            <p:childTnLst>
                              <p:par>
                                <p:cTn id="8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7500"/>
                            </p:stCondLst>
                            <p:childTnLst>
                              <p:par>
                                <p:cTn id="86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8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8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8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8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8500"/>
                            </p:stCondLst>
                            <p:childTnLst>
                              <p:par>
                                <p:cTn id="8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527c"/>
            </a:gs>
            <a:gs pos="100000">
              <a:srgbClr val="99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AutoShape 15"/>
          <p:cNvSpPr/>
          <p:nvPr/>
        </p:nvSpPr>
        <p:spPr>
          <a:xfrm rot="514200">
            <a:off x="3512880" y="1814040"/>
            <a:ext cx="253800" cy="2117880"/>
          </a:xfrm>
          <a:prstGeom prst="downArrow">
            <a:avLst>
              <a:gd name="adj1" fmla="val 50000"/>
              <a:gd name="adj2" fmla="val 208617"/>
            </a:avLst>
          </a:prstGeom>
          <a:solidFill>
            <a:srgbClr val="dfdef6"/>
          </a:solidFill>
          <a:ln w="9360">
            <a:solidFill>
              <a:srgbClr val="dfde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7" name="AutoShape 16"/>
          <p:cNvSpPr/>
          <p:nvPr/>
        </p:nvSpPr>
        <p:spPr>
          <a:xfrm rot="21017400">
            <a:off x="5292360" y="1815840"/>
            <a:ext cx="243000" cy="2116080"/>
          </a:xfrm>
          <a:prstGeom prst="downArrow">
            <a:avLst>
              <a:gd name="adj1" fmla="val 50000"/>
              <a:gd name="adj2" fmla="val 217704"/>
            </a:avLst>
          </a:prstGeom>
          <a:solidFill>
            <a:srgbClr val="dfdef6"/>
          </a:solidFill>
          <a:ln w="9360">
            <a:solidFill>
              <a:srgbClr val="dfde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8" name="AutoShape 17"/>
          <p:cNvSpPr/>
          <p:nvPr/>
        </p:nvSpPr>
        <p:spPr>
          <a:xfrm rot="19554000">
            <a:off x="7440480" y="2109960"/>
            <a:ext cx="247680" cy="2001600"/>
          </a:xfrm>
          <a:prstGeom prst="downArrow">
            <a:avLst>
              <a:gd name="adj1" fmla="val 50000"/>
              <a:gd name="adj2" fmla="val 202035"/>
            </a:avLst>
          </a:prstGeom>
          <a:solidFill>
            <a:srgbClr val="dfdef6"/>
          </a:solidFill>
          <a:ln w="9360">
            <a:solidFill>
              <a:srgbClr val="dfde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9" name="AutoShape 14"/>
          <p:cNvSpPr/>
          <p:nvPr/>
        </p:nvSpPr>
        <p:spPr>
          <a:xfrm rot="1543200">
            <a:off x="1345680" y="2068560"/>
            <a:ext cx="297000" cy="1863720"/>
          </a:xfrm>
          <a:prstGeom prst="downArrow">
            <a:avLst>
              <a:gd name="adj1" fmla="val 50000"/>
              <a:gd name="adj2" fmla="val 156879"/>
            </a:avLst>
          </a:prstGeom>
          <a:solidFill>
            <a:srgbClr val="dfdef6"/>
          </a:solidFill>
          <a:ln w="9360">
            <a:solidFill>
              <a:srgbClr val="dfde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веренность в зависимости от темперамент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51" name="Rectangle 10"/>
          <p:cNvSpPr/>
          <p:nvPr/>
        </p:nvSpPr>
        <p:spPr>
          <a:xfrm>
            <a:off x="1155600" y="1989000"/>
            <a:ext cx="1544760" cy="392400"/>
          </a:xfrm>
          <a:prstGeom prst="rect">
            <a:avLst/>
          </a:prstGeom>
          <a:solidFill>
            <a:srgbClr val="cc99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АНГВИНИ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2" name="Rectangle 11"/>
          <p:cNvSpPr/>
          <p:nvPr/>
        </p:nvSpPr>
        <p:spPr>
          <a:xfrm>
            <a:off x="3092400" y="1596960"/>
            <a:ext cx="1306440" cy="392040"/>
          </a:xfrm>
          <a:prstGeom prst="rect">
            <a:avLst/>
          </a:prstGeom>
          <a:solidFill>
            <a:srgbClr val="cc99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ХОЛЕРИ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3" name="Rectangle 12"/>
          <p:cNvSpPr/>
          <p:nvPr/>
        </p:nvSpPr>
        <p:spPr>
          <a:xfrm>
            <a:off x="4654440" y="1596960"/>
            <a:ext cx="1325520" cy="392040"/>
          </a:xfrm>
          <a:prstGeom prst="rect">
            <a:avLst/>
          </a:prstGeom>
          <a:solidFill>
            <a:srgbClr val="cc99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ФЛЕГМАТИ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4" name="Rectangle 13"/>
          <p:cNvSpPr/>
          <p:nvPr/>
        </p:nvSpPr>
        <p:spPr>
          <a:xfrm>
            <a:off x="6378480" y="1989000"/>
            <a:ext cx="1649520" cy="392400"/>
          </a:xfrm>
          <a:prstGeom prst="rect">
            <a:avLst/>
          </a:prstGeom>
          <a:solidFill>
            <a:srgbClr val="cc99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ЕЛАНХОЛИ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5" name="AutoShape 19"/>
          <p:cNvSpPr/>
          <p:nvPr/>
        </p:nvSpPr>
        <p:spPr>
          <a:xfrm>
            <a:off x="419040" y="3720960"/>
            <a:ext cx="1224000" cy="1559160"/>
          </a:xfrm>
          <a:prstGeom prst="foldedCorner">
            <a:avLst>
              <a:gd name="adj" fmla="val 25171"/>
            </a:avLst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b89"/>
                </a:solidFill>
                <a:latin typeface="Tahoma"/>
              </a:rPr>
              <a:t>надеется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b89"/>
                </a:solidFill>
                <a:latin typeface="Tahoma"/>
              </a:rPr>
              <a:t>на удач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6" name="AutoShape 20"/>
          <p:cNvSpPr/>
          <p:nvPr/>
        </p:nvSpPr>
        <p:spPr>
          <a:xfrm>
            <a:off x="2700360" y="3720960"/>
            <a:ext cx="1306440" cy="1559160"/>
          </a:xfrm>
          <a:prstGeom prst="foldedCorner">
            <a:avLst>
              <a:gd name="adj" fmla="val 20486"/>
            </a:avLst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b89"/>
                </a:solidFill>
                <a:latin typeface="Tahoma"/>
              </a:rPr>
              <a:t>самоуверен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b89"/>
                </a:solidFill>
                <a:latin typeface="Tahoma"/>
              </a:rPr>
              <a:t>скрывае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b89"/>
                </a:solidFill>
                <a:latin typeface="Tahoma"/>
              </a:rPr>
              <a:t>слабост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7" name="AutoShape 21"/>
          <p:cNvSpPr/>
          <p:nvPr/>
        </p:nvSpPr>
        <p:spPr>
          <a:xfrm>
            <a:off x="4869000" y="3720960"/>
            <a:ext cx="1331640" cy="1559160"/>
          </a:xfrm>
          <a:prstGeom prst="foldedCorner">
            <a:avLst>
              <a:gd name="adj" fmla="val 20486"/>
            </a:avLst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b89"/>
                </a:solidFill>
                <a:latin typeface="Tahoma"/>
              </a:rPr>
              <a:t>не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b89"/>
                </a:solidFill>
                <a:latin typeface="Tahoma"/>
              </a:rPr>
              <a:t>самоуверен-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b89"/>
                </a:solidFill>
                <a:latin typeface="Tahoma"/>
              </a:rPr>
              <a:t>ности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b89"/>
                </a:solidFill>
                <a:latin typeface="Tahoma"/>
              </a:rPr>
              <a:t>переживае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b89"/>
                </a:solidFill>
                <a:latin typeface="Tahoma"/>
              </a:rPr>
              <a:t>за себя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b89"/>
                </a:solidFill>
                <a:latin typeface="Tahoma"/>
              </a:rPr>
              <a:t>не унывае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8" name="AutoShape 23"/>
          <p:cNvSpPr/>
          <p:nvPr/>
        </p:nvSpPr>
        <p:spPr>
          <a:xfrm>
            <a:off x="7054920" y="3697200"/>
            <a:ext cx="1289160" cy="1582920"/>
          </a:xfrm>
          <a:prstGeom prst="foldedCorner">
            <a:avLst>
              <a:gd name="adj" fmla="val 20486"/>
            </a:avLst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b89"/>
                </a:solidFill>
                <a:latin typeface="Tahoma"/>
              </a:rPr>
              <a:t>Неуверен 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b89"/>
                </a:solidFill>
                <a:latin typeface="Tahoma"/>
              </a:rPr>
              <a:t>себе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b89"/>
                </a:solidFill>
                <a:latin typeface="Tahoma"/>
              </a:rPr>
              <a:t>преувели-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b89"/>
                </a:solidFill>
                <a:latin typeface="Tahoma"/>
              </a:rPr>
              <a:t>чивае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b89"/>
                </a:solidFill>
                <a:latin typeface="Tahoma"/>
              </a:rPr>
              <a:t>недостатки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b89"/>
                </a:solidFill>
                <a:latin typeface="Tahoma"/>
              </a:rPr>
              <a:t>не верит 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b89"/>
                </a:solidFill>
                <a:latin typeface="Tahoma"/>
              </a:rPr>
              <a:t>удач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9" name="AutoShape 25">
            <a:hlinkClick r:id="rId1" action="ppaction://hlinksldjump"/>
          </p:cNvPr>
          <p:cNvSpPr/>
          <p:nvPr/>
        </p:nvSpPr>
        <p:spPr>
          <a:xfrm>
            <a:off x="0" y="0"/>
            <a:ext cx="1297080" cy="457200"/>
          </a:xfrm>
          <a:custGeom>
            <a:avLst/>
            <a:gdLst>
              <a:gd name="textAreaLeft" fmla="*/ 29520 w 1297080"/>
              <a:gd name="textAreaRight" fmla="*/ 1267560 w 1297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248" h="21600">
                <a:moveTo>
                  <a:pt x="0" y="0"/>
                </a:moveTo>
                <a:lnTo>
                  <a:pt x="61248" y="0"/>
                </a:lnTo>
                <a:lnTo>
                  <a:pt x="61248" y="21600"/>
                </a:lnTo>
                <a:lnTo>
                  <a:pt x="0" y="21600"/>
                </a:lnTo>
                <a:close/>
              </a:path>
              <a:path fill="lightenLess" w="61248" h="21600">
                <a:moveTo>
                  <a:pt x="0" y="0"/>
                </a:moveTo>
                <a:lnTo>
                  <a:pt x="61248" y="0"/>
                </a:lnTo>
                <a:lnTo>
                  <a:pt x="59848" y="1400"/>
                </a:lnTo>
                <a:lnTo>
                  <a:pt x="1400" y="1400"/>
                </a:lnTo>
                <a:close/>
              </a:path>
              <a:path fill="darken" w="61248" h="21600">
                <a:moveTo>
                  <a:pt x="61248" y="0"/>
                </a:moveTo>
                <a:lnTo>
                  <a:pt x="61248" y="21600"/>
                </a:lnTo>
                <a:lnTo>
                  <a:pt x="59848" y="20200"/>
                </a:lnTo>
                <a:lnTo>
                  <a:pt x="59848" y="1400"/>
                </a:lnTo>
                <a:close/>
              </a:path>
              <a:path fill="darkenLess" w="61248" h="21600">
                <a:moveTo>
                  <a:pt x="61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48" y="20200"/>
                </a:lnTo>
                <a:close/>
              </a:path>
              <a:path fill="lighten" w="61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248" h="21600">
                <a:moveTo>
                  <a:pt x="23618" y="10800"/>
                </a:moveTo>
                <a:lnTo>
                  <a:pt x="37631" y="3794"/>
                </a:lnTo>
                <a:lnTo>
                  <a:pt x="37631" y="17806"/>
                </a:lnTo>
                <a:close/>
              </a:path>
            </a:pathLst>
          </a:custGeom>
          <a:solidFill>
            <a:srgbClr val="6666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 начал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0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1000"/>
                            </p:stCondLst>
                            <p:childTnLst>
                              <p:par>
                                <p:cTn id="9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0" dur="1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3000"/>
                            </p:stCondLst>
                            <p:childTnLst>
                              <p:par>
                                <p:cTn id="9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4000"/>
                            </p:stCondLst>
                            <p:childTnLst>
                              <p:par>
                                <p:cTn id="9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10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5000"/>
                            </p:stCondLst>
                            <p:childTnLst>
                              <p:par>
                                <p:cTn id="92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7000"/>
                            </p:stCondLst>
                            <p:childTnLst>
                              <p:par>
                                <p:cTn id="9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1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8000"/>
                            </p:stCondLst>
                            <p:childTnLst>
                              <p:par>
                                <p:cTn id="9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6" dur="1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9000"/>
                            </p:stCondLst>
                            <p:childTnLst>
                              <p:par>
                                <p:cTn id="9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9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1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527c"/>
            </a:gs>
            <a:gs pos="100000">
              <a:srgbClr val="99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ружба и любовь в зависимости от темперамента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61" name="AutoShape 5"/>
          <p:cNvSpPr/>
          <p:nvPr/>
        </p:nvSpPr>
        <p:spPr>
          <a:xfrm rot="4122000">
            <a:off x="6840360" y="2283840"/>
            <a:ext cx="1353960" cy="287280"/>
          </a:xfrm>
          <a:prstGeom prst="rightArrow">
            <a:avLst>
              <a:gd name="adj1" fmla="val 50000"/>
              <a:gd name="adj2" fmla="val 117826"/>
            </a:avLst>
          </a:prstGeom>
          <a:solidFill>
            <a:srgbClr val="ff99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2" name="AutoShape 6"/>
          <p:cNvSpPr/>
          <p:nvPr/>
        </p:nvSpPr>
        <p:spPr>
          <a:xfrm rot="3934800">
            <a:off x="4789080" y="2854080"/>
            <a:ext cx="1776240" cy="243000"/>
          </a:xfrm>
          <a:prstGeom prst="rightArrow">
            <a:avLst>
              <a:gd name="adj1" fmla="val 50000"/>
              <a:gd name="adj2" fmla="val 182741"/>
            </a:avLst>
          </a:prstGeom>
          <a:solidFill>
            <a:srgbClr val="ff99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3" name="AutoShape 7"/>
          <p:cNvSpPr/>
          <p:nvPr/>
        </p:nvSpPr>
        <p:spPr>
          <a:xfrm rot="17588400">
            <a:off x="784440" y="2388600"/>
            <a:ext cx="2060280" cy="231840"/>
          </a:xfrm>
          <a:prstGeom prst="leftArrow">
            <a:avLst>
              <a:gd name="adj1" fmla="val 50000"/>
              <a:gd name="adj2" fmla="val 222166"/>
            </a:avLst>
          </a:prstGeom>
          <a:solidFill>
            <a:srgbClr val="ff99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4" name="AutoShape 8"/>
          <p:cNvSpPr/>
          <p:nvPr/>
        </p:nvSpPr>
        <p:spPr>
          <a:xfrm rot="17359200">
            <a:off x="2733480" y="2833200"/>
            <a:ext cx="1800360" cy="285840"/>
          </a:xfrm>
          <a:prstGeom prst="leftArrow">
            <a:avLst>
              <a:gd name="adj1" fmla="val 50000"/>
              <a:gd name="adj2" fmla="val 157462"/>
            </a:avLst>
          </a:prstGeom>
          <a:solidFill>
            <a:srgbClr val="ff99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5" name="Rectangle 26"/>
          <p:cNvSpPr/>
          <p:nvPr/>
        </p:nvSpPr>
        <p:spPr>
          <a:xfrm>
            <a:off x="4689360" y="2060640"/>
            <a:ext cx="146700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ФЛЕГМАТИ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6" name="Rectangle 27"/>
          <p:cNvSpPr/>
          <p:nvPr/>
        </p:nvSpPr>
        <p:spPr>
          <a:xfrm>
            <a:off x="3013200" y="2060640"/>
            <a:ext cx="13460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ХОЛЕРИ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7" name="Rectangle 28"/>
          <p:cNvSpPr/>
          <p:nvPr/>
        </p:nvSpPr>
        <p:spPr>
          <a:xfrm>
            <a:off x="6670800" y="1484280"/>
            <a:ext cx="157320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МЕЛАНХОЛИ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8" name="Rectangle 29"/>
          <p:cNvSpPr/>
          <p:nvPr/>
        </p:nvSpPr>
        <p:spPr>
          <a:xfrm>
            <a:off x="1247760" y="1484280"/>
            <a:ext cx="144612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САНГВИНИ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9" name="AutoShape 32"/>
          <p:cNvSpPr/>
          <p:nvPr/>
        </p:nvSpPr>
        <p:spPr>
          <a:xfrm>
            <a:off x="2616120" y="3649680"/>
            <a:ext cx="1770120" cy="171288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ahoma"/>
              </a:rPr>
              <a:t>дружит с немногими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ahoma"/>
              </a:rPr>
              <a:t>другом командует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ahoma"/>
              </a:rPr>
              <a:t>сильно привязан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ahoma"/>
              </a:rPr>
              <a:t>склонен к гневу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ahoma"/>
              </a:rPr>
              <a:t>ревности, к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ahoma"/>
              </a:rPr>
              <a:t>разрыву из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ahoma"/>
              </a:rPr>
              <a:t>склон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0" name="AutoShape 34"/>
          <p:cNvSpPr/>
          <p:nvPr/>
        </p:nvSpPr>
        <p:spPr>
          <a:xfrm>
            <a:off x="457200" y="3105000"/>
            <a:ext cx="1560600" cy="1713240"/>
          </a:xfrm>
          <a:custGeom>
            <a:avLst/>
            <a:gdLst>
              <a:gd name="textAreaLeft" fmla="*/ 75960 w 1560600"/>
              <a:gd name="textAreaRight" fmla="*/ 1484640 w 1560600"/>
              <a:gd name="textAreaTop" fmla="*/ 75960 h 1713240"/>
              <a:gd name="textAreaBottom" fmla="*/ 1637280 h 1713240"/>
            </a:gdLst>
            <a:ahLst/>
            <a:rect l="textAreaLeft" t="textAreaTop" r="textAreaRight" b="textAreaBottom"/>
            <a:pathLst>
              <a:path w="21600" h="23712">
                <a:moveTo>
                  <a:pt x="3600" y="0"/>
                </a:moveTo>
                <a:arcTo wR="3600" hR="3600" stAng="16200000" swAng="-5400000"/>
                <a:lnTo>
                  <a:pt x="0" y="20112"/>
                </a:lnTo>
                <a:arcTo wR="3600" hR="3600" stAng="10800000" swAng="-5400000"/>
                <a:lnTo>
                  <a:pt x="18000" y="237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ahoma"/>
              </a:rPr>
              <a:t>переживае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ahoma"/>
              </a:rPr>
              <a:t>симпатии легко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ahoma"/>
              </a:rPr>
              <a:t>ярко и весел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1" name="AutoShape 35"/>
          <p:cNvSpPr/>
          <p:nvPr/>
        </p:nvSpPr>
        <p:spPr>
          <a:xfrm>
            <a:off x="5187960" y="3586320"/>
            <a:ext cx="1689120" cy="1712880"/>
          </a:xfrm>
          <a:custGeom>
            <a:avLst/>
            <a:gdLst>
              <a:gd name="textAreaLeft" fmla="*/ 82440 w 1689120"/>
              <a:gd name="textAreaRight" fmla="*/ 1606680 w 1689120"/>
              <a:gd name="textAreaTop" fmla="*/ 82440 h 1712880"/>
              <a:gd name="textAreaBottom" fmla="*/ 1630440 h 1712880"/>
            </a:gdLst>
            <a:ahLst/>
            <a:rect l="textAreaLeft" t="textAreaTop" r="textAreaRight" b="textAreaBottom"/>
            <a:pathLst>
              <a:path w="21600" h="21904">
                <a:moveTo>
                  <a:pt x="3600" y="0"/>
                </a:moveTo>
                <a:arcTo wR="3600" hR="3600" stAng="16200000" swAng="-5400000"/>
                <a:lnTo>
                  <a:pt x="0" y="18304"/>
                </a:lnTo>
                <a:arcTo wR="3600" hR="3600" stAng="10800000" swAng="-5400000"/>
                <a:lnTo>
                  <a:pt x="18000" y="219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ahoma"/>
              </a:rPr>
              <a:t>не склонен к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ahoma"/>
              </a:rPr>
              <a:t>выражению ярких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ahoma"/>
              </a:rPr>
              <a:t>чувств, спокойно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ahoma"/>
              </a:rPr>
              <a:t>отношение к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ahoma"/>
              </a:rPr>
              <a:t>партнеру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ahoma"/>
              </a:rPr>
              <a:t>влюбчив, спокойна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ahoma"/>
              </a:rPr>
              <a:t>привязан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2" name="AutoShape 36"/>
          <p:cNvSpPr/>
          <p:nvPr/>
        </p:nvSpPr>
        <p:spPr>
          <a:xfrm>
            <a:off x="7156440" y="2979720"/>
            <a:ext cx="1530360" cy="1712880"/>
          </a:xfrm>
          <a:custGeom>
            <a:avLst/>
            <a:gdLst>
              <a:gd name="textAreaLeft" fmla="*/ 74520 w 1530360"/>
              <a:gd name="textAreaRight" fmla="*/ 1455840 w 1530360"/>
              <a:gd name="textAreaTop" fmla="*/ 74520 h 1712880"/>
              <a:gd name="textAreaBottom" fmla="*/ 1638360 h 1712880"/>
            </a:gdLst>
            <a:ahLst/>
            <a:rect l="textAreaLeft" t="textAreaTop" r="textAreaRight" b="textAreaBottom"/>
            <a:pathLst>
              <a:path w="21600" h="24176">
                <a:moveTo>
                  <a:pt x="3600" y="0"/>
                </a:moveTo>
                <a:arcTo wR="3600" hR="3600" stAng="16200000" swAng="-5400000"/>
                <a:lnTo>
                  <a:pt x="0" y="20576"/>
                </a:lnTo>
                <a:arcTo wR="3600" hR="3600" stAng="10800000" swAng="-5400000"/>
                <a:lnTo>
                  <a:pt x="18000" y="241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ahoma"/>
              </a:rPr>
              <a:t>преданность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ahoma"/>
              </a:rPr>
              <a:t>подчиняется паре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ahoma"/>
              </a:rPr>
              <a:t>стыдитс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ahoma"/>
              </a:rPr>
              <a:t>открыва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ahoma"/>
              </a:rPr>
              <a:t>свои чувства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ahoma"/>
              </a:rPr>
              <a:t>однолюб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3" name="Picture 38" descr="PE02270_"/>
          <p:cNvPicPr/>
          <p:nvPr/>
        </p:nvPicPr>
        <p:blipFill>
          <a:blip r:embed="rId1"/>
          <a:stretch/>
        </p:blipFill>
        <p:spPr>
          <a:xfrm flipH="1">
            <a:off x="8069040" y="4443480"/>
            <a:ext cx="1074600" cy="1305000"/>
          </a:xfrm>
          <a:prstGeom prst="rect">
            <a:avLst/>
          </a:prstGeom>
          <a:ln w="0">
            <a:noFill/>
          </a:ln>
        </p:spPr>
      </p:pic>
      <p:pic>
        <p:nvPicPr>
          <p:cNvPr id="1174" name="Picture 39" descr="SO01236_"/>
          <p:cNvPicPr/>
          <p:nvPr/>
        </p:nvPicPr>
        <p:blipFill>
          <a:blip r:embed="rId2"/>
          <a:stretch/>
        </p:blipFill>
        <p:spPr>
          <a:xfrm flipH="1">
            <a:off x="1722240" y="5002200"/>
            <a:ext cx="1290600" cy="1387440"/>
          </a:xfrm>
          <a:prstGeom prst="rect">
            <a:avLst/>
          </a:prstGeom>
          <a:ln w="0">
            <a:noFill/>
          </a:ln>
        </p:spPr>
      </p:pic>
      <p:pic>
        <p:nvPicPr>
          <p:cNvPr id="1175" name="Picture 40" descr="Копия PE00489_"/>
          <p:cNvPicPr/>
          <p:nvPr/>
        </p:nvPicPr>
        <p:blipFill>
          <a:blip r:embed="rId3"/>
          <a:stretch/>
        </p:blipFill>
        <p:spPr>
          <a:xfrm flipH="1">
            <a:off x="0" y="4095720"/>
            <a:ext cx="1440000" cy="1374840"/>
          </a:xfrm>
          <a:prstGeom prst="rect">
            <a:avLst/>
          </a:prstGeom>
          <a:ln w="0">
            <a:noFill/>
          </a:ln>
        </p:spPr>
      </p:pic>
      <p:grpSp>
        <p:nvGrpSpPr>
          <p:cNvPr id="1176" name="Group 47"/>
          <p:cNvGrpSpPr/>
          <p:nvPr/>
        </p:nvGrpSpPr>
        <p:grpSpPr>
          <a:xfrm>
            <a:off x="5987880" y="4944960"/>
            <a:ext cx="1349640" cy="1427400"/>
            <a:chOff x="5987880" y="4944960"/>
            <a:chExt cx="1349640" cy="1427400"/>
          </a:xfrm>
        </p:grpSpPr>
        <p:sp>
          <p:nvSpPr>
            <p:cNvPr id="1177" name="AutoShape 46"/>
            <p:cNvSpPr/>
            <p:nvPr/>
          </p:nvSpPr>
          <p:spPr>
            <a:xfrm>
              <a:off x="5987880" y="4944960"/>
              <a:ext cx="1349640" cy="14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8" name="Freeform 48"/>
            <p:cNvSpPr/>
            <p:nvPr/>
          </p:nvSpPr>
          <p:spPr>
            <a:xfrm>
              <a:off x="6543360" y="5784120"/>
              <a:ext cx="105840" cy="387720"/>
            </a:xfrm>
            <a:prstGeom prst="pie">
              <a:avLst/>
            </a:prstGeom>
            <a:solidFill>
              <a:srgbClr val="ff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9" name="Freeform 49"/>
            <p:cNvSpPr/>
            <p:nvPr/>
          </p:nvSpPr>
          <p:spPr>
            <a:xfrm>
              <a:off x="6630480" y="5495040"/>
              <a:ext cx="654840" cy="748800"/>
            </a:xfrm>
            <a:prstGeom prst="pie">
              <a:avLst/>
            </a:prstGeom>
            <a:solidFill>
              <a:srgbClr val="3f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0" name="Freeform 50"/>
            <p:cNvSpPr/>
            <p:nvPr/>
          </p:nvSpPr>
          <p:spPr>
            <a:xfrm>
              <a:off x="6054480" y="5597640"/>
              <a:ext cx="410400" cy="659160"/>
            </a:xfrm>
            <a:prstGeom prst="pie">
              <a:avLst/>
            </a:prstGeom>
            <a:solidFill>
              <a:srgbClr val="ff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1" name="Freeform 51"/>
            <p:cNvSpPr/>
            <p:nvPr/>
          </p:nvSpPr>
          <p:spPr>
            <a:xfrm>
              <a:off x="6080040" y="5188320"/>
              <a:ext cx="485640" cy="40248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2" name="Freeform 52"/>
            <p:cNvSpPr/>
            <p:nvPr/>
          </p:nvSpPr>
          <p:spPr>
            <a:xfrm>
              <a:off x="6219000" y="5250960"/>
              <a:ext cx="303840" cy="416160"/>
            </a:xfrm>
            <a:prstGeom prst="pie">
              <a:avLst/>
            </a:prstGeom>
            <a:solidFill>
              <a:srgbClr val="ffa5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3" name="Freeform 53"/>
            <p:cNvSpPr/>
            <p:nvPr/>
          </p:nvSpPr>
          <p:spPr>
            <a:xfrm>
              <a:off x="6495840" y="4947840"/>
              <a:ext cx="166320" cy="246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4" name="Freeform 54"/>
            <p:cNvSpPr/>
            <p:nvPr/>
          </p:nvSpPr>
          <p:spPr>
            <a:xfrm>
              <a:off x="6654600" y="4959720"/>
              <a:ext cx="99360" cy="169200"/>
            </a:xfrm>
            <a:prstGeom prst="pie">
              <a:avLst/>
            </a:prstGeom>
            <a:solidFill>
              <a:srgbClr val="3f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5" name="Freeform 55"/>
            <p:cNvSpPr/>
            <p:nvPr/>
          </p:nvSpPr>
          <p:spPr>
            <a:xfrm>
              <a:off x="6374880" y="4988160"/>
              <a:ext cx="192600" cy="1915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6" name="Freeform 56"/>
            <p:cNvSpPr/>
            <p:nvPr/>
          </p:nvSpPr>
          <p:spPr>
            <a:xfrm>
              <a:off x="6916320" y="5032800"/>
              <a:ext cx="130320" cy="813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7" name="Freeform 57"/>
            <p:cNvSpPr/>
            <p:nvPr/>
          </p:nvSpPr>
          <p:spPr>
            <a:xfrm>
              <a:off x="6276240" y="5048640"/>
              <a:ext cx="168480" cy="120600"/>
            </a:xfrm>
            <a:prstGeom prst="pie">
              <a:avLst/>
            </a:prstGeom>
            <a:solidFill>
              <a:srgbClr val="3f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8" name="Freeform 58"/>
            <p:cNvSpPr/>
            <p:nvPr/>
          </p:nvSpPr>
          <p:spPr>
            <a:xfrm>
              <a:off x="6759720" y="5052960"/>
              <a:ext cx="153360" cy="158760"/>
            </a:xfrm>
            <a:prstGeom prst="pie">
              <a:avLst/>
            </a:prstGeom>
            <a:solidFill>
              <a:srgbClr val="3f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9" name="Freeform 59"/>
            <p:cNvSpPr/>
            <p:nvPr/>
          </p:nvSpPr>
          <p:spPr>
            <a:xfrm>
              <a:off x="6947280" y="5118480"/>
              <a:ext cx="144000" cy="280800"/>
            </a:xfrm>
            <a:prstGeom prst="pie">
              <a:avLst/>
            </a:pr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0" name="Freeform 60"/>
            <p:cNvSpPr/>
            <p:nvPr/>
          </p:nvSpPr>
          <p:spPr>
            <a:xfrm>
              <a:off x="6008040" y="5122800"/>
              <a:ext cx="227880" cy="279720"/>
            </a:xfrm>
            <a:prstGeom prst="pie">
              <a:avLst/>
            </a:pr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1" name="Freeform 61"/>
            <p:cNvSpPr/>
            <p:nvPr/>
          </p:nvSpPr>
          <p:spPr>
            <a:xfrm>
              <a:off x="6335640" y="5124960"/>
              <a:ext cx="1001520" cy="122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2" name="Freeform 62"/>
            <p:cNvSpPr/>
            <p:nvPr/>
          </p:nvSpPr>
          <p:spPr>
            <a:xfrm>
              <a:off x="6620760" y="5147280"/>
              <a:ext cx="175680" cy="80280"/>
            </a:xfrm>
            <a:prstGeom prst="pie">
              <a:avLst/>
            </a:pr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3" name="Freeform 63"/>
            <p:cNvSpPr/>
            <p:nvPr/>
          </p:nvSpPr>
          <p:spPr>
            <a:xfrm>
              <a:off x="6714000" y="5171760"/>
              <a:ext cx="31680" cy="39960"/>
            </a:xfrm>
            <a:prstGeom prst="pie">
              <a:avLst/>
            </a:pr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4" name="Freeform 64"/>
            <p:cNvSpPr/>
            <p:nvPr/>
          </p:nvSpPr>
          <p:spPr>
            <a:xfrm>
              <a:off x="6107760" y="5172480"/>
              <a:ext cx="465120" cy="44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5" name="Freeform 65"/>
            <p:cNvSpPr/>
            <p:nvPr/>
          </p:nvSpPr>
          <p:spPr>
            <a:xfrm>
              <a:off x="7101000" y="5182200"/>
              <a:ext cx="76320" cy="152280"/>
            </a:xfrm>
            <a:prstGeom prst="pie">
              <a:avLst/>
            </a:prstGeom>
            <a:solidFill>
              <a:srgbClr val="7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6" name="Freeform 66"/>
            <p:cNvSpPr/>
            <p:nvPr/>
          </p:nvSpPr>
          <p:spPr>
            <a:xfrm>
              <a:off x="6808320" y="5199120"/>
              <a:ext cx="47520" cy="51840"/>
            </a:xfrm>
            <a:prstGeom prst="pie">
              <a:avLst/>
            </a:pr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7" name="Freeform 67"/>
            <p:cNvSpPr/>
            <p:nvPr/>
          </p:nvSpPr>
          <p:spPr>
            <a:xfrm>
              <a:off x="6624000" y="5201280"/>
              <a:ext cx="284040" cy="317880"/>
            </a:xfrm>
            <a:prstGeom prst="pie">
              <a:avLst/>
            </a:prstGeom>
            <a:solidFill>
              <a:srgbClr val="ffa5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8" name="Freeform 68"/>
            <p:cNvSpPr/>
            <p:nvPr/>
          </p:nvSpPr>
          <p:spPr>
            <a:xfrm>
              <a:off x="6263640" y="5245560"/>
              <a:ext cx="183240" cy="6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9" name="Freeform 69"/>
            <p:cNvSpPr/>
            <p:nvPr/>
          </p:nvSpPr>
          <p:spPr>
            <a:xfrm>
              <a:off x="6698160" y="5285880"/>
              <a:ext cx="8136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0" name="Freeform 70"/>
            <p:cNvSpPr/>
            <p:nvPr/>
          </p:nvSpPr>
          <p:spPr>
            <a:xfrm>
              <a:off x="6709680" y="5309280"/>
              <a:ext cx="56160" cy="3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1" name="Freeform 71"/>
            <p:cNvSpPr/>
            <p:nvPr/>
          </p:nvSpPr>
          <p:spPr>
            <a:xfrm>
              <a:off x="6359760" y="5310360"/>
              <a:ext cx="80280" cy="4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2" name="Freeform 72"/>
            <p:cNvSpPr/>
            <p:nvPr/>
          </p:nvSpPr>
          <p:spPr>
            <a:xfrm>
              <a:off x="6797880" y="5312520"/>
              <a:ext cx="26640" cy="6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3" name="Freeform 73"/>
            <p:cNvSpPr/>
            <p:nvPr/>
          </p:nvSpPr>
          <p:spPr>
            <a:xfrm>
              <a:off x="6352560" y="5329440"/>
              <a:ext cx="81720" cy="4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4" name="Freeform 74"/>
            <p:cNvSpPr/>
            <p:nvPr/>
          </p:nvSpPr>
          <p:spPr>
            <a:xfrm>
              <a:off x="6015240" y="5331600"/>
              <a:ext cx="366840" cy="39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5" name="Freeform 75"/>
            <p:cNvSpPr/>
            <p:nvPr/>
          </p:nvSpPr>
          <p:spPr>
            <a:xfrm>
              <a:off x="6288840" y="5343120"/>
              <a:ext cx="36000" cy="50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6" name="Freeform 76"/>
            <p:cNvSpPr/>
            <p:nvPr/>
          </p:nvSpPr>
          <p:spPr>
            <a:xfrm>
              <a:off x="7057440" y="5344200"/>
              <a:ext cx="195840" cy="110160"/>
            </a:xfrm>
            <a:prstGeom prst="pie">
              <a:avLst/>
            </a:prstGeom>
            <a:solidFill>
              <a:srgbClr val="3f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7" name="Freeform 77"/>
            <p:cNvSpPr/>
            <p:nvPr/>
          </p:nvSpPr>
          <p:spPr>
            <a:xfrm>
              <a:off x="6463800" y="5351760"/>
              <a:ext cx="43200" cy="26640"/>
            </a:xfrm>
            <a:prstGeom prst="pie">
              <a:avLst/>
            </a:prstGeom>
            <a:solidFill>
              <a:srgbClr val="ffa5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8" name="Freeform 78"/>
            <p:cNvSpPr/>
            <p:nvPr/>
          </p:nvSpPr>
          <p:spPr>
            <a:xfrm>
              <a:off x="6708600" y="5405760"/>
              <a:ext cx="66600" cy="3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9" name="Freeform 79"/>
            <p:cNvSpPr/>
            <p:nvPr/>
          </p:nvSpPr>
          <p:spPr>
            <a:xfrm>
              <a:off x="5987880" y="5419800"/>
              <a:ext cx="130320" cy="52560"/>
            </a:xfrm>
            <a:prstGeom prst="pie">
              <a:avLst/>
            </a:prstGeom>
            <a:solidFill>
              <a:srgbClr val="3f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0" name="Freeform 80"/>
            <p:cNvSpPr/>
            <p:nvPr/>
          </p:nvSpPr>
          <p:spPr>
            <a:xfrm>
              <a:off x="6369480" y="5432040"/>
              <a:ext cx="67680" cy="316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1" name="Freeform 81"/>
            <p:cNvSpPr/>
            <p:nvPr/>
          </p:nvSpPr>
          <p:spPr>
            <a:xfrm>
              <a:off x="6820200" y="5442840"/>
              <a:ext cx="127080" cy="19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2" name="Freeform 82"/>
            <p:cNvSpPr/>
            <p:nvPr/>
          </p:nvSpPr>
          <p:spPr>
            <a:xfrm>
              <a:off x="6491520" y="5482080"/>
              <a:ext cx="80280" cy="982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3" name="Freeform 83"/>
            <p:cNvSpPr/>
            <p:nvPr/>
          </p:nvSpPr>
          <p:spPr>
            <a:xfrm>
              <a:off x="6999120" y="5507640"/>
              <a:ext cx="85680" cy="33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4" name="Freeform 84"/>
            <p:cNvSpPr/>
            <p:nvPr/>
          </p:nvSpPr>
          <p:spPr>
            <a:xfrm>
              <a:off x="6754320" y="5522400"/>
              <a:ext cx="43200" cy="74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5" name="Freeform 85"/>
            <p:cNvSpPr/>
            <p:nvPr/>
          </p:nvSpPr>
          <p:spPr>
            <a:xfrm>
              <a:off x="6757560" y="5556240"/>
              <a:ext cx="208440" cy="352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6" name="Freeform 86"/>
            <p:cNvSpPr/>
            <p:nvPr/>
          </p:nvSpPr>
          <p:spPr>
            <a:xfrm>
              <a:off x="6595200" y="5557320"/>
              <a:ext cx="44280" cy="168120"/>
            </a:xfrm>
            <a:prstGeom prst="pie">
              <a:avLst/>
            </a:prstGeom>
            <a:solidFill>
              <a:srgbClr val="3f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7" name="Freeform 87"/>
            <p:cNvSpPr/>
            <p:nvPr/>
          </p:nvSpPr>
          <p:spPr>
            <a:xfrm>
              <a:off x="6486120" y="5559480"/>
              <a:ext cx="56880" cy="338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8" name="Freeform 88"/>
            <p:cNvSpPr/>
            <p:nvPr/>
          </p:nvSpPr>
          <p:spPr>
            <a:xfrm>
              <a:off x="7071480" y="5579640"/>
              <a:ext cx="87840" cy="365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9" name="Freeform 89"/>
            <p:cNvSpPr/>
            <p:nvPr/>
          </p:nvSpPr>
          <p:spPr>
            <a:xfrm>
              <a:off x="6800040" y="5626080"/>
              <a:ext cx="18720" cy="26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0" name="Freeform 90"/>
            <p:cNvSpPr/>
            <p:nvPr/>
          </p:nvSpPr>
          <p:spPr>
            <a:xfrm>
              <a:off x="6457320" y="5643000"/>
              <a:ext cx="114120" cy="129240"/>
            </a:xfrm>
            <a:prstGeom prst="pie">
              <a:avLst/>
            </a:prstGeom>
            <a:solidFill>
              <a:srgbClr val="3f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1" name="Freeform 91"/>
            <p:cNvSpPr/>
            <p:nvPr/>
          </p:nvSpPr>
          <p:spPr>
            <a:xfrm>
              <a:off x="6304680" y="5681520"/>
              <a:ext cx="9720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2" name="Freeform 92"/>
            <p:cNvSpPr/>
            <p:nvPr/>
          </p:nvSpPr>
          <p:spPr>
            <a:xfrm>
              <a:off x="6040800" y="5707800"/>
              <a:ext cx="386640" cy="606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3" name="Freeform 93"/>
            <p:cNvSpPr/>
            <p:nvPr/>
          </p:nvSpPr>
          <p:spPr>
            <a:xfrm>
              <a:off x="6676920" y="5713920"/>
              <a:ext cx="140760" cy="22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4" name="Freeform 94"/>
            <p:cNvSpPr/>
            <p:nvPr/>
          </p:nvSpPr>
          <p:spPr>
            <a:xfrm>
              <a:off x="6816960" y="5730120"/>
              <a:ext cx="20880" cy="2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5" name="Freeform 95"/>
            <p:cNvSpPr/>
            <p:nvPr/>
          </p:nvSpPr>
          <p:spPr>
            <a:xfrm>
              <a:off x="6388560" y="5740560"/>
              <a:ext cx="108000" cy="315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6" name="Freeform 96"/>
            <p:cNvSpPr/>
            <p:nvPr/>
          </p:nvSpPr>
          <p:spPr>
            <a:xfrm>
              <a:off x="6031080" y="5745960"/>
              <a:ext cx="287280" cy="55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7" name="Freeform 97"/>
            <p:cNvSpPr/>
            <p:nvPr/>
          </p:nvSpPr>
          <p:spPr>
            <a:xfrm>
              <a:off x="6917760" y="5846760"/>
              <a:ext cx="73080" cy="7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8" name="Freeform 98"/>
            <p:cNvSpPr/>
            <p:nvPr/>
          </p:nvSpPr>
          <p:spPr>
            <a:xfrm>
              <a:off x="6595200" y="5852160"/>
              <a:ext cx="51840" cy="26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9" name="Freeform 99"/>
            <p:cNvSpPr/>
            <p:nvPr/>
          </p:nvSpPr>
          <p:spPr>
            <a:xfrm>
              <a:off x="6216840" y="5873040"/>
              <a:ext cx="142920" cy="54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0" name="Freeform 100"/>
            <p:cNvSpPr/>
            <p:nvPr/>
          </p:nvSpPr>
          <p:spPr>
            <a:xfrm>
              <a:off x="5990760" y="5892120"/>
              <a:ext cx="143280" cy="322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1" name="Freeform 101"/>
            <p:cNvSpPr/>
            <p:nvPr/>
          </p:nvSpPr>
          <p:spPr>
            <a:xfrm>
              <a:off x="7054200" y="5909040"/>
              <a:ext cx="18324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2" name="Freeform 102"/>
            <p:cNvSpPr/>
            <p:nvPr/>
          </p:nvSpPr>
          <p:spPr>
            <a:xfrm>
              <a:off x="6850800" y="6141240"/>
              <a:ext cx="96120" cy="6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3" name="Freeform 103"/>
            <p:cNvSpPr/>
            <p:nvPr/>
          </p:nvSpPr>
          <p:spPr>
            <a:xfrm>
              <a:off x="6996960" y="6149880"/>
              <a:ext cx="2448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4" name="Freeform 104"/>
            <p:cNvSpPr/>
            <p:nvPr/>
          </p:nvSpPr>
          <p:spPr>
            <a:xfrm>
              <a:off x="6512400" y="6158160"/>
              <a:ext cx="19692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5" name="Freeform 105"/>
            <p:cNvSpPr/>
            <p:nvPr/>
          </p:nvSpPr>
          <p:spPr>
            <a:xfrm>
              <a:off x="6382080" y="6201720"/>
              <a:ext cx="259560" cy="167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6" name="Freeform 106"/>
            <p:cNvSpPr/>
            <p:nvPr/>
          </p:nvSpPr>
          <p:spPr>
            <a:xfrm>
              <a:off x="6404400" y="6241680"/>
              <a:ext cx="216360" cy="100440"/>
            </a:xfrm>
            <a:prstGeom prst="pie">
              <a:avLst/>
            </a:prstGeom>
            <a:solidFill>
              <a:srgbClr val="ffa5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7" name="Freeform 107"/>
            <p:cNvSpPr/>
            <p:nvPr/>
          </p:nvSpPr>
          <p:spPr>
            <a:xfrm>
              <a:off x="6665400" y="6172920"/>
              <a:ext cx="206640" cy="160920"/>
            </a:xfrm>
            <a:prstGeom prst="pie">
              <a:avLst/>
            </a:prstGeom>
            <a:solidFill>
              <a:srgbClr val="ffa5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38" name="AutoShape 108"/>
          <p:cNvSpPr/>
          <p:nvPr/>
        </p:nvSpPr>
        <p:spPr>
          <a:xfrm>
            <a:off x="0" y="0"/>
            <a:ext cx="1247760" cy="476280"/>
          </a:xfrm>
          <a:custGeom>
            <a:avLst/>
            <a:gdLst>
              <a:gd name="textAreaLeft" fmla="*/ 30600 w 1247760"/>
              <a:gd name="textAreaRight" fmla="*/ 1217160 w 12477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56561" h="21600">
                <a:moveTo>
                  <a:pt x="0" y="0"/>
                </a:moveTo>
                <a:lnTo>
                  <a:pt x="56561" y="0"/>
                </a:lnTo>
                <a:lnTo>
                  <a:pt x="56561" y="21600"/>
                </a:lnTo>
                <a:lnTo>
                  <a:pt x="0" y="21600"/>
                </a:lnTo>
                <a:close/>
              </a:path>
              <a:path fill="lightenLess" w="56561" h="21600">
                <a:moveTo>
                  <a:pt x="0" y="0"/>
                </a:moveTo>
                <a:lnTo>
                  <a:pt x="56561" y="0"/>
                </a:lnTo>
                <a:lnTo>
                  <a:pt x="55161" y="1400"/>
                </a:lnTo>
                <a:lnTo>
                  <a:pt x="1400" y="1400"/>
                </a:lnTo>
                <a:close/>
              </a:path>
              <a:path fill="darken" w="56561" h="21600">
                <a:moveTo>
                  <a:pt x="56561" y="0"/>
                </a:moveTo>
                <a:lnTo>
                  <a:pt x="56561" y="21600"/>
                </a:lnTo>
                <a:lnTo>
                  <a:pt x="55161" y="20200"/>
                </a:lnTo>
                <a:lnTo>
                  <a:pt x="55161" y="1400"/>
                </a:lnTo>
                <a:close/>
              </a:path>
              <a:path fill="darkenLess" w="56561" h="21600">
                <a:moveTo>
                  <a:pt x="565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161" y="20200"/>
                </a:lnTo>
                <a:close/>
              </a:path>
              <a:path fill="lighten" w="565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561" h="21600">
                <a:moveTo>
                  <a:pt x="21274" y="10800"/>
                </a:moveTo>
                <a:lnTo>
                  <a:pt x="35287" y="3794"/>
                </a:lnTo>
                <a:lnTo>
                  <a:pt x="35287" y="17806"/>
                </a:lnTo>
                <a:close/>
              </a:path>
            </a:pathLst>
          </a:custGeom>
          <a:solidFill>
            <a:srgbClr val="6666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 начал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0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8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500"/>
                            </p:stCondLst>
                            <p:childTnLst>
                              <p:par>
                                <p:cTn id="9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2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2500"/>
                            </p:stCondLst>
                            <p:childTnLst>
                              <p:par>
                                <p:cTn id="9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6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3000"/>
                            </p:stCondLst>
                            <p:childTnLst>
                              <p:par>
                                <p:cTn id="9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3500"/>
                            </p:stCondLst>
                            <p:childTnLst>
                              <p:par>
                                <p:cTn id="9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9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4500"/>
                            </p:stCondLst>
                            <p:childTnLst>
                              <p:par>
                                <p:cTn id="9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2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6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7000"/>
                            </p:stCondLst>
                            <p:childTnLst>
                              <p:par>
                                <p:cTn id="9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7500"/>
                            </p:stCondLst>
                            <p:childTnLst>
                              <p:par>
                                <p:cTn id="10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9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8500"/>
                            </p:stCondLst>
                            <p:childTnLst>
                              <p:par>
                                <p:cTn id="10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2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10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9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2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6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1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9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527c"/>
            </a:gs>
            <a:gs pos="100000">
              <a:srgbClr val="99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AutoShape 9"/>
          <p:cNvSpPr/>
          <p:nvPr/>
        </p:nvSpPr>
        <p:spPr>
          <a:xfrm rot="12637200">
            <a:off x="1641600" y="2414160"/>
            <a:ext cx="1635120" cy="223920"/>
          </a:xfrm>
          <a:prstGeom prst="rightArrow">
            <a:avLst>
              <a:gd name="adj1" fmla="val 50000"/>
              <a:gd name="adj2" fmla="val 182556"/>
            </a:avLst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0" name="AutoShape 11"/>
          <p:cNvSpPr/>
          <p:nvPr/>
        </p:nvSpPr>
        <p:spPr>
          <a:xfrm rot="8730000">
            <a:off x="1546920" y="4149720"/>
            <a:ext cx="1600200" cy="216000"/>
          </a:xfrm>
          <a:prstGeom prst="rightArrow">
            <a:avLst>
              <a:gd name="adj1" fmla="val 50000"/>
              <a:gd name="adj2" fmla="val 185208"/>
            </a:avLst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1" name="AutoShape 12"/>
          <p:cNvSpPr/>
          <p:nvPr/>
        </p:nvSpPr>
        <p:spPr>
          <a:xfrm rot="2382600">
            <a:off x="5529240" y="4154400"/>
            <a:ext cx="1682640" cy="258840"/>
          </a:xfrm>
          <a:prstGeom prst="rightArrow">
            <a:avLst>
              <a:gd name="adj1" fmla="val 50000"/>
              <a:gd name="adj2" fmla="val 162517"/>
            </a:avLst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2" name="AutoShape 10"/>
          <p:cNvSpPr/>
          <p:nvPr/>
        </p:nvSpPr>
        <p:spPr>
          <a:xfrm rot="19696800">
            <a:off x="5530320" y="2442960"/>
            <a:ext cx="1654200" cy="258480"/>
          </a:xfrm>
          <a:prstGeom prst="rightArrow">
            <a:avLst>
              <a:gd name="adj1" fmla="val 50000"/>
              <a:gd name="adj2" fmla="val 159993"/>
            </a:avLst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вижения и походка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44" name="AutoShape 5"/>
          <p:cNvSpPr/>
          <p:nvPr/>
        </p:nvSpPr>
        <p:spPr>
          <a:xfrm>
            <a:off x="2986200" y="2781360"/>
            <a:ext cx="1296720" cy="4316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ангвини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5" name="AutoShape 6"/>
          <p:cNvSpPr/>
          <p:nvPr/>
        </p:nvSpPr>
        <p:spPr>
          <a:xfrm>
            <a:off x="4427640" y="2781360"/>
            <a:ext cx="1457280" cy="4316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холери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6" name="AutoShape 7"/>
          <p:cNvSpPr/>
          <p:nvPr/>
        </p:nvSpPr>
        <p:spPr>
          <a:xfrm>
            <a:off x="2986200" y="3500280"/>
            <a:ext cx="1298520" cy="4320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флегмати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7" name="AutoShape 8"/>
          <p:cNvSpPr/>
          <p:nvPr/>
        </p:nvSpPr>
        <p:spPr>
          <a:xfrm>
            <a:off x="4427640" y="3500280"/>
            <a:ext cx="1457280" cy="4320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еланхоли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8" name="AutoShape 13"/>
          <p:cNvSpPr/>
          <p:nvPr/>
        </p:nvSpPr>
        <p:spPr>
          <a:xfrm flipH="1">
            <a:off x="6876360" y="1628640"/>
            <a:ext cx="1749240" cy="800280"/>
          </a:xfrm>
          <a:prstGeom prst="flowChartPunchedCard">
            <a:avLst/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стремительный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резкий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напряжен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9" name="AutoShape 14"/>
          <p:cNvSpPr/>
          <p:nvPr/>
        </p:nvSpPr>
        <p:spPr>
          <a:xfrm>
            <a:off x="250920" y="1484280"/>
            <a:ext cx="1685880" cy="800280"/>
          </a:xfrm>
          <a:prstGeom prst="flowChartPunchedCard">
            <a:avLst/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подвижный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быстрый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«непоседа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0" name="AutoShape 16"/>
          <p:cNvSpPr/>
          <p:nvPr/>
        </p:nvSpPr>
        <p:spPr>
          <a:xfrm>
            <a:off x="179280" y="4573440"/>
            <a:ext cx="1685880" cy="800280"/>
          </a:xfrm>
          <a:prstGeom prst="flowChartPunchedCard">
            <a:avLst/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замедленный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плавный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расслаблен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1" name="AutoShape 17"/>
          <p:cNvSpPr/>
          <p:nvPr/>
        </p:nvSpPr>
        <p:spPr>
          <a:xfrm flipH="1">
            <a:off x="6865920" y="4573440"/>
            <a:ext cx="1760400" cy="800280"/>
          </a:xfrm>
          <a:prstGeom prst="flowChartPunchedCard">
            <a:avLst/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замедленный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нерешитель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2" name="AutoShape 18"/>
          <p:cNvSpPr/>
          <p:nvPr/>
        </p:nvSpPr>
        <p:spPr>
          <a:xfrm>
            <a:off x="0" y="0"/>
            <a:ext cx="1297080" cy="433440"/>
          </a:xfrm>
          <a:custGeom>
            <a:avLst/>
            <a:gdLst>
              <a:gd name="textAreaLeft" fmla="*/ 28080 w 1297080"/>
              <a:gd name="textAreaRight" fmla="*/ 1269000 w 1297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64603" h="21600">
                <a:moveTo>
                  <a:pt x="0" y="0"/>
                </a:moveTo>
                <a:lnTo>
                  <a:pt x="64603" y="0"/>
                </a:lnTo>
                <a:lnTo>
                  <a:pt x="64603" y="21600"/>
                </a:lnTo>
                <a:lnTo>
                  <a:pt x="0" y="21600"/>
                </a:lnTo>
                <a:close/>
              </a:path>
              <a:path fill="lightenLess" w="64603" h="21600">
                <a:moveTo>
                  <a:pt x="0" y="0"/>
                </a:moveTo>
                <a:lnTo>
                  <a:pt x="64603" y="0"/>
                </a:lnTo>
                <a:lnTo>
                  <a:pt x="63203" y="1400"/>
                </a:lnTo>
                <a:lnTo>
                  <a:pt x="1400" y="1400"/>
                </a:lnTo>
                <a:close/>
              </a:path>
              <a:path fill="darken" w="64603" h="21600">
                <a:moveTo>
                  <a:pt x="64603" y="0"/>
                </a:moveTo>
                <a:lnTo>
                  <a:pt x="64603" y="21600"/>
                </a:lnTo>
                <a:lnTo>
                  <a:pt x="63203" y="20200"/>
                </a:lnTo>
                <a:lnTo>
                  <a:pt x="63203" y="1400"/>
                </a:lnTo>
                <a:close/>
              </a:path>
              <a:path fill="darkenLess" w="64603" h="21600">
                <a:moveTo>
                  <a:pt x="646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03" y="20200"/>
                </a:lnTo>
                <a:close/>
              </a:path>
              <a:path fill="lighten" w="646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03" h="21600">
                <a:moveTo>
                  <a:pt x="25295" y="10800"/>
                </a:moveTo>
                <a:lnTo>
                  <a:pt x="39308" y="3794"/>
                </a:lnTo>
                <a:lnTo>
                  <a:pt x="39308" y="17806"/>
                </a:lnTo>
                <a:close/>
              </a:path>
            </a:pathLst>
          </a:custGeom>
          <a:solidFill>
            <a:srgbClr val="6666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 начал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3" name="Picture 19" descr="движение"/>
          <p:cNvPicPr/>
          <p:nvPr/>
        </p:nvPicPr>
        <p:blipFill>
          <a:blip r:embed="rId1"/>
          <a:stretch/>
        </p:blipFill>
        <p:spPr>
          <a:xfrm>
            <a:off x="55440" y="5746680"/>
            <a:ext cx="1111320" cy="1111320"/>
          </a:xfrm>
          <a:prstGeom prst="rect">
            <a:avLst/>
          </a:prstGeom>
          <a:ln w="0">
            <a:noFill/>
          </a:ln>
        </p:spPr>
      </p:pic>
      <p:pic>
        <p:nvPicPr>
          <p:cNvPr id="1254" name="Picture 21" descr="движение"/>
          <p:cNvPicPr/>
          <p:nvPr/>
        </p:nvPicPr>
        <p:blipFill>
          <a:blip r:embed="rId2"/>
          <a:stretch/>
        </p:blipFill>
        <p:spPr>
          <a:xfrm>
            <a:off x="7897680" y="0"/>
            <a:ext cx="124632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0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2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6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7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1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2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500"/>
                            </p:stCondLst>
                            <p:childTnLst>
                              <p:par>
                                <p:cTn id="1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6500"/>
                            </p:stCondLst>
                            <p:childTnLst>
                              <p:par>
                                <p:cTn id="1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7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1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AutoShape 2"/>
          <p:cNvSpPr/>
          <p:nvPr/>
        </p:nvSpPr>
        <p:spPr>
          <a:xfrm rot="18940800">
            <a:off x="1204920" y="5316120"/>
            <a:ext cx="1668600" cy="154080"/>
          </a:xfrm>
          <a:prstGeom prst="rightArrow">
            <a:avLst>
              <a:gd name="adj1" fmla="val 50000"/>
              <a:gd name="adj2" fmla="val 270736"/>
            </a:avLst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6" name="AutoShape 3"/>
          <p:cNvSpPr/>
          <p:nvPr/>
        </p:nvSpPr>
        <p:spPr>
          <a:xfrm rot="13237200">
            <a:off x="6111360" y="5238360"/>
            <a:ext cx="1590840" cy="147600"/>
          </a:xfrm>
          <a:prstGeom prst="rightArrow">
            <a:avLst>
              <a:gd name="adj1" fmla="val 50000"/>
              <a:gd name="adj2" fmla="val 269451"/>
            </a:avLst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7" name="AutoShape 4"/>
          <p:cNvSpPr/>
          <p:nvPr/>
        </p:nvSpPr>
        <p:spPr>
          <a:xfrm rot="8277000">
            <a:off x="6211440" y="1571400"/>
            <a:ext cx="1551240" cy="122040"/>
          </a:xfrm>
          <a:prstGeom prst="rightArrow">
            <a:avLst>
              <a:gd name="adj1" fmla="val 50000"/>
              <a:gd name="adj2" fmla="val 317773"/>
            </a:avLst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8" name="AutoShape 5"/>
          <p:cNvSpPr/>
          <p:nvPr/>
        </p:nvSpPr>
        <p:spPr>
          <a:xfrm rot="2568600">
            <a:off x="1317240" y="1589040"/>
            <a:ext cx="1454040" cy="111240"/>
          </a:xfrm>
          <a:prstGeom prst="rightArrow">
            <a:avLst>
              <a:gd name="adj1" fmla="val 50000"/>
              <a:gd name="adj2" fmla="val 326780"/>
            </a:avLst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-135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ппетит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60" name="AutoShape 7"/>
          <p:cNvSpPr/>
          <p:nvPr/>
        </p:nvSpPr>
        <p:spPr>
          <a:xfrm>
            <a:off x="457200" y="770040"/>
            <a:ext cx="1224000" cy="4316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ангвини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1" name="AutoShape 8"/>
          <p:cNvSpPr/>
          <p:nvPr/>
        </p:nvSpPr>
        <p:spPr>
          <a:xfrm>
            <a:off x="7497720" y="770040"/>
            <a:ext cx="1224000" cy="4316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холери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2" name="AutoShape 9"/>
          <p:cNvSpPr/>
          <p:nvPr/>
        </p:nvSpPr>
        <p:spPr>
          <a:xfrm>
            <a:off x="324000" y="5732640"/>
            <a:ext cx="1223640" cy="4316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флегмати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3" name="AutoShape 10"/>
          <p:cNvSpPr/>
          <p:nvPr/>
        </p:nvSpPr>
        <p:spPr>
          <a:xfrm>
            <a:off x="7462800" y="5732640"/>
            <a:ext cx="1430280" cy="4316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еланхоли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4" name="AutoShape 11"/>
          <p:cNvSpPr/>
          <p:nvPr/>
        </p:nvSpPr>
        <p:spPr>
          <a:xfrm flipH="1" flipV="1">
            <a:off x="2437560" y="1828800"/>
            <a:ext cx="1584360" cy="1295280"/>
          </a:xfrm>
          <a:prstGeom prst="flowChartDocument">
            <a:avLst/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хороший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«лакомка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5" name="AutoShape 12"/>
          <p:cNvSpPr/>
          <p:nvPr/>
        </p:nvSpPr>
        <p:spPr>
          <a:xfrm flipV="1">
            <a:off x="4973760" y="1828800"/>
            <a:ext cx="1655640" cy="1295280"/>
          </a:xfrm>
          <a:prstGeom prst="flowChartDocument">
            <a:avLst/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ест быстро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ног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6" name="AutoShape 13"/>
          <p:cNvSpPr/>
          <p:nvPr/>
        </p:nvSpPr>
        <p:spPr>
          <a:xfrm>
            <a:off x="5049720" y="3813120"/>
            <a:ext cx="1656000" cy="1368360"/>
          </a:xfrm>
          <a:prstGeom prst="flowChartDocument">
            <a:avLst/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ниженны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7" name="AutoShape 14"/>
          <p:cNvSpPr/>
          <p:nvPr/>
        </p:nvSpPr>
        <p:spPr>
          <a:xfrm flipH="1">
            <a:off x="2437560" y="3813120"/>
            <a:ext cx="1584360" cy="1368360"/>
          </a:xfrm>
          <a:prstGeom prst="flowChartDocument">
            <a:avLst/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ценит процес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еды, н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торопится во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ремя ед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8" name="AutoShape 15"/>
          <p:cNvSpPr/>
          <p:nvPr/>
        </p:nvSpPr>
        <p:spPr>
          <a:xfrm>
            <a:off x="0" y="0"/>
            <a:ext cx="1295280" cy="436680"/>
          </a:xfrm>
          <a:custGeom>
            <a:avLst/>
            <a:gdLst>
              <a:gd name="textAreaLeft" fmla="*/ 28080 w 1295280"/>
              <a:gd name="textAreaRight" fmla="*/ 1267200 w 1295280"/>
              <a:gd name="textAreaTop" fmla="*/ 28080 h 436680"/>
              <a:gd name="textAreaBottom" fmla="*/ 408600 h 436680"/>
            </a:gdLst>
            <a:ahLst/>
            <a:rect l="textAreaLeft" t="textAreaTop" r="textAreaRight" b="textAreaBottom"/>
            <a:pathLst>
              <a:path w="64035" h="21600">
                <a:moveTo>
                  <a:pt x="0" y="0"/>
                </a:moveTo>
                <a:lnTo>
                  <a:pt x="64035" y="0"/>
                </a:lnTo>
                <a:lnTo>
                  <a:pt x="64035" y="21600"/>
                </a:lnTo>
                <a:lnTo>
                  <a:pt x="0" y="21600"/>
                </a:lnTo>
                <a:close/>
              </a:path>
              <a:path fill="lightenLess" w="64035" h="21600">
                <a:moveTo>
                  <a:pt x="0" y="0"/>
                </a:moveTo>
                <a:lnTo>
                  <a:pt x="64035" y="0"/>
                </a:lnTo>
                <a:lnTo>
                  <a:pt x="62635" y="1400"/>
                </a:lnTo>
                <a:lnTo>
                  <a:pt x="1400" y="1400"/>
                </a:lnTo>
                <a:close/>
              </a:path>
              <a:path fill="darken" w="64035" h="21600">
                <a:moveTo>
                  <a:pt x="64035" y="0"/>
                </a:moveTo>
                <a:lnTo>
                  <a:pt x="64035" y="21600"/>
                </a:lnTo>
                <a:lnTo>
                  <a:pt x="62635" y="20200"/>
                </a:lnTo>
                <a:lnTo>
                  <a:pt x="62635" y="1400"/>
                </a:lnTo>
                <a:close/>
              </a:path>
              <a:path fill="darkenLess" w="64035" h="21600">
                <a:moveTo>
                  <a:pt x="64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635" y="20200"/>
                </a:lnTo>
                <a:close/>
              </a:path>
              <a:path fill="lighten" w="64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035" h="21600">
                <a:moveTo>
                  <a:pt x="25011" y="10800"/>
                </a:moveTo>
                <a:lnTo>
                  <a:pt x="39024" y="3794"/>
                </a:lnTo>
                <a:lnTo>
                  <a:pt x="39024" y="17806"/>
                </a:lnTo>
                <a:close/>
              </a:path>
            </a:pathLst>
          </a:custGeom>
          <a:solidFill>
            <a:srgbClr val="6666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 начал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9" name="Picture 16" descr="миша"/>
          <p:cNvPicPr/>
          <p:nvPr/>
        </p:nvPicPr>
        <p:blipFill>
          <a:blip r:embed="rId1"/>
          <a:stretch/>
        </p:blipFill>
        <p:spPr>
          <a:xfrm>
            <a:off x="3489480" y="2286000"/>
            <a:ext cx="214920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0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136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138" dur="20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2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4700"/>
                            </p:stCondLst>
                            <p:childTnLst>
                              <p:par>
                                <p:cTn id="11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1000"/>
                                        <p:tgtEl>
                                          <p:spTgt spid="1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1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1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9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161" dur="2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8500"/>
                            </p:stCondLst>
                            <p:childTnLst>
                              <p:par>
                                <p:cTn id="1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5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9000"/>
                            </p:stCondLst>
                            <p:childTnLst>
                              <p:par>
                                <p:cTn id="116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9000"/>
                            </p:stCondLst>
                            <p:childTnLst>
                              <p:par>
                                <p:cTn id="11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1000"/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10900"/>
                            </p:stCondLst>
                            <p:childTnLst>
                              <p:par>
                                <p:cTn id="11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1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1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1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12300"/>
                            </p:stCondLst>
                            <p:childTnLst>
                              <p:par>
                                <p:cTn id="11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4" dur="2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14300"/>
                            </p:stCondLst>
                            <p:childTnLst>
                              <p:par>
                                <p:cTn id="1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8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14800"/>
                            </p:stCondLst>
                            <p:childTnLst>
                              <p:par>
                                <p:cTn id="119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14875"/>
                            </p:stCondLst>
                            <p:childTnLst>
                              <p:par>
                                <p:cTn id="119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1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1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1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16975"/>
                            </p:stCondLst>
                            <p:childTnLst>
                              <p:par>
                                <p:cTn id="11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1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1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1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18475"/>
                            </p:stCondLst>
                            <p:childTnLst>
                              <p:par>
                                <p:cTn id="120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7" dur="1000"/>
                                        <p:tgtEl>
                                          <p:spTgt spid="1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1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1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20475"/>
                            </p:stCondLst>
                            <p:childTnLst>
                              <p:par>
                                <p:cTn id="12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1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1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1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22175"/>
                            </p:stCondLst>
                            <p:childTnLst>
                              <p:par>
                                <p:cTn id="121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19" dur="20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24175"/>
                            </p:stCondLst>
                            <p:childTnLst>
                              <p:par>
                                <p:cTn id="12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3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24675"/>
                            </p:stCondLst>
                            <p:childTnLst>
                              <p:par>
                                <p:cTn id="122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24750"/>
                            </p:stCondLst>
                            <p:childTnLst>
                              <p:par>
                                <p:cTn id="12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1000"/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26550"/>
                            </p:stCondLst>
                            <p:childTnLst>
                              <p:par>
                                <p:cTn id="1234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AutoShape 2"/>
          <p:cNvSpPr/>
          <p:nvPr/>
        </p:nvSpPr>
        <p:spPr>
          <a:xfrm rot="21172800">
            <a:off x="2383920" y="2867040"/>
            <a:ext cx="3840480" cy="260280"/>
          </a:xfrm>
          <a:prstGeom prst="rightArrow">
            <a:avLst>
              <a:gd name="adj1" fmla="val 50000"/>
              <a:gd name="adj2" fmla="val 368880"/>
            </a:avLst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1" name="AutoShape 3"/>
          <p:cNvSpPr/>
          <p:nvPr/>
        </p:nvSpPr>
        <p:spPr>
          <a:xfrm rot="242400">
            <a:off x="2384280" y="3858840"/>
            <a:ext cx="3840480" cy="260280"/>
          </a:xfrm>
          <a:prstGeom prst="rightArrow">
            <a:avLst>
              <a:gd name="adj1" fmla="val 50000"/>
              <a:gd name="adj2" fmla="val 368880"/>
            </a:avLst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2" name="AutoShape 4"/>
          <p:cNvSpPr/>
          <p:nvPr/>
        </p:nvSpPr>
        <p:spPr>
          <a:xfrm rot="658800">
            <a:off x="2331720" y="4700520"/>
            <a:ext cx="2903400" cy="270000"/>
          </a:xfrm>
          <a:prstGeom prst="rightArrow">
            <a:avLst>
              <a:gd name="adj1" fmla="val 50000"/>
              <a:gd name="adj2" fmla="val 268833"/>
            </a:avLst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3" name="AutoShape 5"/>
          <p:cNvSpPr/>
          <p:nvPr/>
        </p:nvSpPr>
        <p:spPr>
          <a:xfrm rot="20715000">
            <a:off x="2336760" y="2079720"/>
            <a:ext cx="2886120" cy="269640"/>
          </a:xfrm>
          <a:prstGeom prst="rightArrow">
            <a:avLst>
              <a:gd name="adj1" fmla="val 50000"/>
              <a:gd name="adj2" fmla="val 267590"/>
            </a:avLst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он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75" name="AutoShape 7"/>
          <p:cNvSpPr/>
          <p:nvPr/>
        </p:nvSpPr>
        <p:spPr>
          <a:xfrm>
            <a:off x="1258920" y="2360520"/>
            <a:ext cx="1427040" cy="4320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ангвини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6" name="AutoShape 8"/>
          <p:cNvSpPr/>
          <p:nvPr/>
        </p:nvSpPr>
        <p:spPr>
          <a:xfrm>
            <a:off x="1258920" y="2997360"/>
            <a:ext cx="1427040" cy="4316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холери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7" name="AutoShape 9"/>
          <p:cNvSpPr/>
          <p:nvPr/>
        </p:nvSpPr>
        <p:spPr>
          <a:xfrm>
            <a:off x="1258920" y="3657600"/>
            <a:ext cx="1427040" cy="4316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флегмати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8" name="AutoShape 10"/>
          <p:cNvSpPr/>
          <p:nvPr/>
        </p:nvSpPr>
        <p:spPr>
          <a:xfrm>
            <a:off x="1258920" y="4305240"/>
            <a:ext cx="1427040" cy="4320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еланхоли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9" name="AutoShape 11"/>
          <p:cNvSpPr/>
          <p:nvPr/>
        </p:nvSpPr>
        <p:spPr>
          <a:xfrm flipH="1">
            <a:off x="4931640" y="1131840"/>
            <a:ext cx="1871640" cy="1098720"/>
          </a:xfrm>
          <a:prstGeom prst="flowChartManualInput">
            <a:avLst/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с красочными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сновидениям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0" name="AutoShape 12"/>
          <p:cNvSpPr/>
          <p:nvPr/>
        </p:nvSpPr>
        <p:spPr>
          <a:xfrm flipH="1">
            <a:off x="5651640" y="2230560"/>
            <a:ext cx="2087280" cy="1119240"/>
          </a:xfrm>
          <a:prstGeom prst="flowChartManualInput">
            <a:avLst/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спит мало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поздно просыпается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работает ночью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1" name="AutoShape 13"/>
          <p:cNvSpPr/>
          <p:nvPr/>
        </p:nvSpPr>
        <p:spPr>
          <a:xfrm flipH="1">
            <a:off x="4995000" y="4503600"/>
            <a:ext cx="2024280" cy="1086120"/>
          </a:xfrm>
          <a:prstGeom prst="flowChartManualInput">
            <a:avLst/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спит мало, вечеро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ощутима усталость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клонит ко сн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2" name="AutoShape 14"/>
          <p:cNvSpPr/>
          <p:nvPr/>
        </p:nvSpPr>
        <p:spPr>
          <a:xfrm flipH="1">
            <a:off x="5794200" y="3429000"/>
            <a:ext cx="1944720" cy="1074600"/>
          </a:xfrm>
          <a:prstGeom prst="flowChartManualInput">
            <a:avLst/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быстро засыпает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разбудить трудн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3" name="AutoShape 15"/>
          <p:cNvSpPr/>
          <p:nvPr/>
        </p:nvSpPr>
        <p:spPr>
          <a:xfrm>
            <a:off x="0" y="0"/>
            <a:ext cx="1295280" cy="476280"/>
          </a:xfrm>
          <a:custGeom>
            <a:avLst/>
            <a:gdLst>
              <a:gd name="textAreaLeft" fmla="*/ 30600 w 1295280"/>
              <a:gd name="textAreaRight" fmla="*/ 1264680 w 1295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58715" h="21600">
                <a:moveTo>
                  <a:pt x="0" y="0"/>
                </a:moveTo>
                <a:lnTo>
                  <a:pt x="58715" y="0"/>
                </a:lnTo>
                <a:lnTo>
                  <a:pt x="58715" y="21600"/>
                </a:lnTo>
                <a:lnTo>
                  <a:pt x="0" y="21600"/>
                </a:lnTo>
                <a:close/>
              </a:path>
              <a:path fill="lightenLess" w="58715" h="21600">
                <a:moveTo>
                  <a:pt x="0" y="0"/>
                </a:moveTo>
                <a:lnTo>
                  <a:pt x="58715" y="0"/>
                </a:lnTo>
                <a:lnTo>
                  <a:pt x="57315" y="1400"/>
                </a:lnTo>
                <a:lnTo>
                  <a:pt x="1400" y="1400"/>
                </a:lnTo>
                <a:close/>
              </a:path>
              <a:path fill="darken" w="58715" h="21600">
                <a:moveTo>
                  <a:pt x="58715" y="0"/>
                </a:moveTo>
                <a:lnTo>
                  <a:pt x="58715" y="21600"/>
                </a:lnTo>
                <a:lnTo>
                  <a:pt x="57315" y="20200"/>
                </a:lnTo>
                <a:lnTo>
                  <a:pt x="57315" y="1400"/>
                </a:lnTo>
                <a:close/>
              </a:path>
              <a:path fill="darkenLess" w="58715" h="21600">
                <a:moveTo>
                  <a:pt x="58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315" y="20200"/>
                </a:lnTo>
                <a:close/>
              </a:path>
              <a:path fill="lighten" w="58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715" h="21600">
                <a:moveTo>
                  <a:pt x="22351" y="10800"/>
                </a:moveTo>
                <a:lnTo>
                  <a:pt x="36364" y="3794"/>
                </a:lnTo>
                <a:lnTo>
                  <a:pt x="36364" y="17806"/>
                </a:lnTo>
                <a:close/>
              </a:path>
            </a:pathLst>
          </a:custGeom>
          <a:solidFill>
            <a:srgbClr val="6666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 начал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4" name="Picture 16" descr="птичка"/>
          <p:cNvPicPr/>
          <p:nvPr/>
        </p:nvPicPr>
        <p:blipFill>
          <a:blip r:embed="rId1"/>
          <a:stretch/>
        </p:blipFill>
        <p:spPr>
          <a:xfrm>
            <a:off x="6804000" y="4964040"/>
            <a:ext cx="23400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fill="hold">
                      <p:stCondLst>
                        <p:cond delay="0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6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500"/>
                            </p:stCondLst>
                            <p:childTnLst>
                              <p:par>
                                <p:cTn id="12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0" dur="10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4" dur="1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6" nodeType="after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10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4" dur="1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fill="hold">
                            <p:stCondLst>
                              <p:cond delay="4500"/>
                            </p:stCondLst>
                            <p:childTnLst>
                              <p:par>
                                <p:cTn id="1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8" dur="10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5500"/>
                            </p:stCondLst>
                            <p:childTnLst>
                              <p:par>
                                <p:cTn id="1270" nodeType="after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6500"/>
                            </p:stCondLst>
                            <p:childTnLst>
                              <p:par>
                                <p:cTn id="12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8" dur="1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7500"/>
                            </p:stCondLst>
                            <p:childTnLst>
                              <p:par>
                                <p:cTn id="1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2" dur="1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fill="hold">
                            <p:stCondLst>
                              <p:cond delay="8500"/>
                            </p:stCondLst>
                            <p:childTnLst>
                              <p:par>
                                <p:cTn id="1284" nodeType="after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6" dur="1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9500"/>
                            </p:stCondLst>
                            <p:childTnLst>
                              <p:par>
                                <p:cTn id="12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2" dur="1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6" dur="10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98" nodeType="after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0" dur="1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0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AutoShape 19"/>
          <p:cNvSpPr/>
          <p:nvPr/>
        </p:nvSpPr>
        <p:spPr>
          <a:xfrm>
            <a:off x="2124000" y="7920"/>
            <a:ext cx="4464000" cy="792360"/>
          </a:xfrm>
          <a:custGeom>
            <a:avLst/>
            <a:gdLst>
              <a:gd name="textAreaLeft" fmla="*/ 1116000 w 4464000"/>
              <a:gd name="textAreaRight" fmla="*/ 3348000 w 4464000"/>
              <a:gd name="textAreaTop" fmla="*/ 9900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c99ff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Отдохнём!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6" name="Text Box 21"/>
          <p:cNvSpPr/>
          <p:nvPr/>
        </p:nvSpPr>
        <p:spPr>
          <a:xfrm>
            <a:off x="4121280" y="391968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7" name="Text Box 22"/>
          <p:cNvSpPr/>
          <p:nvPr/>
        </p:nvSpPr>
        <p:spPr>
          <a:xfrm>
            <a:off x="8639280" y="39196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8" name="Text Box 23"/>
          <p:cNvSpPr/>
          <p:nvPr/>
        </p:nvSpPr>
        <p:spPr>
          <a:xfrm>
            <a:off x="4121280" y="6245280"/>
            <a:ext cx="2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9" name="Text Box 24"/>
          <p:cNvSpPr/>
          <p:nvPr/>
        </p:nvSpPr>
        <p:spPr>
          <a:xfrm>
            <a:off x="8604360" y="62150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0" name="Rectangle 25"/>
          <p:cNvSpPr/>
          <p:nvPr/>
        </p:nvSpPr>
        <p:spPr>
          <a:xfrm>
            <a:off x="179280" y="981000"/>
            <a:ext cx="896472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Представьте: вы сидите на скамейке, рядом с вами лежит ваша шапка, к вам подходит человек и садится на неё! Как вы отреагируете??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1" name="Picture 27" descr="психология сангвиник"/>
          <p:cNvPicPr/>
          <p:nvPr/>
        </p:nvPicPr>
        <p:blipFill>
          <a:blip r:embed="rId2"/>
          <a:stretch/>
        </p:blipFill>
        <p:spPr>
          <a:xfrm>
            <a:off x="304920" y="2360520"/>
            <a:ext cx="3816360" cy="1925640"/>
          </a:xfrm>
          <a:prstGeom prst="rect">
            <a:avLst/>
          </a:prstGeom>
          <a:ln w="0">
            <a:noFill/>
          </a:ln>
        </p:spPr>
      </p:pic>
      <p:pic>
        <p:nvPicPr>
          <p:cNvPr id="1292" name="Picture 28" descr="психология флегматик"/>
          <p:cNvPicPr/>
          <p:nvPr/>
        </p:nvPicPr>
        <p:blipFill>
          <a:blip r:embed="rId3"/>
          <a:stretch/>
        </p:blipFill>
        <p:spPr>
          <a:xfrm>
            <a:off x="4822920" y="4594320"/>
            <a:ext cx="3816360" cy="1957320"/>
          </a:xfrm>
          <a:prstGeom prst="rect">
            <a:avLst/>
          </a:prstGeom>
          <a:ln w="0">
            <a:noFill/>
          </a:ln>
        </p:spPr>
      </p:pic>
      <p:pic>
        <p:nvPicPr>
          <p:cNvPr id="1293" name="Picture 29" descr="психология холерик"/>
          <p:cNvPicPr/>
          <p:nvPr/>
        </p:nvPicPr>
        <p:blipFill>
          <a:blip r:embed="rId4"/>
          <a:stretch/>
        </p:blipFill>
        <p:spPr>
          <a:xfrm>
            <a:off x="304920" y="4564080"/>
            <a:ext cx="3816360" cy="1987560"/>
          </a:xfrm>
          <a:prstGeom prst="rect">
            <a:avLst/>
          </a:prstGeom>
          <a:ln w="0">
            <a:noFill/>
          </a:ln>
        </p:spPr>
      </p:pic>
      <p:pic>
        <p:nvPicPr>
          <p:cNvPr id="1294" name="Picture 30" descr="психология меланхолик"/>
          <p:cNvPicPr/>
          <p:nvPr/>
        </p:nvPicPr>
        <p:blipFill>
          <a:blip r:embed="rId5"/>
          <a:stretch/>
        </p:blipFill>
        <p:spPr>
          <a:xfrm>
            <a:off x="4822920" y="2298600"/>
            <a:ext cx="3816360" cy="198756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0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20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5" dur="2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8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3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3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6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5500"/>
                            </p:stCondLst>
                            <p:childTnLst>
                              <p:par>
                                <p:cTn id="13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0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4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6500"/>
                            </p:stCondLst>
                            <p:childTnLst>
                              <p:par>
                                <p:cTn id="13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8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7000"/>
                            </p:stCondLst>
                            <p:childTnLst>
                              <p:par>
                                <p:cTn id="13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4" dur="1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0" dur="1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6" dur="1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2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зультаты тес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 выбрали картинку под номером 1, это значит, что вы поведете себя в этой ситуации как сангвиник!!!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7" name="AutoShape 4"/>
          <p:cNvSpPr/>
          <p:nvPr/>
        </p:nvSpPr>
        <p:spPr>
          <a:xfrm>
            <a:off x="8101080" y="6337440"/>
            <a:ext cx="1042920" cy="520560"/>
          </a:xfrm>
          <a:custGeom>
            <a:avLst/>
            <a:gdLst>
              <a:gd name="textAreaLeft" fmla="*/ 33480 w 1042920"/>
              <a:gd name="textAreaRight" fmla="*/ 1009440 w 1042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43260" h="21600">
                <a:moveTo>
                  <a:pt x="0" y="0"/>
                </a:moveTo>
                <a:lnTo>
                  <a:pt x="43260" y="0"/>
                </a:lnTo>
                <a:lnTo>
                  <a:pt x="43260" y="21600"/>
                </a:lnTo>
                <a:lnTo>
                  <a:pt x="0" y="21600"/>
                </a:lnTo>
                <a:close/>
              </a:path>
              <a:path fill="lightenLess" w="43260" h="21600">
                <a:moveTo>
                  <a:pt x="0" y="0"/>
                </a:moveTo>
                <a:lnTo>
                  <a:pt x="43260" y="0"/>
                </a:lnTo>
                <a:lnTo>
                  <a:pt x="41860" y="1400"/>
                </a:lnTo>
                <a:lnTo>
                  <a:pt x="1400" y="1400"/>
                </a:lnTo>
                <a:close/>
              </a:path>
              <a:path fill="darken" w="43260" h="21600">
                <a:moveTo>
                  <a:pt x="43260" y="0"/>
                </a:moveTo>
                <a:lnTo>
                  <a:pt x="43260" y="21600"/>
                </a:lnTo>
                <a:lnTo>
                  <a:pt x="41860" y="20200"/>
                </a:lnTo>
                <a:lnTo>
                  <a:pt x="41860" y="1400"/>
                </a:lnTo>
                <a:close/>
              </a:path>
              <a:path fill="darkenLess" w="43260" h="21600">
                <a:moveTo>
                  <a:pt x="43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60" y="20200"/>
                </a:lnTo>
                <a:close/>
              </a:path>
              <a:path fill="lighten" w="43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60" h="21600">
                <a:moveTo>
                  <a:pt x="14623" y="3794"/>
                </a:moveTo>
                <a:lnTo>
                  <a:pt x="28636" y="10800"/>
                </a:lnTo>
                <a:lnTo>
                  <a:pt x="14623" y="17806"/>
                </a:lnTo>
                <a:close/>
              </a:path>
            </a:pathLst>
          </a:custGeom>
          <a:gradFill rotWithShape="0">
            <a:gsLst>
              <a:gs pos="0">
                <a:srgbClr val="cc66ff">
                  <a:alpha val="52156"/>
                </a:srgbClr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й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8" name="AutoShape 5"/>
          <p:cNvSpPr/>
          <p:nvPr/>
        </p:nvSpPr>
        <p:spPr>
          <a:xfrm>
            <a:off x="5867280" y="6337440"/>
            <a:ext cx="1835280" cy="520560"/>
          </a:xfrm>
          <a:custGeom>
            <a:avLst/>
            <a:gdLst>
              <a:gd name="textAreaLeft" fmla="*/ 33480 w 1835280"/>
              <a:gd name="textAreaRight" fmla="*/ 1801800 w 183528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76115" h="21600">
                <a:moveTo>
                  <a:pt x="0" y="0"/>
                </a:moveTo>
                <a:lnTo>
                  <a:pt x="76115" y="0"/>
                </a:lnTo>
                <a:lnTo>
                  <a:pt x="76115" y="21600"/>
                </a:lnTo>
                <a:lnTo>
                  <a:pt x="0" y="21600"/>
                </a:lnTo>
                <a:close/>
              </a:path>
              <a:path fill="lightenLess" w="76115" h="21600">
                <a:moveTo>
                  <a:pt x="0" y="0"/>
                </a:moveTo>
                <a:lnTo>
                  <a:pt x="76115" y="0"/>
                </a:lnTo>
                <a:lnTo>
                  <a:pt x="74715" y="1400"/>
                </a:lnTo>
                <a:lnTo>
                  <a:pt x="1400" y="1400"/>
                </a:lnTo>
                <a:close/>
              </a:path>
              <a:path fill="darken" w="76115" h="21600">
                <a:moveTo>
                  <a:pt x="76115" y="0"/>
                </a:moveTo>
                <a:lnTo>
                  <a:pt x="76115" y="21600"/>
                </a:lnTo>
                <a:lnTo>
                  <a:pt x="74715" y="20200"/>
                </a:lnTo>
                <a:lnTo>
                  <a:pt x="74715" y="1400"/>
                </a:lnTo>
                <a:close/>
              </a:path>
              <a:path fill="darkenLess" w="76115" h="21600">
                <a:moveTo>
                  <a:pt x="76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715" y="20200"/>
                </a:lnTo>
                <a:close/>
              </a:path>
              <a:path fill="lighten" w="76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115" h="21600">
                <a:moveTo>
                  <a:pt x="31051" y="10800"/>
                </a:moveTo>
                <a:lnTo>
                  <a:pt x="45064" y="3794"/>
                </a:lnTo>
                <a:lnTo>
                  <a:pt x="45064" y="17806"/>
                </a:lnTo>
                <a:close/>
              </a:path>
            </a:pathLst>
          </a:custGeom>
          <a:gradFill rotWithShape="0">
            <a:gsLst>
              <a:gs pos="0">
                <a:srgbClr val="cc66ff">
                  <a:alpha val="52156"/>
                </a:srgbClr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рнуться к тест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зультаты теста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 выбрали картинку под номером 2, это значит, что вы поведете себя в этой ситуации как меланхолик!!!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1" name="AutoShape 4"/>
          <p:cNvSpPr/>
          <p:nvPr/>
        </p:nvSpPr>
        <p:spPr>
          <a:xfrm>
            <a:off x="8101080" y="6346800"/>
            <a:ext cx="1042920" cy="501840"/>
          </a:xfrm>
          <a:custGeom>
            <a:avLst/>
            <a:gdLst>
              <a:gd name="textAreaLeft" fmla="*/ 32400 w 1042920"/>
              <a:gd name="textAreaRight" fmla="*/ 1010520 w 1042920"/>
              <a:gd name="textAreaTop" fmla="*/ 32400 h 501840"/>
              <a:gd name="textAreaBottom" fmla="*/ 469440 h 501840"/>
            </a:gdLst>
            <a:ahLst/>
            <a:rect l="textAreaLeft" t="textAreaTop" r="textAreaRight" b="textAreaBottom"/>
            <a:pathLst>
              <a:path w="44872" h="21600">
                <a:moveTo>
                  <a:pt x="0" y="0"/>
                </a:moveTo>
                <a:lnTo>
                  <a:pt x="44872" y="0"/>
                </a:lnTo>
                <a:lnTo>
                  <a:pt x="44872" y="21600"/>
                </a:lnTo>
                <a:lnTo>
                  <a:pt x="0" y="21600"/>
                </a:lnTo>
                <a:close/>
              </a:path>
              <a:path fill="lightenLess" w="44872" h="21600">
                <a:moveTo>
                  <a:pt x="0" y="0"/>
                </a:moveTo>
                <a:lnTo>
                  <a:pt x="44872" y="0"/>
                </a:lnTo>
                <a:lnTo>
                  <a:pt x="43472" y="1400"/>
                </a:lnTo>
                <a:lnTo>
                  <a:pt x="1400" y="1400"/>
                </a:lnTo>
                <a:close/>
              </a:path>
              <a:path fill="darken" w="44872" h="21600">
                <a:moveTo>
                  <a:pt x="44872" y="0"/>
                </a:moveTo>
                <a:lnTo>
                  <a:pt x="44872" y="21600"/>
                </a:lnTo>
                <a:lnTo>
                  <a:pt x="43472" y="20200"/>
                </a:lnTo>
                <a:lnTo>
                  <a:pt x="43472" y="1400"/>
                </a:lnTo>
                <a:close/>
              </a:path>
              <a:path fill="darkenLess" w="44872" h="21600">
                <a:moveTo>
                  <a:pt x="448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72" y="20200"/>
                </a:lnTo>
                <a:close/>
              </a:path>
              <a:path fill="lighten" w="448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872" h="21600">
                <a:moveTo>
                  <a:pt x="15430" y="3794"/>
                </a:moveTo>
                <a:lnTo>
                  <a:pt x="29443" y="10800"/>
                </a:lnTo>
                <a:lnTo>
                  <a:pt x="15430" y="17806"/>
                </a:lnTo>
                <a:close/>
              </a:path>
            </a:pathLst>
          </a:custGeom>
          <a:gradFill rotWithShape="0">
            <a:gsLst>
              <a:gs pos="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й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2" name="AutoShape 5"/>
          <p:cNvSpPr/>
          <p:nvPr/>
        </p:nvSpPr>
        <p:spPr>
          <a:xfrm>
            <a:off x="5796000" y="6346800"/>
            <a:ext cx="1979640" cy="501840"/>
          </a:xfrm>
          <a:custGeom>
            <a:avLst/>
            <a:gdLst>
              <a:gd name="textAreaLeft" fmla="*/ 32400 w 1979640"/>
              <a:gd name="textAreaRight" fmla="*/ 1947240 w 1979640"/>
              <a:gd name="textAreaTop" fmla="*/ 32400 h 501840"/>
              <a:gd name="textAreaBottom" fmla="*/ 469440 h 501840"/>
            </a:gdLst>
            <a:ahLst/>
            <a:rect l="textAreaLeft" t="textAreaTop" r="textAreaRight" b="textAreaBottom"/>
            <a:pathLst>
              <a:path w="85161" h="21600">
                <a:moveTo>
                  <a:pt x="0" y="0"/>
                </a:moveTo>
                <a:lnTo>
                  <a:pt x="85161" y="0"/>
                </a:lnTo>
                <a:lnTo>
                  <a:pt x="85161" y="21600"/>
                </a:lnTo>
                <a:lnTo>
                  <a:pt x="0" y="21600"/>
                </a:lnTo>
                <a:close/>
              </a:path>
              <a:path fill="lightenLess" w="85161" h="21600">
                <a:moveTo>
                  <a:pt x="0" y="0"/>
                </a:moveTo>
                <a:lnTo>
                  <a:pt x="85161" y="0"/>
                </a:lnTo>
                <a:lnTo>
                  <a:pt x="83761" y="1400"/>
                </a:lnTo>
                <a:lnTo>
                  <a:pt x="1400" y="1400"/>
                </a:lnTo>
                <a:close/>
              </a:path>
              <a:path fill="darken" w="85161" h="21600">
                <a:moveTo>
                  <a:pt x="85161" y="0"/>
                </a:moveTo>
                <a:lnTo>
                  <a:pt x="85161" y="21600"/>
                </a:lnTo>
                <a:lnTo>
                  <a:pt x="83761" y="20200"/>
                </a:lnTo>
                <a:lnTo>
                  <a:pt x="83761" y="1400"/>
                </a:lnTo>
                <a:close/>
              </a:path>
              <a:path fill="darkenLess" w="85161" h="21600">
                <a:moveTo>
                  <a:pt x="8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761" y="20200"/>
                </a:lnTo>
                <a:close/>
              </a:path>
              <a:path fill="lighten" w="8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5161" h="21600">
                <a:moveTo>
                  <a:pt x="35574" y="10800"/>
                </a:moveTo>
                <a:lnTo>
                  <a:pt x="49587" y="3794"/>
                </a:lnTo>
                <a:lnTo>
                  <a:pt x="49587" y="17806"/>
                </a:lnTo>
                <a:close/>
              </a:path>
            </a:pathLst>
          </a:custGeom>
          <a:gradFill rotWithShape="0">
            <a:gsLst>
              <a:gs pos="0">
                <a:srgbClr val="cc66ff">
                  <a:alpha val="81176"/>
                </a:srgbClr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рнуться к тест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0066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63120" y="139680"/>
            <a:ext cx="707724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Pristina"/>
              </a:rPr>
              <a:t>Немного о проект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152280" y="1484280"/>
            <a:ext cx="874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ristin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Pristina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Pristina"/>
              </a:rPr>
              <a:t>  </a:t>
            </a:r>
            <a:r>
              <a:rPr b="1" lang="ru-RU" sz="2800" spc="-1" strike="noStrike">
                <a:solidFill>
                  <a:srgbClr val="ffff99"/>
                </a:solidFill>
                <a:latin typeface="Pristina"/>
              </a:rPr>
              <a:t>В</a:t>
            </a:r>
            <a:r>
              <a:rPr b="0" lang="ru-RU" sz="2800" spc="-1" strike="noStrike">
                <a:solidFill>
                  <a:srgbClr val="ffff99"/>
                </a:solidFill>
                <a:latin typeface="Pristina"/>
              </a:rPr>
              <a:t> </a:t>
            </a:r>
            <a:r>
              <a:rPr b="1" lang="ru-RU" sz="2800" spc="-1" strike="noStrike">
                <a:solidFill>
                  <a:srgbClr val="ffff99"/>
                </a:solidFill>
                <a:latin typeface="Pristina"/>
              </a:rPr>
              <a:t>данном проекте вы познакомитесь  с особенностями каждого из типов темперамента, узнаете о том, как тот или иной тип темперамента проявляется в поведении 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Pristina"/>
              </a:rPr>
              <a:t>         </a:t>
            </a:r>
            <a:r>
              <a:rPr b="1" lang="ru-RU" sz="2800" spc="-1" strike="noStrike">
                <a:solidFill>
                  <a:srgbClr val="ffff99"/>
                </a:solidFill>
                <a:latin typeface="Pristina"/>
              </a:rPr>
              <a:t>Вы найдете для себя что-то новое и интересное!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5" name="tichinabet 2222.mp3" descr=""/>
          <p:cNvPicPr/>
          <p:nvPr/>
        </p:nvPicPr>
        <p:blipFill>
          <a:blip r:embed="rId1"/>
          <a:stretch/>
        </p:blipFill>
        <p:spPr>
          <a:xfrm>
            <a:off x="8101080" y="139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8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980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10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10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зультаты тес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 выбрали картинку под номером 3, это значит, что вы поведете себя в этой ситуации как холерик!!!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5" name="AutoShape 4"/>
          <p:cNvSpPr/>
          <p:nvPr/>
        </p:nvSpPr>
        <p:spPr>
          <a:xfrm>
            <a:off x="8101080" y="6381720"/>
            <a:ext cx="1042920" cy="538200"/>
          </a:xfrm>
          <a:custGeom>
            <a:avLst/>
            <a:gdLst>
              <a:gd name="textAreaLeft" fmla="*/ 34560 w 1042920"/>
              <a:gd name="textAreaRight" fmla="*/ 1008360 w 10429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41843" h="21600">
                <a:moveTo>
                  <a:pt x="0" y="0"/>
                </a:moveTo>
                <a:lnTo>
                  <a:pt x="41843" y="0"/>
                </a:lnTo>
                <a:lnTo>
                  <a:pt x="41843" y="21600"/>
                </a:lnTo>
                <a:lnTo>
                  <a:pt x="0" y="21600"/>
                </a:lnTo>
                <a:close/>
              </a:path>
              <a:path fill="lightenLess" w="41843" h="21600">
                <a:moveTo>
                  <a:pt x="0" y="0"/>
                </a:moveTo>
                <a:lnTo>
                  <a:pt x="41843" y="0"/>
                </a:lnTo>
                <a:lnTo>
                  <a:pt x="40443" y="1400"/>
                </a:lnTo>
                <a:lnTo>
                  <a:pt x="1400" y="1400"/>
                </a:lnTo>
                <a:close/>
              </a:path>
              <a:path fill="darken" w="41843" h="21600">
                <a:moveTo>
                  <a:pt x="41843" y="0"/>
                </a:moveTo>
                <a:lnTo>
                  <a:pt x="41843" y="21600"/>
                </a:lnTo>
                <a:lnTo>
                  <a:pt x="40443" y="20200"/>
                </a:lnTo>
                <a:lnTo>
                  <a:pt x="40443" y="1400"/>
                </a:lnTo>
                <a:close/>
              </a:path>
              <a:path fill="darkenLess" w="41843" h="21600">
                <a:moveTo>
                  <a:pt x="41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43" y="20200"/>
                </a:lnTo>
                <a:close/>
              </a:path>
              <a:path fill="lighten" w="41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843" h="21600">
                <a:moveTo>
                  <a:pt x="13915" y="3794"/>
                </a:moveTo>
                <a:lnTo>
                  <a:pt x="27928" y="10800"/>
                </a:lnTo>
                <a:lnTo>
                  <a:pt x="13915" y="17806"/>
                </a:lnTo>
                <a:close/>
              </a:path>
            </a:pathLst>
          </a:custGeom>
          <a:gradFill rotWithShape="0">
            <a:gsLst>
              <a:gs pos="0">
                <a:srgbClr val="cc66ff">
                  <a:alpha val="99215"/>
                </a:srgbClr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й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6" name="AutoShape 5"/>
          <p:cNvSpPr/>
          <p:nvPr/>
        </p:nvSpPr>
        <p:spPr>
          <a:xfrm>
            <a:off x="5867280" y="6381720"/>
            <a:ext cx="2051280" cy="538200"/>
          </a:xfrm>
          <a:custGeom>
            <a:avLst/>
            <a:gdLst>
              <a:gd name="textAreaLeft" fmla="*/ 34560 w 2051280"/>
              <a:gd name="textAreaRight" fmla="*/ 2016720 w 20512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82285" h="21600">
                <a:moveTo>
                  <a:pt x="0" y="0"/>
                </a:moveTo>
                <a:lnTo>
                  <a:pt x="82285" y="0"/>
                </a:lnTo>
                <a:lnTo>
                  <a:pt x="82285" y="21600"/>
                </a:lnTo>
                <a:lnTo>
                  <a:pt x="0" y="21600"/>
                </a:lnTo>
                <a:close/>
              </a:path>
              <a:path fill="lightenLess" w="82285" h="21600">
                <a:moveTo>
                  <a:pt x="0" y="0"/>
                </a:moveTo>
                <a:lnTo>
                  <a:pt x="82285" y="0"/>
                </a:lnTo>
                <a:lnTo>
                  <a:pt x="80885" y="1400"/>
                </a:lnTo>
                <a:lnTo>
                  <a:pt x="1400" y="1400"/>
                </a:lnTo>
                <a:close/>
              </a:path>
              <a:path fill="darken" w="82285" h="21600">
                <a:moveTo>
                  <a:pt x="82285" y="0"/>
                </a:moveTo>
                <a:lnTo>
                  <a:pt x="82285" y="21600"/>
                </a:lnTo>
                <a:lnTo>
                  <a:pt x="80885" y="20200"/>
                </a:lnTo>
                <a:lnTo>
                  <a:pt x="80885" y="1400"/>
                </a:lnTo>
                <a:close/>
              </a:path>
              <a:path fill="darkenLess" w="82285" h="21600">
                <a:moveTo>
                  <a:pt x="82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885" y="20200"/>
                </a:lnTo>
                <a:close/>
              </a:path>
              <a:path fill="lighten" w="82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285" h="21600">
                <a:moveTo>
                  <a:pt x="34136" y="10800"/>
                </a:moveTo>
                <a:lnTo>
                  <a:pt x="48149" y="3794"/>
                </a:lnTo>
                <a:lnTo>
                  <a:pt x="48149" y="17806"/>
                </a:lnTo>
                <a:close/>
              </a:path>
            </a:pathLst>
          </a:custGeom>
          <a:gradFill rotWithShape="0">
            <a:gsLst>
              <a:gs pos="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рнуться к тест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sh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зультаты тес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 выбрали картинку под номером 4, это значит, что вы поведете себя в этой ситуации как флегматик!!!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9" name="AutoShape 4"/>
          <p:cNvSpPr/>
          <p:nvPr/>
        </p:nvSpPr>
        <p:spPr>
          <a:xfrm>
            <a:off x="8101080" y="6429240"/>
            <a:ext cx="1042920" cy="42876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2514" h="21600">
                <a:moveTo>
                  <a:pt x="0" y="0"/>
                </a:moveTo>
                <a:lnTo>
                  <a:pt x="52514" y="0"/>
                </a:lnTo>
                <a:lnTo>
                  <a:pt x="52514" y="21600"/>
                </a:lnTo>
                <a:lnTo>
                  <a:pt x="0" y="21600"/>
                </a:lnTo>
                <a:close/>
              </a:path>
              <a:path fill="lightenLess" w="52514" h="21600">
                <a:moveTo>
                  <a:pt x="0" y="0"/>
                </a:moveTo>
                <a:lnTo>
                  <a:pt x="52514" y="0"/>
                </a:lnTo>
                <a:lnTo>
                  <a:pt x="51114" y="1400"/>
                </a:lnTo>
                <a:lnTo>
                  <a:pt x="1400" y="1400"/>
                </a:lnTo>
                <a:close/>
              </a:path>
              <a:path fill="darken" w="52514" h="21600">
                <a:moveTo>
                  <a:pt x="52514" y="0"/>
                </a:moveTo>
                <a:lnTo>
                  <a:pt x="52514" y="21600"/>
                </a:lnTo>
                <a:lnTo>
                  <a:pt x="51114" y="20200"/>
                </a:lnTo>
                <a:lnTo>
                  <a:pt x="51114" y="1400"/>
                </a:lnTo>
                <a:close/>
              </a:path>
              <a:path fill="darkenLess" w="52514" h="21600">
                <a:moveTo>
                  <a:pt x="525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114" y="20200"/>
                </a:lnTo>
                <a:close/>
              </a:path>
              <a:path fill="lighten" w="525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514" h="21600">
                <a:moveTo>
                  <a:pt x="19251" y="3794"/>
                </a:moveTo>
                <a:lnTo>
                  <a:pt x="33264" y="10800"/>
                </a:lnTo>
                <a:lnTo>
                  <a:pt x="19251" y="17806"/>
                </a:lnTo>
                <a:close/>
              </a:path>
            </a:pathLst>
          </a:custGeom>
          <a:gradFill rotWithShape="0">
            <a:gsLst>
              <a:gs pos="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й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0" name="AutoShape 5"/>
          <p:cNvSpPr/>
          <p:nvPr/>
        </p:nvSpPr>
        <p:spPr>
          <a:xfrm>
            <a:off x="5651640" y="6429240"/>
            <a:ext cx="2050920" cy="419400"/>
          </a:xfrm>
          <a:custGeom>
            <a:avLst/>
            <a:gdLst>
              <a:gd name="textAreaLeft" fmla="*/ 27000 w 2050920"/>
              <a:gd name="textAreaRight" fmla="*/ 2023920 w 2050920"/>
              <a:gd name="textAreaTop" fmla="*/ 27000 h 419400"/>
              <a:gd name="textAreaBottom" fmla="*/ 392400 h 419400"/>
            </a:gdLst>
            <a:ahLst/>
            <a:rect l="textAreaLeft" t="textAreaTop" r="textAreaRight" b="textAreaBottom"/>
            <a:pathLst>
              <a:path w="105555" h="21600">
                <a:moveTo>
                  <a:pt x="0" y="0"/>
                </a:moveTo>
                <a:lnTo>
                  <a:pt x="105555" y="0"/>
                </a:lnTo>
                <a:lnTo>
                  <a:pt x="105555" y="21600"/>
                </a:lnTo>
                <a:lnTo>
                  <a:pt x="0" y="21600"/>
                </a:lnTo>
                <a:close/>
              </a:path>
              <a:path fill="lightenLess" w="105555" h="21600">
                <a:moveTo>
                  <a:pt x="0" y="0"/>
                </a:moveTo>
                <a:lnTo>
                  <a:pt x="105555" y="0"/>
                </a:lnTo>
                <a:lnTo>
                  <a:pt x="104155" y="1400"/>
                </a:lnTo>
                <a:lnTo>
                  <a:pt x="1400" y="1400"/>
                </a:lnTo>
                <a:close/>
              </a:path>
              <a:path fill="darken" w="105555" h="21600">
                <a:moveTo>
                  <a:pt x="105555" y="0"/>
                </a:moveTo>
                <a:lnTo>
                  <a:pt x="105555" y="21600"/>
                </a:lnTo>
                <a:lnTo>
                  <a:pt x="104155" y="20200"/>
                </a:lnTo>
                <a:lnTo>
                  <a:pt x="104155" y="1400"/>
                </a:lnTo>
                <a:close/>
              </a:path>
              <a:path fill="darkenLess" w="105555" h="21600">
                <a:moveTo>
                  <a:pt x="105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155" y="20200"/>
                </a:lnTo>
                <a:close/>
              </a:path>
              <a:path fill="lighten" w="105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5555" h="21600">
                <a:moveTo>
                  <a:pt x="45771" y="10800"/>
                </a:moveTo>
                <a:lnTo>
                  <a:pt x="59784" y="3794"/>
                </a:lnTo>
                <a:lnTo>
                  <a:pt x="59784" y="17806"/>
                </a:lnTo>
                <a:close/>
              </a:path>
            </a:pathLst>
          </a:custGeom>
          <a:gradFill rotWithShape="0">
            <a:gsLst>
              <a:gs pos="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рнуться к тест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 думаю, что вы нашли для себя что-то интересное, новое и немного отдохнули!!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68" dur="2000"/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2000"/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0" dur="2000"/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73" dur="1000"/>
                                        <p:tgtEl>
                                          <p:spTgt spid="1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/>
                                        <p:tgtEl>
                                          <p:spTgt spid="1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5" dur="1000"/>
                                        <p:tgtEl>
                                          <p:spTgt spid="1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78" dur="1000"/>
                                        <p:tgtEl>
                                          <p:spTgt spid="1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0"/>
                                        <p:tgtEl>
                                          <p:spTgt spid="1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0" dur="1000"/>
                                        <p:tgtEl>
                                          <p:spTgt spid="1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2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83" dur="1000"/>
                                        <p:tgtEl>
                                          <p:spTgt spid="1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0"/>
                                        <p:tgtEl>
                                          <p:spTgt spid="1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5" dur="1000"/>
                                        <p:tgtEl>
                                          <p:spTgt spid="1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AutoShape 11"/>
          <p:cNvSpPr/>
          <p:nvPr/>
        </p:nvSpPr>
        <p:spPr>
          <a:xfrm>
            <a:off x="4648320" y="1905120"/>
            <a:ext cx="4038480" cy="3971880"/>
          </a:xfrm>
          <a:prstGeom prst="roundRect">
            <a:avLst>
              <a:gd name="adj" fmla="val 16667"/>
            </a:avLst>
          </a:prstGeom>
          <a:solidFill>
            <a:srgbClr val="6699ff">
              <a:alpha val="57000"/>
            </a:srgbClr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7" name="AutoShape 10"/>
          <p:cNvSpPr/>
          <p:nvPr/>
        </p:nvSpPr>
        <p:spPr>
          <a:xfrm>
            <a:off x="457200" y="1905120"/>
            <a:ext cx="3970440" cy="3971880"/>
          </a:xfrm>
          <a:custGeom>
            <a:avLst/>
            <a:gdLst>
              <a:gd name="textAreaLeft" fmla="*/ 193680 w 3970440"/>
              <a:gd name="textAreaRight" fmla="*/ 3776760 w 3970440"/>
              <a:gd name="textAreaTop" fmla="*/ 193680 h 3971880"/>
              <a:gd name="textAreaBottom" fmla="*/ 3778200 h 3971880"/>
            </a:gdLst>
            <a:ahLst/>
            <a:rect l="textAreaLeft" t="textAreaTop" r="textAreaRight" b="textAreaBottom"/>
            <a:pathLst>
              <a:path w="21600" h="21608">
                <a:moveTo>
                  <a:pt x="3600" y="0"/>
                </a:moveTo>
                <a:arcTo wR="3600" hR="3600" stAng="16200000" swAng="-5400000"/>
                <a:lnTo>
                  <a:pt x="0" y="18008"/>
                </a:lnTo>
                <a:arcTo wR="3600" hR="3600" stAng="10800000" swAng="-5400000"/>
                <a:lnTo>
                  <a:pt x="18000" y="216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99ff">
              <a:alpha val="53000"/>
            </a:srgbClr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ОДЕРЖ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1" action="ppaction://hlinksldjump"/>
              </a:rPr>
              <a:t>Понятие темперамен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Виды темперамен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3" action="ppaction://hlinksldjump"/>
              </a:rPr>
              <a:t>Тес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Характеристики темперамен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5" action="ppaction://hlinksldjump"/>
              </a:rPr>
              <a:t>Темперамент и свойств нервной систем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6" action="ppaction://hlinksldjump"/>
              </a:rPr>
              <a:t>Круг Айзен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7" action="ppaction://hlinksldjump"/>
              </a:rPr>
              <a:t>Тип темперамента в зависимости от свойств лич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48320" y="2205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8" action="ppaction://hlinksldjump"/>
              </a:rPr>
              <a:t>Тес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9" action="ppaction://hlinksldjump"/>
              </a:rPr>
              <a:t>Проявление качеств лич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10" action="ppaction://hlinksldjump"/>
              </a:rPr>
              <a:t>в зависимости от темперамент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11" action="ppaction://hlinksldjump"/>
              </a:rPr>
              <a:t>«Отдохнём!!!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ircl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3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10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1000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1000"/>
                                        <p:tgtEl>
                                          <p:spTgt spid="10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AutoShape 25"/>
          <p:cNvSpPr/>
          <p:nvPr/>
        </p:nvSpPr>
        <p:spPr>
          <a:xfrm>
            <a:off x="228600" y="1539720"/>
            <a:ext cx="8423280" cy="4158360"/>
          </a:xfrm>
          <a:prstGeom prst="roundRect">
            <a:avLst>
              <a:gd name="adj" fmla="val 16667"/>
            </a:avLst>
          </a:prstGeom>
          <a:solidFill>
            <a:srgbClr val="cc99ff">
              <a:alpha val="24000"/>
            </a:srgbClr>
          </a:solidFill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Темперамент (от латинского temperamentum – надлежащее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соотношение частей), особенности психики, объясняющие образ действий человека в той или иной ситуации. Отражает динамическую, а не содержательную сторону психической деятельност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i="1" lang="ru-RU" sz="2000" spc="-1" strike="noStrike">
                <a:solidFill>
                  <a:srgbClr val="000099"/>
                </a:solidFill>
                <a:latin typeface="Times New Roman"/>
              </a:rPr>
              <a:t>Выделяются две ведущие характеристики: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Активность, в которой человек взаимодействует с окружающим миром. Она проявляется в темпе, быстроте, интенсивности действи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Эмоциональность, которая выражается в чувствительности, импульсивности и впечатлитель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246240" y="17604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онятие темперамен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3" name="AutoShape 24">
            <a:hlinkClick r:id="rId2" action="ppaction://hlinksldjump"/>
          </p:cNvPr>
          <p:cNvSpPr/>
          <p:nvPr/>
        </p:nvSpPr>
        <p:spPr>
          <a:xfrm>
            <a:off x="7596360" y="6381720"/>
            <a:ext cx="1547640" cy="476280"/>
          </a:xfrm>
          <a:custGeom>
            <a:avLst/>
            <a:gdLst>
              <a:gd name="textAreaLeft" fmla="*/ 30600 w 1547640"/>
              <a:gd name="textAreaRight" fmla="*/ 1517040 w 1547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70151" h="21600">
                <a:moveTo>
                  <a:pt x="0" y="0"/>
                </a:moveTo>
                <a:lnTo>
                  <a:pt x="70151" y="0"/>
                </a:lnTo>
                <a:lnTo>
                  <a:pt x="70151" y="21600"/>
                </a:lnTo>
                <a:lnTo>
                  <a:pt x="0" y="21600"/>
                </a:lnTo>
                <a:close/>
              </a:path>
              <a:path fill="lightenLess" w="70151" h="21600">
                <a:moveTo>
                  <a:pt x="0" y="0"/>
                </a:moveTo>
                <a:lnTo>
                  <a:pt x="70151" y="0"/>
                </a:lnTo>
                <a:lnTo>
                  <a:pt x="68751" y="1400"/>
                </a:lnTo>
                <a:lnTo>
                  <a:pt x="1400" y="1400"/>
                </a:lnTo>
                <a:close/>
              </a:path>
              <a:path fill="darken" w="70151" h="21600">
                <a:moveTo>
                  <a:pt x="70151" y="0"/>
                </a:moveTo>
                <a:lnTo>
                  <a:pt x="70151" y="21600"/>
                </a:lnTo>
                <a:lnTo>
                  <a:pt x="68751" y="20200"/>
                </a:lnTo>
                <a:lnTo>
                  <a:pt x="68751" y="1400"/>
                </a:lnTo>
                <a:close/>
              </a:path>
              <a:path fill="darkenLess" w="70151" h="21600">
                <a:moveTo>
                  <a:pt x="70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51" y="20200"/>
                </a:lnTo>
                <a:close/>
              </a:path>
              <a:path fill="lighten" w="70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0151" h="21600">
                <a:moveTo>
                  <a:pt x="31577" y="10800"/>
                </a:moveTo>
                <a:lnTo>
                  <a:pt x="42082" y="3794"/>
                </a:lnTo>
                <a:lnTo>
                  <a:pt x="42082" y="17806"/>
                </a:lnTo>
                <a:close/>
              </a:path>
              <a:path fill="darken" w="70151" h="21600">
                <a:moveTo>
                  <a:pt x="28069" y="3794"/>
                </a:moveTo>
                <a:lnTo>
                  <a:pt x="29731" y="3794"/>
                </a:lnTo>
                <a:lnTo>
                  <a:pt x="29731" y="17806"/>
                </a:lnTo>
                <a:lnTo>
                  <a:pt x="28069" y="17806"/>
                </a:lnTo>
                <a:close/>
              </a:path>
            </a:pathLst>
          </a:custGeom>
          <a:solidFill>
            <a:srgbClr val="33ccff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00" fill="hold"/>
                                        <p:tgtEl>
                                          <p:spTgt spid="10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00" fill="hold"/>
                                        <p:tgtEl>
                                          <p:spTgt spid="10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00" fill="hold"/>
                                        <p:tgtEl>
                                          <p:spTgt spid="10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9999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AutoShape 93"/>
          <p:cNvSpPr/>
          <p:nvPr/>
        </p:nvSpPr>
        <p:spPr>
          <a:xfrm rot="21277200">
            <a:off x="2644560" y="3160440"/>
            <a:ext cx="3759120" cy="268200"/>
          </a:xfrm>
          <a:prstGeom prst="rightArrow">
            <a:avLst>
              <a:gd name="adj1" fmla="val 50000"/>
              <a:gd name="adj2" fmla="val 350403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5" name="AutoShape 94"/>
          <p:cNvSpPr/>
          <p:nvPr/>
        </p:nvSpPr>
        <p:spPr>
          <a:xfrm rot="325200">
            <a:off x="2644560" y="3716280"/>
            <a:ext cx="3759120" cy="268200"/>
          </a:xfrm>
          <a:prstGeom prst="rightArrow">
            <a:avLst>
              <a:gd name="adj1" fmla="val 50000"/>
              <a:gd name="adj2" fmla="val 350403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6" name="AutoShape 95"/>
          <p:cNvSpPr/>
          <p:nvPr/>
        </p:nvSpPr>
        <p:spPr>
          <a:xfrm rot="1060200">
            <a:off x="2410920" y="4292640"/>
            <a:ext cx="3759480" cy="268200"/>
          </a:xfrm>
          <a:prstGeom prst="rightArrow">
            <a:avLst>
              <a:gd name="adj1" fmla="val 50000"/>
              <a:gd name="adj2" fmla="val 350436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иды темперамент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8" name="AutoShape 19">
            <a:hlinkClick r:id="rId1" action="ppaction://hlinksldjump"/>
          </p:cNvPr>
          <p:cNvSpPr/>
          <p:nvPr/>
        </p:nvSpPr>
        <p:spPr>
          <a:xfrm>
            <a:off x="7524720" y="6381720"/>
            <a:ext cx="1619280" cy="476280"/>
          </a:xfrm>
          <a:custGeom>
            <a:avLst/>
            <a:gdLst>
              <a:gd name="textAreaLeft" fmla="*/ 30600 w 1619280"/>
              <a:gd name="textAreaRight" fmla="*/ 1588680 w 1619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73398" h="21600">
                <a:moveTo>
                  <a:pt x="0" y="0"/>
                </a:moveTo>
                <a:lnTo>
                  <a:pt x="73398" y="0"/>
                </a:lnTo>
                <a:lnTo>
                  <a:pt x="73398" y="21600"/>
                </a:lnTo>
                <a:lnTo>
                  <a:pt x="0" y="21600"/>
                </a:lnTo>
                <a:close/>
              </a:path>
              <a:path fill="lightenLess" w="73398" h="21600">
                <a:moveTo>
                  <a:pt x="0" y="0"/>
                </a:moveTo>
                <a:lnTo>
                  <a:pt x="73398" y="0"/>
                </a:lnTo>
                <a:lnTo>
                  <a:pt x="71998" y="1400"/>
                </a:lnTo>
                <a:lnTo>
                  <a:pt x="1400" y="1400"/>
                </a:lnTo>
                <a:close/>
              </a:path>
              <a:path fill="darken" w="73398" h="21600">
                <a:moveTo>
                  <a:pt x="73398" y="0"/>
                </a:moveTo>
                <a:lnTo>
                  <a:pt x="73398" y="21600"/>
                </a:lnTo>
                <a:lnTo>
                  <a:pt x="71998" y="20200"/>
                </a:lnTo>
                <a:lnTo>
                  <a:pt x="71998" y="1400"/>
                </a:lnTo>
                <a:close/>
              </a:path>
              <a:path fill="darkenLess" w="73398" h="21600">
                <a:moveTo>
                  <a:pt x="73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98" y="20200"/>
                </a:lnTo>
                <a:close/>
              </a:path>
              <a:path fill="lighten" w="73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398" h="21600">
                <a:moveTo>
                  <a:pt x="36699" y="3837"/>
                </a:moveTo>
                <a:lnTo>
                  <a:pt x="39275" y="6448"/>
                </a:lnTo>
                <a:lnTo>
                  <a:pt x="39275" y="4707"/>
                </a:lnTo>
                <a:lnTo>
                  <a:pt x="41051" y="4707"/>
                </a:lnTo>
                <a:lnTo>
                  <a:pt x="41051" y="8224"/>
                </a:lnTo>
                <a:lnTo>
                  <a:pt x="43662" y="10800"/>
                </a:lnTo>
                <a:lnTo>
                  <a:pt x="42008" y="10800"/>
                </a:lnTo>
                <a:lnTo>
                  <a:pt x="42008" y="17989"/>
                </a:lnTo>
                <a:lnTo>
                  <a:pt x="31390" y="17989"/>
                </a:lnTo>
                <a:lnTo>
                  <a:pt x="31390" y="10800"/>
                </a:lnTo>
                <a:lnTo>
                  <a:pt x="29736" y="10800"/>
                </a:lnTo>
                <a:close/>
              </a:path>
              <a:path fill="darkenLess" w="73398" h="21600">
                <a:moveTo>
                  <a:pt x="39275" y="6448"/>
                </a:moveTo>
                <a:lnTo>
                  <a:pt x="39275" y="4707"/>
                </a:lnTo>
                <a:lnTo>
                  <a:pt x="41051" y="4707"/>
                </a:lnTo>
                <a:lnTo>
                  <a:pt x="41051" y="8224"/>
                </a:lnTo>
                <a:close/>
              </a:path>
              <a:path fill="darkenLess" w="73398" h="21600">
                <a:moveTo>
                  <a:pt x="35776" y="14299"/>
                </a:moveTo>
                <a:lnTo>
                  <a:pt x="37621" y="14299"/>
                </a:lnTo>
                <a:lnTo>
                  <a:pt x="37621" y="17989"/>
                </a:lnTo>
                <a:lnTo>
                  <a:pt x="42008" y="17989"/>
                </a:lnTo>
                <a:lnTo>
                  <a:pt x="42008" y="10800"/>
                </a:lnTo>
                <a:lnTo>
                  <a:pt x="31390" y="10800"/>
                </a:lnTo>
                <a:lnTo>
                  <a:pt x="31390" y="17989"/>
                </a:lnTo>
                <a:lnTo>
                  <a:pt x="35776" y="17989"/>
                </a:lnTo>
                <a:close/>
              </a:path>
            </a:pathLst>
          </a:custGeom>
          <a:solidFill>
            <a:srgbClr val="33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9" name="AutoShape 85"/>
          <p:cNvSpPr/>
          <p:nvPr/>
        </p:nvSpPr>
        <p:spPr>
          <a:xfrm rot="20667000">
            <a:off x="2644560" y="2587320"/>
            <a:ext cx="3759120" cy="268200"/>
          </a:xfrm>
          <a:prstGeom prst="rightArrow">
            <a:avLst>
              <a:gd name="adj1" fmla="val 50000"/>
              <a:gd name="adj2" fmla="val 350403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0" name="AutoShape 72"/>
          <p:cNvSpPr/>
          <p:nvPr/>
        </p:nvSpPr>
        <p:spPr>
          <a:xfrm>
            <a:off x="601560" y="3160800"/>
            <a:ext cx="2232000" cy="82368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Tahoma"/>
              </a:rPr>
              <a:t>темперамен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1" name="AutoShape 87"/>
          <p:cNvSpPr/>
          <p:nvPr/>
        </p:nvSpPr>
        <p:spPr>
          <a:xfrm>
            <a:off x="6004080" y="1700280"/>
            <a:ext cx="1782720" cy="863640"/>
          </a:xfrm>
          <a:prstGeom prst="octagon">
            <a:avLst>
              <a:gd name="adj" fmla="val 29287"/>
            </a:avLst>
          </a:prstGeom>
          <a:solidFill>
            <a:srgbClr val="6666ff">
              <a:alpha val="70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cc"/>
                </a:solidFill>
                <a:latin typeface="Tahoma"/>
              </a:rPr>
              <a:t>флегмат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2" name="Oval 88"/>
          <p:cNvSpPr/>
          <p:nvPr/>
        </p:nvSpPr>
        <p:spPr>
          <a:xfrm>
            <a:off x="5864400" y="3811680"/>
            <a:ext cx="2003400" cy="736560"/>
          </a:xfrm>
          <a:prstGeom prst="ellipse">
            <a:avLst/>
          </a:prstGeom>
          <a:solidFill>
            <a:srgbClr val="c0c0c0">
              <a:alpha val="9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еланхол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AutoShape 89"/>
          <p:cNvSpPr/>
          <p:nvPr/>
        </p:nvSpPr>
        <p:spPr>
          <a:xfrm>
            <a:off x="5864400" y="2855880"/>
            <a:ext cx="2290680" cy="706320"/>
          </a:xfrm>
          <a:prstGeom prst="parallelogram">
            <a:avLst>
              <a:gd name="adj" fmla="val 81078"/>
            </a:avLst>
          </a:prstGeom>
          <a:solidFill>
            <a:srgbClr val="ff0000">
              <a:alpha val="82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холер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AutoShape 92"/>
          <p:cNvSpPr/>
          <p:nvPr/>
        </p:nvSpPr>
        <p:spPr>
          <a:xfrm>
            <a:off x="5513400" y="4791240"/>
            <a:ext cx="1643040" cy="796680"/>
          </a:xfrm>
          <a:prstGeom prst="roundRect">
            <a:avLst>
              <a:gd name="adj" fmla="val 16667"/>
            </a:avLst>
          </a:prstGeom>
          <a:solidFill>
            <a:srgbClr val="ffff00">
              <a:alpha val="63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Tahoma"/>
              </a:rPr>
              <a:t>сангвин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5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Проведем небольшой тест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Хотите узнать о своем типе темперамента?</a:t>
            </a: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Tahoma"/>
              </a:rPr>
              <a:t>Для теста вам понадобится листочек и ручка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c1c1c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1c1c1c"/>
                </a:solidFill>
                <a:latin typeface="Times New Roman"/>
              </a:rPr>
              <a:t>Вам будут приведены столбики: из столбиков выберете наиболее подходящие вам характеристики, подсчитав результаты, определите свой темперамен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c1c1c"/>
                </a:solidFill>
                <a:latin typeface="Times New Roman"/>
              </a:rPr>
              <a:t>(тест приведен на следующем слайд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AutoShape 4"/>
          <p:cNvSpPr/>
          <p:nvPr/>
        </p:nvSpPr>
        <p:spPr>
          <a:xfrm>
            <a:off x="395280" y="0"/>
            <a:ext cx="1835280" cy="6219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САНГВИНИ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Беззабот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Легкомыслен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Живо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Актив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Общитель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Отзывчив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Разговорчив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Быстр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Трудоголи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Болту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Красноречив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Поверхност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Чутки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Болтлив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Дружелюб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Легко приспо-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сабливающийс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Ярки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Нетерпелив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Безответствен-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Ненадеж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Непостоян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Гибки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Щедр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Легки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Счастлив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AutoShape 6"/>
          <p:cNvSpPr/>
          <p:nvPr/>
        </p:nvSpPr>
        <p:spPr>
          <a:xfrm>
            <a:off x="2556000" y="0"/>
            <a:ext cx="1800000" cy="6219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ХОЛЕРИ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Импульсив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Неугомон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Вспыльчив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Актив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Легковозбудим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Пышущий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здоровье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Агрессив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Лидер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Силь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Энергич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Экстравер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Нетерпелив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Инициатор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Шум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Практич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Эффектив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Забывчив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Спортив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Соперничающи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Вынослив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Доминирующи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Нетерпим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Упрям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Сердит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Деятель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9" name="AutoShape 7"/>
          <p:cNvSpPr/>
          <p:nvPr/>
        </p:nvSpPr>
        <p:spPr>
          <a:xfrm>
            <a:off x="4643280" y="0"/>
            <a:ext cx="1872000" cy="6219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МЕЛАНХОЛИ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Пессимистич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Печаль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Груст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Серьез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Нерв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Погруженный 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себ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Тихи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Сдержан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Замкнут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Скуч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Павший духо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Задумчив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Требователь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Раним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Читател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Медлитель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Мрач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Мыслител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Ум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Хорошая памя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Созерцател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Неблагодар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Неудовлетворен-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Самоотвержен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Безутеш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0" name="AutoShape 8"/>
          <p:cNvSpPr/>
          <p:nvPr/>
        </p:nvSpPr>
        <p:spPr>
          <a:xfrm>
            <a:off x="6804000" y="-71280"/>
            <a:ext cx="1871640" cy="6291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ФЛЕГМАТИ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Вниматель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Методич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Уравновешен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Пассив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Миролюбив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Задумчив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Спокой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Сдержан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Расслаблен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Нетороплив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Медлитель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Непреклон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Размерен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Тихи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Погруженный 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себ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Контролирующи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себ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Мечтатель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Любящий рутин-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ный труд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Медленно учитс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Настойчив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Упрям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Застенчив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Мудр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Уныл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1" name="Rectangle 9"/>
          <p:cNvSpPr/>
          <p:nvPr/>
        </p:nvSpPr>
        <p:spPr>
          <a:xfrm>
            <a:off x="826920" y="6480000"/>
            <a:ext cx="1008360" cy="378000"/>
          </a:xfrm>
          <a:prstGeom prst="rect">
            <a:avLst/>
          </a:prstGeom>
          <a:noFill/>
          <a:ln w="1908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2" name="Rectangle 13"/>
          <p:cNvSpPr/>
          <p:nvPr/>
        </p:nvSpPr>
        <p:spPr>
          <a:xfrm>
            <a:off x="2916360" y="6480000"/>
            <a:ext cx="1008000" cy="378000"/>
          </a:xfrm>
          <a:prstGeom prst="rect">
            <a:avLst/>
          </a:prstGeom>
          <a:noFill/>
          <a:ln w="1908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3" name="Rectangle 14"/>
          <p:cNvSpPr/>
          <p:nvPr/>
        </p:nvSpPr>
        <p:spPr>
          <a:xfrm>
            <a:off x="7236000" y="6480000"/>
            <a:ext cx="1008000" cy="378000"/>
          </a:xfrm>
          <a:prstGeom prst="rect">
            <a:avLst/>
          </a:prstGeom>
          <a:noFill/>
          <a:ln w="1908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4" name="Rectangle 15"/>
          <p:cNvSpPr/>
          <p:nvPr/>
        </p:nvSpPr>
        <p:spPr>
          <a:xfrm>
            <a:off x="5003640" y="6480000"/>
            <a:ext cx="1008360" cy="378000"/>
          </a:xfrm>
          <a:prstGeom prst="rect">
            <a:avLst/>
          </a:prstGeom>
          <a:noFill/>
          <a:ln w="1908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AutoShape 6"/>
          <p:cNvSpPr/>
          <p:nvPr/>
        </p:nvSpPr>
        <p:spPr>
          <a:xfrm>
            <a:off x="250920" y="1384200"/>
            <a:ext cx="8447040" cy="5207040"/>
          </a:xfrm>
          <a:prstGeom prst="roundRect">
            <a:avLst>
              <a:gd name="adj" fmla="val 16667"/>
            </a:avLst>
          </a:prstGeom>
          <a:solidFill>
            <a:srgbClr val="ff6600">
              <a:alpha val="23000"/>
            </a:srgbClr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Характеристики темпераментов</a:t>
            </a:r>
            <a:br>
              <a:rPr sz="3600"/>
            </a:br>
            <a:r>
              <a:rPr b="1" lang="ru-RU" sz="3600" spc="-1" strike="noStrike">
                <a:solidFill>
                  <a:srgbClr val="66ccff"/>
                </a:solidFill>
                <a:latin typeface="Tahoma"/>
              </a:rPr>
              <a:t>сангвини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250920" y="138384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Это человек весьма веселого нрава. Он представляется оптимистом, полным надежд, юмористом, шутником, балагуром. Сангвиник быстро воспламеняется, но столь же быстро остывает, теряет интерес к тому, что совсем ещё недавно очень его волновало и притягивало к себе. Он много обещает, но не всегда сдерживает свои обещания, легко и с удовольствием вступает в контакты с незнакомыми людьми, является хорошим собеседником. Его отличает доброта, готовность прийти на помощь. Напряженная умственная и физическая работа быстро утомляет. Сангвиник очень активен, энергичен, у него живые движения, богатая мимика. При неблагоприятных условиях и отсутствии воспитания у сангвиника могут развиваться поспешность, легкомыслие к поступкам, невнимательнос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имером сангвинического темперамента может служить знаменитый д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Артаньян – порывистый, увлекающийся герой Дюма.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8" name="Picture 7" descr="сангвиник 1"/>
          <p:cNvPicPr/>
          <p:nvPr/>
        </p:nvPicPr>
        <p:blipFill>
          <a:blip r:embed="rId1"/>
          <a:stretch/>
        </p:blipFill>
        <p:spPr>
          <a:xfrm>
            <a:off x="6948360" y="-243000"/>
            <a:ext cx="1979640" cy="1979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3000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3000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06:09:26Z</dcterms:created>
  <dc:creator>OLYA </dc:creator>
  <dc:description/>
  <cp:keywords>темперамент</cp:keywords>
  <dc:language>en-US</dc:language>
  <cp:lastModifiedBy>Admin</cp:lastModifiedBy>
  <dcterms:modified xsi:type="dcterms:W3CDTF">2013-02-12T10:15:10Z</dcterms:modified>
  <cp:revision>189</cp:revision>
  <dc:subject>темперамент</dc:subject>
  <dc:title>КОНКУРС ПРЕЗЕНТАЦИЙ И САЙТОВ</dc:title>
</cp:coreProperties>
</file>