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24.jpeg" ContentType="image/jpe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D462-2C32-4511-AC39-2E409FD0E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2A32-8C71-4476-A732-99D515D18B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я: М - меланхол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- холер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- флегма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- сангви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BDA-CCB6-4677-A437-F5D5ACD2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9E7-A4EB-476D-A856-45A99FA1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47DD8-E8D6-4220-91E6-BA299F1E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23B17-46F3-4606-9E14-7527B1AD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80B4A-1212-4341-82F0-F10F46EE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A54D7-7E61-439C-A5CE-F06F86A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2713A-9239-4E60-A1A1-62E9ED3C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4162E-DACD-4111-B4CD-7EAEEB61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631CE-1261-4A49-B442-FD8F2399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50BD7-A410-4EA0-A182-5F5DB589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64FF4-2794-4BB5-B3DD-5BBBA28E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DF0-FCF2-48B7-9F03-3F4C209A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6A1-D804-4FDE-9D95-63F68269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4EDD-AF8F-4610-B927-D7C37A9C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CE2D-A214-4862-B10B-EF407AB9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F809-258D-4CFF-B8C7-C30B0366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CD0F-1C15-4992-8516-95D55603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7B56-FC87-4C14-A42C-DA7590A7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9C3D-E527-432B-8A54-D1173475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6CC2-F1D6-4494-A1CA-39939E2D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6C4-0AE2-4430-9D0E-D96ED555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1CFD-1506-4397-9E38-01B28CA7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3FDB-30BB-445E-9423-D871664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4A5F-95A4-4EF3-824D-13A28204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0389-5030-4285-8C17-8F403C75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3833-2100-49EE-BC53-0BFF7DA6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F5F1B-AAB4-40F3-B983-CFE9426F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86405-E9A5-423D-BA00-01CF639F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9DB26-FB23-42D2-9D33-23A662D6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81399-E98E-4A67-868E-7ADBBF12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67F9D3-5173-4525-96FF-96E8BE03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5C1-18FF-4549-A156-750F5C20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99B04-FA3D-4DE8-8543-6A0AAFD9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6FFBEA-663A-4C27-81E1-AF991F3B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988C3C-2B44-4A2D-B029-E2AE95DB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DF999B-295E-4532-8B42-CE337227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3769D-9477-45D4-897C-09A23955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3B96F-BC57-4397-8980-EEC908CA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7C232B-0B7B-4C9D-AD43-0D7144F9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D128-E3DE-446C-B0E2-FBFF9964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EDC4-8553-4F29-9373-37195397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95FE-1D73-45A8-9FB6-3529D62B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D04-6B53-4092-9822-49B98435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0AD39-0EEC-4FD1-9EED-5FA3CBB5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92119-E59C-4F10-ACC5-D5A34AAE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41132-412C-44C4-93AD-539AC09A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7D03E-9D78-449E-828F-F485B6DC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DF37B-CF11-42D0-81B2-33F0533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E853-DE05-42B3-A673-74284024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4822-8596-456E-833D-D6A19535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6A6A3-4C2F-46D2-871D-CFC81071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3486-C71F-44BA-B671-EB7E8CDC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2F5C0-B70F-4BB0-80C0-83BE3858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5F7-5495-4DD4-8567-862A176C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17C10-E360-4226-81A0-40874F82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FF304-6BAD-4888-86AB-FA058BD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57C2D-0284-4A3F-8FB9-3C08F397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9E5FC-456F-4150-8E94-103C0294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C1C9-D244-43FD-A4A3-D502B3AB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C3E9A-94E2-4141-AA3C-93C7B333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7BF2C-3EC3-476A-B5AE-43840DF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04DB3-0529-4173-8DF0-FE259F08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0A597-2A38-4729-BFB9-34B59DB3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813A5-8F7B-4D24-828C-F2A77924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D13-23B8-4264-98EF-6F30346C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BA245-CFEE-4D14-8C3E-2B607425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4E79F-8544-4FD5-AB7F-E6C7A3E4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EA71C-E7F3-4C68-AFF4-D0D80D8D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AD37F-6EB3-4B54-AE54-4C67723F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B3A86-CAD8-4A63-A188-36A843EB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C9C7B-AAF0-49FA-85F7-33DF5FD7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EE8412-C421-45D2-B791-71E636EB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F9B15-35AA-496D-B302-B4B40CD5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6611D-61CA-46A5-BBC3-92051135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6EC0D-72CA-49CE-B092-352FC747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D42-3180-42BE-A16D-5C63CB18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071E2-A1D2-4A79-B281-CB4FF45F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C0970-EB7F-4905-B0EC-75F3202A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D03B6-4A51-4CD3-8DD2-71DDFD9E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7906A-1AE9-44DF-85E7-499FCE0E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DDEAB-B12F-4B92-A1A9-66BD92E9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720FB-4DCA-4865-BB5B-8F3557A9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71226-221E-4528-BE84-DE072523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0A91F-E39C-4BFB-8AA4-51A88CE9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0A487-838C-47F6-A172-E21F4D58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FC7B3-9C58-4AD8-B848-0782BF8B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EA9-9052-4DD6-8421-C2E72B7B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6047-E1D6-412C-805D-115CA421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52791-E883-433F-81E4-4485E7F6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953C8-B6D3-4FB6-98C4-8F1D257E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09675-6A32-4ECA-92F9-CE30C10E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317C6-8D70-4C1B-91CA-8DA5170F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E5E30-1540-4767-90AB-0F1F93F1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99C6F-D00F-4E4D-8349-706BA9B6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35A01-6730-47F1-9002-5A87D727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66359-0844-42D4-A471-DA530699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39D75-B464-4773-817F-18984D40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362-E80C-47CC-9BE8-9CD48040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43256-DC57-4BA8-B05B-BA296268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BC7BA-4992-4C00-9491-2DDB7E14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34670-E3CB-44B4-934A-E11B037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6BF6D-978C-40E6-8757-C3BDA254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DDAEC-B4DD-4449-80C4-A1E9C66A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3FCFB-83E1-4604-BB0B-CDA4484A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874BB-2724-4286-B9D1-F8AC84F2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5B9A0-33C7-464F-A2A2-28ABC965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E91DF-3BAB-4FAA-9052-FF709FE8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713B6-4168-44BD-A9B9-32FBAE54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B4EB-04F7-4FAF-AB04-E5B89F303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4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8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696A-5704-47A8-84A0-B54C7582C7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48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8633-D0A8-4A2E-9B61-98088DB2B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02DE-B53E-4F66-BBC6-C85CE15BC2A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3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2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3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3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0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2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443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4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45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46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8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9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0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1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2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3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5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679D-5875-4158-811B-1D7D0AC03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8C6F-C270-46B4-8BFA-64140F652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75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77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0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0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1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2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1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0E6B-B68F-451C-954F-B1C317AC6A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681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2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3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7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8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9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0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1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4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5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5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9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4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5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1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6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7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8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9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4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5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0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1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6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7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2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4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5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6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0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1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2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3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4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5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0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9C31-8FCA-43D4-9CC4-7B71D2C53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4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4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4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4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5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5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5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BF39-EFD0-4B79-888A-7154167C911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4.xml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7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24000" y="69336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ЗЕНТАЦИЯ ПО ПСИХ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187280" y="2205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те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99ff"/>
                </a:solidFill>
                <a:uFillTx/>
                <a:latin typeface="Tahoma"/>
              </a:rPr>
              <a:t>ТЕМПЕРА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99ff"/>
                </a:solidFill>
                <a:uFillTx/>
                <a:latin typeface="Tahoma"/>
              </a:rPr>
              <a:t>Педагог Казакова С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Характеристики темпераментов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меланхол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к с меланхолическим темпераментом обычно живет сложной и напряженной внутренней жизнью, придаёт большое значение всему, что касается, обладает повышенной тревожностью и ранимой душой. Меланхолик почти всегда человек сдержанный и слов на ветер не бросает. Когда он не может выполнить обещанное, то искренне страдает, даже если знает, что от него ничего не зави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я по всему, принц Гамлет и Евгений Онегин были типичными меланхоликами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1" name="Picture 7" descr="меланхолик 1"/>
          <p:cNvPicPr/>
          <p:nvPr/>
        </p:nvPicPr>
        <p:blipFill>
          <a:blip r:embed="rId1"/>
          <a:stretch/>
        </p:blipFill>
        <p:spPr>
          <a:xfrm>
            <a:off x="6886440" y="92160"/>
            <a:ext cx="2006640" cy="200664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7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700"/>
                            </p:stCondLst>
                            <p:childTnLst>
                              <p:par>
                                <p:cTn id="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100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7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2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AutoShape 6"/>
          <p:cNvSpPr/>
          <p:nvPr/>
        </p:nvSpPr>
        <p:spPr>
          <a:xfrm>
            <a:off x="250920" y="2319480"/>
            <a:ext cx="8229600" cy="2892240"/>
          </a:xfrm>
          <a:prstGeom prst="roundRect">
            <a:avLst>
              <a:gd name="adj" fmla="val 16667"/>
            </a:avLst>
          </a:prstGeom>
          <a:solidFill>
            <a:srgbClr val="ff0000">
              <a:alpha val="51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рактеристики темпераментов</a:t>
            </a:r>
            <a:br>
              <a:rPr sz="4000"/>
            </a:br>
            <a:r>
              <a:rPr b="1" lang="ru-RU" sz="3600" spc="-1" strike="noStrike">
                <a:solidFill>
                  <a:srgbClr val="6666ff"/>
                </a:solidFill>
                <a:latin typeface="Tahoma"/>
              </a:rPr>
              <a:t>холерик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кой человек обычно очень вспыльчив, горяч и несдержан. Вместе с тем холерик быстро остывает и успокаивается, если ему уступают и идут на встречу. Его душевные движения порывисты, но непродолжительны, настроение часто меняет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спомним рыцаря Дон Кихота, быстро сменявшего гнев на милость, а благородную ярость – на уныние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5" name="Picture 7" descr="холерик 1"/>
          <p:cNvPicPr/>
          <p:nvPr/>
        </p:nvPicPr>
        <p:blipFill>
          <a:blip r:embed="rId1"/>
          <a:stretch/>
        </p:blipFill>
        <p:spPr>
          <a:xfrm>
            <a:off x="7093080" y="4478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"/>
                            </p:stCondLst>
                            <p:childTnLst>
                              <p:par>
                                <p:cTn id="2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2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2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2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6699ff"/>
            </a:gs>
            <a:gs pos="100000">
              <a:srgbClr val="99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AutoShape 7"/>
          <p:cNvSpPr/>
          <p:nvPr/>
        </p:nvSpPr>
        <p:spPr>
          <a:xfrm>
            <a:off x="457200" y="1628640"/>
            <a:ext cx="8229600" cy="4475160"/>
          </a:xfrm>
          <a:prstGeom prst="roundRect">
            <a:avLst>
              <a:gd name="adj" fmla="val 16667"/>
            </a:avLst>
          </a:prstGeom>
          <a:solidFill>
            <a:srgbClr val="99ccff">
              <a:alpha val="65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рактеристики темпераментов</a:t>
            </a:r>
            <a:br>
              <a:rPr sz="4000"/>
            </a:br>
            <a:r>
              <a:rPr b="1" lang="ru-RU" sz="3600" spc="-1" strike="noStrike">
                <a:solidFill>
                  <a:srgbClr val="010199"/>
                </a:solidFill>
                <a:latin typeface="Tahoma"/>
              </a:rPr>
              <a:t>флегмат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датель этого темперамента хладнокровен. Он больше склонен к бездеятельности, чем к напряженной, активной работе. Такой человек медленно приходит в состояние возбуждения, но и успокаивается постепенно. Мимика и движения флегматика невыразительны и медлитель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ья Ильич Обломов, который проводил все время на диване, в ленивой полудреме – яркий флегма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жизни редко приходится встречать «стопроцентных» флегматиков или сангвиников,  так как большинство людей соединяют в себе черты разных темперамен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AutoShape 8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581" h="21600">
                <a:moveTo>
                  <a:pt x="40784" y="10800"/>
                </a:moveTo>
                <a:lnTo>
                  <a:pt x="54797" y="3794"/>
                </a:lnTo>
                <a:lnTo>
                  <a:pt x="54797" y="17806"/>
                </a:lnTo>
                <a:close/>
              </a:path>
            </a:pathLst>
          </a:custGeom>
          <a:solidFill>
            <a:srgbClr val="33cccc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0" name="Picture 9" descr="флегматик 1"/>
          <p:cNvPicPr/>
          <p:nvPr/>
        </p:nvPicPr>
        <p:blipFill>
          <a:blip r:embed="rId2"/>
          <a:stretch/>
        </p:blipFill>
        <p:spPr>
          <a:xfrm>
            <a:off x="7128000" y="3762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2000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8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9933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5"/>
          <p:cNvSpPr/>
          <p:nvPr/>
        </p:nvSpPr>
        <p:spPr>
          <a:xfrm>
            <a:off x="179280" y="1096920"/>
            <a:ext cx="8964720" cy="5427720"/>
          </a:xfrm>
          <a:prstGeom prst="roundRect">
            <a:avLst>
              <a:gd name="adj" fmla="val 16667"/>
            </a:avLst>
          </a:prstGeom>
          <a:solidFill>
            <a:srgbClr val="9999ff">
              <a:alpha val="76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Темперамент и свойства нервн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Определенные устойчивые сочетания свойств нервной сист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образуют типы высшей нервной деятельности,  или сокращенно – тип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НД. Темперамент, по мнению И.П.Павлова – психическое прояв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общего типа нервной системы, а типы  ВНД могут быть соотнесены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классификацией темперамент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живой» тип ВНД – сильный, уравновешенный, легко приспосабливающийся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(сангвини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безудержный» тип ВНД – сильный, неуравновешенный, подвижный, большая жизненная энергия, отсутствие самообладания, вспыльчивый, несдержанный 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(холери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инертный» тип ВНД – сильный, спокойный, медлительный 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(флегмати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слабый» тип ВНД – плохая сопротивляемость к стимулам внешней среды, пассивность, высокая чувствительность 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(меланхолик)</a:t>
            </a:r>
            <a:r>
              <a:rPr b="1" i="1" lang="ru-RU" sz="1800" spc="-1" strike="noStrike">
                <a:solidFill>
                  <a:srgbClr val="66ff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AutoShape 7">
            <a:hlinkClick r:id="rId5" action="ppaction://hlinksldjump"/>
          </p:cNvPr>
          <p:cNvSpPr/>
          <p:nvPr/>
        </p:nvSpPr>
        <p:spPr>
          <a:xfrm>
            <a:off x="7505640" y="6524640"/>
            <a:ext cx="1638360" cy="333360"/>
          </a:xfrm>
          <a:custGeom>
            <a:avLst/>
            <a:gdLst>
              <a:gd name="textAreaLeft" fmla="*/ 21600 w 1638360"/>
              <a:gd name="textAreaRight" fmla="*/ 1616760 w 163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06066" h="21600">
                <a:moveTo>
                  <a:pt x="0" y="0"/>
                </a:moveTo>
                <a:lnTo>
                  <a:pt x="106066" y="0"/>
                </a:lnTo>
                <a:lnTo>
                  <a:pt x="106066" y="21600"/>
                </a:lnTo>
                <a:lnTo>
                  <a:pt x="0" y="21600"/>
                </a:lnTo>
                <a:close/>
              </a:path>
              <a:path fill="lightenLess" w="106066" h="21600">
                <a:moveTo>
                  <a:pt x="0" y="0"/>
                </a:moveTo>
                <a:lnTo>
                  <a:pt x="106066" y="0"/>
                </a:lnTo>
                <a:lnTo>
                  <a:pt x="104666" y="1400"/>
                </a:lnTo>
                <a:lnTo>
                  <a:pt x="1400" y="1400"/>
                </a:lnTo>
                <a:close/>
              </a:path>
              <a:path fill="darken" w="106066" h="21600">
                <a:moveTo>
                  <a:pt x="106066" y="0"/>
                </a:moveTo>
                <a:lnTo>
                  <a:pt x="106066" y="21600"/>
                </a:lnTo>
                <a:lnTo>
                  <a:pt x="104666" y="20200"/>
                </a:lnTo>
                <a:lnTo>
                  <a:pt x="104666" y="1400"/>
                </a:lnTo>
                <a:close/>
              </a:path>
              <a:path fill="darkenLess" w="106066" h="21600">
                <a:moveTo>
                  <a:pt x="106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666" y="20200"/>
                </a:lnTo>
                <a:close/>
              </a:path>
              <a:path fill="lighten" w="106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6066" h="21600">
                <a:moveTo>
                  <a:pt x="49534" y="10800"/>
                </a:moveTo>
                <a:lnTo>
                  <a:pt x="60039" y="3794"/>
                </a:lnTo>
                <a:lnTo>
                  <a:pt x="60039" y="17806"/>
                </a:lnTo>
                <a:close/>
              </a:path>
              <a:path fill="darken" w="106066" h="21600">
                <a:moveTo>
                  <a:pt x="46027" y="3794"/>
                </a:moveTo>
                <a:lnTo>
                  <a:pt x="47689" y="3794"/>
                </a:lnTo>
                <a:lnTo>
                  <a:pt x="47689" y="17806"/>
                </a:lnTo>
                <a:lnTo>
                  <a:pt x="46027" y="17806"/>
                </a:lnTo>
                <a:close/>
              </a:path>
            </a:pathLst>
          </a:custGeom>
          <a:solidFill>
            <a:srgbClr val="99cc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0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темперамента в зависимости от свойств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-108000" y="980640"/>
            <a:ext cx="92520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Знаменитый английский психолог Айзенк предложил определить тип темперамента в зависимости от свойств личности:</a:t>
            </a: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1) 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экстраверсия - интроверсия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2) 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нейротизм - эмоциональная стаб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Экстравертам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свойственны общительность, стремление быть среди людей,     импульсивность, гибкость поведения, большая инициативность и высокая социальная адаптирова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Интровертам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присущи : необщительность,  уход в себя, богатый внутренний мир, социальная пассивность, склонность к самоанали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Показатель </a:t>
            </a: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"экстраверсия - интроверсия"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характеризует индивидуально – психологическую ориентацию человека либо на мир внешних объектов (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экстраверсия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), либо на внутренний субъективный мир (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интроверсия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Показатель </a:t>
            </a: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"нейротизма"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характеризует человека со стороны эмоциональной устойчивости. Показатель типов биополярен и образует шкалу, на одном полюсе которой находятся люди, характеризующиеся высокой эмоциональной устойчивостью, а на другом – нервозные, неустойчивые и плохо адаптированные 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6"/>
          <p:cNvSpPr/>
          <p:nvPr/>
        </p:nvSpPr>
        <p:spPr>
          <a:xfrm>
            <a:off x="9468000" y="4076640"/>
            <a:ext cx="2808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AutoShape 25">
            <a:hlinkClick r:id="rId1" action="ppaction://hlinksldjump"/>
          </p:cNvPr>
          <p:cNvSpPr/>
          <p:nvPr/>
        </p:nvSpPr>
        <p:spPr>
          <a:xfrm>
            <a:off x="7524720" y="6453360"/>
            <a:ext cx="1619280" cy="404640"/>
          </a:xfrm>
          <a:custGeom>
            <a:avLst/>
            <a:gdLst>
              <a:gd name="textAreaLeft" fmla="*/ 25920 w 1619280"/>
              <a:gd name="textAreaRight" fmla="*/ 1593360 w 1619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1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1" y="20200"/>
                </a:lnTo>
                <a:lnTo>
                  <a:pt x="84981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1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1" h="21600">
                <a:moveTo>
                  <a:pt x="36184" y="10800"/>
                </a:moveTo>
                <a:lnTo>
                  <a:pt x="50197" y="3794"/>
                </a:lnTo>
                <a:lnTo>
                  <a:pt x="50197" y="17806"/>
                </a:lnTo>
                <a:close/>
              </a:path>
            </a:pathLst>
          </a:custGeom>
          <a:solidFill>
            <a:srgbClr val="bbe0e3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Oval 54"/>
          <p:cNvSpPr/>
          <p:nvPr/>
        </p:nvSpPr>
        <p:spPr>
          <a:xfrm>
            <a:off x="4695840" y="537372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крыт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Oval 58"/>
          <p:cNvSpPr/>
          <p:nvPr/>
        </p:nvSpPr>
        <p:spPr>
          <a:xfrm>
            <a:off x="3506760" y="6622920"/>
            <a:ext cx="2181240" cy="262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табиль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Oval 35"/>
          <p:cNvSpPr/>
          <p:nvPr/>
        </p:nvSpPr>
        <p:spPr>
          <a:xfrm>
            <a:off x="6062760" y="241920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спыльч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Oval 57"/>
          <p:cNvSpPr/>
          <p:nvPr/>
        </p:nvSpPr>
        <p:spPr>
          <a:xfrm>
            <a:off x="3376440" y="441360"/>
            <a:ext cx="2563920" cy="323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йротиз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68240" y="-73080"/>
            <a:ext cx="3816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руг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йзен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Line 7"/>
          <p:cNvSpPr/>
          <p:nvPr/>
        </p:nvSpPr>
        <p:spPr>
          <a:xfrm flipH="1">
            <a:off x="4597200" y="3284640"/>
            <a:ext cx="6120" cy="121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AutoShape 21"/>
          <p:cNvSpPr/>
          <p:nvPr/>
        </p:nvSpPr>
        <p:spPr>
          <a:xfrm rot="8328600">
            <a:off x="4500000" y="3993840"/>
            <a:ext cx="780840" cy="360360"/>
          </a:xfrm>
          <a:prstGeom prst="pie">
            <a:avLst/>
          </a:prstGeom>
          <a:solidFill>
            <a:srgbClr val="6699ff">
              <a:alpha val="6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AutoShape 22"/>
          <p:cNvSpPr/>
          <p:nvPr/>
        </p:nvSpPr>
        <p:spPr>
          <a:xfrm rot="13065600">
            <a:off x="3816360" y="3993840"/>
            <a:ext cx="781200" cy="360360"/>
          </a:xfrm>
          <a:prstGeom prst="pie">
            <a:avLst/>
          </a:prstGeom>
          <a:solidFill>
            <a:srgbClr val="6699ff">
              <a:alpha val="6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AutoShape 23"/>
          <p:cNvSpPr/>
          <p:nvPr/>
        </p:nvSpPr>
        <p:spPr>
          <a:xfrm rot="2848800">
            <a:off x="4499640" y="3177360"/>
            <a:ext cx="780840" cy="360360"/>
          </a:xfrm>
          <a:prstGeom prst="pie">
            <a:avLst/>
          </a:prstGeom>
          <a:solidFill>
            <a:srgbClr val="6699ff">
              <a:alpha val="6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AutoShape 24"/>
          <p:cNvSpPr/>
          <p:nvPr/>
        </p:nvSpPr>
        <p:spPr>
          <a:xfrm rot="19111800">
            <a:off x="3822840" y="3212640"/>
            <a:ext cx="780840" cy="360360"/>
          </a:xfrm>
          <a:prstGeom prst="pie">
            <a:avLst/>
          </a:prstGeom>
          <a:solidFill>
            <a:srgbClr val="6699ff">
              <a:alpha val="6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Oval 25"/>
          <p:cNvSpPr/>
          <p:nvPr/>
        </p:nvSpPr>
        <p:spPr>
          <a:xfrm>
            <a:off x="90360" y="3649680"/>
            <a:ext cx="1187640" cy="210960"/>
          </a:xfrm>
          <a:prstGeom prst="ellipse">
            <a:avLst/>
          </a:prstGeom>
          <a:solidFill>
            <a:srgbClr val="6699ff">
              <a:alpha val="35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нтроверс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Oval 26"/>
          <p:cNvSpPr/>
          <p:nvPr/>
        </p:nvSpPr>
        <p:spPr>
          <a:xfrm>
            <a:off x="7524720" y="3645000"/>
            <a:ext cx="1619280" cy="210960"/>
          </a:xfrm>
          <a:prstGeom prst="ellipse">
            <a:avLst/>
          </a:prstGeom>
          <a:solidFill>
            <a:srgbClr val="6699ff">
              <a:alpha val="35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экстраверс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Line 6"/>
          <p:cNvSpPr/>
          <p:nvPr/>
        </p:nvSpPr>
        <p:spPr>
          <a:xfrm>
            <a:off x="1370160" y="3789360"/>
            <a:ext cx="6271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Oval 27"/>
          <p:cNvSpPr/>
          <p:nvPr/>
        </p:nvSpPr>
        <p:spPr>
          <a:xfrm>
            <a:off x="4500720" y="1197000"/>
            <a:ext cx="215640" cy="1800360"/>
          </a:xfrm>
          <a:prstGeom prst="ellipse">
            <a:avLst/>
          </a:prstGeom>
          <a:solidFill>
            <a:srgbClr val="6699ff">
              <a:alpha val="35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Oval 29"/>
          <p:cNvSpPr/>
          <p:nvPr/>
        </p:nvSpPr>
        <p:spPr>
          <a:xfrm>
            <a:off x="544680" y="245592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идч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Oval 30"/>
          <p:cNvSpPr/>
          <p:nvPr/>
        </p:nvSpPr>
        <p:spPr>
          <a:xfrm>
            <a:off x="258840" y="267192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ревож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Oval 31"/>
          <p:cNvSpPr/>
          <p:nvPr/>
        </p:nvSpPr>
        <p:spPr>
          <a:xfrm>
            <a:off x="1446120" y="133992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печатлите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Oval 32"/>
          <p:cNvSpPr/>
          <p:nvPr/>
        </p:nvSpPr>
        <p:spPr>
          <a:xfrm>
            <a:off x="907920" y="1808280"/>
            <a:ext cx="237672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ссимистич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Oval 33"/>
          <p:cNvSpPr/>
          <p:nvPr/>
        </p:nvSpPr>
        <p:spPr>
          <a:xfrm>
            <a:off x="1173240" y="155592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общите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Oval 34"/>
          <p:cNvSpPr/>
          <p:nvPr/>
        </p:nvSpPr>
        <p:spPr>
          <a:xfrm>
            <a:off x="695160" y="223992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держа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Oval 36"/>
          <p:cNvSpPr/>
          <p:nvPr/>
        </p:nvSpPr>
        <p:spPr>
          <a:xfrm>
            <a:off x="5254560" y="177156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тимистич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Oval 37"/>
          <p:cNvSpPr/>
          <p:nvPr/>
        </p:nvSpPr>
        <p:spPr>
          <a:xfrm>
            <a:off x="6442200" y="263520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идирующ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Oval 38"/>
          <p:cNvSpPr/>
          <p:nvPr/>
        </p:nvSpPr>
        <p:spPr>
          <a:xfrm>
            <a:off x="5465880" y="198756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мпульсив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Oval 39"/>
          <p:cNvSpPr/>
          <p:nvPr/>
        </p:nvSpPr>
        <p:spPr>
          <a:xfrm>
            <a:off x="5621400" y="220356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грессив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Oval 40"/>
          <p:cNvSpPr/>
          <p:nvPr/>
        </p:nvSpPr>
        <p:spPr>
          <a:xfrm>
            <a:off x="5254560" y="133992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ддающийся насил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Oval 41"/>
          <p:cNvSpPr/>
          <p:nvPr/>
        </p:nvSpPr>
        <p:spPr>
          <a:xfrm>
            <a:off x="5254560" y="1555920"/>
            <a:ext cx="237672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дражите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Oval 42"/>
          <p:cNvSpPr/>
          <p:nvPr/>
        </p:nvSpPr>
        <p:spPr>
          <a:xfrm>
            <a:off x="969840" y="467820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ассив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Oval 43"/>
          <p:cNvSpPr/>
          <p:nvPr/>
        </p:nvSpPr>
        <p:spPr>
          <a:xfrm>
            <a:off x="536400" y="442584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арате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Oval 44"/>
          <p:cNvSpPr/>
          <p:nvPr/>
        </p:nvSpPr>
        <p:spPr>
          <a:xfrm>
            <a:off x="1415880" y="5110200"/>
            <a:ext cx="237672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думч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Oval 45"/>
          <p:cNvSpPr/>
          <p:nvPr/>
        </p:nvSpPr>
        <p:spPr>
          <a:xfrm>
            <a:off x="247680" y="421020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ролюб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Oval 46"/>
          <p:cNvSpPr/>
          <p:nvPr/>
        </p:nvSpPr>
        <p:spPr>
          <a:xfrm>
            <a:off x="1224000" y="489420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еж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Oval 47"/>
          <p:cNvSpPr/>
          <p:nvPr/>
        </p:nvSpPr>
        <p:spPr>
          <a:xfrm>
            <a:off x="1690560" y="5326200"/>
            <a:ext cx="237672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мере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Oval 48"/>
          <p:cNvSpPr/>
          <p:nvPr/>
        </p:nvSpPr>
        <p:spPr>
          <a:xfrm>
            <a:off x="1976400" y="554184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окой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Oval 49"/>
          <p:cNvSpPr/>
          <p:nvPr/>
        </p:nvSpPr>
        <p:spPr>
          <a:xfrm>
            <a:off x="6062760" y="429264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юбящий удоб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Oval 50"/>
          <p:cNvSpPr/>
          <p:nvPr/>
        </p:nvSpPr>
        <p:spPr>
          <a:xfrm>
            <a:off x="5265720" y="494172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ззабот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Oval 51"/>
          <p:cNvSpPr/>
          <p:nvPr/>
        </p:nvSpPr>
        <p:spPr>
          <a:xfrm>
            <a:off x="4287960" y="558972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ив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Oval 52"/>
          <p:cNvSpPr/>
          <p:nvPr/>
        </p:nvSpPr>
        <p:spPr>
          <a:xfrm>
            <a:off x="4948200" y="515772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ступ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Oval 53"/>
          <p:cNvSpPr/>
          <p:nvPr/>
        </p:nvSpPr>
        <p:spPr>
          <a:xfrm>
            <a:off x="5703840" y="4508640"/>
            <a:ext cx="2376360" cy="215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говорч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Oval 55"/>
          <p:cNvSpPr/>
          <p:nvPr/>
        </p:nvSpPr>
        <p:spPr>
          <a:xfrm>
            <a:off x="5477040" y="4724280"/>
            <a:ext cx="237636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щитель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Oval 28"/>
          <p:cNvSpPr/>
          <p:nvPr/>
        </p:nvSpPr>
        <p:spPr>
          <a:xfrm>
            <a:off x="4476600" y="4537080"/>
            <a:ext cx="252720" cy="2060640"/>
          </a:xfrm>
          <a:prstGeom prst="ellipse">
            <a:avLst/>
          </a:prstGeom>
          <a:solidFill>
            <a:srgbClr val="6699ff">
              <a:alpha val="35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Oval 59"/>
          <p:cNvSpPr/>
          <p:nvPr/>
        </p:nvSpPr>
        <p:spPr>
          <a:xfrm>
            <a:off x="654120" y="2023920"/>
            <a:ext cx="2630520" cy="2462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податли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AutoShape 60">
            <a:hlinkClick r:id="rId1" action="ppaction://hlinksldjump"/>
          </p:cNvPr>
          <p:cNvSpPr/>
          <p:nvPr/>
        </p:nvSpPr>
        <p:spPr>
          <a:xfrm>
            <a:off x="7853400" y="6558120"/>
            <a:ext cx="1290600" cy="299880"/>
          </a:xfrm>
          <a:custGeom>
            <a:avLst/>
            <a:gdLst>
              <a:gd name="textAreaLeft" fmla="*/ 19440 w 1290600"/>
              <a:gd name="textAreaRight" fmla="*/ 1271160 w 129060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92875" h="21600">
                <a:moveTo>
                  <a:pt x="0" y="0"/>
                </a:moveTo>
                <a:lnTo>
                  <a:pt x="92875" y="0"/>
                </a:lnTo>
                <a:lnTo>
                  <a:pt x="92875" y="21600"/>
                </a:lnTo>
                <a:lnTo>
                  <a:pt x="0" y="21600"/>
                </a:lnTo>
                <a:close/>
              </a:path>
              <a:path fill="lightenLess" w="92875" h="21600">
                <a:moveTo>
                  <a:pt x="0" y="0"/>
                </a:moveTo>
                <a:lnTo>
                  <a:pt x="92875" y="0"/>
                </a:lnTo>
                <a:lnTo>
                  <a:pt x="91475" y="1400"/>
                </a:lnTo>
                <a:lnTo>
                  <a:pt x="1400" y="1400"/>
                </a:lnTo>
                <a:close/>
              </a:path>
              <a:path fill="darken" w="92875" h="21600">
                <a:moveTo>
                  <a:pt x="92875" y="0"/>
                </a:moveTo>
                <a:lnTo>
                  <a:pt x="92875" y="21600"/>
                </a:lnTo>
                <a:lnTo>
                  <a:pt x="91475" y="20200"/>
                </a:lnTo>
                <a:lnTo>
                  <a:pt x="91475" y="1400"/>
                </a:lnTo>
                <a:close/>
              </a:path>
              <a:path fill="darkenLess" w="92875" h="21600">
                <a:moveTo>
                  <a:pt x="92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475" y="20200"/>
                </a:lnTo>
                <a:close/>
              </a:path>
              <a:path fill="lighten" w="92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875" h="21600">
                <a:moveTo>
                  <a:pt x="39431" y="10800"/>
                </a:moveTo>
                <a:lnTo>
                  <a:pt x="53444" y="3794"/>
                </a:lnTo>
                <a:lnTo>
                  <a:pt x="53444" y="17806"/>
                </a:lnTo>
                <a:close/>
              </a:path>
            </a:pathLst>
          </a:cu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9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9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9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9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9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9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9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9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9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9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9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459640" cy="41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ПРОВЕДЕМ ЕЩЁ ОДИН  ТЕСТ!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тите узнать кто вы: экстраверт или интроверт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ам понадобится листочек и ручка!</a:t>
            </a:r>
            <a:br>
              <a:rPr sz="2800"/>
            </a:br>
            <a:br>
              <a:rPr sz="3200"/>
            </a:br>
            <a:r>
              <a:rPr b="0" lang="ru-RU" sz="3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1c1c1c"/>
                </a:solidFill>
                <a:latin typeface="Times New Roman"/>
              </a:rPr>
              <a:t>На предлагаемые вопросы нужно ответить «да» или «нет», не задумываясь.</a:t>
            </a:r>
            <a:br>
              <a:rPr sz="2400"/>
            </a:br>
            <a:r>
              <a:rPr b="1" lang="ru-RU" sz="2400" spc="-1" strike="noStrike">
                <a:solidFill>
                  <a:srgbClr val="1c1c1c"/>
                </a:solidFill>
                <a:latin typeface="Times New Roman"/>
              </a:rPr>
              <a:t>         </a:t>
            </a:r>
            <a:r>
              <a:rPr b="1" i="1" lang="ru-RU" sz="1800" spc="-1" strike="noStrike">
                <a:solidFill>
                  <a:srgbClr val="1c1c1c"/>
                </a:solidFill>
                <a:latin typeface="Times New Roman"/>
              </a:rPr>
              <a:t>(ТЕСТ И КЛЮЧ К ТЕСТУ</a:t>
            </a:r>
            <a:r>
              <a:rPr b="1" i="1" lang="en-US" sz="18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1c1c1c"/>
                </a:solidFill>
                <a:latin typeface="Times New Roman"/>
              </a:rPr>
              <a:t>ПРИВЕДЕНЫ НА СЛЕДУЮЩИХ СЛАЙД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AutoShape 4"/>
          <p:cNvSpPr/>
          <p:nvPr/>
        </p:nvSpPr>
        <p:spPr>
          <a:xfrm>
            <a:off x="0" y="0"/>
            <a:ext cx="7885080" cy="6858000"/>
          </a:xfrm>
          <a:prstGeom prst="roundRect">
            <a:avLst>
              <a:gd name="adj" fmla="val 16667"/>
            </a:avLst>
          </a:prstGeom>
          <a:solidFill>
            <a:srgbClr val="808080">
              <a:alpha val="4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i="1" lang="ru-RU" sz="1600" spc="-1" strike="noStrike">
                <a:solidFill>
                  <a:srgbClr val="ffff66"/>
                </a:solidFill>
                <a:latin typeface="Times New Roman"/>
              </a:rPr>
              <a:t>Верно ли, чт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равится тихо сидеть наедине со своими мысл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с раздражают автомобильные проб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равится глубоко исследовать один предмет, че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стоянно искать нов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чувствуете, что постоянно находитесь в движен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предпочитаете поговорить с клиентом по телефону, че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стречаться с н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с раздражают водители, которые медленно ездя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неуютно себя чувствуете, если во время разговора собеседник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дходит к вам слишком близк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больше нравится принимать участие в театральн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становках, чем смотреть 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предпочитаете спокойный пассивный отдых активно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равится, когда одновременно происходит много интересног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стараетесь  избегать встреч с людь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больше нравится, когда герои романа действуют, а не говоря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ногда вам хочется расслабитс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согласны с утверждением: «Чем больше, тем лучше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равится размышлять над своей жизнь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Бывают моменты, когда вы ощущаете в себе взрывную энергию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еобходимо немедленно действова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почитаете работать в одиночк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с больше привлекает работа, требующая немедленного действия, 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е долгого обдумыв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 редко рассказываете о себе своим друзья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ам нравится немножко пошуметь с близкими друзьями или да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накомыми вам людь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7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5"/>
          <p:cNvSpPr/>
          <p:nvPr/>
        </p:nvSpPr>
        <p:spPr>
          <a:xfrm>
            <a:off x="900000" y="549360"/>
            <a:ext cx="7201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люч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Если вы ответили «да» на восемь и более четных вопросов  и «нет» на восемь и более нечетных, значит, у вас экстравертный характе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братное распределение положительных и отрицательных ответов свидетельствует об  интроспективном отношении к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AutoShape 6">
            <a:hlinkClick r:id="rId1" action="ppaction://hlinksldjump"/>
          </p:cNvPr>
          <p:cNvSpPr/>
          <p:nvPr/>
        </p:nvSpPr>
        <p:spPr>
          <a:xfrm>
            <a:off x="7524720" y="6453360"/>
            <a:ext cx="1619280" cy="395280"/>
          </a:xfrm>
          <a:custGeom>
            <a:avLst/>
            <a:gdLst>
              <a:gd name="textAreaLeft" fmla="*/ 25560 w 1619280"/>
              <a:gd name="textAreaRight" fmla="*/ 1593720 w 1619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88424" h="21600">
                <a:moveTo>
                  <a:pt x="0" y="0"/>
                </a:moveTo>
                <a:lnTo>
                  <a:pt x="88424" y="0"/>
                </a:lnTo>
                <a:lnTo>
                  <a:pt x="88424" y="21600"/>
                </a:lnTo>
                <a:lnTo>
                  <a:pt x="0" y="21600"/>
                </a:lnTo>
                <a:close/>
              </a:path>
              <a:path fill="lightenLess" w="88424" h="21600">
                <a:moveTo>
                  <a:pt x="0" y="0"/>
                </a:moveTo>
                <a:lnTo>
                  <a:pt x="88424" y="0"/>
                </a:lnTo>
                <a:lnTo>
                  <a:pt x="87024" y="1400"/>
                </a:lnTo>
                <a:lnTo>
                  <a:pt x="1400" y="1400"/>
                </a:lnTo>
                <a:close/>
              </a:path>
              <a:path fill="darken" w="88424" h="21600">
                <a:moveTo>
                  <a:pt x="88424" y="0"/>
                </a:moveTo>
                <a:lnTo>
                  <a:pt x="88424" y="21600"/>
                </a:lnTo>
                <a:lnTo>
                  <a:pt x="87024" y="20200"/>
                </a:lnTo>
                <a:lnTo>
                  <a:pt x="87024" y="1400"/>
                </a:lnTo>
                <a:close/>
              </a:path>
              <a:path fill="darkenLess" w="88424" h="21600">
                <a:moveTo>
                  <a:pt x="8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024" y="20200"/>
                </a:lnTo>
                <a:close/>
              </a:path>
              <a:path fill="lighten" w="8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424" h="21600">
                <a:moveTo>
                  <a:pt x="37206" y="10800"/>
                </a:moveTo>
                <a:lnTo>
                  <a:pt x="51219" y="3794"/>
                </a:lnTo>
                <a:lnTo>
                  <a:pt x="51219" y="17806"/>
                </a:lnTo>
                <a:close/>
              </a:path>
            </a:pathLst>
          </a:custGeom>
          <a:solidFill>
            <a:srgbClr val="00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явление качеств личности в зависимости от темпер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4"/>
          <p:cNvSpPr/>
          <p:nvPr/>
        </p:nvSpPr>
        <p:spPr>
          <a:xfrm>
            <a:off x="2556000" y="2205000"/>
            <a:ext cx="3673440" cy="3060720"/>
          </a:xfrm>
          <a:prstGeom prst="roundRect">
            <a:avLst>
              <a:gd name="adj" fmla="val 16667"/>
            </a:avLst>
          </a:prstGeom>
          <a:solidFill>
            <a:srgbClr val="ccffcc">
              <a:alpha val="75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Роль в общ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Самооц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Уверенность в себ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Дружба и любов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Движения и поход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Аппет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С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AutoShape 7">
            <a:hlinkClick r:id="rId8" action="ppaction://hlinksldjump"/>
          </p:cNvPr>
          <p:cNvSpPr/>
          <p:nvPr/>
        </p:nvSpPr>
        <p:spPr>
          <a:xfrm>
            <a:off x="7631280" y="6391440"/>
            <a:ext cx="1512720" cy="466560"/>
          </a:xfrm>
          <a:custGeom>
            <a:avLst/>
            <a:gdLst>
              <a:gd name="textAreaLeft" fmla="*/ 30240 w 1512720"/>
              <a:gd name="textAreaRight" fmla="*/ 1482480 w 15127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9996" h="21600">
                <a:moveTo>
                  <a:pt x="0" y="0"/>
                </a:moveTo>
                <a:lnTo>
                  <a:pt x="69996" y="0"/>
                </a:lnTo>
                <a:lnTo>
                  <a:pt x="69996" y="21600"/>
                </a:lnTo>
                <a:lnTo>
                  <a:pt x="0" y="21600"/>
                </a:lnTo>
                <a:close/>
              </a:path>
              <a:path fill="lightenLess" w="69996" h="21600">
                <a:moveTo>
                  <a:pt x="0" y="0"/>
                </a:moveTo>
                <a:lnTo>
                  <a:pt x="69996" y="0"/>
                </a:lnTo>
                <a:lnTo>
                  <a:pt x="68596" y="1400"/>
                </a:lnTo>
                <a:lnTo>
                  <a:pt x="1400" y="1400"/>
                </a:lnTo>
                <a:close/>
              </a:path>
              <a:path fill="darken" w="69996" h="21600">
                <a:moveTo>
                  <a:pt x="69996" y="0"/>
                </a:moveTo>
                <a:lnTo>
                  <a:pt x="69996" y="21600"/>
                </a:lnTo>
                <a:lnTo>
                  <a:pt x="68596" y="20200"/>
                </a:lnTo>
                <a:lnTo>
                  <a:pt x="68596" y="1400"/>
                </a:lnTo>
                <a:close/>
              </a:path>
              <a:path fill="darkenLess" w="69996" h="21600">
                <a:moveTo>
                  <a:pt x="69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96" y="20200"/>
                </a:lnTo>
                <a:close/>
              </a:path>
              <a:path fill="lighten" w="69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996" h="21600">
                <a:moveTo>
                  <a:pt x="27992" y="10800"/>
                </a:moveTo>
                <a:lnTo>
                  <a:pt x="42004" y="3794"/>
                </a:lnTo>
                <a:lnTo>
                  <a:pt x="42004" y="17806"/>
                </a:lnTo>
                <a:close/>
              </a:path>
            </a:pathLst>
          </a:custGeom>
          <a:solidFill>
            <a:srgbClr val="6699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ЗЕНТАЦИЯ ПО ПСИХ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99ff"/>
                </a:solidFill>
                <a:uFillTx/>
                <a:latin typeface="Tahoma"/>
              </a:rPr>
              <a:t>ТЕМПЕРА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6699ff"/>
                </a:solidFill>
                <a:latin typeface="Tahoma"/>
              </a:rPr>
              <a:t>Педагог: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6699ff"/>
                </a:solidFill>
                <a:latin typeface="Tahoma"/>
              </a:rPr>
              <a:t>Казакова</a:t>
            </a:r>
            <a:r>
              <a:rPr b="1" lang="ru-RU" sz="2800" spc="-1" strike="noStrike" u="sng">
                <a:solidFill>
                  <a:srgbClr val="6699ff"/>
                </a:solidFill>
                <a:uFillTx/>
                <a:latin typeface="Tahoma"/>
              </a:rPr>
              <a:t> С.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28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оль в общении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19" name="AutoShape 4"/>
          <p:cNvSpPr/>
          <p:nvPr/>
        </p:nvSpPr>
        <p:spPr>
          <a:xfrm>
            <a:off x="4643280" y="1844640"/>
            <a:ext cx="1738440" cy="531720"/>
          </a:xfrm>
          <a:prstGeom prst="octagon">
            <a:avLst>
              <a:gd name="adj" fmla="val 2928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AutoShape 5"/>
          <p:cNvSpPr/>
          <p:nvPr/>
        </p:nvSpPr>
        <p:spPr>
          <a:xfrm>
            <a:off x="2523960" y="1881360"/>
            <a:ext cx="1801800" cy="531720"/>
          </a:xfrm>
          <a:prstGeom prst="octagon">
            <a:avLst>
              <a:gd name="adj" fmla="val 2928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AutoShape 6"/>
          <p:cNvSpPr/>
          <p:nvPr/>
        </p:nvSpPr>
        <p:spPr>
          <a:xfrm>
            <a:off x="324000" y="3191040"/>
            <a:ext cx="1800000" cy="531720"/>
          </a:xfrm>
          <a:prstGeom prst="octagon">
            <a:avLst>
              <a:gd name="adj" fmla="val 2928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AutoShape 7"/>
          <p:cNvSpPr/>
          <p:nvPr/>
        </p:nvSpPr>
        <p:spPr>
          <a:xfrm>
            <a:off x="6823080" y="3184560"/>
            <a:ext cx="2089080" cy="531720"/>
          </a:xfrm>
          <a:prstGeom prst="octagon">
            <a:avLst>
              <a:gd name="adj" fmla="val 2928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23" name="AutoShape 9"/>
          <p:cNvCxnSpPr>
            <a:stCxn id="1119" idx="2"/>
            <a:endCxn id="1124" idx="0"/>
          </p:cNvCxnSpPr>
          <p:nvPr/>
        </p:nvCxnSpPr>
        <p:spPr>
          <a:xfrm>
            <a:off x="5513040" y="2376360"/>
            <a:ext cx="1080" cy="1145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24" name="AutoShape 10"/>
          <p:cNvSpPr/>
          <p:nvPr/>
        </p:nvSpPr>
        <p:spPr>
          <a:xfrm>
            <a:off x="4557240" y="3521880"/>
            <a:ext cx="1911960" cy="912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звлекател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тарается все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звесели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2560320" y="3523320"/>
            <a:ext cx="1732320" cy="912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дчиняет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преклонен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ласт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395280" y="4514760"/>
            <a:ext cx="1643040" cy="643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покойны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озерцате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991560" y="4365720"/>
            <a:ext cx="1749240" cy="643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допечны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беззащит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28" name="AutoShape 15"/>
          <p:cNvCxnSpPr>
            <a:stCxn id="1120" idx="2"/>
            <a:endCxn id="1125" idx="0"/>
          </p:cNvCxnSpPr>
          <p:nvPr/>
        </p:nvCxnSpPr>
        <p:spPr>
          <a:xfrm>
            <a:off x="3425400" y="2413080"/>
            <a:ext cx="2520" cy="11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29" name="AutoShape 16"/>
          <p:cNvCxnSpPr>
            <a:stCxn id="1121" idx="2"/>
            <a:endCxn id="1126" idx="0"/>
          </p:cNvCxnSpPr>
          <p:nvPr/>
        </p:nvCxnSpPr>
        <p:spPr>
          <a:xfrm flipH="1">
            <a:off x="1217160" y="3722760"/>
            <a:ext cx="7200" cy="792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30" name="AutoShape 17"/>
          <p:cNvCxnSpPr>
            <a:stCxn id="1122" idx="2"/>
            <a:endCxn id="1127" idx="0"/>
          </p:cNvCxnSpPr>
          <p:nvPr/>
        </p:nvCxnSpPr>
        <p:spPr>
          <a:xfrm flipH="1">
            <a:off x="7865280" y="3716280"/>
            <a:ext cx="2520" cy="650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31" name="AutoShape 19">
            <a:hlinkClick r:id="rId1" action="ppaction://hlinksldjump"/>
          </p:cNvPr>
          <p:cNvSpPr/>
          <p:nvPr/>
        </p:nvSpPr>
        <p:spPr>
          <a:xfrm>
            <a:off x="0" y="0"/>
            <a:ext cx="1327320" cy="404640"/>
          </a:xfrm>
          <a:custGeom>
            <a:avLst/>
            <a:gdLst>
              <a:gd name="textAreaLeft" fmla="*/ 25920 w 1327320"/>
              <a:gd name="textAreaRight" fmla="*/ 1301400 w 13273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0810" h="21600">
                <a:moveTo>
                  <a:pt x="0" y="0"/>
                </a:moveTo>
                <a:lnTo>
                  <a:pt x="70810" y="0"/>
                </a:lnTo>
                <a:lnTo>
                  <a:pt x="70810" y="21600"/>
                </a:lnTo>
                <a:lnTo>
                  <a:pt x="0" y="21600"/>
                </a:lnTo>
                <a:close/>
              </a:path>
              <a:path fill="lightenLess" w="70810" h="21600">
                <a:moveTo>
                  <a:pt x="0" y="0"/>
                </a:moveTo>
                <a:lnTo>
                  <a:pt x="70810" y="0"/>
                </a:lnTo>
                <a:lnTo>
                  <a:pt x="69410" y="1400"/>
                </a:lnTo>
                <a:lnTo>
                  <a:pt x="1400" y="1400"/>
                </a:lnTo>
                <a:close/>
              </a:path>
              <a:path fill="darken" w="70810" h="21600">
                <a:moveTo>
                  <a:pt x="70810" y="0"/>
                </a:moveTo>
                <a:lnTo>
                  <a:pt x="70810" y="21600"/>
                </a:lnTo>
                <a:lnTo>
                  <a:pt x="69410" y="20200"/>
                </a:lnTo>
                <a:lnTo>
                  <a:pt x="69410" y="1400"/>
                </a:lnTo>
                <a:close/>
              </a:path>
              <a:path fill="darkenLess" w="70810" h="21600">
                <a:moveTo>
                  <a:pt x="70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410" y="20200"/>
                </a:lnTo>
                <a:close/>
              </a:path>
              <a:path fill="lighten" w="70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810" h="21600">
                <a:moveTo>
                  <a:pt x="28398" y="10800"/>
                </a:moveTo>
                <a:lnTo>
                  <a:pt x="42411" y="3794"/>
                </a:lnTo>
                <a:lnTo>
                  <a:pt x="42411" y="17806"/>
                </a:lnTo>
                <a:close/>
              </a:path>
            </a:pathLst>
          </a:custGeom>
          <a:solidFill>
            <a:srgbClr val="66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4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500"/>
                            </p:stCondLst>
                            <p:childTnLst>
                              <p:par>
                                <p:cTn id="6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500"/>
                            </p:stCondLst>
                            <p:childTnLst>
                              <p:par>
                                <p:cTn id="6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7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500"/>
                            </p:stCondLst>
                            <p:childTnLst>
                              <p:par>
                                <p:cTn id="6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0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500"/>
                            </p:stCondLst>
                            <p:childTnLst>
                              <p:par>
                                <p:cTn id="7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7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AutoShape 23"/>
          <p:cNvSpPr/>
          <p:nvPr/>
        </p:nvSpPr>
        <p:spPr>
          <a:xfrm rot="1148400">
            <a:off x="912960" y="2058840"/>
            <a:ext cx="231480" cy="1789200"/>
          </a:xfrm>
          <a:prstGeom prst="downArrow">
            <a:avLst>
              <a:gd name="adj1" fmla="val 50000"/>
              <a:gd name="adj2" fmla="val 193235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AutoShape 24"/>
          <p:cNvSpPr/>
          <p:nvPr/>
        </p:nvSpPr>
        <p:spPr>
          <a:xfrm>
            <a:off x="3259080" y="3141720"/>
            <a:ext cx="319320" cy="1582560"/>
          </a:xfrm>
          <a:prstGeom prst="downArrow">
            <a:avLst>
              <a:gd name="adj1" fmla="val 50000"/>
              <a:gd name="adj2" fmla="val 123901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AutoShape 25"/>
          <p:cNvSpPr/>
          <p:nvPr/>
        </p:nvSpPr>
        <p:spPr>
          <a:xfrm>
            <a:off x="5799240" y="3141720"/>
            <a:ext cx="288720" cy="1582560"/>
          </a:xfrm>
          <a:prstGeom prst="downArrow">
            <a:avLst>
              <a:gd name="adj1" fmla="val 50000"/>
              <a:gd name="adj2" fmla="val 137032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AutoShape 26"/>
          <p:cNvSpPr/>
          <p:nvPr/>
        </p:nvSpPr>
        <p:spPr>
          <a:xfrm flipH="1" rot="20722800">
            <a:off x="7859880" y="2063880"/>
            <a:ext cx="277560" cy="1782360"/>
          </a:xfrm>
          <a:prstGeom prst="downArrow">
            <a:avLst>
              <a:gd name="adj1" fmla="val 50000"/>
              <a:gd name="adj2" fmla="val 160538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ооценка в зависимости от темперамент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37" name="AutoShape 15"/>
          <p:cNvSpPr/>
          <p:nvPr/>
        </p:nvSpPr>
        <p:spPr>
          <a:xfrm>
            <a:off x="0" y="3646440"/>
            <a:ext cx="1662120" cy="1435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устойчива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вышенна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ассказывает об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спехах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сех на ви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AutoShape 16"/>
          <p:cNvSpPr/>
          <p:nvPr/>
        </p:nvSpPr>
        <p:spPr>
          <a:xfrm>
            <a:off x="2455920" y="4535640"/>
            <a:ext cx="1606320" cy="1434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ивысша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тремление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ервенств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опер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AutoShape 17"/>
          <p:cNvSpPr/>
          <p:nvPr/>
        </p:nvSpPr>
        <p:spPr>
          <a:xfrm>
            <a:off x="5129280" y="4535640"/>
            <a:ext cx="1517760" cy="1434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заниже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кроме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е на ви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AutoShape 18"/>
          <p:cNvSpPr/>
          <p:nvPr/>
        </p:nvSpPr>
        <p:spPr>
          <a:xfrm>
            <a:off x="7464600" y="3646440"/>
            <a:ext cx="1461960" cy="1435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изка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теснителе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 груп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ержится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е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val 19"/>
          <p:cNvSpPr/>
          <p:nvPr/>
        </p:nvSpPr>
        <p:spPr>
          <a:xfrm>
            <a:off x="457200" y="1628640"/>
            <a:ext cx="1606680" cy="658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Oval 20"/>
          <p:cNvSpPr/>
          <p:nvPr/>
        </p:nvSpPr>
        <p:spPr>
          <a:xfrm>
            <a:off x="2616120" y="2670120"/>
            <a:ext cx="1606680" cy="658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Oval 21"/>
          <p:cNvSpPr/>
          <p:nvPr/>
        </p:nvSpPr>
        <p:spPr>
          <a:xfrm>
            <a:off x="5040360" y="2670120"/>
            <a:ext cx="1606680" cy="658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Oval 22"/>
          <p:cNvSpPr/>
          <p:nvPr/>
        </p:nvSpPr>
        <p:spPr>
          <a:xfrm>
            <a:off x="7080120" y="1628640"/>
            <a:ext cx="1606680" cy="658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AutoShape 27">
            <a:hlinkClick r:id="rId1" action="ppaction://hlinksldjump"/>
          </p:cNvPr>
          <p:cNvSpPr/>
          <p:nvPr/>
        </p:nvSpPr>
        <p:spPr>
          <a:xfrm>
            <a:off x="0" y="0"/>
            <a:ext cx="1204920" cy="358920"/>
          </a:xfrm>
          <a:custGeom>
            <a:avLst/>
            <a:gdLst>
              <a:gd name="textAreaLeft" fmla="*/ 23040 w 1204920"/>
              <a:gd name="textAreaRight" fmla="*/ 1181880 w 120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72462" h="21600">
                <a:moveTo>
                  <a:pt x="0" y="0"/>
                </a:moveTo>
                <a:lnTo>
                  <a:pt x="72462" y="0"/>
                </a:lnTo>
                <a:lnTo>
                  <a:pt x="72462" y="21600"/>
                </a:lnTo>
                <a:lnTo>
                  <a:pt x="0" y="21600"/>
                </a:lnTo>
                <a:close/>
              </a:path>
              <a:path fill="lightenLess" w="72462" h="21600">
                <a:moveTo>
                  <a:pt x="0" y="0"/>
                </a:moveTo>
                <a:lnTo>
                  <a:pt x="72462" y="0"/>
                </a:lnTo>
                <a:lnTo>
                  <a:pt x="71062" y="1400"/>
                </a:lnTo>
                <a:lnTo>
                  <a:pt x="1400" y="1400"/>
                </a:lnTo>
                <a:close/>
              </a:path>
              <a:path fill="darken" w="72462" h="21600">
                <a:moveTo>
                  <a:pt x="72462" y="0"/>
                </a:moveTo>
                <a:lnTo>
                  <a:pt x="72462" y="21600"/>
                </a:lnTo>
                <a:lnTo>
                  <a:pt x="71062" y="20200"/>
                </a:lnTo>
                <a:lnTo>
                  <a:pt x="71062" y="1400"/>
                </a:lnTo>
                <a:close/>
              </a:path>
              <a:path fill="darkenLess" w="72462" h="21600">
                <a:moveTo>
                  <a:pt x="72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62" y="20200"/>
                </a:lnTo>
                <a:close/>
              </a:path>
              <a:path fill="lighten" w="72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462" h="21600">
                <a:moveTo>
                  <a:pt x="29224" y="10800"/>
                </a:moveTo>
                <a:lnTo>
                  <a:pt x="43237" y="3794"/>
                </a:lnTo>
                <a:lnTo>
                  <a:pt x="43237" y="17806"/>
                </a:lnTo>
                <a:close/>
              </a:path>
            </a:pathLst>
          </a:custGeom>
          <a:solidFill>
            <a:srgbClr val="66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0"/>
                            </p:stCondLst>
                            <p:childTnLst>
                              <p:par>
                                <p:cTn id="7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500"/>
                            </p:stCondLst>
                            <p:childTnLst>
                              <p:par>
                                <p:cTn id="7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8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8500"/>
                            </p:stCondLst>
                            <p:childTnLst>
                              <p:par>
                                <p:cTn id="7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9500"/>
                            </p:stCondLst>
                            <p:childTnLst>
                              <p:par>
                                <p:cTn id="7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8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8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8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8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AutoShape 15"/>
          <p:cNvSpPr/>
          <p:nvPr/>
        </p:nvSpPr>
        <p:spPr>
          <a:xfrm rot="514200">
            <a:off x="3512880" y="1814040"/>
            <a:ext cx="253800" cy="2117880"/>
          </a:xfrm>
          <a:prstGeom prst="downArrow">
            <a:avLst>
              <a:gd name="adj1" fmla="val 50000"/>
              <a:gd name="adj2" fmla="val 208617"/>
            </a:avLst>
          </a:prstGeom>
          <a:solidFill>
            <a:srgbClr val="dfdef6"/>
          </a:solidFill>
          <a:ln w="936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AutoShape 16"/>
          <p:cNvSpPr/>
          <p:nvPr/>
        </p:nvSpPr>
        <p:spPr>
          <a:xfrm rot="21017400">
            <a:off x="5292360" y="1815840"/>
            <a:ext cx="243000" cy="2116080"/>
          </a:xfrm>
          <a:prstGeom prst="downArrow">
            <a:avLst>
              <a:gd name="adj1" fmla="val 50000"/>
              <a:gd name="adj2" fmla="val 217704"/>
            </a:avLst>
          </a:prstGeom>
          <a:solidFill>
            <a:srgbClr val="dfdef6"/>
          </a:solidFill>
          <a:ln w="936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AutoShape 17"/>
          <p:cNvSpPr/>
          <p:nvPr/>
        </p:nvSpPr>
        <p:spPr>
          <a:xfrm rot="19554000">
            <a:off x="7440480" y="2109960"/>
            <a:ext cx="247680" cy="2001600"/>
          </a:xfrm>
          <a:prstGeom prst="downArrow">
            <a:avLst>
              <a:gd name="adj1" fmla="val 50000"/>
              <a:gd name="adj2" fmla="val 202035"/>
            </a:avLst>
          </a:prstGeom>
          <a:solidFill>
            <a:srgbClr val="dfdef6"/>
          </a:solidFill>
          <a:ln w="936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AutoShape 14"/>
          <p:cNvSpPr/>
          <p:nvPr/>
        </p:nvSpPr>
        <p:spPr>
          <a:xfrm rot="1543200">
            <a:off x="1345680" y="2068560"/>
            <a:ext cx="297000" cy="1863720"/>
          </a:xfrm>
          <a:prstGeom prst="downArrow">
            <a:avLst>
              <a:gd name="adj1" fmla="val 50000"/>
              <a:gd name="adj2" fmla="val 156879"/>
            </a:avLst>
          </a:prstGeom>
          <a:solidFill>
            <a:srgbClr val="dfdef6"/>
          </a:solidFill>
          <a:ln w="936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веренность в зависимости от темперамент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1" name="Rectangle 10"/>
          <p:cNvSpPr/>
          <p:nvPr/>
        </p:nvSpPr>
        <p:spPr>
          <a:xfrm>
            <a:off x="1155600" y="1989000"/>
            <a:ext cx="1544760" cy="392400"/>
          </a:xfrm>
          <a:prstGeom prst="rect">
            <a:avLst/>
          </a:pr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Rectangle 11"/>
          <p:cNvSpPr/>
          <p:nvPr/>
        </p:nvSpPr>
        <p:spPr>
          <a:xfrm>
            <a:off x="3092400" y="1596960"/>
            <a:ext cx="1306440" cy="392040"/>
          </a:xfrm>
          <a:prstGeom prst="rect">
            <a:avLst/>
          </a:pr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Rectangle 12"/>
          <p:cNvSpPr/>
          <p:nvPr/>
        </p:nvSpPr>
        <p:spPr>
          <a:xfrm>
            <a:off x="4654440" y="1596960"/>
            <a:ext cx="1325520" cy="392040"/>
          </a:xfrm>
          <a:prstGeom prst="rect">
            <a:avLst/>
          </a:pr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Rectangle 13"/>
          <p:cNvSpPr/>
          <p:nvPr/>
        </p:nvSpPr>
        <p:spPr>
          <a:xfrm>
            <a:off x="6378480" y="1989000"/>
            <a:ext cx="1649520" cy="392400"/>
          </a:xfrm>
          <a:prstGeom prst="rect">
            <a:avLst/>
          </a:pr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AutoShape 19"/>
          <p:cNvSpPr/>
          <p:nvPr/>
        </p:nvSpPr>
        <p:spPr>
          <a:xfrm>
            <a:off x="419040" y="3720960"/>
            <a:ext cx="1224000" cy="1559160"/>
          </a:xfrm>
          <a:prstGeom prst="foldedCorner">
            <a:avLst>
              <a:gd name="adj" fmla="val 25171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адеетс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а удач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AutoShape 20"/>
          <p:cNvSpPr/>
          <p:nvPr/>
        </p:nvSpPr>
        <p:spPr>
          <a:xfrm>
            <a:off x="2700360" y="3720960"/>
            <a:ext cx="1306440" cy="1559160"/>
          </a:xfrm>
          <a:prstGeom prst="foldedCorner">
            <a:avLst>
              <a:gd name="adj" fmla="val 20486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самоуверен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скрыва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слаб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AutoShape 21"/>
          <p:cNvSpPr/>
          <p:nvPr/>
        </p:nvSpPr>
        <p:spPr>
          <a:xfrm>
            <a:off x="4869000" y="3720960"/>
            <a:ext cx="1331640" cy="1559160"/>
          </a:xfrm>
          <a:prstGeom prst="foldedCorner">
            <a:avLst>
              <a:gd name="adj" fmla="val 20486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самоуверен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ост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пережива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за себ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е уныва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AutoShape 23"/>
          <p:cNvSpPr/>
          <p:nvPr/>
        </p:nvSpPr>
        <p:spPr>
          <a:xfrm>
            <a:off x="7054920" y="3697200"/>
            <a:ext cx="1289160" cy="1582920"/>
          </a:xfrm>
          <a:prstGeom prst="foldedCorner">
            <a:avLst>
              <a:gd name="adj" fmla="val 20486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еуверен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себе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преувели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чива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едостат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не верит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b89"/>
                </a:solidFill>
                <a:latin typeface="Tahoma"/>
              </a:rPr>
              <a:t>удач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AutoShape 25">
            <a:hlinkClick r:id="rId1" action="ppaction://hlinksldjump"/>
          </p:cNvPr>
          <p:cNvSpPr/>
          <p:nvPr/>
        </p:nvSpPr>
        <p:spPr>
          <a:xfrm>
            <a:off x="0" y="0"/>
            <a:ext cx="1297080" cy="457200"/>
          </a:xfrm>
          <a:custGeom>
            <a:avLst/>
            <a:gdLst>
              <a:gd name="textAreaLeft" fmla="*/ 29520 w 1297080"/>
              <a:gd name="textAreaRight" fmla="*/ 1267560 w 1297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248" h="21600">
                <a:moveTo>
                  <a:pt x="0" y="0"/>
                </a:moveTo>
                <a:lnTo>
                  <a:pt x="61248" y="0"/>
                </a:lnTo>
                <a:lnTo>
                  <a:pt x="61248" y="21600"/>
                </a:lnTo>
                <a:lnTo>
                  <a:pt x="0" y="21600"/>
                </a:lnTo>
                <a:close/>
              </a:path>
              <a:path fill="lightenLess" w="61248" h="21600">
                <a:moveTo>
                  <a:pt x="0" y="0"/>
                </a:moveTo>
                <a:lnTo>
                  <a:pt x="61248" y="0"/>
                </a:lnTo>
                <a:lnTo>
                  <a:pt x="59848" y="1400"/>
                </a:lnTo>
                <a:lnTo>
                  <a:pt x="1400" y="1400"/>
                </a:lnTo>
                <a:close/>
              </a:path>
              <a:path fill="darken" w="61248" h="21600">
                <a:moveTo>
                  <a:pt x="61248" y="0"/>
                </a:moveTo>
                <a:lnTo>
                  <a:pt x="61248" y="21600"/>
                </a:lnTo>
                <a:lnTo>
                  <a:pt x="59848" y="20200"/>
                </a:lnTo>
                <a:lnTo>
                  <a:pt x="59848" y="1400"/>
                </a:lnTo>
                <a:close/>
              </a:path>
              <a:path fill="darkenLess" w="61248" h="21600">
                <a:moveTo>
                  <a:pt x="61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48" y="20200"/>
                </a:lnTo>
                <a:close/>
              </a:path>
              <a:path fill="lighten" w="61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48" h="21600">
                <a:moveTo>
                  <a:pt x="23618" y="10800"/>
                </a:moveTo>
                <a:lnTo>
                  <a:pt x="37631" y="3794"/>
                </a:lnTo>
                <a:lnTo>
                  <a:pt x="37631" y="17806"/>
                </a:lnTo>
                <a:close/>
              </a:path>
            </a:pathLst>
          </a:custGeom>
          <a:solidFill>
            <a:srgbClr val="6666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3000"/>
                            </p:stCondLst>
                            <p:childTnLst>
                              <p:par>
                                <p:cTn id="9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000"/>
                            </p:stCondLst>
                            <p:childTnLst>
                              <p:par>
                                <p:cTn id="9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0"/>
                            </p:stCondLst>
                            <p:childTnLst>
                              <p:par>
                                <p:cTn id="9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8000"/>
                            </p:stCondLst>
                            <p:childTnLst>
                              <p:par>
                                <p:cTn id="9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9000"/>
                            </p:stCondLst>
                            <p:childTnLst>
                              <p:par>
                                <p:cTn id="9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ужба и любовь в зависимости от темперамент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1" name="AutoShape 5"/>
          <p:cNvSpPr/>
          <p:nvPr/>
        </p:nvSpPr>
        <p:spPr>
          <a:xfrm rot="4122000">
            <a:off x="6840360" y="2283840"/>
            <a:ext cx="1353960" cy="287280"/>
          </a:xfrm>
          <a:prstGeom prst="rightArrow">
            <a:avLst>
              <a:gd name="adj1" fmla="val 50000"/>
              <a:gd name="adj2" fmla="val 117826"/>
            </a:avLst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AutoShape 6"/>
          <p:cNvSpPr/>
          <p:nvPr/>
        </p:nvSpPr>
        <p:spPr>
          <a:xfrm rot="3934800">
            <a:off x="4789080" y="2854080"/>
            <a:ext cx="1776240" cy="243000"/>
          </a:xfrm>
          <a:prstGeom prst="rightArrow">
            <a:avLst>
              <a:gd name="adj1" fmla="val 50000"/>
              <a:gd name="adj2" fmla="val 182741"/>
            </a:avLst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AutoShape 7"/>
          <p:cNvSpPr/>
          <p:nvPr/>
        </p:nvSpPr>
        <p:spPr>
          <a:xfrm rot="17588400">
            <a:off x="784440" y="2388600"/>
            <a:ext cx="2060280" cy="231840"/>
          </a:xfrm>
          <a:prstGeom prst="leftArrow">
            <a:avLst>
              <a:gd name="adj1" fmla="val 50000"/>
              <a:gd name="adj2" fmla="val 222166"/>
            </a:avLst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AutoShape 8"/>
          <p:cNvSpPr/>
          <p:nvPr/>
        </p:nvSpPr>
        <p:spPr>
          <a:xfrm rot="17359200">
            <a:off x="2733480" y="2833200"/>
            <a:ext cx="1800360" cy="285840"/>
          </a:xfrm>
          <a:prstGeom prst="leftArrow">
            <a:avLst>
              <a:gd name="adj1" fmla="val 50000"/>
              <a:gd name="adj2" fmla="val 157462"/>
            </a:avLst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Rectangle 26"/>
          <p:cNvSpPr/>
          <p:nvPr/>
        </p:nvSpPr>
        <p:spPr>
          <a:xfrm>
            <a:off x="4689360" y="2060640"/>
            <a:ext cx="146700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ФЛЕГМА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Rectangle 27"/>
          <p:cNvSpPr/>
          <p:nvPr/>
        </p:nvSpPr>
        <p:spPr>
          <a:xfrm>
            <a:off x="3013200" y="2060640"/>
            <a:ext cx="13460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ХОЛЕ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Rectangle 28"/>
          <p:cNvSpPr/>
          <p:nvPr/>
        </p:nvSpPr>
        <p:spPr>
          <a:xfrm>
            <a:off x="6670800" y="1484280"/>
            <a:ext cx="15732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МЕЛАНХОЛ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Rectangle 29"/>
          <p:cNvSpPr/>
          <p:nvPr/>
        </p:nvSpPr>
        <p:spPr>
          <a:xfrm>
            <a:off x="1247760" y="1484280"/>
            <a:ext cx="14461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САНГВИ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AutoShape 32"/>
          <p:cNvSpPr/>
          <p:nvPr/>
        </p:nvSpPr>
        <p:spPr>
          <a:xfrm>
            <a:off x="2616120" y="3649680"/>
            <a:ext cx="1770120" cy="17128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дружит с немногим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другом командует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сильно привязан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склонен к гневу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ревности,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разрыву из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скло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AutoShape 34"/>
          <p:cNvSpPr/>
          <p:nvPr/>
        </p:nvSpPr>
        <p:spPr>
          <a:xfrm>
            <a:off x="457200" y="3105000"/>
            <a:ext cx="1560600" cy="1713240"/>
          </a:xfrm>
          <a:custGeom>
            <a:avLst/>
            <a:gdLst>
              <a:gd name="textAreaLeft" fmla="*/ 75960 w 1560600"/>
              <a:gd name="textAreaRight" fmla="*/ 1484640 w 1560600"/>
              <a:gd name="textAreaTop" fmla="*/ 75960 h 1713240"/>
              <a:gd name="textAreaBottom" fmla="*/ 1637280 h 1713240"/>
            </a:gdLst>
            <a:ahLst/>
            <a:rect l="textAreaLeft" t="textAreaTop" r="textAreaRight" b="textAreaBottom"/>
            <a:pathLst>
              <a:path w="21600" h="23712">
                <a:moveTo>
                  <a:pt x="3600" y="0"/>
                </a:moveTo>
                <a:arcTo wR="3600" hR="3600" stAng="16200000" swAng="-5400000"/>
                <a:lnTo>
                  <a:pt x="0" y="20112"/>
                </a:lnTo>
                <a:arcTo wR="3600" hR="3600" stAng="10800000" swAng="-5400000"/>
                <a:lnTo>
                  <a:pt x="18000" y="23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ahoma"/>
              </a:rPr>
              <a:t>пережива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ahoma"/>
              </a:rPr>
              <a:t>симпатии легко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ahoma"/>
              </a:rPr>
              <a:t>ярко и весе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AutoShape 35"/>
          <p:cNvSpPr/>
          <p:nvPr/>
        </p:nvSpPr>
        <p:spPr>
          <a:xfrm>
            <a:off x="5187960" y="3586320"/>
            <a:ext cx="1689120" cy="1712880"/>
          </a:xfrm>
          <a:custGeom>
            <a:avLst/>
            <a:gdLst>
              <a:gd name="textAreaLeft" fmla="*/ 82440 w 1689120"/>
              <a:gd name="textAreaRight" fmla="*/ 1606680 w 1689120"/>
              <a:gd name="textAreaTop" fmla="*/ 82440 h 1712880"/>
              <a:gd name="textAreaBottom" fmla="*/ 1630440 h 1712880"/>
            </a:gdLst>
            <a:ahLst/>
            <a:rect l="textAreaLeft" t="textAreaTop" r="textAreaRight" b="textAreaBottom"/>
            <a:pathLst>
              <a:path w="21600" h="21904">
                <a:moveTo>
                  <a:pt x="3600" y="0"/>
                </a:moveTo>
                <a:arcTo wR="3600" hR="3600" stAng="16200000" swAng="-5400000"/>
                <a:lnTo>
                  <a:pt x="0" y="18304"/>
                </a:lnTo>
                <a:arcTo wR="3600" hR="3600" stAng="10800000" swAng="-5400000"/>
                <a:lnTo>
                  <a:pt x="18000" y="219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не склонен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выражению ярки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чувств, спокойно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отношение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партнеру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влюбчив, спокойна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привяза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AutoShape 36"/>
          <p:cNvSpPr/>
          <p:nvPr/>
        </p:nvSpPr>
        <p:spPr>
          <a:xfrm>
            <a:off x="7156440" y="2979720"/>
            <a:ext cx="1530360" cy="1712880"/>
          </a:xfrm>
          <a:custGeom>
            <a:avLst/>
            <a:gdLst>
              <a:gd name="textAreaLeft" fmla="*/ 74520 w 1530360"/>
              <a:gd name="textAreaRight" fmla="*/ 1455840 w 1530360"/>
              <a:gd name="textAreaTop" fmla="*/ 74520 h 1712880"/>
              <a:gd name="textAreaBottom" fmla="*/ 1638360 h 1712880"/>
            </a:gdLst>
            <a:ahLst/>
            <a:rect l="textAreaLeft" t="textAreaTop" r="textAreaRight" b="textAreaBottom"/>
            <a:pathLst>
              <a:path w="21600" h="24176">
                <a:moveTo>
                  <a:pt x="3600" y="0"/>
                </a:moveTo>
                <a:arcTo wR="3600" hR="3600" stAng="16200000" swAng="-5400000"/>
                <a:lnTo>
                  <a:pt x="0" y="20576"/>
                </a:lnTo>
                <a:arcTo wR="3600" hR="3600" stAng="10800000" swAng="-5400000"/>
                <a:lnTo>
                  <a:pt x="18000" y="241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преданность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подчиняется паре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стыдитс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открыва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свои чувств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ahoma"/>
              </a:rPr>
              <a:t>однолю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3" name="Picture 38" descr="PE02270_"/>
          <p:cNvPicPr/>
          <p:nvPr/>
        </p:nvPicPr>
        <p:blipFill>
          <a:blip r:embed="rId1"/>
          <a:stretch/>
        </p:blipFill>
        <p:spPr>
          <a:xfrm flipH="1">
            <a:off x="8069040" y="4443480"/>
            <a:ext cx="1074600" cy="130500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39" descr="SO01236_"/>
          <p:cNvPicPr/>
          <p:nvPr/>
        </p:nvPicPr>
        <p:blipFill>
          <a:blip r:embed="rId2"/>
          <a:stretch/>
        </p:blipFill>
        <p:spPr>
          <a:xfrm flipH="1">
            <a:off x="1722240" y="5002200"/>
            <a:ext cx="1290600" cy="138744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40" descr="Копия PE00489_"/>
          <p:cNvPicPr/>
          <p:nvPr/>
        </p:nvPicPr>
        <p:blipFill>
          <a:blip r:embed="rId3"/>
          <a:stretch/>
        </p:blipFill>
        <p:spPr>
          <a:xfrm flipH="1">
            <a:off x="0" y="4095720"/>
            <a:ext cx="1440000" cy="1374840"/>
          </a:xfrm>
          <a:prstGeom prst="rect">
            <a:avLst/>
          </a:prstGeom>
          <a:ln w="0">
            <a:noFill/>
          </a:ln>
        </p:spPr>
      </p:pic>
      <p:grpSp>
        <p:nvGrpSpPr>
          <p:cNvPr id="1176" name="Group 47"/>
          <p:cNvGrpSpPr/>
          <p:nvPr/>
        </p:nvGrpSpPr>
        <p:grpSpPr>
          <a:xfrm>
            <a:off x="5987880" y="4944960"/>
            <a:ext cx="1349640" cy="1427400"/>
            <a:chOff x="5987880" y="4944960"/>
            <a:chExt cx="1349640" cy="1427400"/>
          </a:xfrm>
        </p:grpSpPr>
        <p:sp>
          <p:nvSpPr>
            <p:cNvPr id="1177" name="AutoShape 46"/>
            <p:cNvSpPr/>
            <p:nvPr/>
          </p:nvSpPr>
          <p:spPr>
            <a:xfrm>
              <a:off x="5987880" y="4944960"/>
              <a:ext cx="1349640" cy="14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8" name="Freeform 48"/>
            <p:cNvSpPr/>
            <p:nvPr/>
          </p:nvSpPr>
          <p:spPr>
            <a:xfrm>
              <a:off x="6543360" y="5784120"/>
              <a:ext cx="105840" cy="387720"/>
            </a:xfrm>
            <a:prstGeom prst="pie">
              <a:avLst/>
            </a:prstGeom>
            <a:solidFill>
              <a:srgbClr val="ff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9" name="Freeform 49"/>
            <p:cNvSpPr/>
            <p:nvPr/>
          </p:nvSpPr>
          <p:spPr>
            <a:xfrm>
              <a:off x="6630480" y="5495040"/>
              <a:ext cx="654840" cy="74880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0" name="Freeform 50"/>
            <p:cNvSpPr/>
            <p:nvPr/>
          </p:nvSpPr>
          <p:spPr>
            <a:xfrm>
              <a:off x="6054480" y="5597640"/>
              <a:ext cx="410400" cy="659160"/>
            </a:xfrm>
            <a:prstGeom prst="pie">
              <a:avLst/>
            </a:prstGeom>
            <a:solidFill>
              <a:srgbClr val="f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1" name="Freeform 51"/>
            <p:cNvSpPr/>
            <p:nvPr/>
          </p:nvSpPr>
          <p:spPr>
            <a:xfrm>
              <a:off x="6080040" y="5188320"/>
              <a:ext cx="485640" cy="40248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2" name="Freeform 52"/>
            <p:cNvSpPr/>
            <p:nvPr/>
          </p:nvSpPr>
          <p:spPr>
            <a:xfrm>
              <a:off x="6219000" y="5250960"/>
              <a:ext cx="303840" cy="416160"/>
            </a:xfrm>
            <a:prstGeom prst="pie">
              <a:avLst/>
            </a:prstGeom>
            <a:solidFill>
              <a:srgbClr val="ffa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3" name="Freeform 53"/>
            <p:cNvSpPr/>
            <p:nvPr/>
          </p:nvSpPr>
          <p:spPr>
            <a:xfrm>
              <a:off x="6495840" y="4947840"/>
              <a:ext cx="166320" cy="24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54"/>
            <p:cNvSpPr/>
            <p:nvPr/>
          </p:nvSpPr>
          <p:spPr>
            <a:xfrm>
              <a:off x="6654600" y="4959720"/>
              <a:ext cx="99360" cy="169200"/>
            </a:xfrm>
            <a:prstGeom prst="pie">
              <a:avLst/>
            </a:pr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55"/>
            <p:cNvSpPr/>
            <p:nvPr/>
          </p:nvSpPr>
          <p:spPr>
            <a:xfrm>
              <a:off x="6374880" y="4988160"/>
              <a:ext cx="192600" cy="191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56"/>
            <p:cNvSpPr/>
            <p:nvPr/>
          </p:nvSpPr>
          <p:spPr>
            <a:xfrm>
              <a:off x="6916320" y="5032800"/>
              <a:ext cx="130320" cy="813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57"/>
            <p:cNvSpPr/>
            <p:nvPr/>
          </p:nvSpPr>
          <p:spPr>
            <a:xfrm>
              <a:off x="6276240" y="5048640"/>
              <a:ext cx="168480" cy="12060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58"/>
            <p:cNvSpPr/>
            <p:nvPr/>
          </p:nvSpPr>
          <p:spPr>
            <a:xfrm>
              <a:off x="6759720" y="5052960"/>
              <a:ext cx="153360" cy="15876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Freeform 59"/>
            <p:cNvSpPr/>
            <p:nvPr/>
          </p:nvSpPr>
          <p:spPr>
            <a:xfrm>
              <a:off x="6947280" y="5118480"/>
              <a:ext cx="144000" cy="28080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Freeform 60"/>
            <p:cNvSpPr/>
            <p:nvPr/>
          </p:nvSpPr>
          <p:spPr>
            <a:xfrm>
              <a:off x="6008040" y="5122800"/>
              <a:ext cx="227880" cy="27972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Freeform 61"/>
            <p:cNvSpPr/>
            <p:nvPr/>
          </p:nvSpPr>
          <p:spPr>
            <a:xfrm>
              <a:off x="6335640" y="5124960"/>
              <a:ext cx="1001520" cy="12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Freeform 62"/>
            <p:cNvSpPr/>
            <p:nvPr/>
          </p:nvSpPr>
          <p:spPr>
            <a:xfrm>
              <a:off x="6620760" y="5147280"/>
              <a:ext cx="175680" cy="8028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Freeform 63"/>
            <p:cNvSpPr/>
            <p:nvPr/>
          </p:nvSpPr>
          <p:spPr>
            <a:xfrm>
              <a:off x="6714000" y="5171760"/>
              <a:ext cx="31680" cy="3996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4" name="Freeform 64"/>
            <p:cNvSpPr/>
            <p:nvPr/>
          </p:nvSpPr>
          <p:spPr>
            <a:xfrm>
              <a:off x="6107760" y="5172480"/>
              <a:ext cx="465120" cy="44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5" name="Freeform 65"/>
            <p:cNvSpPr/>
            <p:nvPr/>
          </p:nvSpPr>
          <p:spPr>
            <a:xfrm>
              <a:off x="7101000" y="5182200"/>
              <a:ext cx="76320" cy="15228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6" name="Freeform 66"/>
            <p:cNvSpPr/>
            <p:nvPr/>
          </p:nvSpPr>
          <p:spPr>
            <a:xfrm>
              <a:off x="6808320" y="5199120"/>
              <a:ext cx="47520" cy="5184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7" name="Freeform 67"/>
            <p:cNvSpPr/>
            <p:nvPr/>
          </p:nvSpPr>
          <p:spPr>
            <a:xfrm>
              <a:off x="6624000" y="5201280"/>
              <a:ext cx="284040" cy="317880"/>
            </a:xfrm>
            <a:prstGeom prst="pie">
              <a:avLst/>
            </a:prstGeom>
            <a:solidFill>
              <a:srgbClr val="ffa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8" name="Freeform 68"/>
            <p:cNvSpPr/>
            <p:nvPr/>
          </p:nvSpPr>
          <p:spPr>
            <a:xfrm>
              <a:off x="6263640" y="5245560"/>
              <a:ext cx="18324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9" name="Freeform 69"/>
            <p:cNvSpPr/>
            <p:nvPr/>
          </p:nvSpPr>
          <p:spPr>
            <a:xfrm>
              <a:off x="6698160" y="5285880"/>
              <a:ext cx="813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0" name="Freeform 70"/>
            <p:cNvSpPr/>
            <p:nvPr/>
          </p:nvSpPr>
          <p:spPr>
            <a:xfrm>
              <a:off x="6709680" y="5309280"/>
              <a:ext cx="5616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Freeform 71"/>
            <p:cNvSpPr/>
            <p:nvPr/>
          </p:nvSpPr>
          <p:spPr>
            <a:xfrm>
              <a:off x="6359760" y="5310360"/>
              <a:ext cx="8028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Freeform 72"/>
            <p:cNvSpPr/>
            <p:nvPr/>
          </p:nvSpPr>
          <p:spPr>
            <a:xfrm>
              <a:off x="6797880" y="5312520"/>
              <a:ext cx="2664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Freeform 73"/>
            <p:cNvSpPr/>
            <p:nvPr/>
          </p:nvSpPr>
          <p:spPr>
            <a:xfrm>
              <a:off x="6352560" y="5329440"/>
              <a:ext cx="8172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Freeform 74"/>
            <p:cNvSpPr/>
            <p:nvPr/>
          </p:nvSpPr>
          <p:spPr>
            <a:xfrm>
              <a:off x="6015240" y="5331600"/>
              <a:ext cx="366840" cy="39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5" name="Freeform 75"/>
            <p:cNvSpPr/>
            <p:nvPr/>
          </p:nvSpPr>
          <p:spPr>
            <a:xfrm>
              <a:off x="6288840" y="5343120"/>
              <a:ext cx="3600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6" name="Freeform 76"/>
            <p:cNvSpPr/>
            <p:nvPr/>
          </p:nvSpPr>
          <p:spPr>
            <a:xfrm>
              <a:off x="7057440" y="5344200"/>
              <a:ext cx="195840" cy="110160"/>
            </a:xfrm>
            <a:prstGeom prst="pie">
              <a:avLst/>
            </a:pr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Freeform 77"/>
            <p:cNvSpPr/>
            <p:nvPr/>
          </p:nvSpPr>
          <p:spPr>
            <a:xfrm>
              <a:off x="6463800" y="5351760"/>
              <a:ext cx="43200" cy="26640"/>
            </a:xfrm>
            <a:prstGeom prst="pie">
              <a:avLst/>
            </a:prstGeom>
            <a:solidFill>
              <a:srgbClr val="ffa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Freeform 78"/>
            <p:cNvSpPr/>
            <p:nvPr/>
          </p:nvSpPr>
          <p:spPr>
            <a:xfrm>
              <a:off x="6708600" y="5405760"/>
              <a:ext cx="6660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Freeform 79"/>
            <p:cNvSpPr/>
            <p:nvPr/>
          </p:nvSpPr>
          <p:spPr>
            <a:xfrm>
              <a:off x="5987880" y="5419800"/>
              <a:ext cx="130320" cy="52560"/>
            </a:xfrm>
            <a:prstGeom prst="pie">
              <a:avLst/>
            </a:pr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Freeform 80"/>
            <p:cNvSpPr/>
            <p:nvPr/>
          </p:nvSpPr>
          <p:spPr>
            <a:xfrm>
              <a:off x="6369480" y="5432040"/>
              <a:ext cx="67680" cy="31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1" name="Freeform 81"/>
            <p:cNvSpPr/>
            <p:nvPr/>
          </p:nvSpPr>
          <p:spPr>
            <a:xfrm>
              <a:off x="6820200" y="5442840"/>
              <a:ext cx="127080" cy="19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2" name="Freeform 82"/>
            <p:cNvSpPr/>
            <p:nvPr/>
          </p:nvSpPr>
          <p:spPr>
            <a:xfrm>
              <a:off x="6491520" y="5482080"/>
              <a:ext cx="80280" cy="98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Freeform 83"/>
            <p:cNvSpPr/>
            <p:nvPr/>
          </p:nvSpPr>
          <p:spPr>
            <a:xfrm>
              <a:off x="6999120" y="5507640"/>
              <a:ext cx="85680" cy="33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Freeform 84"/>
            <p:cNvSpPr/>
            <p:nvPr/>
          </p:nvSpPr>
          <p:spPr>
            <a:xfrm>
              <a:off x="6754320" y="5522400"/>
              <a:ext cx="432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Freeform 85"/>
            <p:cNvSpPr/>
            <p:nvPr/>
          </p:nvSpPr>
          <p:spPr>
            <a:xfrm>
              <a:off x="6757560" y="5556240"/>
              <a:ext cx="208440" cy="35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Freeform 86"/>
            <p:cNvSpPr/>
            <p:nvPr/>
          </p:nvSpPr>
          <p:spPr>
            <a:xfrm>
              <a:off x="6595200" y="5557320"/>
              <a:ext cx="44280" cy="168120"/>
            </a:xfrm>
            <a:prstGeom prst="pie">
              <a:avLst/>
            </a:pr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7" name="Freeform 87"/>
            <p:cNvSpPr/>
            <p:nvPr/>
          </p:nvSpPr>
          <p:spPr>
            <a:xfrm>
              <a:off x="6486120" y="5559480"/>
              <a:ext cx="56880" cy="338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8" name="Freeform 88"/>
            <p:cNvSpPr/>
            <p:nvPr/>
          </p:nvSpPr>
          <p:spPr>
            <a:xfrm>
              <a:off x="7071480" y="5579640"/>
              <a:ext cx="87840" cy="36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Freeform 89"/>
            <p:cNvSpPr/>
            <p:nvPr/>
          </p:nvSpPr>
          <p:spPr>
            <a:xfrm>
              <a:off x="6800040" y="5626080"/>
              <a:ext cx="1872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Freeform 90"/>
            <p:cNvSpPr/>
            <p:nvPr/>
          </p:nvSpPr>
          <p:spPr>
            <a:xfrm>
              <a:off x="6457320" y="5643000"/>
              <a:ext cx="114120" cy="129240"/>
            </a:xfrm>
            <a:prstGeom prst="pie">
              <a:avLst/>
            </a:pr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Freeform 91"/>
            <p:cNvSpPr/>
            <p:nvPr/>
          </p:nvSpPr>
          <p:spPr>
            <a:xfrm>
              <a:off x="6304680" y="5681520"/>
              <a:ext cx="9720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Freeform 92"/>
            <p:cNvSpPr/>
            <p:nvPr/>
          </p:nvSpPr>
          <p:spPr>
            <a:xfrm>
              <a:off x="6040800" y="5707800"/>
              <a:ext cx="386640" cy="60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Freeform 93"/>
            <p:cNvSpPr/>
            <p:nvPr/>
          </p:nvSpPr>
          <p:spPr>
            <a:xfrm>
              <a:off x="6676920" y="5713920"/>
              <a:ext cx="14076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4" name="Freeform 94"/>
            <p:cNvSpPr/>
            <p:nvPr/>
          </p:nvSpPr>
          <p:spPr>
            <a:xfrm>
              <a:off x="6816960" y="5730120"/>
              <a:ext cx="208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5" name="Freeform 95"/>
            <p:cNvSpPr/>
            <p:nvPr/>
          </p:nvSpPr>
          <p:spPr>
            <a:xfrm>
              <a:off x="6388560" y="5740560"/>
              <a:ext cx="108000" cy="31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6" name="Freeform 96"/>
            <p:cNvSpPr/>
            <p:nvPr/>
          </p:nvSpPr>
          <p:spPr>
            <a:xfrm>
              <a:off x="6031080" y="5745960"/>
              <a:ext cx="287280" cy="55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7" name="Freeform 97"/>
            <p:cNvSpPr/>
            <p:nvPr/>
          </p:nvSpPr>
          <p:spPr>
            <a:xfrm>
              <a:off x="6917760" y="5846760"/>
              <a:ext cx="7308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8" name="Freeform 98"/>
            <p:cNvSpPr/>
            <p:nvPr/>
          </p:nvSpPr>
          <p:spPr>
            <a:xfrm>
              <a:off x="6595200" y="5852160"/>
              <a:ext cx="51840" cy="26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9" name="Freeform 99"/>
            <p:cNvSpPr/>
            <p:nvPr/>
          </p:nvSpPr>
          <p:spPr>
            <a:xfrm>
              <a:off x="6216840" y="5873040"/>
              <a:ext cx="14292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0" name="Freeform 100"/>
            <p:cNvSpPr/>
            <p:nvPr/>
          </p:nvSpPr>
          <p:spPr>
            <a:xfrm>
              <a:off x="5990760" y="5892120"/>
              <a:ext cx="14328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1" name="Freeform 101"/>
            <p:cNvSpPr/>
            <p:nvPr/>
          </p:nvSpPr>
          <p:spPr>
            <a:xfrm>
              <a:off x="7054200" y="5909040"/>
              <a:ext cx="18324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2" name="Freeform 102"/>
            <p:cNvSpPr/>
            <p:nvPr/>
          </p:nvSpPr>
          <p:spPr>
            <a:xfrm>
              <a:off x="6850800" y="6141240"/>
              <a:ext cx="961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3" name="Freeform 103"/>
            <p:cNvSpPr/>
            <p:nvPr/>
          </p:nvSpPr>
          <p:spPr>
            <a:xfrm>
              <a:off x="6996960" y="6149880"/>
              <a:ext cx="2448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4" name="Freeform 104"/>
            <p:cNvSpPr/>
            <p:nvPr/>
          </p:nvSpPr>
          <p:spPr>
            <a:xfrm>
              <a:off x="6512400" y="6158160"/>
              <a:ext cx="1969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5" name="Freeform 105"/>
            <p:cNvSpPr/>
            <p:nvPr/>
          </p:nvSpPr>
          <p:spPr>
            <a:xfrm>
              <a:off x="6382080" y="6201720"/>
              <a:ext cx="259560" cy="16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6" name="Freeform 106"/>
            <p:cNvSpPr/>
            <p:nvPr/>
          </p:nvSpPr>
          <p:spPr>
            <a:xfrm>
              <a:off x="6404400" y="6241680"/>
              <a:ext cx="216360" cy="100440"/>
            </a:xfrm>
            <a:prstGeom prst="pie">
              <a:avLst/>
            </a:prstGeom>
            <a:solidFill>
              <a:srgbClr val="ffa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7" name="Freeform 107"/>
            <p:cNvSpPr/>
            <p:nvPr/>
          </p:nvSpPr>
          <p:spPr>
            <a:xfrm>
              <a:off x="6665400" y="6172920"/>
              <a:ext cx="206640" cy="160920"/>
            </a:xfrm>
            <a:prstGeom prst="pie">
              <a:avLst/>
            </a:prstGeom>
            <a:solidFill>
              <a:srgbClr val="ffa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8" name="AutoShape 108"/>
          <p:cNvSpPr/>
          <p:nvPr/>
        </p:nvSpPr>
        <p:spPr>
          <a:xfrm>
            <a:off x="0" y="0"/>
            <a:ext cx="1247760" cy="476280"/>
          </a:xfrm>
          <a:custGeom>
            <a:avLst/>
            <a:gdLst>
              <a:gd name="textAreaLeft" fmla="*/ 30600 w 1247760"/>
              <a:gd name="textAreaRight" fmla="*/ 1217160 w 12477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6561" h="21600">
                <a:moveTo>
                  <a:pt x="0" y="0"/>
                </a:moveTo>
                <a:lnTo>
                  <a:pt x="56561" y="0"/>
                </a:lnTo>
                <a:lnTo>
                  <a:pt x="56561" y="21600"/>
                </a:lnTo>
                <a:lnTo>
                  <a:pt x="0" y="21600"/>
                </a:lnTo>
                <a:close/>
              </a:path>
              <a:path fill="lightenLess" w="56561" h="21600">
                <a:moveTo>
                  <a:pt x="0" y="0"/>
                </a:moveTo>
                <a:lnTo>
                  <a:pt x="56561" y="0"/>
                </a:lnTo>
                <a:lnTo>
                  <a:pt x="55161" y="1400"/>
                </a:lnTo>
                <a:lnTo>
                  <a:pt x="1400" y="1400"/>
                </a:lnTo>
                <a:close/>
              </a:path>
              <a:path fill="darken" w="56561" h="21600">
                <a:moveTo>
                  <a:pt x="56561" y="0"/>
                </a:moveTo>
                <a:lnTo>
                  <a:pt x="56561" y="21600"/>
                </a:lnTo>
                <a:lnTo>
                  <a:pt x="55161" y="20200"/>
                </a:lnTo>
                <a:lnTo>
                  <a:pt x="55161" y="1400"/>
                </a:lnTo>
                <a:close/>
              </a:path>
              <a:path fill="darkenLess" w="56561" h="21600">
                <a:moveTo>
                  <a:pt x="565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161" y="20200"/>
                </a:lnTo>
                <a:close/>
              </a:path>
              <a:path fill="lighten" w="565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561" h="21600">
                <a:moveTo>
                  <a:pt x="21274" y="10800"/>
                </a:moveTo>
                <a:lnTo>
                  <a:pt x="35287" y="3794"/>
                </a:lnTo>
                <a:lnTo>
                  <a:pt x="35287" y="17806"/>
                </a:lnTo>
                <a:close/>
              </a:path>
            </a:pathLst>
          </a:custGeom>
          <a:solidFill>
            <a:srgbClr val="6666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8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5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000"/>
                            </p:stCondLst>
                            <p:childTnLst>
                              <p:par>
                                <p:cTn id="9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9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9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9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9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AutoShape 9"/>
          <p:cNvSpPr/>
          <p:nvPr/>
        </p:nvSpPr>
        <p:spPr>
          <a:xfrm rot="12637200">
            <a:off x="1641600" y="2414160"/>
            <a:ext cx="1635120" cy="223920"/>
          </a:xfrm>
          <a:prstGeom prst="rightArrow">
            <a:avLst>
              <a:gd name="adj1" fmla="val 50000"/>
              <a:gd name="adj2" fmla="val 182556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AutoShape 11"/>
          <p:cNvSpPr/>
          <p:nvPr/>
        </p:nvSpPr>
        <p:spPr>
          <a:xfrm rot="8730000">
            <a:off x="1546920" y="4149720"/>
            <a:ext cx="1600200" cy="216000"/>
          </a:xfrm>
          <a:prstGeom prst="rightArrow">
            <a:avLst>
              <a:gd name="adj1" fmla="val 50000"/>
              <a:gd name="adj2" fmla="val 185208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AutoShape 12"/>
          <p:cNvSpPr/>
          <p:nvPr/>
        </p:nvSpPr>
        <p:spPr>
          <a:xfrm rot="2382600">
            <a:off x="5529240" y="4154400"/>
            <a:ext cx="1682640" cy="258840"/>
          </a:xfrm>
          <a:prstGeom prst="rightArrow">
            <a:avLst>
              <a:gd name="adj1" fmla="val 50000"/>
              <a:gd name="adj2" fmla="val 16251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AutoShape 10"/>
          <p:cNvSpPr/>
          <p:nvPr/>
        </p:nvSpPr>
        <p:spPr>
          <a:xfrm rot="19696800">
            <a:off x="5530320" y="2442960"/>
            <a:ext cx="1654200" cy="258480"/>
          </a:xfrm>
          <a:prstGeom prst="rightArrow">
            <a:avLst>
              <a:gd name="adj1" fmla="val 50000"/>
              <a:gd name="adj2" fmla="val 159993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вижения и походк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4" name="AutoShape 5"/>
          <p:cNvSpPr/>
          <p:nvPr/>
        </p:nvSpPr>
        <p:spPr>
          <a:xfrm>
            <a:off x="2986200" y="2781360"/>
            <a:ext cx="129672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AutoShape 6"/>
          <p:cNvSpPr/>
          <p:nvPr/>
        </p:nvSpPr>
        <p:spPr>
          <a:xfrm>
            <a:off x="4427640" y="2781360"/>
            <a:ext cx="145728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AutoShape 7"/>
          <p:cNvSpPr/>
          <p:nvPr/>
        </p:nvSpPr>
        <p:spPr>
          <a:xfrm>
            <a:off x="2986200" y="3500280"/>
            <a:ext cx="1298520" cy="432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AutoShape 8"/>
          <p:cNvSpPr/>
          <p:nvPr/>
        </p:nvSpPr>
        <p:spPr>
          <a:xfrm>
            <a:off x="4427640" y="3500280"/>
            <a:ext cx="1457280" cy="432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AutoShape 13"/>
          <p:cNvSpPr/>
          <p:nvPr/>
        </p:nvSpPr>
        <p:spPr>
          <a:xfrm flipH="1">
            <a:off x="6876360" y="1628640"/>
            <a:ext cx="1749240" cy="800280"/>
          </a:xfrm>
          <a:prstGeom prst="flowChartPunchedCard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тремительн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езки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пряж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AutoShape 14"/>
          <p:cNvSpPr/>
          <p:nvPr/>
        </p:nvSpPr>
        <p:spPr>
          <a:xfrm>
            <a:off x="250920" y="1484280"/>
            <a:ext cx="1685880" cy="800280"/>
          </a:xfrm>
          <a:prstGeom prst="flowChartPunchedCard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движн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быстр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непосед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AutoShape 16"/>
          <p:cNvSpPr/>
          <p:nvPr/>
        </p:nvSpPr>
        <p:spPr>
          <a:xfrm>
            <a:off x="179280" y="4573440"/>
            <a:ext cx="1685880" cy="800280"/>
          </a:xfrm>
          <a:prstGeom prst="flowChartPunchedCard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амедленн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лавн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асслабл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AutoShape 17"/>
          <p:cNvSpPr/>
          <p:nvPr/>
        </p:nvSpPr>
        <p:spPr>
          <a:xfrm flipH="1">
            <a:off x="6865920" y="4573440"/>
            <a:ext cx="1760400" cy="800280"/>
          </a:xfrm>
          <a:prstGeom prst="flowChartPunchedCard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амедленн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реши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AutoShape 18"/>
          <p:cNvSpPr/>
          <p:nvPr/>
        </p:nvSpPr>
        <p:spPr>
          <a:xfrm>
            <a:off x="0" y="0"/>
            <a:ext cx="1297080" cy="433440"/>
          </a:xfrm>
          <a:custGeom>
            <a:avLst/>
            <a:gdLst>
              <a:gd name="textAreaLeft" fmla="*/ 28080 w 1297080"/>
              <a:gd name="textAreaRight" fmla="*/ 1269000 w 1297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4603" h="21600">
                <a:moveTo>
                  <a:pt x="0" y="0"/>
                </a:moveTo>
                <a:lnTo>
                  <a:pt x="64603" y="0"/>
                </a:lnTo>
                <a:lnTo>
                  <a:pt x="64603" y="21600"/>
                </a:lnTo>
                <a:lnTo>
                  <a:pt x="0" y="21600"/>
                </a:lnTo>
                <a:close/>
              </a:path>
              <a:path fill="lightenLess" w="64603" h="21600">
                <a:moveTo>
                  <a:pt x="0" y="0"/>
                </a:moveTo>
                <a:lnTo>
                  <a:pt x="64603" y="0"/>
                </a:lnTo>
                <a:lnTo>
                  <a:pt x="63203" y="1400"/>
                </a:lnTo>
                <a:lnTo>
                  <a:pt x="1400" y="1400"/>
                </a:lnTo>
                <a:close/>
              </a:path>
              <a:path fill="darken" w="64603" h="21600">
                <a:moveTo>
                  <a:pt x="64603" y="0"/>
                </a:moveTo>
                <a:lnTo>
                  <a:pt x="64603" y="21600"/>
                </a:lnTo>
                <a:lnTo>
                  <a:pt x="63203" y="20200"/>
                </a:lnTo>
                <a:lnTo>
                  <a:pt x="63203" y="1400"/>
                </a:lnTo>
                <a:close/>
              </a:path>
              <a:path fill="darkenLess" w="64603" h="21600">
                <a:moveTo>
                  <a:pt x="64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03" y="20200"/>
                </a:lnTo>
                <a:close/>
              </a:path>
              <a:path fill="lighten" w="64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03" h="21600">
                <a:moveTo>
                  <a:pt x="25295" y="10800"/>
                </a:moveTo>
                <a:lnTo>
                  <a:pt x="39308" y="3794"/>
                </a:lnTo>
                <a:lnTo>
                  <a:pt x="39308" y="17806"/>
                </a:lnTo>
                <a:close/>
              </a:path>
            </a:pathLst>
          </a:custGeom>
          <a:solidFill>
            <a:srgbClr val="6666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3" name="Picture 19" descr="движение"/>
          <p:cNvPicPr/>
          <p:nvPr/>
        </p:nvPicPr>
        <p:blipFill>
          <a:blip r:embed="rId1"/>
          <a:stretch/>
        </p:blipFill>
        <p:spPr>
          <a:xfrm>
            <a:off x="55440" y="5746680"/>
            <a:ext cx="1111320" cy="111132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21" descr="движение"/>
          <p:cNvPicPr/>
          <p:nvPr/>
        </p:nvPicPr>
        <p:blipFill>
          <a:blip r:embed="rId2"/>
          <a:stretch/>
        </p:blipFill>
        <p:spPr>
          <a:xfrm>
            <a:off x="7897680" y="0"/>
            <a:ext cx="124632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0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AutoShape 2"/>
          <p:cNvSpPr/>
          <p:nvPr/>
        </p:nvSpPr>
        <p:spPr>
          <a:xfrm rot="18940800">
            <a:off x="1204920" y="5316120"/>
            <a:ext cx="1668600" cy="154080"/>
          </a:xfrm>
          <a:prstGeom prst="rightArrow">
            <a:avLst>
              <a:gd name="adj1" fmla="val 50000"/>
              <a:gd name="adj2" fmla="val 270736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AutoShape 3"/>
          <p:cNvSpPr/>
          <p:nvPr/>
        </p:nvSpPr>
        <p:spPr>
          <a:xfrm rot="13237200">
            <a:off x="6111360" y="5238360"/>
            <a:ext cx="1590840" cy="147600"/>
          </a:xfrm>
          <a:prstGeom prst="rightArrow">
            <a:avLst>
              <a:gd name="adj1" fmla="val 50000"/>
              <a:gd name="adj2" fmla="val 269451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AutoShape 4"/>
          <p:cNvSpPr/>
          <p:nvPr/>
        </p:nvSpPr>
        <p:spPr>
          <a:xfrm rot="8277000">
            <a:off x="6211440" y="1571400"/>
            <a:ext cx="1551240" cy="122040"/>
          </a:xfrm>
          <a:prstGeom prst="rightArrow">
            <a:avLst>
              <a:gd name="adj1" fmla="val 50000"/>
              <a:gd name="adj2" fmla="val 317773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AutoShape 5"/>
          <p:cNvSpPr/>
          <p:nvPr/>
        </p:nvSpPr>
        <p:spPr>
          <a:xfrm rot="2568600">
            <a:off x="1317240" y="1589040"/>
            <a:ext cx="1454040" cy="111240"/>
          </a:xfrm>
          <a:prstGeom prst="rightArrow">
            <a:avLst>
              <a:gd name="adj1" fmla="val 50000"/>
              <a:gd name="adj2" fmla="val 326780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-13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ппетит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0" name="AutoShape 7"/>
          <p:cNvSpPr/>
          <p:nvPr/>
        </p:nvSpPr>
        <p:spPr>
          <a:xfrm>
            <a:off x="457200" y="77004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AutoShape 8"/>
          <p:cNvSpPr/>
          <p:nvPr/>
        </p:nvSpPr>
        <p:spPr>
          <a:xfrm>
            <a:off x="7497720" y="77004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AutoShape 9"/>
          <p:cNvSpPr/>
          <p:nvPr/>
        </p:nvSpPr>
        <p:spPr>
          <a:xfrm>
            <a:off x="324000" y="5732640"/>
            <a:ext cx="122364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AutoShape 10"/>
          <p:cNvSpPr/>
          <p:nvPr/>
        </p:nvSpPr>
        <p:spPr>
          <a:xfrm>
            <a:off x="7462800" y="5732640"/>
            <a:ext cx="143028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AutoShape 11"/>
          <p:cNvSpPr/>
          <p:nvPr/>
        </p:nvSpPr>
        <p:spPr>
          <a:xfrm flipH="1" flipV="1">
            <a:off x="2437560" y="1828800"/>
            <a:ext cx="1584360" cy="1295280"/>
          </a:xfrm>
          <a:prstGeom prst="flowChartDocumen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роши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«лакомк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AutoShape 12"/>
          <p:cNvSpPr/>
          <p:nvPr/>
        </p:nvSpPr>
        <p:spPr>
          <a:xfrm flipV="1">
            <a:off x="4973760" y="1828800"/>
            <a:ext cx="1655640" cy="1295280"/>
          </a:xfrm>
          <a:prstGeom prst="flowChartDocumen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ест быстро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н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AutoShape 13"/>
          <p:cNvSpPr/>
          <p:nvPr/>
        </p:nvSpPr>
        <p:spPr>
          <a:xfrm>
            <a:off x="5049720" y="3813120"/>
            <a:ext cx="1656000" cy="1368360"/>
          </a:xfrm>
          <a:prstGeom prst="flowChartDocumen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нижен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AutoShape 14"/>
          <p:cNvSpPr/>
          <p:nvPr/>
        </p:nvSpPr>
        <p:spPr>
          <a:xfrm flipH="1">
            <a:off x="2437560" y="3813120"/>
            <a:ext cx="1584360" cy="1368360"/>
          </a:xfrm>
          <a:prstGeom prst="flowChartDocumen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нит процес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еды, н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оропится в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ремя е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AutoShape 15"/>
          <p:cNvSpPr/>
          <p:nvPr/>
        </p:nvSpPr>
        <p:spPr>
          <a:xfrm>
            <a:off x="0" y="0"/>
            <a:ext cx="1295280" cy="436680"/>
          </a:xfrm>
          <a:custGeom>
            <a:avLst/>
            <a:gdLst>
              <a:gd name="textAreaLeft" fmla="*/ 28080 w 1295280"/>
              <a:gd name="textAreaRight" fmla="*/ 1267200 w 1295280"/>
              <a:gd name="textAreaTop" fmla="*/ 28080 h 436680"/>
              <a:gd name="textAreaBottom" fmla="*/ 408600 h 436680"/>
            </a:gdLst>
            <a:ahLst/>
            <a:rect l="textAreaLeft" t="textAreaTop" r="textAreaRight" b="textAreaBottom"/>
            <a:pathLst>
              <a:path w="64035" h="21600">
                <a:moveTo>
                  <a:pt x="0" y="0"/>
                </a:moveTo>
                <a:lnTo>
                  <a:pt x="64035" y="0"/>
                </a:lnTo>
                <a:lnTo>
                  <a:pt x="64035" y="21600"/>
                </a:lnTo>
                <a:lnTo>
                  <a:pt x="0" y="21600"/>
                </a:lnTo>
                <a:close/>
              </a:path>
              <a:path fill="lightenLess" w="64035" h="21600">
                <a:moveTo>
                  <a:pt x="0" y="0"/>
                </a:moveTo>
                <a:lnTo>
                  <a:pt x="64035" y="0"/>
                </a:lnTo>
                <a:lnTo>
                  <a:pt x="62635" y="1400"/>
                </a:lnTo>
                <a:lnTo>
                  <a:pt x="1400" y="1400"/>
                </a:lnTo>
                <a:close/>
              </a:path>
              <a:path fill="darken" w="64035" h="21600">
                <a:moveTo>
                  <a:pt x="64035" y="0"/>
                </a:moveTo>
                <a:lnTo>
                  <a:pt x="64035" y="21600"/>
                </a:lnTo>
                <a:lnTo>
                  <a:pt x="62635" y="20200"/>
                </a:lnTo>
                <a:lnTo>
                  <a:pt x="62635" y="1400"/>
                </a:lnTo>
                <a:close/>
              </a:path>
              <a:path fill="darkenLess" w="64035" h="21600">
                <a:moveTo>
                  <a:pt x="64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35" y="20200"/>
                </a:lnTo>
                <a:close/>
              </a:path>
              <a:path fill="lighten" w="64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35" h="21600">
                <a:moveTo>
                  <a:pt x="25011" y="10800"/>
                </a:moveTo>
                <a:lnTo>
                  <a:pt x="39024" y="3794"/>
                </a:lnTo>
                <a:lnTo>
                  <a:pt x="39024" y="17806"/>
                </a:lnTo>
                <a:close/>
              </a:path>
            </a:pathLst>
          </a:custGeom>
          <a:solidFill>
            <a:srgbClr val="6666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9" name="Picture 16" descr="миша"/>
          <p:cNvPicPr/>
          <p:nvPr/>
        </p:nvPicPr>
        <p:blipFill>
          <a:blip r:embed="rId1"/>
          <a:stretch/>
        </p:blipFill>
        <p:spPr>
          <a:xfrm>
            <a:off x="3489480" y="2286000"/>
            <a:ext cx="21492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38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700"/>
                            </p:stCondLst>
                            <p:childTnLst>
                              <p:par>
                                <p:cTn id="11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9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61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2300"/>
                            </p:stCondLst>
                            <p:childTnLst>
                              <p:par>
                                <p:cTn id="1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4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4300"/>
                            </p:stCondLst>
                            <p:childTnLst>
                              <p:par>
                                <p:cTn id="1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4800"/>
                            </p:stCondLst>
                            <p:childTnLst>
                              <p:par>
                                <p:cTn id="11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4875"/>
                            </p:stCondLst>
                            <p:childTnLst>
                              <p:par>
                                <p:cTn id="11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6975"/>
                            </p:stCondLst>
                            <p:childTnLst>
                              <p:par>
                                <p:cTn id="11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8475"/>
                            </p:stCondLst>
                            <p:childTnLst>
                              <p:par>
                                <p:cTn id="12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475"/>
                            </p:stCondLst>
                            <p:childTnLst>
                              <p:par>
                                <p:cTn id="1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2175"/>
                            </p:stCondLst>
                            <p:childTnLst>
                              <p:par>
                                <p:cTn id="12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19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4175"/>
                            </p:stCondLst>
                            <p:childTnLst>
                              <p:par>
                                <p:cTn id="1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4675"/>
                            </p:stCondLst>
                            <p:childTnLst>
                              <p:par>
                                <p:cTn id="122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4750"/>
                            </p:stCondLst>
                            <p:childTnLst>
                              <p:par>
                                <p:cTn id="12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26550"/>
                            </p:stCondLst>
                            <p:childTnLst>
                              <p:par>
                                <p:cTn id="123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AutoShape 2"/>
          <p:cNvSpPr/>
          <p:nvPr/>
        </p:nvSpPr>
        <p:spPr>
          <a:xfrm rot="21172800">
            <a:off x="2383920" y="2867040"/>
            <a:ext cx="3840480" cy="260280"/>
          </a:xfrm>
          <a:prstGeom prst="rightArrow">
            <a:avLst>
              <a:gd name="adj1" fmla="val 50000"/>
              <a:gd name="adj2" fmla="val 368880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AutoShape 3"/>
          <p:cNvSpPr/>
          <p:nvPr/>
        </p:nvSpPr>
        <p:spPr>
          <a:xfrm rot="242400">
            <a:off x="2384280" y="3858840"/>
            <a:ext cx="3840480" cy="260280"/>
          </a:xfrm>
          <a:prstGeom prst="rightArrow">
            <a:avLst>
              <a:gd name="adj1" fmla="val 50000"/>
              <a:gd name="adj2" fmla="val 368880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AutoShape 4"/>
          <p:cNvSpPr/>
          <p:nvPr/>
        </p:nvSpPr>
        <p:spPr>
          <a:xfrm rot="658800">
            <a:off x="2331720" y="4700520"/>
            <a:ext cx="2903400" cy="270000"/>
          </a:xfrm>
          <a:prstGeom prst="rightArrow">
            <a:avLst>
              <a:gd name="adj1" fmla="val 50000"/>
              <a:gd name="adj2" fmla="val 268833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AutoShape 5"/>
          <p:cNvSpPr/>
          <p:nvPr/>
        </p:nvSpPr>
        <p:spPr>
          <a:xfrm rot="20715000">
            <a:off x="2336760" y="2079720"/>
            <a:ext cx="2886120" cy="269640"/>
          </a:xfrm>
          <a:prstGeom prst="rightArrow">
            <a:avLst>
              <a:gd name="adj1" fmla="val 50000"/>
              <a:gd name="adj2" fmla="val 267590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5" name="AutoShape 7"/>
          <p:cNvSpPr/>
          <p:nvPr/>
        </p:nvSpPr>
        <p:spPr>
          <a:xfrm>
            <a:off x="1258920" y="2360520"/>
            <a:ext cx="1427040" cy="432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ангви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AutoShape 8"/>
          <p:cNvSpPr/>
          <p:nvPr/>
        </p:nvSpPr>
        <p:spPr>
          <a:xfrm>
            <a:off x="1258920" y="2997360"/>
            <a:ext cx="142704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ле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AutoShape 9"/>
          <p:cNvSpPr/>
          <p:nvPr/>
        </p:nvSpPr>
        <p:spPr>
          <a:xfrm>
            <a:off x="1258920" y="3657600"/>
            <a:ext cx="1427040" cy="431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легмат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AutoShape 10"/>
          <p:cNvSpPr/>
          <p:nvPr/>
        </p:nvSpPr>
        <p:spPr>
          <a:xfrm>
            <a:off x="1258920" y="4305240"/>
            <a:ext cx="1427040" cy="432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ланхол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AutoShape 11"/>
          <p:cNvSpPr/>
          <p:nvPr/>
        </p:nvSpPr>
        <p:spPr>
          <a:xfrm flipH="1">
            <a:off x="4931640" y="1131840"/>
            <a:ext cx="1871640" cy="1098720"/>
          </a:xfrm>
          <a:prstGeom prst="flowChartManualInpu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 красочным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новидения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AutoShape 12"/>
          <p:cNvSpPr/>
          <p:nvPr/>
        </p:nvSpPr>
        <p:spPr>
          <a:xfrm flipH="1">
            <a:off x="5651640" y="2230560"/>
            <a:ext cx="2087280" cy="1119240"/>
          </a:xfrm>
          <a:prstGeom prst="flowChartManualInpu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пит мало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здно просыпаетс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аботает ночь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AutoShape 13"/>
          <p:cNvSpPr/>
          <p:nvPr/>
        </p:nvSpPr>
        <p:spPr>
          <a:xfrm flipH="1">
            <a:off x="4995000" y="4503600"/>
            <a:ext cx="2024280" cy="1086120"/>
          </a:xfrm>
          <a:prstGeom prst="flowChartManualInpu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пит мало, вечер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щутима усталость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лонит ко сн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AutoShape 14"/>
          <p:cNvSpPr/>
          <p:nvPr/>
        </p:nvSpPr>
        <p:spPr>
          <a:xfrm flipH="1">
            <a:off x="5794200" y="3429000"/>
            <a:ext cx="1944720" cy="1074600"/>
          </a:xfrm>
          <a:prstGeom prst="flowChartManualInput">
            <a:avLst/>
          </a:prstGeom>
          <a:solidFill>
            <a:srgbClr val="66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быстро засыпает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азбудить труд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AutoShape 15"/>
          <p:cNvSpPr/>
          <p:nvPr/>
        </p:nvSpPr>
        <p:spPr>
          <a:xfrm>
            <a:off x="0" y="0"/>
            <a:ext cx="1295280" cy="476280"/>
          </a:xfrm>
          <a:custGeom>
            <a:avLst/>
            <a:gdLst>
              <a:gd name="textAreaLeft" fmla="*/ 30600 w 1295280"/>
              <a:gd name="textAreaRight" fmla="*/ 1264680 w 129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8715" h="21600">
                <a:moveTo>
                  <a:pt x="0" y="0"/>
                </a:moveTo>
                <a:lnTo>
                  <a:pt x="58715" y="0"/>
                </a:lnTo>
                <a:lnTo>
                  <a:pt x="58715" y="21600"/>
                </a:lnTo>
                <a:lnTo>
                  <a:pt x="0" y="21600"/>
                </a:lnTo>
                <a:close/>
              </a:path>
              <a:path fill="lightenLess" w="58715" h="21600">
                <a:moveTo>
                  <a:pt x="0" y="0"/>
                </a:moveTo>
                <a:lnTo>
                  <a:pt x="58715" y="0"/>
                </a:lnTo>
                <a:lnTo>
                  <a:pt x="57315" y="1400"/>
                </a:lnTo>
                <a:lnTo>
                  <a:pt x="1400" y="1400"/>
                </a:lnTo>
                <a:close/>
              </a:path>
              <a:path fill="darken" w="58715" h="21600">
                <a:moveTo>
                  <a:pt x="58715" y="0"/>
                </a:moveTo>
                <a:lnTo>
                  <a:pt x="58715" y="21600"/>
                </a:lnTo>
                <a:lnTo>
                  <a:pt x="57315" y="20200"/>
                </a:lnTo>
                <a:lnTo>
                  <a:pt x="57315" y="1400"/>
                </a:lnTo>
                <a:close/>
              </a:path>
              <a:path fill="darkenLess" w="58715" h="21600">
                <a:moveTo>
                  <a:pt x="58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15" y="20200"/>
                </a:lnTo>
                <a:close/>
              </a:path>
              <a:path fill="lighten" w="58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15" h="21600">
                <a:moveTo>
                  <a:pt x="22351" y="10800"/>
                </a:moveTo>
                <a:lnTo>
                  <a:pt x="36364" y="3794"/>
                </a:lnTo>
                <a:lnTo>
                  <a:pt x="36364" y="17806"/>
                </a:lnTo>
                <a:close/>
              </a:path>
            </a:pathLst>
          </a:custGeom>
          <a:solidFill>
            <a:srgbClr val="6666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ча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4" name="Picture 16" descr="птичка"/>
          <p:cNvPicPr/>
          <p:nvPr/>
        </p:nvPicPr>
        <p:blipFill>
          <a:blip r:embed="rId1"/>
          <a:stretch/>
        </p:blipFill>
        <p:spPr>
          <a:xfrm>
            <a:off x="6804000" y="496404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6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4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0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4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2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98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AutoShape 19"/>
          <p:cNvSpPr/>
          <p:nvPr/>
        </p:nvSpPr>
        <p:spPr>
          <a:xfrm>
            <a:off x="2124000" y="7920"/>
            <a:ext cx="4464000" cy="792360"/>
          </a:xfrm>
          <a:custGeom>
            <a:avLst/>
            <a:gdLst>
              <a:gd name="textAreaLeft" fmla="*/ 1116000 w 4464000"/>
              <a:gd name="textAreaRight" fmla="*/ 3348000 w 446400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99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Отдохнём!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Text Box 21"/>
          <p:cNvSpPr/>
          <p:nvPr/>
        </p:nvSpPr>
        <p:spPr>
          <a:xfrm>
            <a:off x="4121280" y="39196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Text Box 22"/>
          <p:cNvSpPr/>
          <p:nvPr/>
        </p:nvSpPr>
        <p:spPr>
          <a:xfrm>
            <a:off x="8639280" y="39196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Text Box 23"/>
          <p:cNvSpPr/>
          <p:nvPr/>
        </p:nvSpPr>
        <p:spPr>
          <a:xfrm>
            <a:off x="4121280" y="6245280"/>
            <a:ext cx="2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Text Box 24"/>
          <p:cNvSpPr/>
          <p:nvPr/>
        </p:nvSpPr>
        <p:spPr>
          <a:xfrm>
            <a:off x="8604360" y="621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Rectangle 25"/>
          <p:cNvSpPr/>
          <p:nvPr/>
        </p:nvSpPr>
        <p:spPr>
          <a:xfrm>
            <a:off x="179280" y="981000"/>
            <a:ext cx="89647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редставьте: вы сидите на скамейке, рядом с вами лежит ваша шапка, к вам подходит человек и садится на неё! Как вы отреагируете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1" name="Picture 27" descr="психология сангвиник"/>
          <p:cNvPicPr/>
          <p:nvPr/>
        </p:nvPicPr>
        <p:blipFill>
          <a:blip r:embed="rId2"/>
          <a:stretch/>
        </p:blipFill>
        <p:spPr>
          <a:xfrm>
            <a:off x="304920" y="2360520"/>
            <a:ext cx="3816360" cy="19256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28" descr="психология флегматик"/>
          <p:cNvPicPr/>
          <p:nvPr/>
        </p:nvPicPr>
        <p:blipFill>
          <a:blip r:embed="rId3"/>
          <a:stretch/>
        </p:blipFill>
        <p:spPr>
          <a:xfrm>
            <a:off x="4822920" y="4594320"/>
            <a:ext cx="3816360" cy="1957320"/>
          </a:xfrm>
          <a:prstGeom prst="rect">
            <a:avLst/>
          </a:prstGeom>
          <a:ln w="0">
            <a:noFill/>
          </a:ln>
        </p:spPr>
      </p:pic>
      <p:pic>
        <p:nvPicPr>
          <p:cNvPr id="1293" name="Picture 29" descr="психология холерик"/>
          <p:cNvPicPr/>
          <p:nvPr/>
        </p:nvPicPr>
        <p:blipFill>
          <a:blip r:embed="rId4"/>
          <a:stretch/>
        </p:blipFill>
        <p:spPr>
          <a:xfrm>
            <a:off x="304920" y="4564080"/>
            <a:ext cx="3816360" cy="198756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30" descr="психология меланхолик"/>
          <p:cNvPicPr/>
          <p:nvPr/>
        </p:nvPicPr>
        <p:blipFill>
          <a:blip r:embed="rId5"/>
          <a:stretch/>
        </p:blipFill>
        <p:spPr>
          <a:xfrm>
            <a:off x="4822920" y="2298600"/>
            <a:ext cx="3816360" cy="19875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8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3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3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6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0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4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6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тес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 выбрали картинку под номером 1, это значит, что вы поведете себя в этой ситуации как сангвиник!!!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7" name="AutoShape 4"/>
          <p:cNvSpPr/>
          <p:nvPr/>
        </p:nvSpPr>
        <p:spPr>
          <a:xfrm>
            <a:off x="8101080" y="6337440"/>
            <a:ext cx="1042920" cy="520560"/>
          </a:xfrm>
          <a:custGeom>
            <a:avLst/>
            <a:gdLst>
              <a:gd name="textAreaLeft" fmla="*/ 33480 w 1042920"/>
              <a:gd name="textAreaRight" fmla="*/ 1009440 w 1042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43260" h="21600">
                <a:moveTo>
                  <a:pt x="0" y="0"/>
                </a:moveTo>
                <a:lnTo>
                  <a:pt x="43260" y="0"/>
                </a:lnTo>
                <a:lnTo>
                  <a:pt x="43260" y="21600"/>
                </a:lnTo>
                <a:lnTo>
                  <a:pt x="0" y="21600"/>
                </a:lnTo>
                <a:close/>
              </a:path>
              <a:path fill="lightenLess" w="43260" h="21600">
                <a:moveTo>
                  <a:pt x="0" y="0"/>
                </a:moveTo>
                <a:lnTo>
                  <a:pt x="43260" y="0"/>
                </a:lnTo>
                <a:lnTo>
                  <a:pt x="41860" y="1400"/>
                </a:lnTo>
                <a:lnTo>
                  <a:pt x="1400" y="1400"/>
                </a:lnTo>
                <a:close/>
              </a:path>
              <a:path fill="darken" w="43260" h="21600">
                <a:moveTo>
                  <a:pt x="43260" y="0"/>
                </a:moveTo>
                <a:lnTo>
                  <a:pt x="43260" y="21600"/>
                </a:lnTo>
                <a:lnTo>
                  <a:pt x="41860" y="20200"/>
                </a:lnTo>
                <a:lnTo>
                  <a:pt x="41860" y="1400"/>
                </a:lnTo>
                <a:close/>
              </a:path>
              <a:path fill="darkenLess" w="43260" h="21600">
                <a:moveTo>
                  <a:pt x="43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0" y="20200"/>
                </a:lnTo>
                <a:close/>
              </a:path>
              <a:path fill="lighten" w="43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0" h="21600">
                <a:moveTo>
                  <a:pt x="14623" y="3794"/>
                </a:moveTo>
                <a:lnTo>
                  <a:pt x="28636" y="10800"/>
                </a:lnTo>
                <a:lnTo>
                  <a:pt x="14623" y="17806"/>
                </a:lnTo>
                <a:close/>
              </a:path>
            </a:pathLst>
          </a:custGeom>
          <a:gradFill rotWithShape="0">
            <a:gsLst>
              <a:gs pos="0">
                <a:srgbClr val="cc66ff">
                  <a:alpha val="52156"/>
                </a:srgbClr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й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AutoShape 5"/>
          <p:cNvSpPr/>
          <p:nvPr/>
        </p:nvSpPr>
        <p:spPr>
          <a:xfrm>
            <a:off x="5867280" y="6337440"/>
            <a:ext cx="1835280" cy="520560"/>
          </a:xfrm>
          <a:custGeom>
            <a:avLst/>
            <a:gdLst>
              <a:gd name="textAreaLeft" fmla="*/ 33480 w 1835280"/>
              <a:gd name="textAreaRight" fmla="*/ 1801800 w 18352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76115" h="21600">
                <a:moveTo>
                  <a:pt x="0" y="0"/>
                </a:moveTo>
                <a:lnTo>
                  <a:pt x="76115" y="0"/>
                </a:lnTo>
                <a:lnTo>
                  <a:pt x="76115" y="21600"/>
                </a:lnTo>
                <a:lnTo>
                  <a:pt x="0" y="21600"/>
                </a:lnTo>
                <a:close/>
              </a:path>
              <a:path fill="lightenLess" w="76115" h="21600">
                <a:moveTo>
                  <a:pt x="0" y="0"/>
                </a:moveTo>
                <a:lnTo>
                  <a:pt x="76115" y="0"/>
                </a:lnTo>
                <a:lnTo>
                  <a:pt x="74715" y="1400"/>
                </a:lnTo>
                <a:lnTo>
                  <a:pt x="1400" y="1400"/>
                </a:lnTo>
                <a:close/>
              </a:path>
              <a:path fill="darken" w="76115" h="21600">
                <a:moveTo>
                  <a:pt x="76115" y="0"/>
                </a:moveTo>
                <a:lnTo>
                  <a:pt x="76115" y="21600"/>
                </a:lnTo>
                <a:lnTo>
                  <a:pt x="74715" y="20200"/>
                </a:lnTo>
                <a:lnTo>
                  <a:pt x="74715" y="1400"/>
                </a:lnTo>
                <a:close/>
              </a:path>
              <a:path fill="darkenLess" w="76115" h="21600">
                <a:moveTo>
                  <a:pt x="76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715" y="20200"/>
                </a:lnTo>
                <a:close/>
              </a:path>
              <a:path fill="lighten" w="76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115" h="21600">
                <a:moveTo>
                  <a:pt x="31051" y="10800"/>
                </a:moveTo>
                <a:lnTo>
                  <a:pt x="45064" y="3794"/>
                </a:lnTo>
                <a:lnTo>
                  <a:pt x="45064" y="17806"/>
                </a:lnTo>
                <a:close/>
              </a:path>
            </a:pathLst>
          </a:custGeom>
          <a:gradFill rotWithShape="0">
            <a:gsLst>
              <a:gs pos="0">
                <a:srgbClr val="cc66ff">
                  <a:alpha val="52156"/>
                </a:srgbClr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тес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тест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 выбрали картинку под номером 2, это значит, что вы поведете себя в этой ситуации как меланхолик!!!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1" name="AutoShape 4"/>
          <p:cNvSpPr/>
          <p:nvPr/>
        </p:nvSpPr>
        <p:spPr>
          <a:xfrm>
            <a:off x="8101080" y="6346800"/>
            <a:ext cx="1042920" cy="50184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1840"/>
              <a:gd name="textAreaBottom" fmla="*/ 469440 h 501840"/>
            </a:gdLst>
            <a:ahLst/>
            <a:rect l="textAreaLeft" t="textAreaTop" r="textAreaRight" b="textAreaBottom"/>
            <a:pathLst>
              <a:path w="44872" h="21600">
                <a:moveTo>
                  <a:pt x="0" y="0"/>
                </a:moveTo>
                <a:lnTo>
                  <a:pt x="44872" y="0"/>
                </a:lnTo>
                <a:lnTo>
                  <a:pt x="44872" y="21600"/>
                </a:lnTo>
                <a:lnTo>
                  <a:pt x="0" y="21600"/>
                </a:lnTo>
                <a:close/>
              </a:path>
              <a:path fill="lightenLess" w="44872" h="21600">
                <a:moveTo>
                  <a:pt x="0" y="0"/>
                </a:moveTo>
                <a:lnTo>
                  <a:pt x="44872" y="0"/>
                </a:lnTo>
                <a:lnTo>
                  <a:pt x="43472" y="1400"/>
                </a:lnTo>
                <a:lnTo>
                  <a:pt x="1400" y="1400"/>
                </a:lnTo>
                <a:close/>
              </a:path>
              <a:path fill="darken" w="44872" h="21600">
                <a:moveTo>
                  <a:pt x="44872" y="0"/>
                </a:moveTo>
                <a:lnTo>
                  <a:pt x="44872" y="21600"/>
                </a:lnTo>
                <a:lnTo>
                  <a:pt x="43472" y="20200"/>
                </a:lnTo>
                <a:lnTo>
                  <a:pt x="43472" y="1400"/>
                </a:lnTo>
                <a:close/>
              </a:path>
              <a:path fill="darkenLess" w="44872" h="21600">
                <a:moveTo>
                  <a:pt x="44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72" y="20200"/>
                </a:lnTo>
                <a:close/>
              </a:path>
              <a:path fill="lighten" w="44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72" h="21600">
                <a:moveTo>
                  <a:pt x="15430" y="3794"/>
                </a:moveTo>
                <a:lnTo>
                  <a:pt x="29443" y="10800"/>
                </a:lnTo>
                <a:lnTo>
                  <a:pt x="15430" y="17806"/>
                </a:lnTo>
                <a:close/>
              </a:path>
            </a:pathLst>
          </a:custGeom>
          <a:gradFill rotWithShape="0">
            <a:gsLst>
              <a:gs pos="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й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AutoShape 5"/>
          <p:cNvSpPr/>
          <p:nvPr/>
        </p:nvSpPr>
        <p:spPr>
          <a:xfrm>
            <a:off x="5796000" y="6346800"/>
            <a:ext cx="1979640" cy="501840"/>
          </a:xfrm>
          <a:custGeom>
            <a:avLst/>
            <a:gdLst>
              <a:gd name="textAreaLeft" fmla="*/ 32400 w 1979640"/>
              <a:gd name="textAreaRight" fmla="*/ 1947240 w 1979640"/>
              <a:gd name="textAreaTop" fmla="*/ 32400 h 501840"/>
              <a:gd name="textAreaBottom" fmla="*/ 469440 h 501840"/>
            </a:gdLst>
            <a:ahLst/>
            <a:rect l="textAreaLeft" t="textAreaTop" r="textAreaRight" b="textAreaBottom"/>
            <a:pathLst>
              <a:path w="85161" h="21600">
                <a:moveTo>
                  <a:pt x="0" y="0"/>
                </a:moveTo>
                <a:lnTo>
                  <a:pt x="85161" y="0"/>
                </a:lnTo>
                <a:lnTo>
                  <a:pt x="85161" y="21600"/>
                </a:lnTo>
                <a:lnTo>
                  <a:pt x="0" y="21600"/>
                </a:lnTo>
                <a:close/>
              </a:path>
              <a:path fill="lightenLess" w="85161" h="21600">
                <a:moveTo>
                  <a:pt x="0" y="0"/>
                </a:moveTo>
                <a:lnTo>
                  <a:pt x="85161" y="0"/>
                </a:lnTo>
                <a:lnTo>
                  <a:pt x="83761" y="1400"/>
                </a:lnTo>
                <a:lnTo>
                  <a:pt x="1400" y="1400"/>
                </a:lnTo>
                <a:close/>
              </a:path>
              <a:path fill="darken" w="85161" h="21600">
                <a:moveTo>
                  <a:pt x="85161" y="0"/>
                </a:moveTo>
                <a:lnTo>
                  <a:pt x="85161" y="21600"/>
                </a:lnTo>
                <a:lnTo>
                  <a:pt x="83761" y="20200"/>
                </a:lnTo>
                <a:lnTo>
                  <a:pt x="83761" y="1400"/>
                </a:lnTo>
                <a:close/>
              </a:path>
              <a:path fill="darkenLess" w="85161" h="21600">
                <a:moveTo>
                  <a:pt x="8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761" y="20200"/>
                </a:lnTo>
                <a:close/>
              </a:path>
              <a:path fill="lighten" w="8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161" h="21600">
                <a:moveTo>
                  <a:pt x="35574" y="10800"/>
                </a:moveTo>
                <a:lnTo>
                  <a:pt x="49587" y="3794"/>
                </a:lnTo>
                <a:lnTo>
                  <a:pt x="49587" y="17806"/>
                </a:lnTo>
                <a:close/>
              </a:path>
            </a:pathLst>
          </a:custGeom>
          <a:gradFill rotWithShape="0">
            <a:gsLst>
              <a:gs pos="0">
                <a:srgbClr val="cc66ff">
                  <a:alpha val="81176"/>
                </a:srgbClr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тес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0066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63120" y="139680"/>
            <a:ext cx="707724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Pristina"/>
              </a:rPr>
              <a:t>Немного о проект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52280" y="148428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risti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Pristin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Pristina"/>
              </a:rPr>
              <a:t>  </a:t>
            </a:r>
            <a:r>
              <a:rPr b="1" lang="ru-RU" sz="2800" spc="-1" strike="noStrike">
                <a:solidFill>
                  <a:srgbClr val="ffff99"/>
                </a:solidFill>
                <a:latin typeface="Pristina"/>
              </a:rPr>
              <a:t>В</a:t>
            </a:r>
            <a:r>
              <a:rPr b="0" lang="ru-RU" sz="2800" spc="-1" strike="noStrike">
                <a:solidFill>
                  <a:srgbClr val="ffff99"/>
                </a:solidFill>
                <a:latin typeface="Pristin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Pristina"/>
              </a:rPr>
              <a:t>данном проекте вы познакомитесь  с особенностями каждого из типов темперамента, узнаете о том, как тот или иной тип темперамента проявляется в поведении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Pristina"/>
              </a:rPr>
              <a:t>         </a:t>
            </a:r>
            <a:r>
              <a:rPr b="1" lang="ru-RU" sz="2800" spc="-1" strike="noStrike">
                <a:solidFill>
                  <a:srgbClr val="ffff99"/>
                </a:solidFill>
                <a:latin typeface="Pristina"/>
              </a:rPr>
              <a:t>Вы найдете для себя что-то новое и интересное!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5" name="tichinabet 2222.mp3" descr=""/>
          <p:cNvPicPr/>
          <p:nvPr/>
        </p:nvPicPr>
        <p:blipFill>
          <a:blip r:embed="rId1"/>
          <a:stretch/>
        </p:blipFill>
        <p:spPr>
          <a:xfrm>
            <a:off x="8101080" y="13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8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8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тес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 выбрали картинку под номером 3, это значит, что вы поведете себя в этой ситуации как холерик!!!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5" name="AutoShape 4"/>
          <p:cNvSpPr/>
          <p:nvPr/>
        </p:nvSpPr>
        <p:spPr>
          <a:xfrm>
            <a:off x="8101080" y="638172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43" h="21600">
                <a:moveTo>
                  <a:pt x="13915" y="3794"/>
                </a:moveTo>
                <a:lnTo>
                  <a:pt x="27928" y="10800"/>
                </a:lnTo>
                <a:lnTo>
                  <a:pt x="13915" y="17806"/>
                </a:lnTo>
                <a:close/>
              </a:path>
            </a:pathLst>
          </a:custGeom>
          <a:gradFill rotWithShape="0">
            <a:gsLst>
              <a:gs pos="0">
                <a:srgbClr val="cc66ff">
                  <a:alpha val="99215"/>
                </a:srgbClr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й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6" name="AutoShape 5"/>
          <p:cNvSpPr/>
          <p:nvPr/>
        </p:nvSpPr>
        <p:spPr>
          <a:xfrm>
            <a:off x="5867280" y="6381720"/>
            <a:ext cx="2051280" cy="538200"/>
          </a:xfrm>
          <a:custGeom>
            <a:avLst/>
            <a:gdLst>
              <a:gd name="textAreaLeft" fmla="*/ 34560 w 2051280"/>
              <a:gd name="textAreaRight" fmla="*/ 2016720 w 205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82285" h="21600">
                <a:moveTo>
                  <a:pt x="0" y="0"/>
                </a:moveTo>
                <a:lnTo>
                  <a:pt x="82285" y="0"/>
                </a:lnTo>
                <a:lnTo>
                  <a:pt x="82285" y="21600"/>
                </a:lnTo>
                <a:lnTo>
                  <a:pt x="0" y="21600"/>
                </a:lnTo>
                <a:close/>
              </a:path>
              <a:path fill="lightenLess" w="82285" h="21600">
                <a:moveTo>
                  <a:pt x="0" y="0"/>
                </a:moveTo>
                <a:lnTo>
                  <a:pt x="82285" y="0"/>
                </a:lnTo>
                <a:lnTo>
                  <a:pt x="80885" y="1400"/>
                </a:lnTo>
                <a:lnTo>
                  <a:pt x="1400" y="1400"/>
                </a:lnTo>
                <a:close/>
              </a:path>
              <a:path fill="darken" w="82285" h="21600">
                <a:moveTo>
                  <a:pt x="82285" y="0"/>
                </a:moveTo>
                <a:lnTo>
                  <a:pt x="82285" y="21600"/>
                </a:lnTo>
                <a:lnTo>
                  <a:pt x="80885" y="20200"/>
                </a:lnTo>
                <a:lnTo>
                  <a:pt x="80885" y="1400"/>
                </a:lnTo>
                <a:close/>
              </a:path>
              <a:path fill="darkenLess" w="82285" h="21600">
                <a:moveTo>
                  <a:pt x="82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885" y="20200"/>
                </a:lnTo>
                <a:close/>
              </a:path>
              <a:path fill="lighten" w="82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285" h="21600">
                <a:moveTo>
                  <a:pt x="34136" y="10800"/>
                </a:moveTo>
                <a:lnTo>
                  <a:pt x="48149" y="3794"/>
                </a:lnTo>
                <a:lnTo>
                  <a:pt x="48149" y="17806"/>
                </a:lnTo>
                <a:close/>
              </a:path>
            </a:pathLst>
          </a:custGeom>
          <a:gradFill rotWithShape="0">
            <a:gsLst>
              <a:gs pos="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тес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тес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 выбрали картинку под номером 4, это значит, что вы поведете себя в этой ситуации как флегматик!!!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9" name="AutoShape 4"/>
          <p:cNvSpPr/>
          <p:nvPr/>
        </p:nvSpPr>
        <p:spPr>
          <a:xfrm>
            <a:off x="8101080" y="6429240"/>
            <a:ext cx="1042920" cy="42876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2514" h="21600">
                <a:moveTo>
                  <a:pt x="0" y="0"/>
                </a:moveTo>
                <a:lnTo>
                  <a:pt x="52514" y="0"/>
                </a:lnTo>
                <a:lnTo>
                  <a:pt x="52514" y="21600"/>
                </a:lnTo>
                <a:lnTo>
                  <a:pt x="0" y="21600"/>
                </a:lnTo>
                <a:close/>
              </a:path>
              <a:path fill="lightenLess" w="52514" h="21600">
                <a:moveTo>
                  <a:pt x="0" y="0"/>
                </a:moveTo>
                <a:lnTo>
                  <a:pt x="52514" y="0"/>
                </a:lnTo>
                <a:lnTo>
                  <a:pt x="51114" y="1400"/>
                </a:lnTo>
                <a:lnTo>
                  <a:pt x="1400" y="1400"/>
                </a:lnTo>
                <a:close/>
              </a:path>
              <a:path fill="darken" w="52514" h="21600">
                <a:moveTo>
                  <a:pt x="52514" y="0"/>
                </a:moveTo>
                <a:lnTo>
                  <a:pt x="52514" y="21600"/>
                </a:lnTo>
                <a:lnTo>
                  <a:pt x="51114" y="20200"/>
                </a:lnTo>
                <a:lnTo>
                  <a:pt x="51114" y="1400"/>
                </a:lnTo>
                <a:close/>
              </a:path>
              <a:path fill="darkenLess" w="52514" h="21600">
                <a:moveTo>
                  <a:pt x="52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14" y="20200"/>
                </a:lnTo>
                <a:close/>
              </a:path>
              <a:path fill="lighten" w="52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14" h="21600">
                <a:moveTo>
                  <a:pt x="19251" y="3794"/>
                </a:moveTo>
                <a:lnTo>
                  <a:pt x="33264" y="10800"/>
                </a:lnTo>
                <a:lnTo>
                  <a:pt x="19251" y="17806"/>
                </a:lnTo>
                <a:close/>
              </a:path>
            </a:pathLst>
          </a:custGeom>
          <a:gradFill rotWithShape="0">
            <a:gsLst>
              <a:gs pos="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й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0" name="AutoShape 5"/>
          <p:cNvSpPr/>
          <p:nvPr/>
        </p:nvSpPr>
        <p:spPr>
          <a:xfrm>
            <a:off x="5651640" y="6429240"/>
            <a:ext cx="2050920" cy="419400"/>
          </a:xfrm>
          <a:custGeom>
            <a:avLst/>
            <a:gdLst>
              <a:gd name="textAreaLeft" fmla="*/ 27000 w 2050920"/>
              <a:gd name="textAreaRight" fmla="*/ 2023920 w 2050920"/>
              <a:gd name="textAreaTop" fmla="*/ 27000 h 419400"/>
              <a:gd name="textAreaBottom" fmla="*/ 392400 h 419400"/>
            </a:gdLst>
            <a:ahLst/>
            <a:rect l="textAreaLeft" t="textAreaTop" r="textAreaRight" b="textAreaBottom"/>
            <a:pathLst>
              <a:path w="105555" h="21600">
                <a:moveTo>
                  <a:pt x="0" y="0"/>
                </a:moveTo>
                <a:lnTo>
                  <a:pt x="105555" y="0"/>
                </a:lnTo>
                <a:lnTo>
                  <a:pt x="105555" y="21600"/>
                </a:lnTo>
                <a:lnTo>
                  <a:pt x="0" y="21600"/>
                </a:lnTo>
                <a:close/>
              </a:path>
              <a:path fill="lightenLess" w="105555" h="21600">
                <a:moveTo>
                  <a:pt x="0" y="0"/>
                </a:moveTo>
                <a:lnTo>
                  <a:pt x="105555" y="0"/>
                </a:lnTo>
                <a:lnTo>
                  <a:pt x="104155" y="1400"/>
                </a:lnTo>
                <a:lnTo>
                  <a:pt x="1400" y="1400"/>
                </a:lnTo>
                <a:close/>
              </a:path>
              <a:path fill="darken" w="105555" h="21600">
                <a:moveTo>
                  <a:pt x="105555" y="0"/>
                </a:moveTo>
                <a:lnTo>
                  <a:pt x="105555" y="21600"/>
                </a:lnTo>
                <a:lnTo>
                  <a:pt x="104155" y="20200"/>
                </a:lnTo>
                <a:lnTo>
                  <a:pt x="104155" y="1400"/>
                </a:lnTo>
                <a:close/>
              </a:path>
              <a:path fill="darkenLess" w="105555" h="21600">
                <a:moveTo>
                  <a:pt x="105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155" y="20200"/>
                </a:lnTo>
                <a:close/>
              </a:path>
              <a:path fill="lighten" w="105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555" h="21600">
                <a:moveTo>
                  <a:pt x="45771" y="10800"/>
                </a:moveTo>
                <a:lnTo>
                  <a:pt x="59784" y="3794"/>
                </a:lnTo>
                <a:lnTo>
                  <a:pt x="59784" y="17806"/>
                </a:lnTo>
                <a:close/>
              </a:path>
            </a:pathLst>
          </a:custGeom>
          <a:gradFill rotWithShape="0">
            <a:gsLst>
              <a:gs pos="0">
                <a:srgbClr val="cc66ff"/>
              </a:gs>
              <a:gs pos="100000">
                <a:srgbClr val="5e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тес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думаю, что вы нашли для себя что-то интересное, новое и немного отдохнули!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8" dur="20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0" dur="20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3" dur="10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5" dur="10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8" dur="10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0" dur="10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83" dur="1000"/>
                                        <p:tgtEl>
                                          <p:spTgt spid="1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/>
                                        <p:tgtEl>
                                          <p:spTgt spid="1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5" dur="1000"/>
                                        <p:tgtEl>
                                          <p:spTgt spid="1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AutoShape 11"/>
          <p:cNvSpPr/>
          <p:nvPr/>
        </p:nvSpPr>
        <p:spPr>
          <a:xfrm>
            <a:off x="4648320" y="1905120"/>
            <a:ext cx="4038480" cy="3971880"/>
          </a:xfrm>
          <a:prstGeom prst="roundRect">
            <a:avLst>
              <a:gd name="adj" fmla="val 16667"/>
            </a:avLst>
          </a:prstGeom>
          <a:solidFill>
            <a:srgbClr val="6699ff">
              <a:alpha val="57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AutoShape 10"/>
          <p:cNvSpPr/>
          <p:nvPr/>
        </p:nvSpPr>
        <p:spPr>
          <a:xfrm>
            <a:off x="457200" y="1905120"/>
            <a:ext cx="3970440" cy="3971880"/>
          </a:xfrm>
          <a:custGeom>
            <a:avLst/>
            <a:gdLst>
              <a:gd name="textAreaLeft" fmla="*/ 193680 w 3970440"/>
              <a:gd name="textAreaRight" fmla="*/ 3776760 w 3970440"/>
              <a:gd name="textAreaTop" fmla="*/ 193680 h 3971880"/>
              <a:gd name="textAreaBottom" fmla="*/ 3778200 h 397188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99ff">
              <a:alpha val="53000"/>
            </a:srgbClr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Понятие темпера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Виды темпера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Т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Характеристики темпера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Темперамент и свойств нервной сис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Круг Айзе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Тип темперамента в зависимости от свойств ли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48320" y="2205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Т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9" action="ppaction://hlinksldjump"/>
              </a:rPr>
              <a:t>Проявление качеств ли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0" action="ppaction://hlinksldjump"/>
              </a:rPr>
              <a:t>в зависимости от темперамен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1" action="ppaction://hlinksldjump"/>
              </a:rPr>
              <a:t>«Отдохнём!!!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3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AutoShape 25"/>
          <p:cNvSpPr/>
          <p:nvPr/>
        </p:nvSpPr>
        <p:spPr>
          <a:xfrm>
            <a:off x="228600" y="1539720"/>
            <a:ext cx="8423280" cy="4158360"/>
          </a:xfrm>
          <a:prstGeom prst="roundRect">
            <a:avLst>
              <a:gd name="adj" fmla="val 16667"/>
            </a:avLst>
          </a:prstGeom>
          <a:solidFill>
            <a:srgbClr val="cc99ff">
              <a:alpha val="24000"/>
            </a:srgbClr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Темперамент (от латинского temperamentum – надлежащее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оотношение частей), особенности психики, объясняющие образ действий человека в той или иной ситуации. Отражает динамическую, а не содержательную сторону психической деятель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Выделяются две ведущие характеристики: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ктивность, в которой человек взаимодействует с окружающим миром. Она проявляется в темпе, быстроте, интенсивности действ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Эмоциональность, которая выражается в чувствительности, импульсивности и впечатли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6240" y="17604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нятие темперамен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AutoShape 24">
            <a:hlinkClick r:id="rId2" action="ppaction://hlinksldjump"/>
          </p:cNvPr>
          <p:cNvSpPr/>
          <p:nvPr/>
        </p:nvSpPr>
        <p:spPr>
          <a:xfrm>
            <a:off x="7596360" y="6381720"/>
            <a:ext cx="1547640" cy="476280"/>
          </a:xfrm>
          <a:custGeom>
            <a:avLst/>
            <a:gdLst>
              <a:gd name="textAreaLeft" fmla="*/ 30600 w 1547640"/>
              <a:gd name="textAreaRight" fmla="*/ 1517040 w 15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70151" h="21600">
                <a:moveTo>
                  <a:pt x="0" y="0"/>
                </a:moveTo>
                <a:lnTo>
                  <a:pt x="70151" y="0"/>
                </a:lnTo>
                <a:lnTo>
                  <a:pt x="70151" y="21600"/>
                </a:lnTo>
                <a:lnTo>
                  <a:pt x="0" y="21600"/>
                </a:lnTo>
                <a:close/>
              </a:path>
              <a:path fill="lightenLess" w="70151" h="21600">
                <a:moveTo>
                  <a:pt x="0" y="0"/>
                </a:moveTo>
                <a:lnTo>
                  <a:pt x="70151" y="0"/>
                </a:lnTo>
                <a:lnTo>
                  <a:pt x="68751" y="1400"/>
                </a:lnTo>
                <a:lnTo>
                  <a:pt x="1400" y="1400"/>
                </a:lnTo>
                <a:close/>
              </a:path>
              <a:path fill="darken" w="70151" h="21600">
                <a:moveTo>
                  <a:pt x="70151" y="0"/>
                </a:moveTo>
                <a:lnTo>
                  <a:pt x="70151" y="21600"/>
                </a:lnTo>
                <a:lnTo>
                  <a:pt x="68751" y="20200"/>
                </a:lnTo>
                <a:lnTo>
                  <a:pt x="68751" y="1400"/>
                </a:lnTo>
                <a:close/>
              </a:path>
              <a:path fill="darkenLess" w="70151" h="21600">
                <a:moveTo>
                  <a:pt x="70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1" y="20200"/>
                </a:lnTo>
                <a:close/>
              </a:path>
              <a:path fill="lighten" w="70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51" h="21600">
                <a:moveTo>
                  <a:pt x="31577" y="10800"/>
                </a:moveTo>
                <a:lnTo>
                  <a:pt x="42082" y="3794"/>
                </a:lnTo>
                <a:lnTo>
                  <a:pt x="42082" y="17806"/>
                </a:lnTo>
                <a:close/>
              </a:path>
              <a:path fill="darken" w="70151" h="21600">
                <a:moveTo>
                  <a:pt x="28069" y="3794"/>
                </a:moveTo>
                <a:lnTo>
                  <a:pt x="29731" y="3794"/>
                </a:lnTo>
                <a:lnTo>
                  <a:pt x="29731" y="17806"/>
                </a:lnTo>
                <a:lnTo>
                  <a:pt x="28069" y="17806"/>
                </a:lnTo>
                <a:close/>
              </a:path>
            </a:pathLst>
          </a:custGeom>
          <a:solidFill>
            <a:srgbClr val="33cc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99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AutoShape 93"/>
          <p:cNvSpPr/>
          <p:nvPr/>
        </p:nvSpPr>
        <p:spPr>
          <a:xfrm rot="21277200">
            <a:off x="2644560" y="3160440"/>
            <a:ext cx="3759120" cy="268200"/>
          </a:xfrm>
          <a:prstGeom prst="rightArrow">
            <a:avLst>
              <a:gd name="adj1" fmla="val 50000"/>
              <a:gd name="adj2" fmla="val 35040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AutoShape 94"/>
          <p:cNvSpPr/>
          <p:nvPr/>
        </p:nvSpPr>
        <p:spPr>
          <a:xfrm rot="325200">
            <a:off x="2644560" y="3716280"/>
            <a:ext cx="3759120" cy="268200"/>
          </a:xfrm>
          <a:prstGeom prst="rightArrow">
            <a:avLst>
              <a:gd name="adj1" fmla="val 50000"/>
              <a:gd name="adj2" fmla="val 35040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AutoShape 95"/>
          <p:cNvSpPr/>
          <p:nvPr/>
        </p:nvSpPr>
        <p:spPr>
          <a:xfrm rot="1060200">
            <a:off x="2410920" y="4292640"/>
            <a:ext cx="3759480" cy="268200"/>
          </a:xfrm>
          <a:prstGeom prst="rightArrow">
            <a:avLst>
              <a:gd name="adj1" fmla="val 50000"/>
              <a:gd name="adj2" fmla="val 350436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темперамен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AutoShape 19">
            <a:hlinkClick r:id="rId1" action="ppaction://hlinksldjump"/>
          </p:cNvPr>
          <p:cNvSpPr/>
          <p:nvPr/>
        </p:nvSpPr>
        <p:spPr>
          <a:xfrm>
            <a:off x="7524720" y="6381720"/>
            <a:ext cx="1619280" cy="476280"/>
          </a:xfrm>
          <a:custGeom>
            <a:avLst/>
            <a:gdLst>
              <a:gd name="textAreaLeft" fmla="*/ 30600 w 1619280"/>
              <a:gd name="textAreaRight" fmla="*/ 1588680 w 1619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73398" h="21600">
                <a:moveTo>
                  <a:pt x="0" y="0"/>
                </a:moveTo>
                <a:lnTo>
                  <a:pt x="73398" y="0"/>
                </a:lnTo>
                <a:lnTo>
                  <a:pt x="73398" y="21600"/>
                </a:lnTo>
                <a:lnTo>
                  <a:pt x="0" y="21600"/>
                </a:lnTo>
                <a:close/>
              </a:path>
              <a:path fill="lightenLess" w="73398" h="21600">
                <a:moveTo>
                  <a:pt x="0" y="0"/>
                </a:moveTo>
                <a:lnTo>
                  <a:pt x="73398" y="0"/>
                </a:lnTo>
                <a:lnTo>
                  <a:pt x="71998" y="1400"/>
                </a:lnTo>
                <a:lnTo>
                  <a:pt x="1400" y="1400"/>
                </a:lnTo>
                <a:close/>
              </a:path>
              <a:path fill="darken" w="73398" h="21600">
                <a:moveTo>
                  <a:pt x="73398" y="0"/>
                </a:moveTo>
                <a:lnTo>
                  <a:pt x="73398" y="21600"/>
                </a:lnTo>
                <a:lnTo>
                  <a:pt x="71998" y="20200"/>
                </a:lnTo>
                <a:lnTo>
                  <a:pt x="71998" y="1400"/>
                </a:lnTo>
                <a:close/>
              </a:path>
              <a:path fill="darkenLess" w="73398" h="21600">
                <a:moveTo>
                  <a:pt x="73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98" y="20200"/>
                </a:lnTo>
                <a:close/>
              </a:path>
              <a:path fill="lighten" w="73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98" h="21600">
                <a:moveTo>
                  <a:pt x="36699" y="3837"/>
                </a:moveTo>
                <a:lnTo>
                  <a:pt x="39275" y="6448"/>
                </a:lnTo>
                <a:lnTo>
                  <a:pt x="39275" y="4707"/>
                </a:lnTo>
                <a:lnTo>
                  <a:pt x="41051" y="4707"/>
                </a:lnTo>
                <a:lnTo>
                  <a:pt x="41051" y="8224"/>
                </a:lnTo>
                <a:lnTo>
                  <a:pt x="43662" y="10800"/>
                </a:lnTo>
                <a:lnTo>
                  <a:pt x="42008" y="10800"/>
                </a:lnTo>
                <a:lnTo>
                  <a:pt x="42008" y="17989"/>
                </a:lnTo>
                <a:lnTo>
                  <a:pt x="31390" y="17989"/>
                </a:lnTo>
                <a:lnTo>
                  <a:pt x="31390" y="10800"/>
                </a:lnTo>
                <a:lnTo>
                  <a:pt x="29736" y="10800"/>
                </a:lnTo>
                <a:close/>
              </a:path>
              <a:path fill="darkenLess" w="73398" h="21600">
                <a:moveTo>
                  <a:pt x="39275" y="6448"/>
                </a:moveTo>
                <a:lnTo>
                  <a:pt x="39275" y="4707"/>
                </a:lnTo>
                <a:lnTo>
                  <a:pt x="41051" y="4707"/>
                </a:lnTo>
                <a:lnTo>
                  <a:pt x="41051" y="8224"/>
                </a:lnTo>
                <a:close/>
              </a:path>
              <a:path fill="darkenLess" w="73398" h="21600">
                <a:moveTo>
                  <a:pt x="35776" y="14299"/>
                </a:moveTo>
                <a:lnTo>
                  <a:pt x="37621" y="14299"/>
                </a:lnTo>
                <a:lnTo>
                  <a:pt x="37621" y="17989"/>
                </a:lnTo>
                <a:lnTo>
                  <a:pt x="42008" y="17989"/>
                </a:lnTo>
                <a:lnTo>
                  <a:pt x="42008" y="10800"/>
                </a:lnTo>
                <a:lnTo>
                  <a:pt x="31390" y="10800"/>
                </a:lnTo>
                <a:lnTo>
                  <a:pt x="31390" y="17989"/>
                </a:lnTo>
                <a:lnTo>
                  <a:pt x="35776" y="17989"/>
                </a:lnTo>
                <a:close/>
              </a:path>
            </a:pathLst>
          </a:custGeom>
          <a:solidFill>
            <a:srgbClr val="33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AutoShape 85"/>
          <p:cNvSpPr/>
          <p:nvPr/>
        </p:nvSpPr>
        <p:spPr>
          <a:xfrm rot="20667000">
            <a:off x="2644560" y="2587320"/>
            <a:ext cx="3759120" cy="268200"/>
          </a:xfrm>
          <a:prstGeom prst="rightArrow">
            <a:avLst>
              <a:gd name="adj1" fmla="val 50000"/>
              <a:gd name="adj2" fmla="val 35040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AutoShape 72"/>
          <p:cNvSpPr/>
          <p:nvPr/>
        </p:nvSpPr>
        <p:spPr>
          <a:xfrm>
            <a:off x="601560" y="3160800"/>
            <a:ext cx="2232000" cy="8236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темперам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AutoShape 87"/>
          <p:cNvSpPr/>
          <p:nvPr/>
        </p:nvSpPr>
        <p:spPr>
          <a:xfrm>
            <a:off x="6004080" y="1700280"/>
            <a:ext cx="1782720" cy="863640"/>
          </a:xfrm>
          <a:prstGeom prst="octagon">
            <a:avLst>
              <a:gd name="adj" fmla="val 29287"/>
            </a:avLst>
          </a:prstGeom>
          <a:solidFill>
            <a:srgbClr val="6666ff">
              <a:alpha val="7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Tahoma"/>
              </a:rPr>
              <a:t>флегма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Oval 88"/>
          <p:cNvSpPr/>
          <p:nvPr/>
        </p:nvSpPr>
        <p:spPr>
          <a:xfrm>
            <a:off x="5864400" y="3811680"/>
            <a:ext cx="2003400" cy="736560"/>
          </a:xfrm>
          <a:prstGeom prst="ellipse">
            <a:avLst/>
          </a:prstGeom>
          <a:solidFill>
            <a:srgbClr val="c0c0c0">
              <a:alpha val="9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ланхол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AutoShape 89"/>
          <p:cNvSpPr/>
          <p:nvPr/>
        </p:nvSpPr>
        <p:spPr>
          <a:xfrm>
            <a:off x="5864400" y="2855880"/>
            <a:ext cx="2290680" cy="706320"/>
          </a:xfrm>
          <a:prstGeom prst="parallelogram">
            <a:avLst>
              <a:gd name="adj" fmla="val 81078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холер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AutoShape 92"/>
          <p:cNvSpPr/>
          <p:nvPr/>
        </p:nvSpPr>
        <p:spPr>
          <a:xfrm>
            <a:off x="5513400" y="4791240"/>
            <a:ext cx="1643040" cy="796680"/>
          </a:xfrm>
          <a:prstGeom prst="roundRect">
            <a:avLst>
              <a:gd name="adj" fmla="val 16667"/>
            </a:avLst>
          </a:prstGeom>
          <a:solidFill>
            <a:srgbClr val="ffff00">
              <a:alpha val="63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ahoma"/>
              </a:rPr>
              <a:t>сангви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роведем небольшой тес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Хотите узнать о своем типе темперамента?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Для теста вам понадобится листочек и ручк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1c1c1c"/>
                </a:solidFill>
                <a:latin typeface="Times New Roman"/>
              </a:rPr>
              <a:t>Вам будут приведены столбики: из столбиков выберете наиболее подходящие вам характеристики, подсчитав результаты, определите свой темперамен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c1c1c"/>
                </a:solidFill>
                <a:latin typeface="Times New Roman"/>
              </a:rPr>
              <a:t>(тест приведен на следующем слайд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AutoShape 4"/>
          <p:cNvSpPr/>
          <p:nvPr/>
        </p:nvSpPr>
        <p:spPr>
          <a:xfrm>
            <a:off x="395280" y="0"/>
            <a:ext cx="1835280" cy="6219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САНГВИ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еззабот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егкомысл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Жив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Акт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Общи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Отзыв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Разговор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ыстр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Трудогол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олту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Красноре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оверхност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Чут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олт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Дружелюб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егко приспо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абливающий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Яр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терпе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езответствен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надеж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постоя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Гиб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Щедр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ег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част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AutoShape 6"/>
          <p:cNvSpPr/>
          <p:nvPr/>
        </p:nvSpPr>
        <p:spPr>
          <a:xfrm>
            <a:off x="2556000" y="0"/>
            <a:ext cx="1800000" cy="6219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ХОЛЕР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Импульс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угомо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Вспыль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Акт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егковозбуди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ышущий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доровь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Агресс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иде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и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Энерги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Экстравер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терпе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Инициато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Шум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ракти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Эффект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абыв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порт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оперничающ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Вынос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Доминирующ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терпи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Упря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ердит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Дея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AutoShape 7"/>
          <p:cNvSpPr/>
          <p:nvPr/>
        </p:nvSpPr>
        <p:spPr>
          <a:xfrm>
            <a:off x="4643280" y="0"/>
            <a:ext cx="1872000" cy="6219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МЕЛАНХОЛ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ессимисти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еча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Груст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ерьез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р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огруженный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еб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Тих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держа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амкнут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ку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авший дух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адум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Требова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Рани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Читате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едли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ра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ыслите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Ум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Хорошая памя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озерцате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благодар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удовлетворен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амоотверж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Безутеш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AutoShape 8"/>
          <p:cNvSpPr/>
          <p:nvPr/>
        </p:nvSpPr>
        <p:spPr>
          <a:xfrm>
            <a:off x="6804000" y="-71280"/>
            <a:ext cx="1871640" cy="6291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ФЛЕГМАТ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Внима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етодич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Уравновеш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ассив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иролюб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адум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покой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держа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Расслабл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торопл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едли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епрекло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Размерен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Тих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Погруженный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еб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Контролирующ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себ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ечта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Любящий рутин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ый тру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едленно учи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Настой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Упря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Застенчив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Мудр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ahoma"/>
              </a:rPr>
              <a:t>Уныл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Rectangle 9"/>
          <p:cNvSpPr/>
          <p:nvPr/>
        </p:nvSpPr>
        <p:spPr>
          <a:xfrm>
            <a:off x="826920" y="6480000"/>
            <a:ext cx="1008360" cy="378000"/>
          </a:xfrm>
          <a:prstGeom prst="rect">
            <a:avLst/>
          </a:prstGeom>
          <a:noFill/>
          <a:ln w="190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Rectangle 13"/>
          <p:cNvSpPr/>
          <p:nvPr/>
        </p:nvSpPr>
        <p:spPr>
          <a:xfrm>
            <a:off x="2916360" y="6480000"/>
            <a:ext cx="1008000" cy="378000"/>
          </a:xfrm>
          <a:prstGeom prst="rect">
            <a:avLst/>
          </a:prstGeom>
          <a:noFill/>
          <a:ln w="190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Rectangle 14"/>
          <p:cNvSpPr/>
          <p:nvPr/>
        </p:nvSpPr>
        <p:spPr>
          <a:xfrm>
            <a:off x="7236000" y="6480000"/>
            <a:ext cx="1008000" cy="378000"/>
          </a:xfrm>
          <a:prstGeom prst="rect">
            <a:avLst/>
          </a:prstGeom>
          <a:noFill/>
          <a:ln w="190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Rectangle 15"/>
          <p:cNvSpPr/>
          <p:nvPr/>
        </p:nvSpPr>
        <p:spPr>
          <a:xfrm>
            <a:off x="5003640" y="6480000"/>
            <a:ext cx="1008360" cy="378000"/>
          </a:xfrm>
          <a:prstGeom prst="rect">
            <a:avLst/>
          </a:prstGeom>
          <a:noFill/>
          <a:ln w="190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AutoShape 6"/>
          <p:cNvSpPr/>
          <p:nvPr/>
        </p:nvSpPr>
        <p:spPr>
          <a:xfrm>
            <a:off x="250920" y="1384200"/>
            <a:ext cx="8447040" cy="5207040"/>
          </a:xfrm>
          <a:prstGeom prst="roundRect">
            <a:avLst>
              <a:gd name="adj" fmla="val 16667"/>
            </a:avLst>
          </a:prstGeom>
          <a:solidFill>
            <a:srgbClr val="ff6600">
              <a:alpha val="23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Характеристики темпераментов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сангвин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50920" y="138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то человек весьма веселого нрава. Он представляется оптимистом, полным надежд, юмористом, шутником, балагуром. Сангвиник быстро воспламеняется, но столь же быстро остывает, теряет интерес к тому, что совсем ещё недавно очень его волновало и притягивало к себе. Он много обещает, но не всегда сдерживает свои обещания, легко и с удовольствием вступает в контакты с незнакомыми людьми, является хорошим собеседником. Его отличает доброта, готовность прийти на помощь. Напряженная умственная и физическая работа быстро утомляет. Сангвиник очень активен, энергичен, у него живые движения, богатая мимика. При неблагоприятных условиях и отсутствии воспитания у сангвиника могут развиваться поспешность, легкомыслие к поступкам, невнима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мером сангвинического темперамента может служить знаменитый д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Артаньян – порывистый, увлекающийся герой Дюма.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8" name="Picture 7" descr="сангвиник 1"/>
          <p:cNvPicPr/>
          <p:nvPr/>
        </p:nvPicPr>
        <p:blipFill>
          <a:blip r:embed="rId1"/>
          <a:stretch/>
        </p:blipFill>
        <p:spPr>
          <a:xfrm>
            <a:off x="6948360" y="-24300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6:09:26Z</dcterms:created>
  <dc:creator>OLYA </dc:creator>
  <dc:description/>
  <cp:keywords>темперамент</cp:keywords>
  <dc:language>en-US</dc:language>
  <cp:lastModifiedBy>Admin</cp:lastModifiedBy>
  <dcterms:modified xsi:type="dcterms:W3CDTF">2013-02-12T10:15:10Z</dcterms:modified>
  <cp:revision>189</cp:revision>
  <dc:subject>темперамент</dc:subject>
  <dc:title>КОНКУРС ПРЕЗЕНТАЦИЙ И САЙТОВ</dc:title>
</cp:coreProperties>
</file>