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9C5-81C8-477B-8FE0-89EA6628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15F-A70C-47DF-9164-42A6F79F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BC1-3EDE-4B63-A4A6-F7E300F3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6F0-8F02-45C8-86E5-81E7B14F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6F99-66AF-46E8-A795-A4669120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8DEA-4ADC-469A-9E55-B30F32A9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4AC8-9773-404E-AB7D-9EACA6A7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6DC-F755-4989-B713-CDF25F6C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9905-4D13-4819-B50F-62F6CC5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05A3-BB82-4C01-B69D-BFB1B70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0A2-8C2E-484F-BA84-855A0C3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84E-A864-4BE2-B772-3535D319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B1DF-62CB-45C4-8EB0-CDB4A462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EC7F-7BC1-4684-9DCC-86F19A3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EFD7-C66A-4BDD-8A16-AC56F1B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947-4388-4E7E-8F9B-3F39939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A269-5424-41BD-9E64-F76A766C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C36-1674-4B84-8A8A-342B9C7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50A-3736-405E-B132-6C4A405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453-CA48-4C54-9AB4-E686EE7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603-C8CF-47F7-93C0-068FB9A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732-9CC6-4B8E-A9E4-570C120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6E0-E8E9-49C4-9E9A-1196B42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0FC-AE09-42E3-B07D-D36493F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1BA-BEBC-4CEA-9D0B-CC58F0BD0DE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ABC0-67C7-41A1-A734-36A65073FCD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От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вредных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ривычек к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агубному</a:t>
            </a: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ристрастию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Количество  зарегистрированных случаев заболевания СПИДом среди наркоманов (с 1991 по 2000 год, тыс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20720" y="1600200"/>
          <a:ext cx="59007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07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1372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РОСТ КОЛИЧЕСТВА НАРКОМАНОВ В РОССИИ С 1991 ПО 1999 ГОД</a:t>
            </a:r>
            <a:br>
              <a:rPr sz="40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ДРОСТКИ</a:t>
            </a:r>
            <a:br>
              <a:rPr sz="2800"/>
            </a:br>
            <a:r>
              <a:rPr b="0" lang="ru-RU" sz="2800" spc="-1" strike="noStrike">
                <a:solidFill>
                  <a:srgbClr val="993366"/>
                </a:solidFill>
                <a:latin typeface="Tahoma"/>
              </a:rPr>
              <a:t>ВЗРОСЛЫЕ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39640" y="1773360"/>
          <a:ext cx="1011708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101170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83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Число зарегистрированных преступлений (тыс. с 1991 по 2000 год)</a:t>
            </a:r>
            <a:br>
              <a:rPr sz="3200"/>
            </a:br>
            <a:r>
              <a:rPr b="0" lang="ru-RU" sz="2800" spc="-1" strike="noStrike" u="sng">
                <a:solidFill>
                  <a:srgbClr val="ff66cc"/>
                </a:solidFill>
                <a:uFillTx/>
                <a:latin typeface="Tahoma"/>
              </a:rPr>
              <a:t>всего преступлений</a:t>
            </a:r>
            <a:br>
              <a:rPr sz="2800"/>
            </a:b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преступлений, связанных с наркотика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11280" y="1557360"/>
          <a:ext cx="741672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741672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ифы наркомании: на кого они работают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перв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Наркотик можно попробовать до трёх раз, ничего плохого не буде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второ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Существуют слабые и безопасные наркотик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трети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Бывший наркоман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33"/>
                </a:solidFill>
                <a:latin typeface="Tahoma"/>
              </a:rPr>
              <a:t>Миф четвёрт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«От наркотика легко отказаться, когда захочеш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Факторы, препятствующие возникновению вредных привычек у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оциальное окру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благоприятные условия в  семье, школе, группе сверстник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чувство самоценности, умение ценить свою жизнь, самоуважение, социальная компетентность, уверенность в себе, умение противостоять давлению со сторо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бщественные услов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озитивные картины будущего, положительные установки в жизни, ориентация на нравственные и духовные цен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редства зависим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бладание информацией о средствах зависимости, понимание существующей угроз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РЕЗУЛЬТАТ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ФИЗИЧЕСКОЕ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СИХИЧЕСКОЕ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ОЦИАЛЬНОЕ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68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68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Что такое вредные привычки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употребление ед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е употребление коф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товня по телефо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ьютерная завис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ья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резмерное увлечение просмотром телепереда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рко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Факторы, способствующие возникновению вредных привычек у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оциальное окруж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благоприятные условия в  семье, школе, группе сверстник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войства лич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изкая самооценка, подверженность стрессу, неспособность самостоятельно решать конфликты, неуверенность в себ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щественные услов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гативные картины будущего, реклама, телевизионные стереотипы, дурной пример или давление со стороны взрослых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редства зависим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оступность, относительная дешевизна, безнаказанн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тупени привыкания (формирования зависимости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а (первая сигарета, первая рюмка, первый укол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ное употреб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употребление (формирование привыка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ологическая зависимость (невозможность контролировать свои действ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тальная завис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1 Фаза «Проб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зу после употребления средства зависимости повышается настроение, улучшается самочувствие, возникает ощущение эйфории, драматизма, риска. Возникает переживание определённого психологического состояния в связи с определёнными действиями. Происходит фиксация в сознании этой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2 фаза «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Повторное употребление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этой фазе изменяется порог переносимости неприятных жизненных ситуаций. При столкновении с такими ситуациями человек не ищет выхода из них, а употребляет  средство зависимости. Признаком этой стадии привыкания является увеличение ситуаций, провоцирующих употребление средств зависимости. Становится уже возможно проследить частоту их употреб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3 фаза «Злоупотреблени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ком движет желание употребить средство, а не желание изменить ситуацию. Уже сформировался чёткий ритм принятия средств зависимости. Становится возможным переход на употребление других, более сильных средств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4 фаза «Психологическая зависимость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человека начинаются коммуникативные нарушения (уменьшается количество друзей, начинаются сложности в общении с близкими), начинаются финансовые проблемы (все мысли  сосредоточены на том, где достать денег на средство зависимости). Употребление средств зависимости не приносит прежнего удовольствия. Цель употребления – облегчить физические стр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5 фаза «Тотальная зависимость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920" y="2565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явление явных психологических и физических нарушений в организме человека. Его поведение становится асоциальным. Возможен летальный исх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</cp:lastModifiedBy>
  <dcterms:modified xsi:type="dcterms:W3CDTF">2007-12-10T22:28:46Z</dcterms:modified>
  <cp:revision>21</cp:revision>
  <dc:subject/>
  <dc:title>PowerPoint Presentation</dc:title>
</cp:coreProperties>
</file>