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A16B-4C84-4C88-842C-5AA604155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FACA-4B81-4FB9-ADCF-F26D5A19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73B0-AD6B-415B-8FF9-84732FC48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C71C-B32B-4313-B956-0381808E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DDED-9178-4630-90EE-07EDDCDFB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58A3-A2D0-4042-AA67-97E9319B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19EB-6906-4D7D-81B5-C2E15AF0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ADB0-5205-4D17-8E76-93E1F5A4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6913-0050-47EA-9D8B-E3EA618F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4F57-D3C4-499D-ACED-856A3462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CB6C-6B3F-458F-953F-CFBD6C49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BAF6-2FC5-4BA9-AD59-4E4F153C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E45F-FADB-4DE4-A62F-E5CAB3F9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7FD2-E534-42D6-A850-E3C522BC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89C6-DDB7-4372-A6E9-CB468F77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7AAE-7642-4ECB-BA12-0350D560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F0DF-4EEC-4479-903E-A0922AB2C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0823-1100-4EC5-9838-B07A5D0B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CA91-9BAA-4882-97F2-8C994A53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F740-99CB-46BD-AF59-DFA519C3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7B3A-B488-4A74-8997-BD42C57A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8BD2-4382-4D4F-8DDF-D3A4F734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8670-7936-4779-BF99-61F66DEE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AC2F-BC5E-4B5D-808B-B1127F08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C7B8-B611-4412-8723-AC55A65D37C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FC5D-0A63-4060-A6EC-4F3ED39077D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ahoma"/>
              </a:rPr>
              <a:t>От</a:t>
            </a:r>
            <a:r>
              <a:rPr b="0" lang="ru-RU" sz="5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ru-RU" sz="5400" spc="-1" strike="noStrike">
                <a:solidFill>
                  <a:srgbClr val="ff0000"/>
                </a:solidFill>
                <a:latin typeface="Tahoma"/>
              </a:rPr>
              <a:t>вредных</a:t>
            </a:r>
            <a:r>
              <a:rPr b="0" lang="ru-RU" sz="5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ru-RU" sz="5400" spc="-1" strike="noStrike">
                <a:solidFill>
                  <a:srgbClr val="ff0000"/>
                </a:solidFill>
                <a:latin typeface="Tahoma"/>
              </a:rPr>
              <a:t>привычек к</a:t>
            </a:r>
            <a:r>
              <a:rPr b="0" lang="ru-RU" sz="5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ru-RU" sz="5400" spc="-1" strike="noStrike">
                <a:solidFill>
                  <a:srgbClr val="ff0000"/>
                </a:solidFill>
                <a:latin typeface="Tahoma"/>
              </a:rPr>
              <a:t>пагубному</a:t>
            </a:r>
            <a:r>
              <a:rPr b="0" lang="ru-RU" sz="5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ru-RU" sz="5400" spc="-1" strike="noStrike">
                <a:solidFill>
                  <a:srgbClr val="ff0000"/>
                </a:solidFill>
                <a:latin typeface="Tahoma"/>
              </a:rPr>
              <a:t>пристрастию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ahoma"/>
              </a:rPr>
              <a:t>Количество  зарегистрированных случаев заболевания СПИДом среди наркоманов (с 1991 по 2000 год, тыс.)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1620720" y="1600200"/>
          <a:ext cx="5900760" cy="449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1600200"/>
                    <a:ext cx="590076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613720" cy="17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РОСТ КОЛИЧЕСТВА НАРКОМАНОВ В РОССИИ С 1991 ПО 1999 ГОД</a:t>
            </a:r>
            <a:br>
              <a:rPr sz="4000"/>
            </a:br>
            <a:r>
              <a:rPr b="0" lang="ru-RU" sz="2800" spc="-1" strike="noStrike">
                <a:solidFill>
                  <a:srgbClr val="6699ff"/>
                </a:solidFill>
                <a:latin typeface="Tahoma"/>
              </a:rPr>
              <a:t>ПОДРОСТКИ</a:t>
            </a:r>
            <a:br>
              <a:rPr sz="2800"/>
            </a:br>
            <a:r>
              <a:rPr b="0" lang="ru-RU" sz="2800" spc="-1" strike="noStrike">
                <a:solidFill>
                  <a:srgbClr val="993366"/>
                </a:solidFill>
                <a:latin typeface="Tahoma"/>
              </a:rPr>
              <a:t>ВЗРОСЛЫЕ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539640" y="1773360"/>
          <a:ext cx="10117080" cy="53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773360"/>
                    <a:ext cx="1011708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832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Число зарегистрированных преступлений (тыс. с 1991 по 2000 год)</a:t>
            </a:r>
            <a:br>
              <a:rPr sz="3200"/>
            </a:br>
            <a:r>
              <a:rPr b="0" lang="ru-RU" sz="2800" spc="-1" strike="noStrike" u="sng">
                <a:solidFill>
                  <a:srgbClr val="ff66cc"/>
                </a:solidFill>
                <a:uFillTx/>
                <a:latin typeface="Tahoma"/>
              </a:rPr>
              <a:t>всего преступлений</a:t>
            </a:r>
            <a:br>
              <a:rPr sz="2800"/>
            </a:br>
            <a:r>
              <a:rPr b="0" lang="ru-RU" sz="2800" spc="-1" strike="noStrike" u="sng">
                <a:solidFill>
                  <a:srgbClr val="333399"/>
                </a:solidFill>
                <a:uFillTx/>
                <a:latin typeface="Tahoma"/>
              </a:rPr>
              <a:t>преступлений, связанных с наркотикам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611280" y="1557360"/>
          <a:ext cx="7416720" cy="558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557360"/>
                    <a:ext cx="741672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Мифы наркомании: на кого они работают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33"/>
                </a:solidFill>
                <a:latin typeface="Tahoma"/>
              </a:rPr>
              <a:t>Миф первый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:«Наркотик можно попробовать до трёх раз, ничего плохого не будет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33"/>
                </a:solidFill>
                <a:latin typeface="Tahoma"/>
              </a:rPr>
              <a:t>Миф второй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:«Существуют слабые и безопасные наркотики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33"/>
                </a:solidFill>
                <a:latin typeface="Tahoma"/>
              </a:rPr>
              <a:t>Миф третий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:«Бывший наркоман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33"/>
                </a:solidFill>
                <a:latin typeface="Tahoma"/>
              </a:rPr>
              <a:t>Миф четвёртый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:«От наркотика легко отказаться, когда захочешь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Факторы, препятствующие возникновению вредных привычек у чело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Социальное окружени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благоприятные условия в  семье, школе, группе сверстников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Свойства личност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чувство самоценности, умение ценить свою жизнь, самоуважение, социальная компетентность, уверенность в себе, умение противостоять давлению со стороны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Общественные услов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позитивные картины будущего, положительные установки в жизни, ориентация на нравственные и духовные ценнос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Средства зависимост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обладание информацией о средствах зависимости, понимание существующей угрозы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ahoma"/>
              </a:rPr>
              <a:t>РЕЗУЛЬТАТ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915920"/>
            <a:ext cx="85406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ФИЗИЧЕСКОЕ ЗДОРОВЬ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ПСИХИЧЕСКОЕ ЗДОРОВЬ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СОЦИАЛЬНОЕ ЗДОРОВЬ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768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3" dur="768" fill="hold"/>
                                        <p:tgtEl>
                                          <p:spTgt spid="4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5" dur="768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7" dur="768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Что такое вредные привычки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лоупотребление ед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астое употребление коф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ур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лтовня по телефон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мпьютерная зависим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ьян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резмерное увлечение просмотром телепередач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Нарком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98" fill="hold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98" fill="hold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Факторы, способствующие возникновению вредных привычек у чело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Социальное окружени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неблагоприятные условия в  семье, школе, группе сверстников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Свойства личност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низкая самооценка, подверженность стрессу, неспособность самостоятельно решать конфликты, неуверенность в себ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Общественные услови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негативные картины будущего, реклама, телевизионные стереотипы, дурной пример или давление со стороны взрослых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Средства зависимост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доступность, относительная дешевизна, безнаказанность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Ступени привыкания (формирования зависимости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483920"/>
            <a:ext cx="854064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ба (первая сигарета, первая рюмка, первый укол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торное употребл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лоупотребление (формирование привыкания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сихологическая зависимость (невозможность контролировать свои действия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отальная зависим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1 Фаза «Проба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разу после употребления средства зависимости повышается настроение, улучшается самочувствие, возникает ощущение эйфории, драматизма, риска. Возникает переживание определённого психологического состояния в связи с определёнными действиями. Происходит фиксация в сознании этой связ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2 фаза «</a:t>
            </a: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Повторное употребление</a:t>
            </a: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этой фазе изменяется порог переносимости неприятных жизненных ситуаций. При столкновении с такими ситуациями человек не ищет выхода из них, а употребляет  средство зависимости. Признаком этой стадии привыкания является увеличение ситуаций, провоцирующих употребление средств зависимости. Становится уже возможно проследить частоту их употреб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3 фаза «Злоупотребление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ловеком движет желание употребить средство, а не желание изменить ситуацию. Уже сформировался чёткий ритм принятия средств зависимости. Становится возможным переход на употребление других, более сильных средств зависим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4 фаза «Психологическая зависимость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 человека начинаются коммуникативные нарушения (уменьшается количество друзей, начинаются сложности в общении с близкими), начинаются финансовые проблемы (все мысли  сосредоточены на том, где достать денег на средство зависимости). Употребление средств зависимости не приносит прежнего удовольствия. Цель употребления – облегчить физические страд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5 фаза «Тотальная зависимость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50920" y="256500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явление явных психологических и физических нарушений в организме человека. Его поведение становится асоциальным. Возможен летальный исход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****</cp:lastModifiedBy>
  <dcterms:modified xsi:type="dcterms:W3CDTF">2007-12-10T22:28:46Z</dcterms:modified>
  <cp:revision>21</cp:revision>
  <dc:subject/>
  <dc:title>PowerPoint Presentation</dc:title>
</cp:coreProperties>
</file>