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D9F-00CB-4F5B-8D56-4FEA687B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095-2A30-4826-B3CC-06273AC4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28A-0339-458F-9E19-2EA29745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63B-530A-461A-976D-3E893E58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3A1F-B19C-411C-8F09-C6BC5152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4F3D-8BAA-4DD7-A7DF-E1F1492F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D993-0418-4C44-914A-70D62CC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D6F4-99A4-46C1-85E0-A863BD15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EB27-FCCA-4466-A83F-BD7EC61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8D2-DAE4-4E5F-AC2D-E0C35890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390-2416-4FA2-B772-FD6C452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AF0-4AEB-4D57-B053-8A20E2BA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B4B-12FC-497B-AD0E-F3014C2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28DC-16DB-4D5D-BF7D-9B6EFEF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C5DB-E6CA-443D-B9EE-774D439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714F-4BCC-43AF-A582-A378B388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32A8-243F-4AFA-948D-09FB2AEF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B7C-3A80-4E46-A0A8-472D12B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D0C-9FC6-4AD1-ADF4-BB0724C4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D24-76DE-4BA8-B7C8-CE20AC90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050-5841-494C-B9EE-4E35D42B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597-6AF3-4F46-A384-E5072FDE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41C-0287-43C7-9931-EA06687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B5A-8CDA-428C-B89B-4FFCFF8B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0FEE-35CC-44CD-8037-D513F36FF8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27B8-3599-4B91-9588-0A45466B5C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Узелковое плетение. Макраме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Фантазии полет и рук творенья.</a:t>
            </a:r>
            <a:br>
              <a:rPr sz="4800"/>
            </a:br>
            <a:br>
              <a:rPr sz="4800"/>
            </a:br>
            <a:br>
              <a:rPr sz="3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Работу выполнил педагог дополнительного образования 2 квалификационной категории ЦДОД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Барсукова Надежда Валентиновна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План реализации проект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611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заня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анят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ое занят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а макраме и плетение узор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тение кул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тение сувенир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тение кашп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тение пан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ерспекти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дется работа по накоплению методической базы дан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Литератур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. А.Терешкович «Секреты макраме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. Пыльцына « Азбука плетения макраме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Аннотация проекта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работанны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л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анят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мее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цель: формирование у детей активной творческой деятельности, образного мышления и пространственного воображения, обеспечивает атмосферу творчества и сотрудничества в детском коллективе. В проекте представлены методические разработки уроков по изучению блока «Техника макраме и плетение узоров» в количестве 52 час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Цель проекта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здание условий для освоения умений и навыков в изготовлении плетеных изделий в технике макраме, обеспечивающих атмосферу творчества и сотрудничества в детском коллекти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сновополагающий вопрос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Каковы секреты макраме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чи проек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ормировать такие черты, как трудолюбие, настойчивость, усидчивость. Научить планировать работу и доводить до конца начатое дело, развивать эстетический вкус и глазом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едмет и межпредметные связ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я, ИЗО. Разновозрастная групп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блемные вопрос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ова история возникновения макраме в Росси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им требованиям должна отвечать поделк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ие правила и требования по созданию поделки  в технике макраме существуют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чем заключается процесс создания поделк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Исследовательская работа учащегося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стория возникновения макраме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апы и требования к выполнению подел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екреты макрам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езультаты проек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здал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лов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е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 навыков 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готовлении плетеных изделий в технике макраме. Сформировали такие черты, как трудолюбие, настойчивость, усидчивость. Научились планировать работу и доводить до конца начатое дело, развили эстетический вку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5:12:58Z</dcterms:created>
  <dc:creator>Тюльганская средняя школа № 1</dc:creator>
  <dc:description/>
  <dc:language>en-US</dc:language>
  <cp:lastModifiedBy>Admin</cp:lastModifiedBy>
  <dcterms:modified xsi:type="dcterms:W3CDTF">2009-12-17T15:11:29Z</dcterms:modified>
  <cp:revision>5</cp:revision>
  <dc:subject/>
  <dc:title>Узелковое плетение. Макраме.</dc:title>
</cp:coreProperties>
</file>