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86F9-9A75-4FD7-9DFE-EDEDBA91F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393C-79F2-4C0E-AE0E-D89759DC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3434-25E5-43FE-9167-22DCB3EDF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350D-1B33-49B4-8DA0-6C909BDAE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026C6-A501-4DC4-BC83-95871C375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FC8F-211C-43C1-9F33-10DD00EB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50F6-DA45-4B30-8E67-A7FE5284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938AC-D268-4812-BCD4-A1DC79C9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FD756-2CC1-4CCC-965D-E05F8A85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9D1C-47B5-4375-9D04-B4AEAA34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ABD0-EA1D-465A-B889-F6862C3A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EFD1-7FA4-453F-87E0-34F3CD2B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7215-4CA2-414F-8504-94EB447A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D14F-A369-422C-9BDC-DC648A47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42ED-4D4C-488E-90B1-7F82F282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D11A-636A-48EF-8F26-8FA39DC12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506F-D1C7-4F79-B34C-3E75B28C0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7956A-5899-4E19-94B4-7D6E1C419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FB196-8B71-40EA-890D-C0CBB5B9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AC011-EAAD-4E03-9114-B5BC2B71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EE7A9-4F12-4CA9-97EF-4EBB9679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422FF-CA1F-41A8-98E2-8C46286C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C5C7-6D07-4AE0-9D70-EAB92460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67897-865D-4E20-AA84-CF5A19E2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60CF9-2BE6-4227-BC06-5F988976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674DD-2284-4190-8518-64D85053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7C5E3-F250-42A0-AF42-78F53A7F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30B7D-0A15-4014-8EC7-FD1CF7FC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5B78B-BBD8-4CA3-9009-A8EC2AD55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D0CEA-09A6-4C59-B864-C2DE2EF2F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CC6C2-ED30-460C-9E05-78F7336B0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5F714-E58A-46D2-B461-E391CB1D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D5F6C-00C1-4B0F-BAC4-9CABBB63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1C14-E28A-4133-A2DD-43925293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9448F-AC55-4C6C-A0F8-A91A3C9D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C3786-33EC-4005-904B-1119A76C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3879D-2582-4F22-956E-22996E63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6CC9D-7C2D-4858-80C9-0C188EDC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EF4F2-178F-423F-BD70-C45B5690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49E44-B7C0-4B8D-A81A-CBE4130C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4E76F-2F65-4A50-B1B6-A0595AF0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6ED1B-0D25-4B55-98DB-4B122E37E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DE46D-418A-412A-BFC2-F759EE60F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284D4-F4CF-44F3-84AB-FE80F4FE0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75B1-234E-4189-B4D0-FC9DC8A1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CCBB9-FAB1-4D8E-A527-8BB4106D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C84C7-BC48-450F-A223-34479474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FD764-3BB7-40A0-B7F3-CD49F5EE1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2F7AD-FC9D-47E8-8789-A394814A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304C2-2933-42B2-B9E9-2B729DBA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205A7-8B9C-4999-BE88-66CB8C39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6FF0D-9AD8-4C1A-9629-EDCA7956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83929-BEAB-4752-AE3F-08C99277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904DA-75B4-4F75-A8B2-1268590A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5B7E1-9C84-461F-8A49-C35063123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0CCD-19FC-4B1C-8DFB-7D44D3F2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F2E24-6B97-4AE9-84D9-D10BC490B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05E28-135A-4EF5-AD3F-57396D265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3A94B-B1E2-4A81-94E5-8905C726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FE08F-3A2F-42FA-8315-EC601088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379A3-0924-4600-94FA-AB7C6349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CDE49-CA34-439B-9BAC-6B571276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3E4E8-D2E7-473F-909C-04E7841A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E0484-4384-4873-B9F2-F53B835E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29891-B475-481E-B836-346F9DB3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602AC-F3D6-4776-8A2D-79B342E0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B2BB-31A4-4034-B1E7-19D4918E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3F531-B1C7-44ED-ADD4-AB7651B7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81F46-6A05-4150-89F9-3BC98FB0C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FB054-ECAC-45D4-940F-E587C2757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DD572-97FF-4028-8CD1-15C249148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F0D1B-22CC-49D9-813E-28B2FA69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29436-1F0F-4FC3-823B-2E4E5995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79253-E217-456F-929F-0D798C77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CDB26-B5BF-48EE-9E0C-EB408D1A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34E31-8F29-489D-830F-E08D2E41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EB2BA-158B-49A6-9AAA-83D99132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35B6-75DB-42F5-95E0-5606DA00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142B7-3990-49DD-9C14-E1428F5A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3681A-0A59-424D-96A8-5EC6E11B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FC0BA-11C3-433C-82F0-28E7053B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3CDB4-B67C-4333-AE32-AFA9E001F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126BB-50DD-409B-8DD6-46DAE3884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CCAAC-E66B-493F-AAD6-9D2A5CACA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B453D-B763-4A7D-BD4D-9E9FD065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EEB90-10AD-45E6-927E-260D231F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4350D-7B79-44A4-BDC7-6FFE303C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FBF5C-1AFB-4CE2-8D83-2519B44A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F995-FB10-4C97-B182-2680B6A9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8BF81-88FD-4822-B989-A4248386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0ED30-9D7B-445F-83F3-DB9868D9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00156-4A98-4B35-8ED6-61994231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6A92F-95BA-402E-9C33-F4BFF75A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BE07F-8F04-4BDC-A7EB-69451DAC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3BBD8-96C3-4767-A2BC-0A133486B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11A44-B625-48CF-B3EB-AA49C03D6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DDB9-3E17-4DE9-B53D-A55AC106F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80C6-A4A1-4417-BBA2-56238CFEA04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D2C9-23C4-4C88-B99D-314E425B9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2646-4DAF-4CEA-9FAD-DEC8F72B84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012B-0353-4FFA-BA96-8D10F6509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1184-F1B0-41DA-9E66-794C30819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C164-0026-4210-B768-D009D063800F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65FB-4C58-4706-A1FA-70F7D0587A42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536400" y="665280"/>
            <a:ext cx="8485200" cy="2266920"/>
          </a:xfrm>
          <a:prstGeom prst="rect">
            <a:avLst/>
          </a:prstGeom>
          <a:ln w="0">
            <a:noFill/>
          </a:ln>
        </p:spPr>
      </p:pic>
      <p:pic>
        <p:nvPicPr>
          <p:cNvPr id="346" name="Рисунок 3" descr="2382638.jpg"/>
          <p:cNvPicPr/>
          <p:nvPr/>
        </p:nvPicPr>
        <p:blipFill>
          <a:blip r:embed="rId2"/>
          <a:stretch/>
        </p:blipFill>
        <p:spPr>
          <a:xfrm>
            <a:off x="571680" y="2928960"/>
            <a:ext cx="3498840" cy="3344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Заголовок 1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242560" cy="9748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357120" y="1285920"/>
            <a:ext cx="85010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100000"/>
              </a:lnSpc>
              <a:spcBef>
                <a:spcPts val="6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древности считали в двоичной системе счисления.</a:t>
            </a: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6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шестнадцатеричной системе счисления есть цифра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r>
              <a:rPr b="1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6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1946 году математик из Принстонского университета Джон Таки впервые использовал в одной из своих работ термин «бит».</a:t>
            </a: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6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содержание двух файлов объединить в одном файле, то размер получившегося файла может быть меньше суммы размеров двух исходных файлов.</a:t>
            </a: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6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Италии за отправку электронных писем без согласия получателя можно «схлопотать» 1 год тюрьмы.</a:t>
            </a: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ssolv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2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20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20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20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2000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1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242560" cy="97488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7200" y="128592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мская система счисления была непозиционной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 до сих пор пользуемся в быту шестидесятеричной системой счисления древних шумеров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оябре 1962 года из-за дефиса, пропущенного в компьютерной программе, пришлось взорвать ракету, стартовавшую с мыса Канаверал к Венере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юбой нынешний домашний ПК обладает мощностью и «сообразительностью» во много раз большей, чем компьютер, управляющий полетом космического корабля «Аполлон» к Луне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лица в Редмонде, где располагается штаб-квартира компании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называется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Way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ssolv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2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2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20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20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20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457200" y="285840"/>
            <a:ext cx="8229600" cy="61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3787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каждого из приведенных слов назовите синонимы. 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10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ьютер - …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10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нчестер - …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10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кета - …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каждого из приведенных слов и словосочетаний укажите его «антипод» - слово, противоположное по значению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10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5005f"/>
                </a:solidFill>
                <a:latin typeface="Times New Roman"/>
                <a:ea typeface="Times New Roman"/>
              </a:rPr>
              <a:t>Абсолютный адрес - …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10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5005f"/>
                </a:solidFill>
                <a:latin typeface="Times New Roman"/>
                <a:ea typeface="Times New Roman"/>
              </a:rPr>
              <a:t>Антивирусная программа - …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10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5005f"/>
                </a:solidFill>
                <a:latin typeface="Times New Roman"/>
                <a:ea typeface="Times New Roman"/>
              </a:rPr>
              <a:t>Ввод - …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10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5005f"/>
                </a:solidFill>
                <a:latin typeface="Times New Roman"/>
                <a:ea typeface="Times New Roman"/>
              </a:rPr>
              <a:t>Глобальная - …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10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5005f"/>
                </a:solidFill>
                <a:latin typeface="Times New Roman"/>
                <a:ea typeface="Times New Roman"/>
              </a:rPr>
              <a:t>Долговременная память - …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10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5005f"/>
                </a:solidFill>
                <a:latin typeface="Times New Roman"/>
                <a:ea typeface="Times New Roman"/>
              </a:rPr>
              <a:t>Жесткий магнитный диск - …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10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5005f"/>
                </a:solidFill>
                <a:latin typeface="Times New Roman"/>
                <a:ea typeface="Times New Roman"/>
              </a:rPr>
              <a:t>Истина - …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10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5005f"/>
                </a:solidFill>
                <a:latin typeface="Times New Roman"/>
                <a:ea typeface="Times New Roman"/>
              </a:rPr>
              <a:t>Виртуальный - …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10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5005f"/>
                </a:solidFill>
                <a:latin typeface="Times New Roman"/>
                <a:ea typeface="Times New Roman"/>
              </a:rPr>
              <a:t>Восстановление - …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10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005f"/>
                </a:solidFill>
                <a:latin typeface="Times New Roman"/>
                <a:ea typeface="Times New Roman"/>
              </a:rPr>
              <a:t>Begin - …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ssolve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2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2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10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20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2000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9" dur="2000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9" dur="2000"/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2000"/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2000"/>
                                        <p:tgtEl>
                                          <p:spTgt spid="3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3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9" dur="2000"/>
                                        <p:tgtEl>
                                          <p:spTgt spid="3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3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971640" y="692280"/>
            <a:ext cx="75610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 за участие!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2627280" y="2852640"/>
            <a:ext cx="3816360" cy="3606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298440" y="262080"/>
            <a:ext cx="8650440" cy="5889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499680" y="356760"/>
            <a:ext cx="8186760" cy="628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c000"/>
                </a:solidFill>
                <a:uFillTx/>
                <a:latin typeface="Century Gothic"/>
              </a:rPr>
              <a:t>Элементы ПК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Century Gothic"/>
              </a:rPr>
              <a:t>Потом они торжествовали и радовались, как дети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Century Gothic"/>
              </a:rPr>
              <a:t>Его феска не раз падала с головы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Century Gothic"/>
              </a:rPr>
              <a:t>Река Днепр интересна тем, что на ней имеется несколько электростанций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Century Gothic"/>
              </a:rPr>
              <a:t>По просьбе хозяина квартиры мы шкаф сдвинули в угол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Century Gothic"/>
              </a:rPr>
              <a:t>Этот старинный комод ему достался в наследство от бабушки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c000"/>
                </a:solidFill>
                <a:uFillTx/>
                <a:latin typeface="Century Gothic"/>
              </a:rPr>
              <a:t>Языки программирования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Century Gothic"/>
              </a:rPr>
              <a:t>Он всегда имел запас калькуляторов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Century Gothic"/>
              </a:rPr>
              <a:t>Комментатор сказал: «Забей Сиканов пенальти – он стал бы героем матча»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c000"/>
                </a:solidFill>
                <a:uFillTx/>
                <a:latin typeface="Century Gothic"/>
              </a:rPr>
              <a:t>Виды информации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Century Gothic"/>
              </a:rPr>
              <a:t>Я его привез в указанное место, но там никого не оказалось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Century Gothic"/>
              </a:rPr>
              <a:t>Когда-то он работал в идеологическом отделе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Century Gothic"/>
              </a:rPr>
              <a:t>Он сказал: «Пройдите к стене»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Century Gothic"/>
              </a:rPr>
              <a:t>Оказалось, что граф и Казанова – одно и тоже лицо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418600" cy="6029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285840" y="500040"/>
            <a:ext cx="4209840" cy="574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d0d0d"/>
                </a:solidFill>
                <a:uFillTx/>
                <a:latin typeface="Arial"/>
                <a:ea typeface="Arial"/>
              </a:rPr>
              <a:t>1 команда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d0d0d"/>
                </a:solidFill>
                <a:latin typeface="Arial"/>
                <a:ea typeface="Arial"/>
              </a:rPr>
              <a:t>НАКАЛ -&gt; К_ _ _ _ (линия связи)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d0d0d"/>
                </a:solidFill>
                <a:latin typeface="Arial"/>
                <a:ea typeface="Arial"/>
              </a:rPr>
              <a:t>ЛАПТА -&gt; П_ _ _ _ (диэлектрическая пластина для установки микросхем)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d0d0d"/>
                </a:solidFill>
                <a:latin typeface="Arial"/>
                <a:ea typeface="Arial"/>
              </a:rPr>
              <a:t>КАМЫШ -&gt; М _ _ _ _ (внешнее устройство ПК)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d0d0d"/>
                </a:solidFill>
                <a:latin typeface="Arial"/>
                <a:ea typeface="Arial"/>
              </a:rPr>
              <a:t>ДОМ +ЕЛЬ -&gt; М _ _ _ _ _ (схема физического объекта или явления)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d0d0d"/>
                </a:solidFill>
                <a:latin typeface="Arial"/>
                <a:ea typeface="Arial"/>
              </a:rPr>
              <a:t>БАК + ЕЛЬ -&gt;К _ _ _ _ _ (несколько проводов в оболочке)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d0d0d"/>
                </a:solidFill>
                <a:latin typeface="Arial"/>
                <a:ea typeface="Arial"/>
              </a:rPr>
              <a:t>МИ + ОН + РОТ -&gt;М _ _ _ _ _ _ (внешнее устройство ПК)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d0d0d"/>
                </a:solidFill>
                <a:latin typeface="Arial"/>
                <a:ea typeface="Arial"/>
              </a:rPr>
              <a:t>РОК + СЕТ -&gt; С _ _ _ _ _ (часть дорожки магнитного диска)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d0d0d"/>
                </a:solidFill>
                <a:latin typeface="Arial"/>
                <a:ea typeface="Arial"/>
              </a:rPr>
              <a:t>ТИФ + ЛАВА -&gt; А _ _ _ _ _ _ (буквенная семья)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d0d0d"/>
                </a:solidFill>
                <a:latin typeface="Arial"/>
                <a:ea typeface="Arial"/>
              </a:rPr>
              <a:t>ТАЙМ + БЕГА -&gt; М _ _ _ _ _ _ _ (единица информации)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d0d0d"/>
                </a:solidFill>
                <a:latin typeface="Arial"/>
                <a:ea typeface="Arial"/>
              </a:rPr>
              <a:t>КИТ + ВАЛ + АУРА -&gt; К _ _ _ _ _ _ _ _ _ («коллега» мыши по вводу информации)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d0d0d"/>
                </a:solidFill>
                <a:latin typeface="Arial"/>
                <a:ea typeface="Arial"/>
              </a:rPr>
              <a:t>МИФ + РАЦИЯ + ОН -&gt; И _ _ _ _ _ _ _ _ _ (… к размышлению)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647960" y="428760"/>
            <a:ext cx="4281480" cy="58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d0d0d"/>
                </a:solidFill>
                <a:uFillTx/>
                <a:latin typeface="Arial"/>
                <a:ea typeface="Arial"/>
              </a:rPr>
              <a:t>2 команда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Arial"/>
                <a:ea typeface="Arial"/>
              </a:rPr>
              <a:t>ИГОЛКА -&gt;Л _ _ _ _ _ (наука о законах и формах мышления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Arial"/>
                <a:ea typeface="Arial"/>
              </a:rPr>
              <a:t>РЕВЕРС -&gt; С _ _ _ _ _ (мощный компьютер сети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Arial"/>
                <a:ea typeface="Arial"/>
              </a:rPr>
              <a:t>НИША -&gt;Ш _ _ _ (набор электрических проводников, обеспечивающих передачу данных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Arial"/>
                <a:ea typeface="Arial"/>
              </a:rPr>
              <a:t>РОК + СУП -&gt;К _ _ _ _ _ (системный блок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Arial"/>
                <a:ea typeface="Arial"/>
              </a:rPr>
              <a:t>РЕ + ТАЙМ -&gt; Т _ _ _ _ _ (системное устройство в ПК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Arial"/>
                <a:ea typeface="Arial"/>
              </a:rPr>
              <a:t>ФЕН + ТЕЛО -&gt;Т _ _ _ _ _ _ (устройство связи)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Arial"/>
                <a:ea typeface="Arial"/>
              </a:rPr>
              <a:t>МИРТА + ГОЛ -&gt; А _ _ _ _ _ _ _ (пошаговый предшественник программы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Arial"/>
                <a:ea typeface="Arial"/>
              </a:rPr>
              <a:t>СЕЙФ + РЕ + НИТ -&gt; И _ _ _ _ _ _ _ _(средства взаимодействия программы и пользователя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Arial"/>
                <a:ea typeface="Arial"/>
              </a:rPr>
              <a:t>ЛАЙ +БОТИК -&gt;К _ _ _ _ _ _ _ (единица измерения информации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Arial"/>
                <a:ea typeface="Arial"/>
              </a:rPr>
              <a:t>РОВ + КОПИ + ИЕНА -&gt; К _ _ _ _ _ _ _ _ _ _ (действие с файлом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Arial"/>
                <a:ea typeface="Arial"/>
              </a:rPr>
              <a:t>РАМПА + ГРОМ -&gt; П _ _ _ _ _ _ _ _ (алгоритм на языке ЭВМ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Заголовок 1" descr=""/>
          <p:cNvPicPr/>
          <p:nvPr/>
        </p:nvPicPr>
        <p:blipFill>
          <a:blip r:embed="rId1"/>
          <a:stretch/>
        </p:blipFill>
        <p:spPr>
          <a:xfrm>
            <a:off x="450720" y="-79200"/>
            <a:ext cx="8242560" cy="10969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457200" y="11430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292320">
              <a:lnSpc>
                <a:spcPct val="80000"/>
              </a:lnSpc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елезная, математическая, женская, формальная, …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55680" indent="-2923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дуктивная, дедуктивная, двузначная, многозначная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55680" indent="-292320">
              <a:lnSpc>
                <a:spcPct val="80000"/>
              </a:lnSpc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оевременная, объективная, ложная, проверенная, …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55680" indent="-2923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ная, исчерпывающая, секретная, массовая, научно-техническая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55680" indent="-292320">
              <a:lnSpc>
                <a:spcPct val="80000"/>
              </a:lnSpc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рговая, агентурная, локальная, глобальная, …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55680" indent="-2923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ыболовная, компьютерная, школьная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55680" indent="-292320">
              <a:lnSpc>
                <a:spcPct val="80000"/>
              </a:lnSpc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2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1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2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20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" dur="10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20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20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" dur="10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Заголовок 1" descr=""/>
          <p:cNvPicPr/>
          <p:nvPr/>
        </p:nvPicPr>
        <p:blipFill>
          <a:blip r:embed="rId1"/>
          <a:stretch/>
        </p:blipFill>
        <p:spPr>
          <a:xfrm>
            <a:off x="450720" y="-79200"/>
            <a:ext cx="8242560" cy="10969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7200" y="149976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09520">
              <a:lnSpc>
                <a:spcPct val="80000"/>
              </a:lnSpc>
              <a:spcBef>
                <a:spcPts val="8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ашний, главный, сетевой, карманный,  …</a:t>
            </a:r>
            <a:endParaRPr b="0" lang="en-US" sz="35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0952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овой, цифровой, персональный.</a:t>
            </a:r>
            <a:endParaRPr b="0" lang="en-US" sz="35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09520">
              <a:lnSpc>
                <a:spcPct val="80000"/>
              </a:lnSpc>
              <a:spcBef>
                <a:spcPts val="8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ргономичная, серая, белая, беспроводная, … </a:t>
            </a:r>
            <a:endParaRPr b="0" lang="en-US" sz="35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0952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тическая, лазерная, шариковая.</a:t>
            </a:r>
            <a:endParaRPr b="0" lang="en-US" sz="35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09520">
              <a:lnSpc>
                <a:spcPct val="80000"/>
              </a:lnSpc>
              <a:spcBef>
                <a:spcPts val="8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юбительская, профессиональная, спортивная, сборная, … </a:t>
            </a:r>
            <a:endParaRPr b="0" lang="en-US" sz="35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0952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утбольная, баскетбольная, сплоченная.</a:t>
            </a:r>
            <a:endParaRPr b="0" lang="en-US" sz="35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09520">
              <a:lnSpc>
                <a:spcPct val="80000"/>
              </a:lnSpc>
              <a:spcBef>
                <a:spcPts val="8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ssolv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2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" dur="1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2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20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10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" dur="10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20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2000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" dur="1000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457200" y="128592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сивая, стройная, математическая, информационная, …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еньшенная, бумажная, физическая, графическая.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ормационная, жизненная, телевизионная, обязательная, …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азательная, компьютерная, прикладная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ловая, логическая, спортивная, настольная, …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вижная, компьютерная, обучающая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7" name="Заголовок 1" descr=""/>
          <p:cNvPicPr/>
          <p:nvPr/>
        </p:nvPicPr>
        <p:blipFill>
          <a:blip r:embed="rId1"/>
          <a:stretch/>
        </p:blipFill>
        <p:spPr>
          <a:xfrm>
            <a:off x="450720" y="-79200"/>
            <a:ext cx="8242560" cy="1096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2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2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2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20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10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" dur="10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20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20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" dur="10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" dur="10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Заголовок 1" descr=""/>
          <p:cNvPicPr/>
          <p:nvPr/>
        </p:nvPicPr>
        <p:blipFill>
          <a:blip r:embed="rId1"/>
          <a:stretch/>
        </p:blipFill>
        <p:spPr>
          <a:xfrm>
            <a:off x="450720" y="-42840"/>
            <a:ext cx="8242560" cy="109692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457200" y="1357200"/>
            <a:ext cx="8229600" cy="50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85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ежая, утренняя, вечерняя, электронная, … 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лубиная, воздушная, читательская.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85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ырявая, слабая, постоянная, девичья, …  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откая, оперативная, внешняя.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85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ргономичная, классическая, жесткая, мягкая, … 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движная, стандартная, музыкальная. 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85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ssolv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2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2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2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" dur="1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2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20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" dur="10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5" dur="10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20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20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" dur="10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2" dur="10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08:53:00Z</dcterms:created>
  <dc:creator>Admin</dc:creator>
  <dc:description/>
  <dc:language>en-US</dc:language>
  <cp:lastModifiedBy>Admin</cp:lastModifiedBy>
  <dcterms:modified xsi:type="dcterms:W3CDTF">2011-01-19T07:51:06Z</dcterms:modified>
  <cp:revision>13</cp:revision>
  <dc:subject/>
  <dc:title>Внеклассное мероприятие по информатике.</dc:title>
</cp:coreProperties>
</file>