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9.gif" ContentType="image/gif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3F49-6675-46C1-AA45-085CCF6F22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ADEB-FD45-40C5-8C4E-5D85CB7791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2DD-6CB5-4E4A-BE0B-651957DF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F8D-5EE4-4860-A805-946C1D5C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467-CDAA-4D7F-A58A-56D8DC49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51F-51B6-4D83-975D-2E42524F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ED94-FCD6-4C58-93E7-269D6774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2E4E-1890-453A-BBEF-1884037D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95AC-341F-4664-AF2D-74040711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026F-CC0A-444F-B11F-F3CEF221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7742-56E1-439C-940F-7648B62B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9EB1-38AC-46FA-A936-116BA4DB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F9E0-17A8-43F7-B71E-A7D66AF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B17-A799-4B8F-BFEB-E00B848E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0CBF-78B6-49F0-8750-9D9BE646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E996-C6B7-4FDA-AE5A-E180B52E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C201-41A9-4946-AF34-D5415559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6E85-AB26-44DF-843D-73A406C7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8EF1-FC97-4A6D-962A-339D77BF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8059-D6C6-43C6-BDD4-9A4715CF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3E23-45AA-4CDC-850D-07FEB9D3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7852D-360B-4AD2-8FF6-FB428F7C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27180-B855-42C3-ADAA-DFAD019B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A5A5-D1D0-40DB-9A69-07C4111D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4C0-1C4E-4BE4-A4B6-58E5EA25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59A5-A0E3-4E03-8A54-9DC5CB81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CC9B-301C-4847-B16D-A3D1E5C9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FC6F-AC10-47D9-A33C-35E2C631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1BA7-C5B3-4B65-B42E-54B693D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945C-7DF8-49B6-9A51-312057FF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8432-13C7-43ED-9D29-A613878E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4C01-CFBB-4EDE-A0A8-0DE2C664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448B-9D8B-403F-A518-6290C0E3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684B-99EE-4E71-9D33-D7C8BC21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87F7-8862-453C-B0DC-1BC1D0E3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CCD-68CE-49B2-BFBB-9652162D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CCAC0-C6B7-4B22-882E-A7500E95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3090-D9E4-4C45-A865-B6C721EF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FEE3-14F7-47BC-A079-73D82A48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B4C3-66C3-4F39-9C7D-8B1D30C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D29D5-A16C-4058-8BBA-62543AB0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E5508-1550-4CF2-A0DA-0F42D3D9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4AB3-7855-4615-825A-830EEA27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A9AF-9026-4B0B-810B-5C53BE7F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DE525-27AB-4F6C-88F1-5F641223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32337-6FEB-4D66-83CE-43659F49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5EA-EE3D-4A27-8A29-FC3CD41C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F71F9-E9FE-4BE1-B2BC-187921C9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8FC92-6AEC-4835-B08B-A91A190B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AC5B9-8CA1-4DD0-AFC3-F1B41284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5DC1-1E09-4553-B3E5-7A71A51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BDB86-6E71-4C2D-A27C-B837875C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8B1C-6EAE-4498-8E43-20EC853A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3013E-BC40-40E2-BFBD-B3D11BD0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7F418-4B69-4B4C-8F93-610A32C3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C888-0DB6-4113-8A96-E0C467F1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2708F-0C5A-4519-9500-4F29BDCA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ABD-A8F9-468C-AB39-1C2B23CB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DEAF1-254E-4D5E-8CF9-B75E90FC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A39-1D2D-4D8D-AECB-329238DE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793-22DE-4931-84BF-BDD25751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8F4-15CF-4C55-A91B-0209BDCC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D0A3-EF26-4EF7-9766-03537AB7E5E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7798-EACB-424E-A13C-B5CCB3FC78C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9E41-0A6E-4D2A-BC2B-203EE1B80B0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9C80-5EB8-428C-84AB-6CA677384B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BCD7-7247-4A99-9B00-C9F5ADE0D72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Задание С2 – эссе-сочинение с элементами рассуждения по предложенной схеме 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714800" y="2035440"/>
            <a:ext cx="57240" cy="9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9" name="Picture 2" descr="j0232133"/>
          <p:cNvPicPr/>
          <p:nvPr/>
        </p:nvPicPr>
        <p:blipFill>
          <a:blip r:embed="rId1"/>
          <a:stretch/>
        </p:blipFill>
        <p:spPr>
          <a:xfrm>
            <a:off x="3286080" y="3533760"/>
            <a:ext cx="2928960" cy="301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j0232133"/>
          <p:cNvPicPr/>
          <p:nvPr/>
        </p:nvPicPr>
        <p:blipFill>
          <a:blip r:embed="rId2"/>
          <a:stretch/>
        </p:blipFill>
        <p:spPr>
          <a:xfrm>
            <a:off x="0" y="0"/>
            <a:ext cx="46080" cy="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428760" y="247320"/>
            <a:ext cx="828648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 u="sng">
                <a:solidFill>
                  <a:srgbClr val="612228"/>
                </a:solidFill>
                <a:uFillTx/>
                <a:latin typeface="Calibri"/>
                <a:ea typeface="Times New Roman"/>
              </a:rPr>
              <a:t>Полезные фра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   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ражение мне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I agree / disagree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In my opinion,…/ From my point of view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I believe that…/ It seems to me that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I am in favour of…/ I am against the idea of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According to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Some people say that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It is said / believed that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There is no doubt that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It goes without saying that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We must admit that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500040" y="428760"/>
            <a:ext cx="807264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дставление аргументов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The main argument in favour / against is 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First of all, I should like to consider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To begin with…/ To start with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Despite the fact that…/ In spite of the fact that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On the one hand…/ On the other hand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Besides,…/ In addition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What is more,…/ Moreover,…/ More than that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Finally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Nevertheless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928800" y="500040"/>
            <a:ext cx="7715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ражение причинно-следственной связ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for this rea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therefore / that is w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becaus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as a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owing to / due to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for in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like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люч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To sum up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To conclud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In conclusion, I would like to stress tha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All in all, I believe tha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642960" y="657000"/>
            <a:ext cx="7358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33"/>
                </a:solidFill>
                <a:uFillTx/>
                <a:latin typeface="Verdana"/>
                <a:ea typeface="Times New Roman"/>
              </a:rPr>
              <a:t>ЭСС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Verdana"/>
                <a:ea typeface="Times New Roman"/>
              </a:rPr>
              <a:t>оценивается по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пяти  критерия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содержание, организация текста, лексика, грамматика, орфография и пункту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714240" y="2828880"/>
            <a:ext cx="7143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ка начинается с подсчета количества слов в выполненном задании. Требуемый объем дается в задании для учащегося (С2: 200-250 слов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642960" y="500040"/>
            <a:ext cx="8072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Первый критерий – 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Verdana"/>
              </a:rPr>
              <a:t>содержани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71680" y="10000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Соответствует ли содержание данного сочинения предложенной коммуникативной задаче</a:t>
            </a: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642960" y="2022840"/>
            <a:ext cx="8143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33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Verdana"/>
                <a:ea typeface="Times New Roman"/>
              </a:rPr>
              <a:t>1.1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Verdana"/>
                <a:ea typeface="Times New Roman"/>
              </a:rPr>
              <a:t>. </a:t>
            </a:r>
            <a:r>
              <a:rPr b="1" lang="ru-RU" sz="2800" spc="-1" strike="noStrike" u="sng">
                <a:solidFill>
                  <a:srgbClr val="333333"/>
                </a:solidFill>
                <a:uFillTx/>
                <a:latin typeface="Verdana"/>
                <a:ea typeface="Times New Roman"/>
              </a:rPr>
              <a:t>Есть ли вступление с постановкой проблемы?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33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Verdana"/>
                <a:ea typeface="Times New Roman"/>
              </a:rPr>
              <a:t>1.2. </a:t>
            </a:r>
            <a:r>
              <a:rPr b="1" lang="ru-RU" sz="2800" spc="-1" strike="noStrike" u="sng">
                <a:solidFill>
                  <a:srgbClr val="333333"/>
                </a:solidFill>
                <a:uFillTx/>
                <a:latin typeface="Verdana"/>
                <a:ea typeface="Times New Roman"/>
              </a:rPr>
              <a:t>Высказано ли мнение автора по проблеме и аргументировано ли оно?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33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Verdana"/>
                <a:ea typeface="Times New Roman"/>
              </a:rPr>
              <a:t>1.3.</a:t>
            </a:r>
            <a:r>
              <a:rPr b="1" lang="ru-RU" sz="2800" spc="-1" strike="noStrike" u="sng">
                <a:solidFill>
                  <a:srgbClr val="333333"/>
                </a:solidFill>
                <a:uFillTx/>
                <a:latin typeface="Verdana"/>
                <a:ea typeface="Times New Roman"/>
              </a:rPr>
              <a:t> Представлены ли в сочинении другие точки зрения и объяснение, почему автор с ними не согласен?-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33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Verdana"/>
                <a:ea typeface="Times New Roman"/>
              </a:rPr>
              <a:t>1.4. </a:t>
            </a:r>
            <a:r>
              <a:rPr b="1" lang="ru-RU" sz="2800" spc="-1" strike="noStrike" u="sng">
                <a:solidFill>
                  <a:srgbClr val="333333"/>
                </a:solidFill>
                <a:uFillTx/>
                <a:latin typeface="Verdana"/>
                <a:ea typeface="Times New Roman"/>
              </a:rPr>
              <a:t>Есть ли заключение с выводом?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  <a:ea typeface="Times New Roman"/>
              </a:rPr>
              <a:t> – Заключение не должно противоречить содержанию вступления и основной ча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714240" y="384480"/>
            <a:ext cx="7358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Второй критерий– организация текста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Основной вопрос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«Соответствует ли организация текста общепринятым правилам?» необходимо детализировать, а именно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2. 1 Есть ли деление на абзацы и правильно ли оно осуществлено? Надо  выделить абзац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2.2 Логично ли сочинение и правильно ли использованы средства логической связ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1" descr=""/>
          <p:cNvPicPr/>
          <p:nvPr/>
        </p:nvPicPr>
        <p:blipFill>
          <a:blip r:embed="rId1"/>
          <a:stretch/>
        </p:blipFill>
        <p:spPr>
          <a:xfrm>
            <a:off x="433440" y="353880"/>
            <a:ext cx="79722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714240" y="785880"/>
            <a:ext cx="7429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Четвертый критерий</a:t>
            </a:r>
            <a:r>
              <a:rPr b="1" lang="ru-RU" sz="2400" spc="-1" strike="noStrike">
                <a:solidFill>
                  <a:srgbClr val="333333"/>
                </a:solidFill>
                <a:latin typeface="Verdana"/>
                <a:ea typeface="Times New Roman"/>
              </a:rPr>
              <a:t>-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Verdana"/>
                <a:ea typeface="Times New Roman"/>
              </a:rPr>
              <a:t>это грамматическое оформление речи.</a:t>
            </a:r>
            <a:r>
              <a:rPr b="1" lang="ru-RU" sz="2400" spc="-1" strike="noStrike">
                <a:solidFill>
                  <a:srgbClr val="333333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Verdana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33"/>
                </a:solidFill>
                <a:latin typeface="Verdana"/>
                <a:ea typeface="Times New Roman"/>
              </a:rPr>
              <a:t>4.1 Уместен ли выбор использования грамматических    средств в соответствии с целью высказывания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Verdana"/>
                <a:ea typeface="Times New Roman"/>
              </a:rPr>
              <a:t>4.2 Насколько разнообразны грамматические средства и соответствуют ли их сложность высокому уровню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33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Verdana"/>
                <a:ea typeface="Times New Roman"/>
              </a:rPr>
              <a:t>4.3 Насколько правильно и точно использованы грамматические средства?- например, в порядке слов, в сложноподчиненных предложениях, употреблении неопределенных местоимений, неисчисляемых существительны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По пятый критерий – орфография и пунктуация</a:t>
            </a:r>
            <a:r>
              <a:rPr b="1" lang="ru-RU" sz="2400" spc="-1" strike="noStrike">
                <a:solidFill>
                  <a:srgbClr val="333333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Тема –утверждение(согласиться\не согласиться)  </a:t>
            </a: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200-250 слов+\-10%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Verdana"/>
              </a:rPr>
              <a:t>С2- Задание высокого уровня</a:t>
            </a:r>
            <a:r>
              <a:rPr b="1" lang="ru-RU" sz="4800" spc="-1" strike="noStrike">
                <a:solidFill>
                  <a:srgbClr val="0d0d0d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нать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лексик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грамматик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пунктуацию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структур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критерии оцен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друго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езультате – 14 балл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j0178115"/>
          <p:cNvPicPr/>
          <p:nvPr/>
        </p:nvPicPr>
        <p:blipFill>
          <a:blip r:embed="rId1"/>
          <a:stretch/>
        </p:blipFill>
        <p:spPr>
          <a:xfrm>
            <a:off x="5715000" y="1285920"/>
            <a:ext cx="29289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6000"/>
          </a:bodyPr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ен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из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5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унктов –написать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5 абзацев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07f09"/>
                </a:solidFill>
                <a:uFillTx/>
                <a:latin typeface="Verdana"/>
              </a:rPr>
              <a:t>1абзац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-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улировать проблему не повторяя наз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eople have bee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loo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for \ falling in love\ socializing\having some problems…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ince the time immem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oday we still want\have\do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etting more and more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creasing\decreasing \important\pop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ow\what…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1" descr="j0254413"/>
          <p:cNvPicPr/>
          <p:nvPr/>
        </p:nvPicPr>
        <p:blipFill>
          <a:blip r:embed="rId1"/>
          <a:stretch/>
        </p:blipFill>
        <p:spPr>
          <a:xfrm>
            <a:off x="4286160" y="4572000"/>
            <a:ext cx="4143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42876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07f09"/>
                </a:solidFill>
                <a:uFillTx/>
                <a:latin typeface="Verdana"/>
              </a:rPr>
              <a:t>2абзац-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Verdana"/>
              </a:rPr>
              <a:t>личное мнение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(2-3 аргумента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In my opinion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,…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(выучить одн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irst of all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(первый аргумент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мы его подкрепляем :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onsequently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( к чему это приводит) или приводим пример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r example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econdly, …as a result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,…  (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2й аргумент и что получается в результате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inally,…such as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(3й аргумент, если он есть и прим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j0284133"/>
          <p:cNvPicPr/>
          <p:nvPr/>
        </p:nvPicPr>
        <p:blipFill>
          <a:blip r:embed="rId1"/>
          <a:stretch/>
        </p:blipFill>
        <p:spPr>
          <a:xfrm>
            <a:off x="428760" y="4929120"/>
            <a:ext cx="4929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5716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07f09"/>
                </a:solidFill>
                <a:latin typeface="Verdana"/>
              </a:rPr>
              <a:t>3й абзац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тивоположная точка зрен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очему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люди так думают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n the other hand, some people believe that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y say\claim  that…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1й аргумент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…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o \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ecaus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esides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,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(если есть 2й аргумент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owever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ther people belie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j0232128"/>
          <p:cNvPicPr/>
          <p:nvPr/>
        </p:nvPicPr>
        <p:blipFill>
          <a:blip r:embed="rId1"/>
          <a:stretch/>
        </p:blipFill>
        <p:spPr>
          <a:xfrm>
            <a:off x="214200" y="4357800"/>
            <a:ext cx="5643720" cy="2500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j0282747"/>
          <p:cNvPicPr/>
          <p:nvPr/>
        </p:nvPicPr>
        <p:blipFill>
          <a:blip r:embed="rId2"/>
          <a:stretch/>
        </p:blipFill>
        <p:spPr>
          <a:xfrm>
            <a:off x="6858000" y="285768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2920" y="4983120"/>
            <a:ext cx="54975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07f09"/>
                </a:solidFill>
                <a:latin typeface="Verdana"/>
              </a:rPr>
              <a:t>4</a:t>
            </a:r>
            <a:r>
              <a:rPr b="1" i="1" lang="ru-RU" sz="2400" spc="-1" strike="noStrike">
                <a:solidFill>
                  <a:srgbClr val="f07f09"/>
                </a:solidFill>
                <a:latin typeface="Verdana"/>
              </a:rPr>
              <a:t>й 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бъясни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почему мы не согласны с противоположным мне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 strongly disagree with this statement, becaus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 can not agree with it as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s opposed to the above ideas…I believe that… becaus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07f09"/>
                </a:solidFill>
                <a:uFillTx/>
                <a:latin typeface="Verdana"/>
              </a:rPr>
              <a:t>5</a:t>
            </a:r>
            <a:r>
              <a:rPr b="1" i="1" lang="ru-RU" sz="2400" spc="-1" strike="noStrike" u="sng">
                <a:solidFill>
                  <a:srgbClr val="f07f09"/>
                </a:solidFill>
                <a:uFillTx/>
                <a:latin typeface="Verdana"/>
              </a:rPr>
              <a:t>й абзац: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делать заключение, высказать свое мнение перефразируя его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espite other people’s opinion, I still believe that… becaus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j0284130"/>
          <p:cNvPicPr/>
          <p:nvPr/>
        </p:nvPicPr>
        <p:blipFill>
          <a:blip r:embed="rId1"/>
          <a:stretch/>
        </p:blipFill>
        <p:spPr>
          <a:xfrm>
            <a:off x="0" y="4406760"/>
            <a:ext cx="542916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Verdana"/>
              </a:rPr>
              <a:t>Очень важный принцип написания эссе-рассужде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Verdana"/>
              </a:rPr>
              <a:t>неверно говорить "это хорошо, а это плохо"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авильно и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логично </a:t>
            </a:r>
            <a:r>
              <a:rPr b="1" lang="ru-RU" sz="3200" spc="-1" strike="noStrike" u="sng">
                <a:solidFill>
                  <a:srgbClr val="0d0d0d"/>
                </a:solidFill>
                <a:uFillTx/>
                <a:latin typeface="Verdana"/>
              </a:rPr>
              <a:t>будет сказать: это хорошо и правильно, потому-то и потому-то.</a:t>
            </a:r>
            <a:br>
              <a:rPr sz="3200"/>
            </a:br>
            <a:r>
              <a:rPr b="1" lang="ru-RU" sz="3200" spc="-1" strike="noStrike" u="sng">
                <a:solidFill>
                  <a:srgbClr val="0d0d0d"/>
                </a:solidFill>
                <a:uFillTx/>
                <a:latin typeface="Verdana"/>
              </a:rPr>
              <a:t>А это плохо</a:t>
            </a:r>
            <a:r>
              <a:rPr b="1" lang="en-US" sz="3200" spc="-1" strike="noStrike" u="sng">
                <a:solidFill>
                  <a:srgbClr val="0d0d0d"/>
                </a:solidFill>
                <a:uFillTx/>
                <a:latin typeface="Verdana"/>
              </a:rPr>
              <a:t>, </a:t>
            </a:r>
            <a:r>
              <a:rPr b="1" lang="ru-RU" sz="3200" spc="-1" strike="noStrike" u="sng">
                <a:solidFill>
                  <a:srgbClr val="0d0d0d"/>
                </a:solidFill>
                <a:uFillTx/>
                <a:latin typeface="Verdana"/>
              </a:rPr>
              <a:t>потому</a:t>
            </a:r>
            <a:r>
              <a:rPr b="1" lang="en-US" sz="3200" spc="-1" strike="noStrike" u="sng">
                <a:solidFill>
                  <a:srgbClr val="0d0d0d"/>
                </a:solidFill>
                <a:uFillTx/>
                <a:latin typeface="Verdana"/>
              </a:rPr>
              <a:t>-</a:t>
            </a:r>
            <a:r>
              <a:rPr b="1" lang="ru-RU" sz="3200" spc="-1" strike="noStrike" u="sng">
                <a:solidFill>
                  <a:srgbClr val="0d0d0d"/>
                </a:solidFill>
                <a:uFillTx/>
                <a:latin typeface="Verdana"/>
              </a:rPr>
              <a:t>то</a:t>
            </a:r>
            <a:r>
              <a:rPr b="1" lang="en-US" sz="3200" spc="-1" strike="noStrike" u="sng">
                <a:solidFill>
                  <a:srgbClr val="0d0d0d"/>
                </a:solidFill>
                <a:uFillTx/>
                <a:latin typeface="Verdan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1" descr="j0254425"/>
          <p:cNvPicPr/>
          <p:nvPr/>
        </p:nvPicPr>
        <p:blipFill>
          <a:blip r:embed="rId1"/>
          <a:stretch/>
        </p:blipFill>
        <p:spPr>
          <a:xfrm>
            <a:off x="357120" y="4714920"/>
            <a:ext cx="52866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285840" y="310680"/>
            <a:ext cx="8394480" cy="63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тратегии написания сочинения:</a:t>
            </a: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Используйте </a:t>
            </a:r>
            <a:r>
              <a:rPr b="1" lang="ru-RU" sz="2800" spc="-1" strike="noStrike" u="sng">
                <a:solidFill>
                  <a:srgbClr val="612228"/>
                </a:solidFill>
                <a:uFillTx/>
                <a:latin typeface="Times New Roman"/>
                <a:ea typeface="Times New Roman"/>
              </a:rPr>
              <a:t>формальный </a:t>
            </a:r>
            <a:r>
              <a:rPr b="1" lang="ru-RU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стиль письма,  а именно: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не используйте сокращенных фор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не используйте скобки и восклицательные зна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не используйте вводные слова характерные для неформального стиля (well, you know и т.д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избегайте слишком простых предложений. Объединяйте простые предлож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в сложные, используя логические средства связ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строить высказывание в соответствии с предложенным пл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428760" y="61272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в первом абзаце сформулируйте проблему,    которую вы будете обсужда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однако не повторяйте тему сочинения слово в сло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Представьте, что ваш читатель не знает, о чем пойдет речь, и попытайтес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объяснить ему проблему другими слов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введение и заключение должны быть приблизительно одинаковы по  объ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в основной части должно быть как </a:t>
            </a:r>
            <a:r>
              <a:rPr b="1" i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три</a:t>
            </a: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 абзаца, приблизительно одинаковых по размер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общий объем основной части не должен быть меньше общего объема введения и заклю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особое внимание уделять средствам логической связи текст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04920">
              <a:lnSpc>
                <a:spcPct val="100000"/>
              </a:lnSpc>
              <a:buClr>
                <a:srgbClr val="6122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12228"/>
                </a:solidFill>
                <a:latin typeface="Times New Roman"/>
                <a:ea typeface="Times New Roman"/>
              </a:rPr>
              <a:t>как внутри предложений, так и между предложения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0:45:28Z</dcterms:created>
  <dc:creator>www.PHILka.RU</dc:creator>
  <dc:description/>
  <dc:language>en-US</dc:language>
  <cp:lastModifiedBy>www.PHILka.RU</cp:lastModifiedBy>
  <dcterms:modified xsi:type="dcterms:W3CDTF">2013-01-10T16:08:15Z</dcterms:modified>
  <cp:revision>29</cp:revision>
  <dc:subject/>
  <dc:title>Задание С2 – эссе-сочинение с элементами рассуждения по предложенной схеме </dc:title>
</cp:coreProperties>
</file>