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8.png" ContentType="image/png"/>
  <Override PartName="/ppt/media/image9.jpeg" ContentType="image/jpeg"/>
  <Override PartName="/ppt/media/image10.png" ContentType="image/png"/>
  <Override PartName="/ppt/media/image12.png" ContentType="image/png"/>
  <Override PartName="/ppt/media/image30.png" ContentType="image/png"/>
  <Override PartName="/ppt/media/image31.jpeg" ContentType="image/jpeg"/>
  <Override PartName="/ppt/media/image2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14A-E3B6-49FF-8277-ECE6F099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E1F-1A84-41EC-B4FC-9D88A1E7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3A7A2-165D-4813-A81F-B2280806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D5132-7D7D-45E0-9198-F6AB884D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B00C7-D4E4-4BFC-804F-5FDBF98B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72BD1-6608-4696-BCA7-0B366299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33B26-5484-44F3-ADCB-ED895D0D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F68D4-C43C-41D0-9F0C-6C36112A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28E63-8905-4B8C-81E6-89A42703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B781B-4A27-41EC-AA98-2C9BFC3D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20184-87B6-4F3B-A2EB-B46E6902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EB1-8B70-477D-8D0C-FF201971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2C9-3D57-47D5-A7B6-949FE682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8FD9-0E1C-436F-9EA9-0D424806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2FAF-CFAA-4F56-A33D-2CAB70C5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6DAD-98AA-472A-88B2-9950B94F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A7FC-F13C-411E-BF6E-AA556767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5199-C340-43B0-9A6B-8BAFFB94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469D-13BE-4D10-86B0-18045B13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9742-85CE-447A-B17A-37CDFCCD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9D3-6765-4DA0-9720-25D33596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F8F8-991F-473B-8837-C9B0098B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67C8-34BB-4C0D-B675-353C5EC5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D97F-2AC0-42D9-8DE3-232A3935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1303-04D2-489A-B736-91D187FD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5AF9-3F81-4983-BD91-3BC035E6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CF99E-2140-4D01-BB97-4B979419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F090-AC47-49BA-8D3F-75585DD7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F775-9F05-4D69-9129-DCD85F67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C395-174F-4955-BB5E-5F278636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F259-2FF6-4253-A88E-BF8D6119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7CC-4176-4BAF-8D8C-B17A2627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D31E-D464-4910-9D39-C37E81D3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40CB-F24C-4FF9-9794-C3F8E52D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8E8F-FEC1-43F8-A951-F23C25F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04F4-0CCB-461A-8152-458CEE38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FAFE5-8B15-4B80-9B2F-AD8EF21A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BB7B6-4386-4303-B95C-23170D4E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2AD11-2195-4E23-AA64-FE8D5379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1E5F5-FD86-4F7F-A292-9676E994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EAD2D-F5F2-4293-86C4-7EF6851F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6082-A888-4596-89BF-392763B8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F1F-929D-44D0-A541-F71E684F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FD61-823D-4C4C-A2DD-3DD8CAA0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AC72-3E79-42E6-9840-2432EBF6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7D60-1622-43D8-8F50-59CEC7FD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C1DB-DE48-424D-A28D-FE654C53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573E-B216-4B33-87AA-E7A17547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F36D1-9354-472C-B3FF-C2EEE74C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9C82A-E1FD-44F6-90FA-F427CF9E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50B25-978C-4EFA-A20B-2A834D2D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01C5-D7FF-4028-B979-F32F38C1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5576C-11FA-432E-930F-134AFA8C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611-E587-4F1D-B60D-7ADC6BBD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F1E39-9C29-4DE6-9AA9-A5FD554D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021E7-714C-41FC-95FB-3F70CB74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311E9-1B0F-4B85-BFDC-438C1029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9A5C4-B3CF-4878-8F58-C5FF2BF8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8315-B6A2-407C-8F20-CB753EAC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1DDBB-C135-4EFF-AE6B-58079B9E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B20ED-7504-447A-854D-67B1D8C9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AAADC-B1AD-4BB5-82A5-21204F8C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64078-9713-4AA9-91E6-850F4A6A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4117E-827E-4A67-B714-A55689A4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5BD-1104-4EA8-988C-74C8C5B7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A565C-65F8-46B3-A742-3D51AD57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E05F3-2BBE-4771-A22F-C967660D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58660-0150-4099-93B4-84AFFC0B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D4C0C-550E-47EB-B270-41D26841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0E981-3BC1-4509-97CD-E0A2B92D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1805E-9EBD-4442-B455-68046E42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A128-AF41-457B-9719-1F2887E6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55C35-92FD-426D-B93B-4E1FE301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0794D-C911-4683-9DD1-AE3E3760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D0CFB-C142-4B47-B839-7534FC1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3B6-1410-4309-80ED-AAF1CA40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B62E3-9C84-40BB-B816-C7C5480D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2145F-B37C-4DEE-A480-0A6D344D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58EA5-E7DB-492C-8C90-67E433E0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3783D-6A17-468E-88A4-40ED4C59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43E6A-6518-400E-83E6-2BAB47C6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09B0A-F9B0-444F-B3DC-E0246A58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9A2D9-D4A5-4576-9115-E833F293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CE259-C480-4FF4-B265-769FAFD6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1A87B-11A4-4168-9531-A7E4A6B4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CC18F-3154-422D-94BA-FA693B32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573-7699-4EEA-B6D5-D9D5C002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5894D-BB55-4003-B5C5-A4DADB50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2CBE4-A241-4EE8-97C8-219FBAB7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A5052-8EB7-4367-8F9C-EEB3459B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BF766-05B2-4C91-8223-DCB2A53A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F5333-4C04-40E3-A33D-D555B463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891BB-13B8-4AC1-993E-C98F7CE9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CDDA-F89D-4BE6-823E-75F28EB5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D034-7E73-442E-B335-0B22E7E2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4031E-B99C-4F56-BD8D-1AD1F804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C2420-82C0-464A-8904-A0B7DBC7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272-E2ED-49CF-8663-25183A3A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C80C0-8144-4C29-8367-D7573F2D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F3CA9-521F-4DED-B70E-E8A92679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1CDEE-5E34-4761-989D-50B943DE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5604C-012D-4643-9CC3-CC0E479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D7F98-C587-450A-A034-7FF5EC1C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B2827-85D7-468B-BE8B-7E251399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6F867-06C5-4320-A460-26521E79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3FE84-CC38-44B6-91DA-95F571BE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BED85-60D1-4B84-9678-6F7B7332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06B13-FD2C-47C2-817F-0E771C55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D004-43A2-43AC-BCD1-74FF5163A79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B560-6264-41A3-A1DF-B052C69F949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C04A-EB28-4FD4-8017-DA3FC1F505A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1147-4F3F-4A06-A3BF-B17D0D859AE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656E-75D7-4C21-8964-648AFFE2FC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65D7-32FB-4FE5-B6F5-DE497E66BD8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5ED8-3815-41C5-A137-81079CF8C8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5A32-3E2B-4FDB-AF57-3914F7A1514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2A03-DA5C-4033-9B2A-42B8E4A1E00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615960"/>
            <a:ext cx="8472600" cy="2944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3329"/>
                </a:solidFill>
                <a:latin typeface="Franklin Gothic Book"/>
              </a:rPr>
              <a:t>МДОУ ЦРР -  детский сад № 20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443329"/>
                </a:solidFill>
                <a:latin typeface="Franklin Gothic Book"/>
              </a:rPr>
              <a:t>«Аленький цветочек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3329"/>
                </a:solidFill>
                <a:latin typeface="Franklin Gothic Book"/>
              </a:rPr>
              <a:t>воспитатель Чулкова Елена Викторов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4" descr="зимняя пурга.jpg"/>
          <p:cNvPicPr/>
          <p:nvPr/>
        </p:nvPicPr>
        <p:blipFill>
          <a:blip r:embed="rId1"/>
          <a:stretch/>
        </p:blipFill>
        <p:spPr>
          <a:xfrm>
            <a:off x="2627280" y="609480"/>
            <a:ext cx="3097080" cy="2254320"/>
          </a:xfrm>
          <a:prstGeom prst="rect">
            <a:avLst/>
          </a:prstGeom>
          <a:ln w="0">
            <a:noFill/>
          </a:ln>
        </p:spPr>
      </p:pic>
      <p:pic>
        <p:nvPicPr>
          <p:cNvPr id="420" name="Заголовок 2" descr=""/>
          <p:cNvPicPr/>
          <p:nvPr/>
        </p:nvPicPr>
        <p:blipFill>
          <a:blip r:embed="rId2"/>
          <a:stretch/>
        </p:blipFill>
        <p:spPr>
          <a:xfrm>
            <a:off x="274680" y="4419720"/>
            <a:ext cx="5089320" cy="15303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9144000" y="5532480"/>
            <a:ext cx="3967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900000" y="390600"/>
            <a:ext cx="6480360" cy="51732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3" descr="сканирование0002.jpg"/>
          <p:cNvPicPr/>
          <p:nvPr/>
        </p:nvPicPr>
        <p:blipFill>
          <a:blip r:embed="rId2"/>
          <a:stretch/>
        </p:blipFill>
        <p:spPr>
          <a:xfrm>
            <a:off x="171360" y="1695600"/>
            <a:ext cx="4832280" cy="2252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4" descr=""/>
          <p:cNvPicPr/>
          <p:nvPr/>
        </p:nvPicPr>
        <p:blipFill>
          <a:blip r:embed="rId1"/>
          <a:stretch/>
        </p:blipFill>
        <p:spPr>
          <a:xfrm>
            <a:off x="7156440" y="5327640"/>
            <a:ext cx="1768320" cy="10303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303516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Куртка — теплая одежда.</a:t>
            </a:r>
            <a:br>
              <a:rPr sz="1800"/>
            </a:b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В куртках Таня и Олежек</a:t>
            </a:r>
            <a:br>
              <a:rPr sz="1800"/>
            </a:b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В декабре и январе</a:t>
            </a:r>
            <a:br>
              <a:rPr sz="1800"/>
            </a:b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Не замерзнешь во дворе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Шапка с шарфиком сейчас</a:t>
            </a:r>
            <a:br>
              <a:rPr sz="1800"/>
            </a:b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Нам подходят в самый раз,</a:t>
            </a:r>
            <a:br>
              <a:rPr sz="1800"/>
            </a:b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Чтоб случайно не простыть</a:t>
            </a:r>
            <a:br>
              <a:rPr sz="1800"/>
            </a:b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И здоровенькими бы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А вот это — варежки</a:t>
            </a:r>
            <a:br>
              <a:rPr sz="1800"/>
            </a:b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Для тебя и Ванюшки.</a:t>
            </a:r>
            <a:br>
              <a:rPr sz="1800"/>
            </a:b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Носят варежки зимой,</a:t>
            </a:r>
            <a:br>
              <a:rPr sz="1800"/>
            </a:b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Когда ветер ледяной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Содержимое 9" descr="сканирование0002.jpg"/>
          <p:cNvPicPr/>
          <p:nvPr/>
        </p:nvPicPr>
        <p:blipFill>
          <a:blip r:embed="rId2"/>
          <a:stretch/>
        </p:blipFill>
        <p:spPr>
          <a:xfrm>
            <a:off x="4462560" y="603360"/>
            <a:ext cx="3565440" cy="4816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619280" y="360360"/>
            <a:ext cx="4753080" cy="692280"/>
          </a:xfrm>
          <a:prstGeom prst="rect">
            <a:avLst/>
          </a:prstGeom>
          <a:ln w="0">
            <a:noFill/>
          </a:ln>
        </p:spPr>
      </p:pic>
      <p:pic>
        <p:nvPicPr>
          <p:cNvPr id="428" name="Содержимое 5" descr="сканирование0002.jpg"/>
          <p:cNvPicPr/>
          <p:nvPr/>
        </p:nvPicPr>
        <p:blipFill>
          <a:blip r:embed="rId2"/>
          <a:stretch/>
        </p:blipFill>
        <p:spPr>
          <a:xfrm>
            <a:off x="1619280" y="1557360"/>
            <a:ext cx="3457440" cy="2583000"/>
          </a:xfrm>
          <a:prstGeom prst="rect">
            <a:avLst/>
          </a:prstGeom>
          <a:ln w="28440">
            <a:solidFill>
              <a:srgbClr val="3399ff"/>
            </a:solidFill>
            <a:miter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468000" y="2463840"/>
            <a:ext cx="727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579640" y="5157720"/>
            <a:ext cx="2808360" cy="100800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Снег кружится, Снег ложится -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Снег! Снег! Снег!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Рады снегу зверь и птица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И, конечно, человек</a:t>
            </a:r>
            <a:r>
              <a:rPr b="1" i="1" lang="en-US" sz="1700" spc="-1" strike="noStrike">
                <a:solidFill>
                  <a:srgbClr val="000000"/>
                </a:solidFill>
                <a:latin typeface="Franklin Gothic Book"/>
              </a:rPr>
              <a:t>!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1" name="Picture 7" descr="img088"/>
          <p:cNvPicPr/>
          <p:nvPr/>
        </p:nvPicPr>
        <p:blipFill>
          <a:blip r:embed="rId1"/>
          <a:stretch/>
        </p:blipFill>
        <p:spPr>
          <a:xfrm>
            <a:off x="611280" y="1052640"/>
            <a:ext cx="3600360" cy="2109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4" descr=""/>
          <p:cNvPicPr/>
          <p:nvPr/>
        </p:nvPicPr>
        <p:blipFill>
          <a:blip r:embed="rId1"/>
          <a:stretch/>
        </p:blipFill>
        <p:spPr>
          <a:xfrm>
            <a:off x="4370400" y="450720"/>
            <a:ext cx="437184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img087"/>
          <p:cNvPicPr/>
          <p:nvPr/>
        </p:nvPicPr>
        <p:blipFill>
          <a:blip r:embed="rId2"/>
          <a:stretch/>
        </p:blipFill>
        <p:spPr>
          <a:xfrm>
            <a:off x="755640" y="1268280"/>
            <a:ext cx="181620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612000" y="-4107240"/>
            <a:ext cx="730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5" name="Picture 6" descr="img090"/>
          <p:cNvPicPr/>
          <p:nvPr/>
        </p:nvPicPr>
        <p:blipFill>
          <a:blip r:embed="rId1"/>
          <a:stretch/>
        </p:blipFill>
        <p:spPr>
          <a:xfrm>
            <a:off x="3564000" y="1484280"/>
            <a:ext cx="19224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3" descr=""/>
          <p:cNvPicPr/>
          <p:nvPr/>
        </p:nvPicPr>
        <p:blipFill>
          <a:blip r:embed="rId1"/>
          <a:stretch/>
        </p:blipFill>
        <p:spPr>
          <a:xfrm>
            <a:off x="2627280" y="353880"/>
            <a:ext cx="3960720" cy="6271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img009"/>
          <p:cNvPicPr/>
          <p:nvPr/>
        </p:nvPicPr>
        <p:blipFill>
          <a:blip r:embed="rId2"/>
          <a:stretch/>
        </p:blipFill>
        <p:spPr>
          <a:xfrm>
            <a:off x="2268360" y="1484280"/>
            <a:ext cx="1787760" cy="1873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5" descr=""/>
          <p:cNvPicPr/>
          <p:nvPr/>
        </p:nvPicPr>
        <p:blipFill>
          <a:blip r:embed="rId1"/>
          <a:stretch/>
        </p:blipFill>
        <p:spPr>
          <a:xfrm>
            <a:off x="9534600" y="450720"/>
            <a:ext cx="298440" cy="85428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4"/>
          <p:cNvSpPr/>
          <p:nvPr/>
        </p:nvSpPr>
        <p:spPr>
          <a:xfrm>
            <a:off x="1476360" y="33336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робьи дружно чирикают - это к теп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роны  садятся к югу клювами - к тепл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север - к хол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7" descr="img013"/>
          <p:cNvPicPr/>
          <p:nvPr/>
        </p:nvPicPr>
        <p:blipFill>
          <a:blip r:embed="rId2"/>
          <a:stretch/>
        </p:blipFill>
        <p:spPr>
          <a:xfrm>
            <a:off x="2700360" y="1484280"/>
            <a:ext cx="38703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63280" y="1915920"/>
            <a:ext cx="597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Продолжение презентации </a:t>
            </a:r>
            <a:br>
              <a:rPr sz="3600"/>
            </a:b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вы найдете во 2 части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612000" y="-5134320"/>
            <a:ext cx="73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68000" y="692280"/>
            <a:ext cx="4248360" cy="280800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1581f"/>
                </a:solidFill>
                <a:latin typeface="Franklin Gothic Book"/>
              </a:rPr>
              <a:t>ЗАГАД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Запорошила дорожки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Разукрасила окошк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Радость детям подарил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И на санках прокатил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1619280" y="268200"/>
            <a:ext cx="4321080" cy="568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img008"/>
          <p:cNvPicPr/>
          <p:nvPr/>
        </p:nvPicPr>
        <p:blipFill>
          <a:blip r:embed="rId2"/>
          <a:stretch/>
        </p:blipFill>
        <p:spPr>
          <a:xfrm>
            <a:off x="2268360" y="1700280"/>
            <a:ext cx="2519640" cy="237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585720" y="5505480"/>
            <a:ext cx="1249560" cy="155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img875"/>
          <p:cNvPicPr/>
          <p:nvPr/>
        </p:nvPicPr>
        <p:blipFill>
          <a:blip r:embed="rId2"/>
          <a:stretch/>
        </p:blipFill>
        <p:spPr>
          <a:xfrm>
            <a:off x="2987640" y="765000"/>
            <a:ext cx="199728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539640" y="5516640"/>
            <a:ext cx="2376720" cy="288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img876"/>
          <p:cNvPicPr/>
          <p:nvPr/>
        </p:nvPicPr>
        <p:blipFill>
          <a:blip r:embed="rId2"/>
          <a:stretch/>
        </p:blipFill>
        <p:spPr>
          <a:xfrm>
            <a:off x="2338560" y="746280"/>
            <a:ext cx="3097080" cy="295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2" descr=""/>
          <p:cNvPicPr/>
          <p:nvPr/>
        </p:nvPicPr>
        <p:blipFill>
          <a:blip r:embed="rId1"/>
          <a:stretch/>
        </p:blipFill>
        <p:spPr>
          <a:xfrm>
            <a:off x="438120" y="5505480"/>
            <a:ext cx="1685880" cy="444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img144"/>
          <p:cNvPicPr/>
          <p:nvPr/>
        </p:nvPicPr>
        <p:blipFill>
          <a:blip r:embed="rId2"/>
          <a:stretch/>
        </p:blipFill>
        <p:spPr>
          <a:xfrm>
            <a:off x="2556000" y="404640"/>
            <a:ext cx="2533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4" descr=""/>
          <p:cNvPicPr/>
          <p:nvPr/>
        </p:nvPicPr>
        <p:blipFill>
          <a:blip r:embed="rId1"/>
          <a:stretch/>
        </p:blipFill>
        <p:spPr>
          <a:xfrm>
            <a:off x="480960" y="5078520"/>
            <a:ext cx="1930320" cy="3664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763640" y="5732280"/>
            <a:ext cx="2664000" cy="43308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 fontScale="6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В зимний холод всякий мол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7" descr="img133"/>
          <p:cNvPicPr/>
          <p:nvPr/>
        </p:nvPicPr>
        <p:blipFill>
          <a:blip r:embed="rId2"/>
          <a:stretch/>
        </p:blipFill>
        <p:spPr>
          <a:xfrm>
            <a:off x="1908000" y="476280"/>
            <a:ext cx="331164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378000" y="4986360"/>
            <a:ext cx="5876640" cy="1116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324000" y="5732280"/>
            <a:ext cx="5256000" cy="64908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 fontScale="8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Если большой иней на деревьях висит гладко, лето будет плодородным, с хорошей погодо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7" descr="DSC06089"/>
          <p:cNvPicPr/>
          <p:nvPr/>
        </p:nvPicPr>
        <p:blipFill>
          <a:blip r:embed="rId2"/>
          <a:stretch/>
        </p:blipFill>
        <p:spPr>
          <a:xfrm>
            <a:off x="1619280" y="549360"/>
            <a:ext cx="3097080" cy="2458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285840" y="4937040"/>
            <a:ext cx="4790880" cy="507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DSC07961"/>
          <p:cNvPicPr/>
          <p:nvPr/>
        </p:nvPicPr>
        <p:blipFill>
          <a:blip r:embed="rId2"/>
          <a:stretch/>
        </p:blipFill>
        <p:spPr>
          <a:xfrm>
            <a:off x="1547640" y="47628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10:53Z</dcterms:created>
  <dc:creator>user</dc:creator>
  <dc:description/>
  <dc:language>en-US</dc:language>
  <cp:lastModifiedBy>1</cp:lastModifiedBy>
  <dcterms:modified xsi:type="dcterms:W3CDTF">2011-02-16T07:49:06Z</dcterms:modified>
  <cp:revision>132</cp:revision>
  <dc:subject/>
  <dc:title>«Зимушка зима»</dc:title>
</cp:coreProperties>
</file>