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AAC-7D5A-4DCE-A9CB-35AEDBE7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769-33F0-49D5-A370-658E070E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69865-9426-48AB-BA89-3CC3A1AA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3BD20-1E57-4E20-8404-297EEA6E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595FB-32CC-4A13-843F-285EDC85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B2AD1-7FF0-4469-BCD2-7DE15686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A05B9-EF83-4E5D-9218-D60548D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F60E1-EA40-4649-A66F-D2F2AC2F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90884-0783-464B-9A2E-9D570AE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67E41-DD34-4AEC-BC17-552CB61A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04C5D-26E8-4B08-9615-469752E1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833-EF99-4A06-A7C7-FD8CAC94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1FD-6940-448D-B722-45390895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F98B-597C-4E8D-8047-78055537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BD86-F63A-4BA2-8078-57A6907C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4C2A-63B1-4755-B41F-4F5B3F72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9977-7976-4E9C-A3D2-3492D8AA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25C6-F994-4550-AA4C-C942DFE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B21A-9762-4302-B204-6A0D6A00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B46B-17B3-46D9-B60B-E27F266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697-383B-4C0B-AF0A-B7B83528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0B78-F946-4F0D-A875-4293E19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BCEA-5A1A-4E38-A5DB-A5B8D134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135-CA61-410E-8D78-8F823039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8316-BFAB-4A25-9A07-F0CADF13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A400-08C6-4B00-B74B-687E49BD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1298-8040-4269-89F8-A6D62E85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1AB2-2F57-44D5-809E-042DF0F7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B01F-1778-4E49-8A16-A6216CFD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B35B-36EF-4B16-9061-9AF37532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8211-C135-4318-9153-944198FA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7B6-D210-4CCF-9063-C232422D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2A69-5265-4F2A-A372-151E1950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B704-0EE3-48AA-BF52-22B748E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8105-B489-4412-87A9-8B21B92F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8042-AE4B-4098-908D-3C9FFD59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EC74-0075-4B4A-AA70-33FDA038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ADBE-1A31-4547-B875-E06C7833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F953-B54B-4F9D-9576-A086E237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7DBD-BD5A-4C4A-93C5-4F627B27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3B11-2139-4B53-90BD-5F90A111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90F75-4574-4591-A46C-A9563844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929-0892-40B6-BDC2-17F24A56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886E-F371-472B-BCCF-5C3355C0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4A8DD-28F7-45AA-9B18-0016B42F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11841-E7C6-42CB-B76D-25B6DD1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37CB-8DDF-4CF0-A667-B03E9AD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B82B-C36F-48B8-BF29-55D6E27C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44B2-8CCE-40A8-B2C6-F9A44848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44F50-DACC-49D9-96B2-FB313496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59BF8-3F55-4D16-9C33-4A005550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DD94-A28E-4122-8C52-BC11004A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2476-405B-43EE-AA7F-E40A29DC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911-CA95-417F-8CAF-0AA81F85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8EC34-BB07-419C-BFF8-40680372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A6266-89E0-45D0-BA7C-DE86DE10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173B-32F7-45CD-9ADB-83D7D6B3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CE4A1-B091-4909-A514-03EF6EC6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E783-838D-43A7-A326-C8D2F61F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30509-CD6C-4BC3-A4CA-F31AE966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1F85C-64B6-46C0-8F65-A461C8F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CC4D-5423-46AA-92EF-978660AD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3837D-09FB-4F27-B006-253270A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A0E7-BB76-4591-8868-A2D53172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F17-8241-4834-BD91-2EDAA488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47619-62C0-44E3-8FA5-5AEEA904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F2C8-8940-43EC-8418-344A2A23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035E7-7BF2-420B-BEDE-8A750A56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1BEC8-89B1-4C70-81F7-596374FE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DAC1A-2109-42D7-B0DF-D5EBBC8F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D2747-C66A-41BC-BC61-033C8DB7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48CA9-8010-440F-8A94-BA234600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FB9E4-A4B0-4555-B0F1-8A6A3C5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7D8C-D295-4BA5-AFBC-D98A0F51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322FF-7252-4327-BDA4-BFA560C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A75-14FB-4FCD-986C-1CA74D7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09742-417E-4203-88D3-C9ED2E5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E7EA-7195-4DAF-BB8A-D790DC0D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5DC1-6D6A-438A-B0E6-88DE9BCB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DDADF-E95A-4D01-876F-69A53A30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85DAD-E9D3-4DD0-BA2D-BD487623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B774A-17BD-4417-9E8C-6928F29C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C6C89-6CB0-4944-9FC2-C02BD5F2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FAC22-96D4-4FC5-8813-391836AD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EE80E-B82B-4406-9EEE-86A3AE6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5C89D-FF15-4D20-A84F-955BEA6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397-2E8C-4788-8706-AE8F449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F930-89D5-4F2E-905A-059C2A1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83EF3-0BF2-4AD7-9182-FD9CD3D3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6D0AE-283C-4547-817E-10AD7BAA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1DAFE-DB1E-4720-8156-181C6094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B5C5C-6FA6-43DD-94FA-62111899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2A8F8-8D61-4B41-A9CB-FD7E6AD6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6DDA-FCA6-4E36-BEE7-B4F88E90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96B8A-209B-453E-9F8C-95D3BE5E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06200-9149-4BAB-B078-BC7EC302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AB5A-F806-4051-8073-B3F14E30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D43-4649-41BA-9204-65F3ED1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0580-0D34-4BB9-986D-E605C3D6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E42EA-0A77-47C8-83F8-5BAE2A8D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F0AB7-E3E9-4CC4-97EC-E45BFF0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1A2B8-6784-4471-8A83-89282D5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D3D15-3603-4643-A4FB-D66608CF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FEED4-A8D9-4CAA-BAD8-CF6BBA93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C3E0C-A3CF-40A2-BB1C-CDAEA1FB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5798E-E17E-4B0F-9DF2-BBB236D4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15652-0C55-4CDF-90BC-5FFD891B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A2ED1-8D88-4CEC-BBE2-4E599825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F127-50FA-4C55-8144-215D670A6E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5CE2-79CC-4966-878E-FE8D7CDDE5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592F-30DA-4148-809D-8FF72D2A630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A08-DF17-4BD3-AFAD-B1D51AB5519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C5D3-B7A2-4CE4-A19B-D295FDC6852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F3C7-C681-4660-A12D-83A5FC7F896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4348-6D3E-4A27-BD5E-215809D7204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6A0C-A15A-4934-BBFA-FE6340C7738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74EC-9E47-41D4-B232-751556E929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56000" y="2276280"/>
            <a:ext cx="37447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Часть 2. Продолжен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4" descr=""/>
          <p:cNvPicPr/>
          <p:nvPr/>
        </p:nvPicPr>
        <p:blipFill>
          <a:blip r:embed="rId1"/>
          <a:stretch/>
        </p:blipFill>
        <p:spPr>
          <a:xfrm>
            <a:off x="2411280" y="249120"/>
            <a:ext cx="2521080" cy="731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img015"/>
          <p:cNvPicPr/>
          <p:nvPr/>
        </p:nvPicPr>
        <p:blipFill>
          <a:blip r:embed="rId2"/>
          <a:stretch/>
        </p:blipFill>
        <p:spPr>
          <a:xfrm>
            <a:off x="539640" y="1413000"/>
            <a:ext cx="1866960" cy="2736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img012"/>
          <p:cNvPicPr/>
          <p:nvPr/>
        </p:nvPicPr>
        <p:blipFill>
          <a:blip r:embed="rId3"/>
          <a:stretch/>
        </p:blipFill>
        <p:spPr>
          <a:xfrm>
            <a:off x="5508720" y="3213000"/>
            <a:ext cx="1869840" cy="248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909800" y="476280"/>
            <a:ext cx="3957480" cy="720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img010"/>
          <p:cNvPicPr/>
          <p:nvPr/>
        </p:nvPicPr>
        <p:blipFill>
          <a:blip r:embed="rId2"/>
          <a:stretch/>
        </p:blipFill>
        <p:spPr>
          <a:xfrm>
            <a:off x="1763640" y="1484280"/>
            <a:ext cx="287964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8" descr="img731"/>
          <p:cNvPicPr/>
          <p:nvPr/>
        </p:nvPicPr>
        <p:blipFill>
          <a:blip r:embed="rId1"/>
          <a:stretch/>
        </p:blipFill>
        <p:spPr>
          <a:xfrm>
            <a:off x="6372360" y="2133720"/>
            <a:ext cx="1973160" cy="34225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img735"/>
          <p:cNvPicPr/>
          <p:nvPr/>
        </p:nvPicPr>
        <p:blipFill>
          <a:blip r:embed="rId2"/>
          <a:stretch/>
        </p:blipFill>
        <p:spPr>
          <a:xfrm>
            <a:off x="324000" y="1700280"/>
            <a:ext cx="18316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411280" y="450720"/>
            <a:ext cx="2448000" cy="601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img144"/>
          <p:cNvPicPr/>
          <p:nvPr/>
        </p:nvPicPr>
        <p:blipFill>
          <a:blip r:embed="rId2"/>
          <a:stretch/>
        </p:blipFill>
        <p:spPr>
          <a:xfrm>
            <a:off x="755640" y="1341360"/>
            <a:ext cx="1239840" cy="1727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img145"/>
          <p:cNvPicPr/>
          <p:nvPr/>
        </p:nvPicPr>
        <p:blipFill>
          <a:blip r:embed="rId3"/>
          <a:stretch/>
        </p:blipFill>
        <p:spPr>
          <a:xfrm>
            <a:off x="4140360" y="1916280"/>
            <a:ext cx="2016000" cy="1434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4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3313080" cy="720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img014"/>
          <p:cNvPicPr/>
          <p:nvPr/>
        </p:nvPicPr>
        <p:blipFill>
          <a:blip r:embed="rId2"/>
          <a:stretch/>
        </p:blipFill>
        <p:spPr>
          <a:xfrm>
            <a:off x="3948120" y="2158920"/>
            <a:ext cx="124632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4" descr="img877.jpg"/>
          <p:cNvPicPr/>
          <p:nvPr/>
        </p:nvPicPr>
        <p:blipFill>
          <a:blip r:embed="rId1"/>
          <a:stretch/>
        </p:blipFill>
        <p:spPr>
          <a:xfrm>
            <a:off x="171360" y="328680"/>
            <a:ext cx="2130480" cy="2379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685440" y="2463840"/>
            <a:ext cx="712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540360" y="5532480"/>
            <a:ext cx="2876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8" descr="кормушка.jpg"/>
          <p:cNvPicPr/>
          <p:nvPr/>
        </p:nvPicPr>
        <p:blipFill>
          <a:blip r:embed="rId1"/>
          <a:stretch/>
        </p:blipFill>
        <p:spPr>
          <a:xfrm>
            <a:off x="1692360" y="549360"/>
            <a:ext cx="2374920" cy="2193840"/>
          </a:xfrm>
          <a:prstGeom prst="rect">
            <a:avLst/>
          </a:prstGeom>
          <a:ln w="0">
            <a:noFill/>
          </a:ln>
        </p:spPr>
      </p:pic>
      <p:pic>
        <p:nvPicPr>
          <p:cNvPr id="404" name="Заголовок 4" descr=""/>
          <p:cNvPicPr/>
          <p:nvPr/>
        </p:nvPicPr>
        <p:blipFill>
          <a:blip r:embed="rId2"/>
          <a:stretch/>
        </p:blipFill>
        <p:spPr>
          <a:xfrm>
            <a:off x="378000" y="5657760"/>
            <a:ext cx="4698720" cy="650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378000" y="4986360"/>
            <a:ext cx="4554360" cy="6714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9540360" y="5532480"/>
            <a:ext cx="2876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Рисунок 5" descr="бутылка.jpg"/>
          <p:cNvPicPr/>
          <p:nvPr/>
        </p:nvPicPr>
        <p:blipFill>
          <a:blip r:embed="rId2"/>
          <a:stretch/>
        </p:blipFill>
        <p:spPr>
          <a:xfrm>
            <a:off x="3059280" y="333360"/>
            <a:ext cx="1935000" cy="2452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2881440" cy="890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img879"/>
          <p:cNvPicPr/>
          <p:nvPr/>
        </p:nvPicPr>
        <p:blipFill>
          <a:blip r:embed="rId2"/>
          <a:stretch/>
        </p:blipFill>
        <p:spPr>
          <a:xfrm>
            <a:off x="317520" y="1841400"/>
            <a:ext cx="1878120" cy="183060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img880.jpg"/>
          <p:cNvPicPr/>
          <p:nvPr/>
        </p:nvPicPr>
        <p:blipFill>
          <a:blip r:embed="rId3"/>
          <a:stretch/>
        </p:blipFill>
        <p:spPr>
          <a:xfrm>
            <a:off x="5435640" y="1700280"/>
            <a:ext cx="194148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411280" y="450720"/>
            <a:ext cx="2232000" cy="53028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5" descr="img882.jpg"/>
          <p:cNvPicPr/>
          <p:nvPr/>
        </p:nvPicPr>
        <p:blipFill>
          <a:blip r:embed="rId2"/>
          <a:stretch/>
        </p:blipFill>
        <p:spPr>
          <a:xfrm>
            <a:off x="3132000" y="1341360"/>
            <a:ext cx="2808360" cy="246852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4" descr="след волка.gif"/>
          <p:cNvPicPr/>
          <p:nvPr/>
        </p:nvPicPr>
        <p:blipFill>
          <a:blip r:embed="rId3"/>
          <a:stretch/>
        </p:blipFill>
        <p:spPr>
          <a:xfrm>
            <a:off x="395280" y="3716280"/>
            <a:ext cx="1523880" cy="24321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6" descr="след лисицы.gif"/>
          <p:cNvPicPr/>
          <p:nvPr/>
        </p:nvPicPr>
        <p:blipFill>
          <a:blip r:embed="rId4"/>
          <a:stretch/>
        </p:blipFill>
        <p:spPr>
          <a:xfrm>
            <a:off x="6804000" y="3933720"/>
            <a:ext cx="1884240" cy="1884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907640" y="1557000"/>
            <a:ext cx="4967640" cy="1150920"/>
          </a:xfrm>
          <a:prstGeom prst="rect">
            <a:avLst/>
          </a:prstGeom>
          <a:solidFill>
            <a:srgbClr val="f3cd6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Franklin Gothic Book"/>
              </a:rPr>
              <a:t>Какие животные впадают </a:t>
            </a:r>
            <a:endParaRPr b="0" lang="en-US" sz="28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Franklin Gothic Book"/>
              </a:rPr>
              <a:t>в спячку зимой?</a:t>
            </a:r>
            <a:endParaRPr b="0" lang="en-US" sz="28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Рисунок 7" descr="сканирование0002.jpg"/>
          <p:cNvPicPr/>
          <p:nvPr/>
        </p:nvPicPr>
        <p:blipFill>
          <a:blip r:embed="rId1"/>
          <a:stretch/>
        </p:blipFill>
        <p:spPr>
          <a:xfrm>
            <a:off x="4230720" y="396720"/>
            <a:ext cx="2502000" cy="20210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9468000" y="5444640"/>
            <a:ext cx="7272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940360" y="457200"/>
            <a:ext cx="216072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Arial"/>
              </a:rPr>
              <a:t>Белк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9" name="Содержимое 4" descr="1264843898_nataun11.jpg"/>
          <p:cNvPicPr/>
          <p:nvPr/>
        </p:nvPicPr>
        <p:blipFill>
          <a:blip r:embed="rId1"/>
          <a:stretch/>
        </p:blipFill>
        <p:spPr>
          <a:xfrm>
            <a:off x="755640" y="692280"/>
            <a:ext cx="1844640" cy="31971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img881"/>
          <p:cNvPicPr/>
          <p:nvPr/>
        </p:nvPicPr>
        <p:blipFill>
          <a:blip r:embed="rId2"/>
          <a:stretch/>
        </p:blipFill>
        <p:spPr>
          <a:xfrm>
            <a:off x="4711680" y="2633760"/>
            <a:ext cx="1876320" cy="1876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10:53Z</dcterms:created>
  <dc:creator>user</dc:creator>
  <dc:description/>
  <dc:language>en-US</dc:language>
  <cp:lastModifiedBy>1</cp:lastModifiedBy>
  <dcterms:modified xsi:type="dcterms:W3CDTF">2011-02-16T07:50:11Z</dcterms:modified>
  <cp:revision>132</cp:revision>
  <dc:subject/>
  <dc:title>«Зимушка зима»</dc:title>
</cp:coreProperties>
</file>