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58C-C5B8-4772-A242-609389B1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FEF-AA8D-4E7D-8DFE-E4FD7FB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6F6-F9D0-45D1-984C-7D95ABD4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8ED-0C21-4284-9F51-627D205B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1B9A-88C1-4291-9325-D41BF04C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5C1-92B8-4820-813D-73916FD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6F7-AB80-465B-9569-047F606A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01A6-8E3D-46CA-886C-6597011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E140-C66C-4C97-939D-93CD751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1662-CAEB-4DCA-935D-7A9174E5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D2D7-FE04-424C-A45B-C7A4674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A01-DB11-4A4D-A99C-A83D27E6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6400-4853-4EEF-AA62-CF33430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2F58-4451-4D14-A6DE-F805941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8BD9-3DCE-4AEA-9367-7F6E0703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17E-74ED-406B-B388-8864A353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280-D7BB-4B88-AFC2-98A65AB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173-FA79-468C-B08B-77D2B6D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CD5-3969-4A17-B3F3-F061F46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962-1991-43F8-8DC7-3160ECC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E8D-C784-4C94-85ED-BF1FF75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CA2-EC8C-4813-894A-4849C7B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C9B-195F-4C92-BC90-ACB8D1D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D1F-004F-4859-8239-61E2B0C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3BA-7C4D-472C-8184-C36B17C77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462-9990-42C8-989E-1CD77793B9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078080" cy="213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9480" y="2286000"/>
            <a:ext cx="7620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ПРОПАГАНДА ЗО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з сказку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4112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КА «ТЕРЕМО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1476360"/>
            <a:ext cx="723924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СКАЗКА НА НОВЫЙ ЛАД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440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560" y="6095880"/>
            <a:ext cx="76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«УМНАЯ СКАЗКА ПРО ДЕВОЧЕК И МАЛЬЧИК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СКАЗКА НА НОВЫЙ ЛАД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05320" cy="273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3526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28600" y="1981080"/>
            <a:ext cx="2800440" cy="280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19320" y="5181480"/>
            <a:ext cx="1199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БАРБ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05720" y="510552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 КЕНЫ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К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127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казка на новый ла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23781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962520" cy="3002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5400" y="51055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«Айболит и шестеро козлят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1523880"/>
            <a:ext cx="651024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ПОМН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1.«Здоровье не купить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доровье дано нам природой, если человек теряет его, то вернуть его будет очень трудно, придется много леч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2. «Болезнь человека         не красит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ольной человек всегда плохо выглядит, становится раздражительным, каприз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3. «Труд – здоровье,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лень - болезнь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ждый человек должен трудиться. Здоровый человек трудится с удовольствием, с желанием, у него все хорошо и быстро получается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4. «Здоровье дороже богатства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ездумно растраченное здоровье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вернут никакие врач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олько бы ты не заплат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ОЖ – это все, что помогает нам сохрани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укрепить здоровь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31622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«Береги платье снову,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а здоровье смолоду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ля того чтобы сохранить здоровье, его необходимо береч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ждый день, каждую минут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блюдать правила ЗО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3530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ial Black"/>
              </a:rPr>
              <a:t>1 ПРАВИ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ужно настроиться на здоровый образ жизни и захотеть быть здоровы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1584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ial Black"/>
              </a:rPr>
              <a:t>2 ПРАВИ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9000" y="1523880"/>
            <a:ext cx="5492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жно соблюдать советы гигиены: стремиться к чистот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умно чередо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и отды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ть кладовые  природы -солнце, воздух, в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39150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ial Black"/>
              </a:rPr>
              <a:t>3 ПРАВИ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ужно научиться рационально питатьс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695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ial Black"/>
              </a:rPr>
              <a:t>4 ПРАВИ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510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уважать и любить физическую культуру-разумное  и полезное регулирование необходимой  физической нагру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ial Black"/>
              </a:rPr>
              <a:t>5 ПРАВИ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7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жно уметь управлять своими чувствами, настроением, научиться жить в ладу с окружающим ми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3314880" cy="2346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438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25680" y="1447920"/>
            <a:ext cx="408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КА «РЕП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3T18:41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