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BF4-00EB-441B-8F9D-6F010B8B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F5A-BBDE-4039-A4E1-C5115978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4B2-159E-4BBA-AE37-933B15CC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FA5-A6C8-416D-8EC7-562FA15F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B8A-0CA4-4905-9BD3-1F3470F6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682-033F-49AB-949C-C33FAA00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DA0-0F73-406B-B5D9-AFCC1DF0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52F-B5FF-4904-9978-0CC5DBB9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AB7-8224-4858-B3BF-D14802CD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7A3-A6D7-464B-B5DA-EF796CE7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D87-570B-410F-8253-317C74A0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DE0-51AA-46B7-A969-5CD53EB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89BC-AB18-4A8C-9B59-3C5405E787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2133720"/>
            <a:ext cx="669780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К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3429000"/>
            <a:ext cx="3168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56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КЛАС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лижайшими планетами к Земле являются Венера и Мар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одсчётам учёных полёт от Земли к Венере и обратно составит 505 дней, что на 139 дней дольше, чем на Марс и обратно. Сколько дней будет длиться полёт от Земли к Марсу и обрат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тавь пропущенные цифры и зна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37                 86*                73*               62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*7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*3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2*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**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8*                *97               *75                26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271200">
            <a:off x="899640" y="1484280"/>
            <a:ext cx="727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«</a:t>
            </a:r>
            <a:r>
              <a:rPr b="1" lang="ru-RU" sz="4400" spc="-1" strike="noStrike" u="sng">
                <a:solidFill>
                  <a:srgbClr val="000099"/>
                </a:solidFill>
                <a:uFillTx/>
                <a:latin typeface="Times New Roman"/>
              </a:rPr>
              <a:t>Сложение и вычитание чисел в пределах 1000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(закрепл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0728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 лишнее число в каждой группе: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6   53   458   27   99   31   52   48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0    100    542    700    900    200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48    460    752    340    76     95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54    246    927    400    299   76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4292280"/>
            <a:ext cx="8424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и числа 3-й строки в порядке возраста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и числа 4-й строки в порядке убы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78…374                           487…700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5…550                           673…637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7 – 136…470 – 1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19 – 38 … 719 - 3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353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цифру можно поставить вместо *, чтобы получилось верное неравенст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*4  &lt;  514              715  &gt;  7*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6   &gt; *06              628  &lt;  62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ите, кто верно нашел значение суммы и значение разности, Маша    или Миш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582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Маша:            Миш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46                        +346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9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45                        13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889                        _889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67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22                          21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допустил ошибки и в чем их причи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назывался космический корабль, на котором Ю.Гагарин совершил кругосветное путешествие по орби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13 + 18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36 – 2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1 + 1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99 – 23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9 + 17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3 – 28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1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з 10 лет (в 1971г.) была выведена на орбиту первая тяжелая орбитальная станция. Это был настоящий летающий дом, состоящий из нескольких комнат-отсеков, в которых свободно разместился экипаж из 3-х человек, проработавший в космосе почти месяц. Как называлась эта первая тяжелая орбитальная станц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0920" y="3429000"/>
            <a:ext cx="784548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18 – 4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71 + 6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87 – 3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03 – 4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43 + 6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4724280"/>
            <a:ext cx="770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55640" y="1981080"/>
          <a:ext cx="7702560" cy="2023920"/>
        </p:xfrm>
        <a:graphic>
          <a:graphicData uri="http://schemas.openxmlformats.org/drawingml/2006/table">
            <a:tbl>
              <a:tblPr/>
              <a:tblGrid>
                <a:gridCol w="963720"/>
                <a:gridCol w="961920"/>
                <a:gridCol w="963720"/>
                <a:gridCol w="961920"/>
                <a:gridCol w="963720"/>
                <a:gridCol w="961920"/>
                <a:gridCol w="963720"/>
                <a:gridCol w="961920"/>
              </a:tblGrid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2T20:23:26Z</dcterms:modified>
  <cp:revision>3</cp:revision>
  <dc:subject/>
  <dc:title>PowerPoint Presentation</dc:title>
</cp:coreProperties>
</file>