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60F-ABC4-4D6D-BB8A-89462A03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D69-2E6C-453C-AA91-3909671F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279-6514-4099-8DBB-C083490C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A32-CD41-48BF-9564-7847C559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66E-908A-43E5-8962-0EEDFC7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DE6-10F2-40C9-A20E-57AA24B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678-D9CF-4203-A00C-AE3C5375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008-8ADC-44FB-8751-67D583F2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7A8-AB3E-4A76-9357-84531D7E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9C5-B7CB-432A-BF75-D9ADBE8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4FD-23C3-46A9-873C-0314271C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336-47A8-4BF8-AA47-0C4AB51A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D94-708F-4567-8B54-D48BB061B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2133720"/>
            <a:ext cx="6697800" cy="143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К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43280" y="3429000"/>
            <a:ext cx="3168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56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 КЛАСС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лижайшими планетами к Земле являются Венера и Мар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одсчётам учёных полёт от Земли к Венере и обратно составит 505 дней, что на 139 дней дольше, чем на Марс и обратно. Сколько дней будет длиться полёт от Земли к Марсу и обрат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тавь пропущенные цифры и зна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37                 86*                73*             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4*3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2*6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**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8*                *97               *75                26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271200">
            <a:off x="899640" y="1484280"/>
            <a:ext cx="7272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</a:rPr>
              <a:t>«</a:t>
            </a:r>
            <a:r>
              <a:rPr b="1" lang="ru-RU" sz="4400" spc="-1" strike="noStrike" u="sng">
                <a:solidFill>
                  <a:srgbClr val="000099"/>
                </a:solidFill>
                <a:uFillTx/>
                <a:latin typeface="Times New Roman"/>
              </a:rPr>
              <a:t>Сложение и вычитание чисел в пределах 1000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(закрепление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0728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лишнее число в каждой группе:</a:t>
            </a: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6   53   458   27   99   31   52   48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0    100    542    700    900    20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48    460    752    340    76     95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54    246    927    400    299   76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920" y="4292280"/>
            <a:ext cx="8424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3-й строки в порядке возрастан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оложи числа 4-й строки в порядке убы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авн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78…374                           487…700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05…550                           673…637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07 – 136…470 – 1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19 – 38 … 719 - 3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353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цифру можно поставить вместо *, чтобы получилось верное неравенст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*4  &lt;  514              715  &gt;  7*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6   &gt; *06              628  &lt;  62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ределите, кто верно нашел значение суммы и значение разности, Маша    или Миш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58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Маша:            Миш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346                        +346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99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45                        13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889                        _889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67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22                          21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то допустил ошибки и в чем их причин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назывался космический корабль, на котором Ю.Гагарин совершил кругосветное путешествие по орби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13 + 18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36 – 2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81 + 11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99 – 23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9 + 17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03 – 28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13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10 лет (в 1971г.) была выведена на орбиту первая тяжелая орбитальная станция. Это был настоящий летающий дом, состоящий из нескольких комнат-отсеков, в которых свободно разместился экипаж из 3-х человек, проработавший в космосе почти месяц. Как называлась эта первая тяжелая орбитальная станц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0920" y="3429000"/>
            <a:ext cx="78454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18 – 4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71 + 6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87 – 3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03 – 4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43 + 6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4724280"/>
            <a:ext cx="770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55640" y="1981080"/>
          <a:ext cx="7702560" cy="2023920"/>
        </p:xfrm>
        <a:graphic>
          <a:graphicData uri="http://schemas.openxmlformats.org/drawingml/2006/table">
            <a:tbl>
              <a:tblPr/>
              <a:tblGrid>
                <a:gridCol w="963720"/>
                <a:gridCol w="961920"/>
                <a:gridCol w="963720"/>
                <a:gridCol w="961920"/>
                <a:gridCol w="963720"/>
                <a:gridCol w="961920"/>
                <a:gridCol w="963720"/>
                <a:gridCol w="961920"/>
              </a:tblGrid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01-12T20:23:26Z</dcterms:modified>
  <cp:revision>3</cp:revision>
  <dc:subject/>
  <dc:title>PowerPoint Presentation</dc:title>
</cp:coreProperties>
</file>