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14.jpeg" ContentType="image/jpeg"/>
  <Override PartName="/ppt/media/image8.png" ContentType="image/png"/>
  <Override PartName="/ppt/media/image10.gif" ContentType="image/gif"/>
  <Override PartName="/ppt/media/image1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43A3-FB08-48A3-A0F8-0065B9599A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CCD0-E273-4F24-94E1-EB533D41E4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8F5-1462-46F3-8553-FC6D51ED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4B9-D4E5-440F-A206-F7E7E552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7E5-D828-4B3D-99E0-0CE270EA3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6BF-B559-4652-AA3D-A53CE8FA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EBD0-1B4E-4597-9126-BF130DD3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1A60-3C5A-4D60-B6D1-3EB41A6F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6E8B-2418-4E65-9EDC-D3967771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03AB-C434-423E-8F49-47B4C2C5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E116-1446-4C3D-984B-8F5ED536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EE8B-C32B-46A0-9D91-35D434B4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EC46-92F8-4825-B1F4-5D679B3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F1F-A4A1-4F10-B683-063431C1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A3AD-E7A6-4A15-866D-0629CA25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4EB3-FD99-4B4B-A2B8-252FB2FE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A708-527C-46F6-BA3D-FC9762ED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93E0-504B-42AC-A340-5D6433ED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B543-DCEC-48C6-BDD6-EECA8B1D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8AE9-8C75-42C5-8AD3-76DF8145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9A60-B5C5-4FBB-A233-AB667D9D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E95F-DCB8-4DA8-8E3A-8BAE2009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2E88-0A45-44BB-A78F-692D606B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EE8F-AFC3-4D5D-9334-3369A42F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03D-9F35-4DBE-8AC2-E56FCB66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CCAC6-A0C9-4EFA-A7D7-5FC2E844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E951-4824-425F-9963-0B9D3282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60505-BDF7-4AEE-913D-E9CB6FE4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E670-8BE0-4100-A523-EC26AD4A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65A3-4C1F-4CAA-B23D-C59DFA52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CF69-6DC9-48EB-BFCA-AB83406F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DD97-ABA6-4E66-A616-9D21E3E5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70964-E8D7-4D88-A1C6-389DC10E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07724-576B-4321-A48D-3F4F3A67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AA0B-FB27-4583-8EE3-28D069BD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FE8-46A2-486D-8453-AE5819B5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D0CF0-84DD-4FEB-8F22-11A024DE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260EF-5918-47BE-B26A-D87F9A94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0B6FC-E594-4A4F-A809-1E733F1C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77B1-8E14-4227-A42E-2B6075DD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5B5F-A42B-4168-99C4-BE0EF933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4719-7C53-474E-A9BD-73701BFD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9971-6592-443A-98BC-E9586475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68E9A-0842-4E95-817B-0A6CE2E5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46918-D053-4854-B84A-7D62FAA1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63431-C044-4700-AEF0-BA668252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A85-D43D-4DA4-80D1-81C5B6ED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E17F9-6D6D-4322-86F3-A693ABAB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458DB-A48E-4B8E-B795-75817AC9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EDEB-DD1B-4042-BA69-2F984681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0789D-99E0-4661-BC05-252F6DC9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1ABEB-3979-4016-A557-AEDE899C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FDCC9-B03D-4D12-84C9-9D5C48ED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5165D-CCA9-49F4-A6B2-49B521EC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29603-088B-415C-9DE7-C96AE063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1A38-59CA-4150-92A3-41C7EA43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A1659-E515-4C14-9EF0-CEBB5D7F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977-7EA7-41C3-949A-702FCF09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E543C-F52F-45A5-B8D8-DF0CC9D1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D63-992B-4647-A83E-B2AA66E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F57-5FCC-48F0-AE8A-B31B4710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8D2-14F4-4A49-8E6A-C4B83852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39D5-8933-4C14-B0E8-1E724A489BF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9E6D-2C05-4080-AFB4-BCA4FF7A01D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8375-2B63-48C3-BF39-B4AF59575AF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4C03-2050-45E8-B292-6937FA7E91C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FA75-000C-437E-8DCB-ADAAD78DFE2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749160" y="615960"/>
            <a:ext cx="8060040" cy="1481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ATOMBGWHT"/>
          <p:cNvPicPr/>
          <p:nvPr/>
        </p:nvPicPr>
        <p:blipFill>
          <a:blip r:embed="rId2"/>
          <a:stretch/>
        </p:blipFill>
        <p:spPr>
          <a:xfrm>
            <a:off x="5253120" y="2421000"/>
            <a:ext cx="35622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9"/>
          <p:cNvSpPr/>
          <p:nvPr/>
        </p:nvSpPr>
        <p:spPr>
          <a:xfrm>
            <a:off x="2411280" y="404640"/>
            <a:ext cx="453708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+ О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Arial"/>
              </a:rPr>
              <a:t>2 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СО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+ Н</a:t>
            </a:r>
            <a:r>
              <a:rPr b="1" lang="ru-RU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1" lang="ru-RU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11"/>
          <p:cNvGrpSpPr/>
          <p:nvPr/>
        </p:nvGrpSpPr>
        <p:grpSpPr>
          <a:xfrm>
            <a:off x="250920" y="2421000"/>
            <a:ext cx="8642160" cy="1660680"/>
            <a:chOff x="250920" y="2421000"/>
            <a:chExt cx="8642160" cy="1660680"/>
          </a:xfrm>
        </p:grpSpPr>
        <p:sp>
          <p:nvSpPr>
            <p:cNvPr id="355" name="Text Box 2"/>
            <p:cNvSpPr/>
            <p:nvPr/>
          </p:nvSpPr>
          <p:spPr>
            <a:xfrm>
              <a:off x="250920" y="3500280"/>
              <a:ext cx="864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Неметалл </a:t>
              </a:r>
              <a:r>
                <a:rPr b="1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кислота оксиды </a:t>
              </a:r>
              <a:r>
                <a:rPr b="1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кисло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0"/>
            <p:cNvSpPr/>
            <p:nvPr/>
          </p:nvSpPr>
          <p:spPr>
            <a:xfrm>
              <a:off x="2411280" y="2421000"/>
              <a:ext cx="4537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C</a:t>
              </a:r>
              <a:r>
                <a:rPr b="1" lang="ru-RU" sz="36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ru-RU" sz="36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36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lang="ru-RU" sz="36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</a:t>
              </a:r>
              <a:r>
                <a:rPr b="1" lang="ru-RU" sz="36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H</a:t>
              </a:r>
              <a:r>
                <a:rPr b="1" lang="en-US" sz="36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lang="en-US" sz="36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3600" spc="-1" strike="noStrike" baseline="-25000">
                  <a:solidFill>
                    <a:srgbClr val="cc33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7"/>
          <p:cNvGrpSpPr/>
          <p:nvPr/>
        </p:nvGrpSpPr>
        <p:grpSpPr>
          <a:xfrm>
            <a:off x="395280" y="2133720"/>
            <a:ext cx="8424720" cy="1311120"/>
            <a:chOff x="395280" y="2133720"/>
            <a:chExt cx="8424720" cy="1311120"/>
          </a:xfrm>
        </p:grpSpPr>
        <p:sp>
          <p:nvSpPr>
            <p:cNvPr id="358" name="Text Box 2"/>
            <p:cNvSpPr/>
            <p:nvPr/>
          </p:nvSpPr>
          <p:spPr>
            <a:xfrm>
              <a:off x="395280" y="2924280"/>
              <a:ext cx="842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Металл 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нигез оксиды </a:t>
              </a:r>
              <a:r>
                <a:rPr b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ниге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4"/>
            <p:cNvSpPr/>
            <p:nvPr/>
          </p:nvSpPr>
          <p:spPr>
            <a:xfrm>
              <a:off x="900000" y="2133720"/>
              <a:ext cx="7201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3300"/>
                  </a:solidFill>
                  <a:latin typeface="Arial"/>
                </a:rPr>
                <a:t>Na</a:t>
              </a:r>
              <a:r>
                <a:rPr b="1" lang="ru-RU" sz="4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993300"/>
                  </a:solidFill>
                  <a:latin typeface="Symbol"/>
                  <a:ea typeface="Symbol"/>
                </a:rPr>
                <a:t></a:t>
              </a:r>
              <a:r>
                <a:rPr b="1" lang="ru-RU" sz="4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993300"/>
                  </a:solidFill>
                  <a:latin typeface="Arial"/>
                </a:rPr>
                <a:t>Na</a:t>
              </a:r>
              <a:r>
                <a:rPr b="1" lang="en-US" sz="4000" spc="-1" strike="noStrike" baseline="-25000">
                  <a:solidFill>
                    <a:srgbClr val="993300"/>
                  </a:solidFill>
                  <a:latin typeface="Arial"/>
                </a:rPr>
                <a:t>2</a:t>
              </a:r>
              <a:r>
                <a:rPr b="1" lang="en-US" sz="4000" spc="-1" strike="noStrike">
                  <a:solidFill>
                    <a:srgbClr val="993300"/>
                  </a:solidFill>
                  <a:latin typeface="Arial"/>
                </a:rPr>
                <a:t>O</a:t>
              </a:r>
              <a:r>
                <a:rPr b="1" lang="ru-RU" sz="4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ru-RU" sz="4000" spc="-1" strike="noStrike">
                  <a:solidFill>
                    <a:srgbClr val="993300"/>
                  </a:solidFill>
                  <a:latin typeface="Symbol"/>
                  <a:ea typeface="Symbol"/>
                </a:rPr>
                <a:t></a:t>
              </a:r>
              <a:r>
                <a:rPr b="1" lang="ru-RU" sz="4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993300"/>
                  </a:solidFill>
                  <a:latin typeface="Arial"/>
                </a:rPr>
                <a:t>Na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1187280" y="476280"/>
            <a:ext cx="72010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Na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+ O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Na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 + H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5"/>
          <p:cNvGrpSpPr/>
          <p:nvPr/>
        </p:nvGrpSpPr>
        <p:grpSpPr>
          <a:xfrm>
            <a:off x="468360" y="333360"/>
            <a:ext cx="8206920" cy="3453480"/>
            <a:chOff x="468360" y="333360"/>
            <a:chExt cx="8206920" cy="3453480"/>
          </a:xfrm>
        </p:grpSpPr>
        <p:cxnSp>
          <p:nvCxnSpPr>
            <p:cNvPr id="362" name="_s2052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663160" y="624600"/>
              <a:ext cx="691200" cy="2870280"/>
            </a:xfrm>
            <a:prstGeom prst="bentConnector3">
              <a:avLst>
                <a:gd name="adj1" fmla="val 164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2053"/>
            <p:cNvCxnSpPr>
              <a:stCxn id="366" idx="0"/>
              <a:endCxn id="364" idx="2"/>
            </p:cNvCxnSpPr>
            <p:nvPr/>
          </p:nvCxnSpPr>
          <p:spPr>
            <a:xfrm flipV="1">
              <a:off x="4573800" y="1714320"/>
              <a:ext cx="3240" cy="691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_s2054"/>
            <p:cNvCxnSpPr>
              <a:stCxn id="368" idx="0"/>
              <a:endCxn id="364" idx="2"/>
            </p:cNvCxnSpPr>
            <p:nvPr/>
          </p:nvCxnSpPr>
          <p:spPr>
            <a:xfrm flipH="1" flipV="1" rot="5400000">
              <a:off x="2791080" y="622080"/>
              <a:ext cx="691200" cy="2875320"/>
            </a:xfrm>
            <a:prstGeom prst="bentConnector3">
              <a:avLst>
                <a:gd name="adj1" fmla="val 164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4" name="_s2055"/>
            <p:cNvSpPr/>
            <p:nvPr/>
          </p:nvSpPr>
          <p:spPr>
            <a:xfrm>
              <a:off x="3340800" y="333360"/>
              <a:ext cx="2462040" cy="138132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имически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лемен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2056"/>
            <p:cNvSpPr/>
            <p:nvPr/>
          </p:nvSpPr>
          <p:spPr>
            <a:xfrm>
              <a:off x="468360" y="2405520"/>
              <a:ext cx="2462040" cy="138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металл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2057"/>
            <p:cNvSpPr/>
            <p:nvPr/>
          </p:nvSpPr>
          <p:spPr>
            <a:xfrm>
              <a:off x="3340800" y="2405520"/>
              <a:ext cx="2462040" cy="13813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900" spc="-1" strike="noStrike">
                  <a:solidFill>
                    <a:srgbClr val="cc3300"/>
                  </a:solidFill>
                  <a:latin typeface="Arial"/>
                </a:rPr>
                <a:t>?</a:t>
              </a:r>
              <a:endParaRPr b="0" lang="en-US" sz="8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2058"/>
            <p:cNvSpPr/>
            <p:nvPr/>
          </p:nvSpPr>
          <p:spPr>
            <a:xfrm>
              <a:off x="6213240" y="2405520"/>
              <a:ext cx="2462040" cy="1381320"/>
            </a:xfrm>
            <a:prstGeom prst="roundRect">
              <a:avLst>
                <a:gd name="adj" fmla="val 16667"/>
              </a:avLst>
            </a:prstGeom>
            <a:solidFill>
              <a:srgbClr val="f4e7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Arial"/>
                </a:rPr>
                <a:t>неметалл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2"/>
          <p:cNvSpPr/>
          <p:nvPr/>
        </p:nvSpPr>
        <p:spPr>
          <a:xfrm>
            <a:off x="3286080" y="4786200"/>
            <a:ext cx="307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Be   Al   </a:t>
            </a:r>
            <a:r>
              <a:rPr b="0" lang="en-US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Zn</a:t>
            </a:r>
            <a:r>
              <a:rPr b="0" lang="en-US" sz="4000" spc="-1" strike="noStrike">
                <a:solidFill>
                  <a:srgbClr val="0d0d0d"/>
                </a:solidFill>
                <a:latin typeface="Arial"/>
              </a:rPr>
              <a:t> Sn    Pb   Ge    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8"/>
          <p:cNvGrpSpPr/>
          <p:nvPr/>
        </p:nvGrpSpPr>
        <p:grpSpPr>
          <a:xfrm>
            <a:off x="611280" y="404640"/>
            <a:ext cx="7993080" cy="1727280"/>
            <a:chOff x="611280" y="404640"/>
            <a:chExt cx="7993080" cy="1727280"/>
          </a:xfrm>
        </p:grpSpPr>
        <p:grpSp>
          <p:nvGrpSpPr>
            <p:cNvPr id="371" name="Group 9"/>
            <p:cNvGrpSpPr/>
            <p:nvPr/>
          </p:nvGrpSpPr>
          <p:grpSpPr>
            <a:xfrm>
              <a:off x="611280" y="476280"/>
              <a:ext cx="1800360" cy="1589400"/>
              <a:chOff x="611280" y="476280"/>
              <a:chExt cx="1800360" cy="1589400"/>
            </a:xfrm>
          </p:grpSpPr>
          <p:sp>
            <p:nvSpPr>
              <p:cNvPr id="372" name="Text Box 4"/>
              <p:cNvSpPr/>
              <p:nvPr/>
            </p:nvSpPr>
            <p:spPr>
              <a:xfrm>
                <a:off x="611280" y="981000"/>
                <a:ext cx="7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Z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5"/>
              <p:cNvSpPr/>
              <p:nvPr/>
            </p:nvSpPr>
            <p:spPr>
              <a:xfrm>
                <a:off x="1474920" y="476280"/>
                <a:ext cx="86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6"/>
              <p:cNvSpPr/>
              <p:nvPr/>
            </p:nvSpPr>
            <p:spPr>
              <a:xfrm>
                <a:off x="1474920" y="148428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7"/>
              <p:cNvSpPr/>
              <p:nvPr/>
            </p:nvSpPr>
            <p:spPr>
              <a:xfrm flipV="1">
                <a:off x="1187640" y="907560"/>
                <a:ext cx="35892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8"/>
              <p:cNvSpPr/>
              <p:nvPr/>
            </p:nvSpPr>
            <p:spPr>
              <a:xfrm flipH="1" flipV="1">
                <a:off x="1187280" y="1339920"/>
                <a:ext cx="358920" cy="28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 Box 11"/>
            <p:cNvSpPr/>
            <p:nvPr/>
          </p:nvSpPr>
          <p:spPr>
            <a:xfrm>
              <a:off x="2338560" y="90792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20"/>
            <p:cNvGrpSpPr/>
            <p:nvPr/>
          </p:nvGrpSpPr>
          <p:grpSpPr>
            <a:xfrm>
              <a:off x="3275280" y="476280"/>
              <a:ext cx="1944720" cy="581400"/>
              <a:chOff x="3275280" y="476280"/>
              <a:chExt cx="1944720" cy="581400"/>
            </a:xfrm>
          </p:grpSpPr>
          <p:sp>
            <p:nvSpPr>
              <p:cNvPr id="379" name="Text Box 12"/>
              <p:cNvSpPr/>
              <p:nvPr/>
            </p:nvSpPr>
            <p:spPr>
              <a:xfrm>
                <a:off x="3275280" y="476280"/>
                <a:ext cx="865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6"/>
              <p:cNvSpPr/>
              <p:nvPr/>
            </p:nvSpPr>
            <p:spPr>
              <a:xfrm>
                <a:off x="3778560" y="76500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8"/>
              <p:cNvSpPr/>
              <p:nvPr/>
            </p:nvSpPr>
            <p:spPr>
              <a:xfrm>
                <a:off x="4354560" y="476280"/>
                <a:ext cx="86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1"/>
            <p:cNvGrpSpPr/>
            <p:nvPr/>
          </p:nvGrpSpPr>
          <p:grpSpPr>
            <a:xfrm>
              <a:off x="3275280" y="1484280"/>
              <a:ext cx="1944720" cy="581400"/>
              <a:chOff x="3275280" y="1484280"/>
              <a:chExt cx="1944720" cy="581400"/>
            </a:xfrm>
          </p:grpSpPr>
          <p:sp>
            <p:nvSpPr>
              <p:cNvPr id="383" name="Text Box 13"/>
              <p:cNvSpPr/>
              <p:nvPr/>
            </p:nvSpPr>
            <p:spPr>
              <a:xfrm>
                <a:off x="3275280" y="1484280"/>
                <a:ext cx="93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7"/>
              <p:cNvSpPr/>
              <p:nvPr/>
            </p:nvSpPr>
            <p:spPr>
              <a:xfrm>
                <a:off x="3778560" y="177300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9"/>
              <p:cNvSpPr/>
              <p:nvPr/>
            </p:nvSpPr>
            <p:spPr>
              <a:xfrm>
                <a:off x="4354560" y="1484280"/>
                <a:ext cx="86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Rectangle 22"/>
            <p:cNvSpPr/>
            <p:nvPr/>
          </p:nvSpPr>
          <p:spPr>
            <a:xfrm>
              <a:off x="1403640" y="404640"/>
              <a:ext cx="2663640" cy="17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3"/>
            <p:cNvSpPr/>
            <p:nvPr/>
          </p:nvSpPr>
          <p:spPr>
            <a:xfrm>
              <a:off x="5004000" y="119700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5867640" y="981000"/>
              <a:ext cx="2736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ZnC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2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29"/>
          <p:cNvSpPr/>
          <p:nvPr/>
        </p:nvSpPr>
        <p:spPr>
          <a:xfrm>
            <a:off x="179280" y="24098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цинк гидр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0"/>
          <p:cNvSpPr/>
          <p:nvPr/>
        </p:nvSpPr>
        <p:spPr>
          <a:xfrm>
            <a:off x="2916360" y="2421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хлорид кислот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59"/>
          <p:cNvGrpSpPr/>
          <p:nvPr/>
        </p:nvGrpSpPr>
        <p:grpSpPr>
          <a:xfrm>
            <a:off x="324000" y="3068640"/>
            <a:ext cx="8820000" cy="1727280"/>
            <a:chOff x="324000" y="3068640"/>
            <a:chExt cx="8820000" cy="1727280"/>
          </a:xfrm>
        </p:grpSpPr>
        <p:grpSp>
          <p:nvGrpSpPr>
            <p:cNvPr id="392" name="Group 57"/>
            <p:cNvGrpSpPr/>
            <p:nvPr/>
          </p:nvGrpSpPr>
          <p:grpSpPr>
            <a:xfrm>
              <a:off x="324000" y="3068640"/>
              <a:ext cx="8820000" cy="1727280"/>
              <a:chOff x="324000" y="3068640"/>
              <a:chExt cx="8820000" cy="1727280"/>
            </a:xfrm>
          </p:grpSpPr>
          <p:sp>
            <p:nvSpPr>
              <p:cNvPr id="393" name="Text Box 38"/>
              <p:cNvSpPr/>
              <p:nvPr/>
            </p:nvSpPr>
            <p:spPr>
              <a:xfrm>
                <a:off x="1979640" y="3645000"/>
                <a:ext cx="719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Group 50"/>
              <p:cNvGrpSpPr/>
              <p:nvPr/>
            </p:nvGrpSpPr>
            <p:grpSpPr>
              <a:xfrm>
                <a:off x="324000" y="3213000"/>
                <a:ext cx="1944000" cy="581400"/>
                <a:chOff x="324000" y="3213000"/>
                <a:chExt cx="1944000" cy="581400"/>
              </a:xfrm>
            </p:grpSpPr>
            <p:sp>
              <p:nvSpPr>
                <p:cNvPr id="395" name="Text Box 40"/>
                <p:cNvSpPr/>
                <p:nvPr/>
              </p:nvSpPr>
              <p:spPr>
                <a:xfrm>
                  <a:off x="324000" y="3213000"/>
                  <a:ext cx="86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N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41"/>
                <p:cNvSpPr/>
                <p:nvPr/>
              </p:nvSpPr>
              <p:spPr>
                <a:xfrm>
                  <a:off x="1042560" y="3500280"/>
                  <a:ext cx="3600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42"/>
                <p:cNvSpPr/>
                <p:nvPr/>
              </p:nvSpPr>
              <p:spPr>
                <a:xfrm>
                  <a:off x="1402920" y="3213000"/>
                  <a:ext cx="865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OH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8" name="Rectangle 47"/>
              <p:cNvSpPr/>
              <p:nvPr/>
            </p:nvSpPr>
            <p:spPr>
              <a:xfrm>
                <a:off x="1258920" y="3068640"/>
                <a:ext cx="1944720" cy="172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48"/>
              <p:cNvSpPr/>
              <p:nvPr/>
            </p:nvSpPr>
            <p:spPr>
              <a:xfrm>
                <a:off x="4859280" y="3933720"/>
                <a:ext cx="79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49"/>
              <p:cNvSpPr/>
              <p:nvPr/>
            </p:nvSpPr>
            <p:spPr>
              <a:xfrm>
                <a:off x="5651640" y="3645000"/>
                <a:ext cx="3492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Na</a:t>
                </a:r>
                <a:r>
                  <a:rPr b="1" lang="en-US" sz="3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ZnO</a:t>
                </a:r>
                <a:r>
                  <a:rPr b="1" lang="en-US" sz="3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 + 2H</a:t>
                </a:r>
                <a:r>
                  <a:rPr b="1" lang="en-US" sz="3200" spc="-1" strike="noStrike" baseline="-25000">
                    <a:solidFill>
                      <a:srgbClr val="0000ff"/>
                    </a:solidFill>
                    <a:latin typeface="Arial"/>
                  </a:rPr>
                  <a:t>2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Group 51"/>
              <p:cNvGrpSpPr/>
              <p:nvPr/>
            </p:nvGrpSpPr>
            <p:grpSpPr>
              <a:xfrm>
                <a:off x="324000" y="4076640"/>
                <a:ext cx="1944000" cy="581400"/>
                <a:chOff x="324000" y="4076640"/>
                <a:chExt cx="1944000" cy="581400"/>
              </a:xfrm>
            </p:grpSpPr>
            <p:sp>
              <p:nvSpPr>
                <p:cNvPr id="402" name="Text Box 52"/>
                <p:cNvSpPr/>
                <p:nvPr/>
              </p:nvSpPr>
              <p:spPr>
                <a:xfrm>
                  <a:off x="324000" y="4076640"/>
                  <a:ext cx="864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N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3"/>
                <p:cNvSpPr/>
                <p:nvPr/>
              </p:nvSpPr>
              <p:spPr>
                <a:xfrm>
                  <a:off x="1042560" y="4363920"/>
                  <a:ext cx="36000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54"/>
                <p:cNvSpPr/>
                <p:nvPr/>
              </p:nvSpPr>
              <p:spPr>
                <a:xfrm>
                  <a:off x="1402920" y="4076640"/>
                  <a:ext cx="865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OH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56"/>
              <p:cNvGrpSpPr/>
              <p:nvPr/>
            </p:nvGrpSpPr>
            <p:grpSpPr>
              <a:xfrm>
                <a:off x="2268360" y="3213000"/>
                <a:ext cx="2592360" cy="1445040"/>
                <a:chOff x="2268360" y="3213000"/>
                <a:chExt cx="2592360" cy="1445040"/>
              </a:xfrm>
            </p:grpSpPr>
            <p:sp>
              <p:nvSpPr>
                <p:cNvPr id="406" name="Text Box 33"/>
                <p:cNvSpPr/>
                <p:nvPr/>
              </p:nvSpPr>
              <p:spPr>
                <a:xfrm>
                  <a:off x="4141440" y="3646440"/>
                  <a:ext cx="719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Zn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34"/>
                <p:cNvSpPr/>
                <p:nvPr/>
              </p:nvSpPr>
              <p:spPr>
                <a:xfrm>
                  <a:off x="2268360" y="3213000"/>
                  <a:ext cx="1512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H – O 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36"/>
                <p:cNvSpPr/>
                <p:nvPr/>
              </p:nvSpPr>
              <p:spPr>
                <a:xfrm flipH="1" flipV="1">
                  <a:off x="3780720" y="3501360"/>
                  <a:ext cx="358920" cy="289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7"/>
                <p:cNvSpPr/>
                <p:nvPr/>
              </p:nvSpPr>
              <p:spPr>
                <a:xfrm flipV="1">
                  <a:off x="3781080" y="4004640"/>
                  <a:ext cx="358920" cy="28908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Text Box 55"/>
                <p:cNvSpPr/>
                <p:nvPr/>
              </p:nvSpPr>
              <p:spPr>
                <a:xfrm>
                  <a:off x="2268360" y="4076640"/>
                  <a:ext cx="1512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ff"/>
                      </a:solidFill>
                      <a:latin typeface="Arial"/>
                    </a:rPr>
                    <a:t>H – O 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1" name="Text Box 58"/>
            <p:cNvSpPr/>
            <p:nvPr/>
          </p:nvSpPr>
          <p:spPr>
            <a:xfrm>
              <a:off x="5219640" y="436572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Натрий цинка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5"/>
          <p:cNvGrpSpPr/>
          <p:nvPr/>
        </p:nvGrpSpPr>
        <p:grpSpPr>
          <a:xfrm>
            <a:off x="1042920" y="620640"/>
            <a:ext cx="7056360" cy="1291680"/>
            <a:chOff x="1042920" y="620640"/>
            <a:chExt cx="7056360" cy="1291680"/>
          </a:xfrm>
        </p:grpSpPr>
        <p:sp>
          <p:nvSpPr>
            <p:cNvPr id="413" name="Text Box 20"/>
            <p:cNvSpPr/>
            <p:nvPr/>
          </p:nvSpPr>
          <p:spPr>
            <a:xfrm>
              <a:off x="1042920" y="620640"/>
              <a:ext cx="705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ZnO + 2HCl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ZnCl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1763280" y="1269720"/>
              <a:ext cx="129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цинк окси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3058920" y="1269720"/>
              <a:ext cx="143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хлорид кислота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4"/>
            <p:cNvSpPr/>
            <p:nvPr/>
          </p:nvSpPr>
          <p:spPr>
            <a:xfrm>
              <a:off x="4643280" y="126972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цинк хлори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47"/>
          <p:cNvSpPr/>
          <p:nvPr/>
        </p:nvSpPr>
        <p:spPr>
          <a:xfrm>
            <a:off x="1116000" y="2708280"/>
            <a:ext cx="70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nO + 2NaOH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n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8"/>
          <p:cNvSpPr/>
          <p:nvPr/>
        </p:nvSpPr>
        <p:spPr>
          <a:xfrm>
            <a:off x="1403280" y="33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Цинк окси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9"/>
          <p:cNvSpPr/>
          <p:nvPr/>
        </p:nvSpPr>
        <p:spPr>
          <a:xfrm>
            <a:off x="2916360" y="3357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атрий гидрокс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0"/>
          <p:cNvSpPr/>
          <p:nvPr/>
        </p:nvSpPr>
        <p:spPr>
          <a:xfrm>
            <a:off x="4716360" y="33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натрий цин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1"/>
          <p:cNvSpPr/>
          <p:nvPr/>
        </p:nvSpPr>
        <p:spPr>
          <a:xfrm>
            <a:off x="2700360" y="260280"/>
            <a:ext cx="619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лл үзлеген дә кислота үзлеген дә  күрсәтүчеләр </a:t>
            </a: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амфотерл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. греч. «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амфотер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-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кесе д</a:t>
            </a:r>
            <a:r>
              <a:rPr b="0" lang="tt-RU" sz="2000" spc="-1" strike="noStrike">
                <a:solidFill>
                  <a:srgbClr val="0000ff"/>
                </a:solidFill>
                <a:latin typeface="Arial"/>
              </a:rPr>
              <a:t>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"/>
          <p:cNvPicPr/>
          <p:nvPr/>
        </p:nvPicPr>
        <p:blipFill>
          <a:blip r:embed="rId1">
            <a:lum bright="6000"/>
          </a:blip>
          <a:srcRect l="5663" t="6977" r="14463" b="35676"/>
          <a:stretch/>
        </p:blipFill>
        <p:spPr>
          <a:xfrm>
            <a:off x="324000" y="189000"/>
            <a:ext cx="2197080" cy="25905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423" name="Text Box 13"/>
          <p:cNvSpPr/>
          <p:nvPr/>
        </p:nvSpPr>
        <p:spPr>
          <a:xfrm>
            <a:off x="2987640" y="2060640"/>
            <a:ext cx="53294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O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Zn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O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bO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b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250920" y="404640"/>
            <a:ext cx="86421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714680"/>
            <a:ext cx="792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Ре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я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тигезләмәләрен яза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люминий  оксиды+ сульфат кислотасы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үкертнең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I)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ксиды +  калий гидроксиды 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ff"/>
                </a:solidFill>
                <a:latin typeface="Arial"/>
              </a:rPr>
              <a:t>Натрий оксиды + су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акыр хлориды +селте </a:t>
            </a:r>
            <a:r>
              <a:rPr b="1" lang="ru-RU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179280" y="189000"/>
          <a:ext cx="8785440" cy="5422680"/>
        </p:xfrm>
        <a:graphic>
          <a:graphicData uri="http://schemas.openxmlformats.org/drawingml/2006/table">
            <a:tbl>
              <a:tblPr/>
              <a:tblGrid>
                <a:gridCol w="1079640"/>
                <a:gridCol w="1598760"/>
                <a:gridCol w="1377720"/>
                <a:gridCol w="1301760"/>
                <a:gridCol w="1225440"/>
                <a:gridCol w="1121040"/>
                <a:gridCol w="10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(OH)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(OH)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(OH)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490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2711880" y="571680"/>
            <a:ext cx="21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c00000"/>
                </a:solidFill>
                <a:latin typeface="Garamond"/>
              </a:rPr>
              <a:t>   </a:t>
            </a:r>
            <a:r>
              <a:rPr b="0" lang="tt-RU" sz="3200" spc="-1" strike="noStrike">
                <a:solidFill>
                  <a:srgbClr val="c00000"/>
                </a:solidFill>
                <a:latin typeface="Garamond"/>
              </a:rPr>
              <a:t>ӨЙ Э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"/>
          <p:cNvSpPr/>
          <p:nvPr/>
        </p:nvSpPr>
        <p:spPr>
          <a:xfrm>
            <a:off x="1025280" y="157176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нетик бәйләнеш тигезләмәләрне чишәрг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1666800" y="2357280"/>
            <a:ext cx="53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 - нигез оксиды- нигез- т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1391760" y="3071880"/>
            <a:ext cx="64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талл- кислота оксиды- кислота- то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5303880" cy="878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000" y="1341360"/>
            <a:ext cx="504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Trebuchet MS"/>
              </a:rPr>
              <a:t>Алхимиклар фикеренчә урта гасырларда планеталар санынча  барлыгы җиде элемент булган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2"/>
          <a:srcRect l="0" t="0" r="0" b="15392"/>
          <a:stretch/>
        </p:blipFill>
        <p:spPr>
          <a:xfrm>
            <a:off x="5580000" y="260280"/>
            <a:ext cx="3363840" cy="316728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5"/>
          <p:cNvGrpSpPr/>
          <p:nvPr/>
        </p:nvGrpSpPr>
        <p:grpSpPr>
          <a:xfrm>
            <a:off x="468360" y="2924280"/>
            <a:ext cx="8351640" cy="3095640"/>
            <a:chOff x="468360" y="2924280"/>
            <a:chExt cx="8351640" cy="3095640"/>
          </a:xfrm>
        </p:grpSpPr>
        <p:grpSp>
          <p:nvGrpSpPr>
            <p:cNvPr id="233" name="Group 10"/>
            <p:cNvGrpSpPr/>
            <p:nvPr/>
          </p:nvGrpSpPr>
          <p:grpSpPr>
            <a:xfrm>
              <a:off x="468360" y="2924280"/>
              <a:ext cx="1871640" cy="934920"/>
              <a:chOff x="468360" y="2924280"/>
              <a:chExt cx="1871640" cy="934920"/>
            </a:xfrm>
          </p:grpSpPr>
          <p:sp>
            <p:nvSpPr>
              <p:cNvPr id="234" name="Rectangle 6"/>
              <p:cNvSpPr/>
              <p:nvPr/>
            </p:nvSpPr>
            <p:spPr>
              <a:xfrm>
                <a:off x="468360" y="2924280"/>
                <a:ext cx="1871640" cy="9349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7"/>
              <p:cNvSpPr/>
              <p:nvPr/>
            </p:nvSpPr>
            <p:spPr>
              <a:xfrm>
                <a:off x="468360" y="2924280"/>
                <a:ext cx="607680" cy="4597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7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8"/>
              <p:cNvSpPr/>
              <p:nvPr/>
            </p:nvSpPr>
            <p:spPr>
              <a:xfrm>
                <a:off x="890280" y="2995200"/>
                <a:ext cx="1027440" cy="825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Au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1"/>
            <p:cNvGrpSpPr/>
            <p:nvPr/>
          </p:nvGrpSpPr>
          <p:grpSpPr>
            <a:xfrm>
              <a:off x="1258920" y="4005360"/>
              <a:ext cx="1871640" cy="934920"/>
              <a:chOff x="1258920" y="4005360"/>
              <a:chExt cx="1871640" cy="934920"/>
            </a:xfrm>
          </p:grpSpPr>
          <p:sp>
            <p:nvSpPr>
              <p:cNvPr id="238" name="Rectangle 12"/>
              <p:cNvSpPr/>
              <p:nvPr/>
            </p:nvSpPr>
            <p:spPr>
              <a:xfrm>
                <a:off x="1258920" y="4005360"/>
                <a:ext cx="1871640" cy="934920"/>
              </a:xfrm>
              <a:prstGeom prst="rect">
                <a:avLst/>
              </a:prstGeom>
              <a:solidFill>
                <a:srgbClr val="ac66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1258920" y="4005360"/>
                <a:ext cx="607680" cy="459720"/>
              </a:xfrm>
              <a:prstGeom prst="rect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4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14"/>
              <p:cNvSpPr/>
              <p:nvPr/>
            </p:nvSpPr>
            <p:spPr>
              <a:xfrm>
                <a:off x="1680840" y="4076280"/>
                <a:ext cx="1027440" cy="825120"/>
              </a:xfrm>
              <a:prstGeom prst="rect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Ag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5"/>
            <p:cNvGrpSpPr/>
            <p:nvPr/>
          </p:nvGrpSpPr>
          <p:grpSpPr>
            <a:xfrm>
              <a:off x="2340000" y="5084640"/>
              <a:ext cx="1871640" cy="935280"/>
              <a:chOff x="2340000" y="5084640"/>
              <a:chExt cx="1871640" cy="935280"/>
            </a:xfrm>
          </p:grpSpPr>
          <p:sp>
            <p:nvSpPr>
              <p:cNvPr id="242" name="Rectangle 16"/>
              <p:cNvSpPr/>
              <p:nvPr/>
            </p:nvSpPr>
            <p:spPr>
              <a:xfrm>
                <a:off x="2340000" y="5084640"/>
                <a:ext cx="1871640" cy="935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2340000" y="5084640"/>
                <a:ext cx="60768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18"/>
              <p:cNvSpPr/>
              <p:nvPr/>
            </p:nvSpPr>
            <p:spPr>
              <a:xfrm>
                <a:off x="2761920" y="5155560"/>
                <a:ext cx="1027440" cy="8251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Cu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9"/>
            <p:cNvGrpSpPr/>
            <p:nvPr/>
          </p:nvGrpSpPr>
          <p:grpSpPr>
            <a:xfrm>
              <a:off x="3419640" y="2924280"/>
              <a:ext cx="1871640" cy="934920"/>
              <a:chOff x="3419640" y="2924280"/>
              <a:chExt cx="1871640" cy="934920"/>
            </a:xfrm>
          </p:grpSpPr>
          <p:sp>
            <p:nvSpPr>
              <p:cNvPr id="246" name="Rectangle 20"/>
              <p:cNvSpPr/>
              <p:nvPr/>
            </p:nvSpPr>
            <p:spPr>
              <a:xfrm>
                <a:off x="3419640" y="2924280"/>
                <a:ext cx="1871640" cy="93492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3419640" y="2924280"/>
                <a:ext cx="607680" cy="4597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3841560" y="2995200"/>
                <a:ext cx="1027440" cy="8251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Pt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23"/>
            <p:cNvGrpSpPr/>
            <p:nvPr/>
          </p:nvGrpSpPr>
          <p:grpSpPr>
            <a:xfrm>
              <a:off x="4140360" y="3933720"/>
              <a:ext cx="1871640" cy="935280"/>
              <a:chOff x="4140360" y="3933720"/>
              <a:chExt cx="1871640" cy="935280"/>
            </a:xfrm>
          </p:grpSpPr>
          <p:sp>
            <p:nvSpPr>
              <p:cNvPr id="250" name="Rectangle 24"/>
              <p:cNvSpPr/>
              <p:nvPr/>
            </p:nvSpPr>
            <p:spPr>
              <a:xfrm>
                <a:off x="4140360" y="3933720"/>
                <a:ext cx="1871640" cy="935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4140360" y="3933720"/>
                <a:ext cx="607680" cy="459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26"/>
              <p:cNvSpPr/>
              <p:nvPr/>
            </p:nvSpPr>
            <p:spPr>
              <a:xfrm>
                <a:off x="4562280" y="4004640"/>
                <a:ext cx="1027440" cy="825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Sn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27"/>
            <p:cNvGrpSpPr/>
            <p:nvPr/>
          </p:nvGrpSpPr>
          <p:grpSpPr>
            <a:xfrm>
              <a:off x="5148360" y="5013360"/>
              <a:ext cx="1871640" cy="934920"/>
              <a:chOff x="5148360" y="5013360"/>
              <a:chExt cx="1871640" cy="934920"/>
            </a:xfrm>
          </p:grpSpPr>
          <p:sp>
            <p:nvSpPr>
              <p:cNvPr id="254" name="Rectangle 28"/>
              <p:cNvSpPr/>
              <p:nvPr/>
            </p:nvSpPr>
            <p:spPr>
              <a:xfrm>
                <a:off x="5148360" y="5013360"/>
                <a:ext cx="1871640" cy="9349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29"/>
              <p:cNvSpPr/>
              <p:nvPr/>
            </p:nvSpPr>
            <p:spPr>
              <a:xfrm>
                <a:off x="5148360" y="5013360"/>
                <a:ext cx="607680" cy="45972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0"/>
              <p:cNvSpPr/>
              <p:nvPr/>
            </p:nvSpPr>
            <p:spPr>
              <a:xfrm>
                <a:off x="5570280" y="5084280"/>
                <a:ext cx="1027440" cy="82512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Hg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31"/>
            <p:cNvGrpSpPr/>
            <p:nvPr/>
          </p:nvGrpSpPr>
          <p:grpSpPr>
            <a:xfrm>
              <a:off x="6948360" y="3933720"/>
              <a:ext cx="1871640" cy="935280"/>
              <a:chOff x="6948360" y="3933720"/>
              <a:chExt cx="1871640" cy="935280"/>
            </a:xfrm>
          </p:grpSpPr>
          <p:sp>
            <p:nvSpPr>
              <p:cNvPr id="258" name="Rectangle 32"/>
              <p:cNvSpPr/>
              <p:nvPr/>
            </p:nvSpPr>
            <p:spPr>
              <a:xfrm>
                <a:off x="6948360" y="3933720"/>
                <a:ext cx="1871640" cy="9352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33"/>
              <p:cNvSpPr/>
              <p:nvPr/>
            </p:nvSpPr>
            <p:spPr>
              <a:xfrm>
                <a:off x="6948360" y="3933720"/>
                <a:ext cx="607680" cy="45972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34"/>
              <p:cNvSpPr/>
              <p:nvPr/>
            </p:nvSpPr>
            <p:spPr>
              <a:xfrm>
                <a:off x="7370280" y="4004640"/>
                <a:ext cx="1027440" cy="82512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F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421488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XVIII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гасырда барлыгы 40 лап элемент билгеле булса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бүгенге көнгә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118  </a:t>
            </a: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билгел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500040" y="300024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 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ырга кадәр бары тик 13 химик элемент кына билгеле булган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255600" y="4925880"/>
            <a:ext cx="8437680" cy="7257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rebuchet MS"/>
              </a:rPr>
              <a:t>Кеше организмында 70ләп элемент бар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1214280" y="2143080"/>
            <a:ext cx="7056360" cy="2303280"/>
            <a:chOff x="1214280" y="2143080"/>
            <a:chExt cx="7056360" cy="2303280"/>
          </a:xfrm>
        </p:grpSpPr>
        <p:grpSp>
          <p:nvGrpSpPr>
            <p:cNvPr id="267" name="Group 4"/>
            <p:cNvGrpSpPr/>
            <p:nvPr/>
          </p:nvGrpSpPr>
          <p:grpSpPr>
            <a:xfrm>
              <a:off x="1214280" y="2143080"/>
              <a:ext cx="1871640" cy="934920"/>
              <a:chOff x="1214280" y="2143080"/>
              <a:chExt cx="1871640" cy="934920"/>
            </a:xfrm>
          </p:grpSpPr>
          <p:sp>
            <p:nvSpPr>
              <p:cNvPr id="268" name="Rectangle 5"/>
              <p:cNvSpPr/>
              <p:nvPr/>
            </p:nvSpPr>
            <p:spPr>
              <a:xfrm>
                <a:off x="1214280" y="2143080"/>
                <a:ext cx="1871640" cy="9349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6"/>
              <p:cNvSpPr/>
              <p:nvPr/>
            </p:nvSpPr>
            <p:spPr>
              <a:xfrm>
                <a:off x="1214280" y="2143080"/>
                <a:ext cx="607680" cy="4597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7"/>
              <p:cNvSpPr/>
              <p:nvPr/>
            </p:nvSpPr>
            <p:spPr>
              <a:xfrm>
                <a:off x="1636200" y="2214000"/>
                <a:ext cx="1027440" cy="825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8"/>
            <p:cNvGrpSpPr/>
            <p:nvPr/>
          </p:nvGrpSpPr>
          <p:grpSpPr>
            <a:xfrm>
              <a:off x="4525560" y="2143080"/>
              <a:ext cx="1872000" cy="934920"/>
              <a:chOff x="4525560" y="2143080"/>
              <a:chExt cx="1872000" cy="934920"/>
            </a:xfrm>
          </p:grpSpPr>
          <p:sp>
            <p:nvSpPr>
              <p:cNvPr id="272" name="Rectangle 9"/>
              <p:cNvSpPr/>
              <p:nvPr/>
            </p:nvSpPr>
            <p:spPr>
              <a:xfrm>
                <a:off x="4525560" y="2143080"/>
                <a:ext cx="1872000" cy="934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10"/>
              <p:cNvSpPr/>
              <p:nvPr/>
            </p:nvSpPr>
            <p:spPr>
              <a:xfrm>
                <a:off x="4525560" y="2143080"/>
                <a:ext cx="607680" cy="459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11"/>
              <p:cNvSpPr/>
              <p:nvPr/>
            </p:nvSpPr>
            <p:spPr>
              <a:xfrm>
                <a:off x="4947480" y="2214000"/>
                <a:ext cx="1027440" cy="825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Group 12"/>
            <p:cNvGrpSpPr/>
            <p:nvPr/>
          </p:nvGrpSpPr>
          <p:grpSpPr>
            <a:xfrm>
              <a:off x="6399000" y="3439800"/>
              <a:ext cx="1871640" cy="935280"/>
              <a:chOff x="6399000" y="3439800"/>
              <a:chExt cx="1871640" cy="935280"/>
            </a:xfrm>
          </p:grpSpPr>
          <p:sp>
            <p:nvSpPr>
              <p:cNvPr id="276" name="Rectangle 13"/>
              <p:cNvSpPr/>
              <p:nvPr/>
            </p:nvSpPr>
            <p:spPr>
              <a:xfrm>
                <a:off x="6399000" y="3439800"/>
                <a:ext cx="1871640" cy="93528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14"/>
              <p:cNvSpPr/>
              <p:nvPr/>
            </p:nvSpPr>
            <p:spPr>
              <a:xfrm>
                <a:off x="6399000" y="3439800"/>
                <a:ext cx="607680" cy="4597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5"/>
              <p:cNvSpPr/>
              <p:nvPr/>
            </p:nvSpPr>
            <p:spPr>
              <a:xfrm>
                <a:off x="6820920" y="3510720"/>
                <a:ext cx="1027440" cy="8251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6"/>
            <p:cNvGrpSpPr/>
            <p:nvPr/>
          </p:nvGrpSpPr>
          <p:grpSpPr>
            <a:xfrm>
              <a:off x="3301920" y="3511440"/>
              <a:ext cx="1871640" cy="934920"/>
              <a:chOff x="3301920" y="3511440"/>
              <a:chExt cx="1871640" cy="934920"/>
            </a:xfrm>
          </p:grpSpPr>
          <p:sp>
            <p:nvSpPr>
              <p:cNvPr id="280" name="Rectangle 17"/>
              <p:cNvSpPr/>
              <p:nvPr/>
            </p:nvSpPr>
            <p:spPr>
              <a:xfrm>
                <a:off x="3301920" y="3511440"/>
                <a:ext cx="1871640" cy="934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8"/>
              <p:cNvSpPr/>
              <p:nvPr/>
            </p:nvSpPr>
            <p:spPr>
              <a:xfrm>
                <a:off x="3301920" y="3511440"/>
                <a:ext cx="60768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9"/>
              <p:cNvSpPr/>
              <p:nvPr/>
            </p:nvSpPr>
            <p:spPr>
              <a:xfrm>
                <a:off x="3723840" y="3582360"/>
                <a:ext cx="1027440" cy="8251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182520" y="-6480"/>
            <a:ext cx="7493040" cy="1013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571680" y="1000080"/>
            <a:ext cx="81151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 электр лампочк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җитештерү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чен 7 төрле элемент кирәк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792000" y="2000160"/>
            <a:ext cx="8351640" cy="3095640"/>
            <a:chOff x="792000" y="2000160"/>
            <a:chExt cx="8351640" cy="3095640"/>
          </a:xfrm>
        </p:grpSpPr>
        <p:grpSp>
          <p:nvGrpSpPr>
            <p:cNvPr id="286" name="Group 5"/>
            <p:cNvGrpSpPr/>
            <p:nvPr/>
          </p:nvGrpSpPr>
          <p:grpSpPr>
            <a:xfrm>
              <a:off x="792000" y="2000160"/>
              <a:ext cx="1871640" cy="934920"/>
              <a:chOff x="792000" y="2000160"/>
              <a:chExt cx="1871640" cy="934920"/>
            </a:xfrm>
          </p:grpSpPr>
          <p:sp>
            <p:nvSpPr>
              <p:cNvPr id="287" name="Rectangle 6"/>
              <p:cNvSpPr/>
              <p:nvPr/>
            </p:nvSpPr>
            <p:spPr>
              <a:xfrm>
                <a:off x="792000" y="2000160"/>
                <a:ext cx="1871640" cy="9349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7"/>
              <p:cNvSpPr/>
              <p:nvPr/>
            </p:nvSpPr>
            <p:spPr>
              <a:xfrm>
                <a:off x="792000" y="2000160"/>
                <a:ext cx="607680" cy="4597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8"/>
              <p:cNvSpPr/>
              <p:nvPr/>
            </p:nvSpPr>
            <p:spPr>
              <a:xfrm>
                <a:off x="1213920" y="2071080"/>
                <a:ext cx="1027440" cy="825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Zn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9"/>
            <p:cNvGrpSpPr/>
            <p:nvPr/>
          </p:nvGrpSpPr>
          <p:grpSpPr>
            <a:xfrm>
              <a:off x="1582560" y="3081240"/>
              <a:ext cx="1871640" cy="934920"/>
              <a:chOff x="1582560" y="3081240"/>
              <a:chExt cx="1871640" cy="934920"/>
            </a:xfrm>
          </p:grpSpPr>
          <p:sp>
            <p:nvSpPr>
              <p:cNvPr id="291" name="Rectangle 10"/>
              <p:cNvSpPr/>
              <p:nvPr/>
            </p:nvSpPr>
            <p:spPr>
              <a:xfrm>
                <a:off x="1582560" y="3081240"/>
                <a:ext cx="1871640" cy="934920"/>
              </a:xfrm>
              <a:prstGeom prst="rect">
                <a:avLst/>
              </a:prstGeom>
              <a:solidFill>
                <a:srgbClr val="ac66b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1"/>
              <p:cNvSpPr/>
              <p:nvPr/>
            </p:nvSpPr>
            <p:spPr>
              <a:xfrm>
                <a:off x="1582560" y="3081240"/>
                <a:ext cx="607680" cy="459720"/>
              </a:xfrm>
              <a:prstGeom prst="rect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12"/>
              <p:cNvSpPr/>
              <p:nvPr/>
            </p:nvSpPr>
            <p:spPr>
              <a:xfrm>
                <a:off x="2004480" y="3152160"/>
                <a:ext cx="1027440" cy="825120"/>
              </a:xfrm>
              <a:prstGeom prst="rect">
                <a:avLst/>
              </a:prstGeom>
              <a:solidFill>
                <a:srgbClr val="ac6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Ni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3"/>
            <p:cNvGrpSpPr/>
            <p:nvPr/>
          </p:nvGrpSpPr>
          <p:grpSpPr>
            <a:xfrm>
              <a:off x="2663640" y="4160520"/>
              <a:ext cx="1871640" cy="935280"/>
              <a:chOff x="2663640" y="4160520"/>
              <a:chExt cx="1871640" cy="935280"/>
            </a:xfrm>
          </p:grpSpPr>
          <p:sp>
            <p:nvSpPr>
              <p:cNvPr id="295" name="Rectangle 14"/>
              <p:cNvSpPr/>
              <p:nvPr/>
            </p:nvSpPr>
            <p:spPr>
              <a:xfrm>
                <a:off x="2663640" y="4160520"/>
                <a:ext cx="1871640" cy="935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15"/>
              <p:cNvSpPr/>
              <p:nvPr/>
            </p:nvSpPr>
            <p:spPr>
              <a:xfrm>
                <a:off x="2663640" y="4160520"/>
                <a:ext cx="607680" cy="4597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7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16"/>
              <p:cNvSpPr/>
              <p:nvPr/>
            </p:nvSpPr>
            <p:spPr>
              <a:xfrm>
                <a:off x="3085560" y="4231440"/>
                <a:ext cx="1027440" cy="8251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W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Group 17"/>
            <p:cNvGrpSpPr/>
            <p:nvPr/>
          </p:nvGrpSpPr>
          <p:grpSpPr>
            <a:xfrm>
              <a:off x="3743280" y="2000160"/>
              <a:ext cx="1871640" cy="934920"/>
              <a:chOff x="3743280" y="2000160"/>
              <a:chExt cx="1871640" cy="934920"/>
            </a:xfrm>
          </p:grpSpPr>
          <p:sp>
            <p:nvSpPr>
              <p:cNvPr id="299" name="Rectangle 18"/>
              <p:cNvSpPr/>
              <p:nvPr/>
            </p:nvSpPr>
            <p:spPr>
              <a:xfrm>
                <a:off x="3743280" y="2000160"/>
                <a:ext cx="1871640" cy="934920"/>
              </a:xfrm>
              <a:prstGeom prst="rect">
                <a:avLst/>
              </a:prstGeom>
              <a:solidFill>
                <a:srgbClr val="cc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19"/>
              <p:cNvSpPr/>
              <p:nvPr/>
            </p:nvSpPr>
            <p:spPr>
              <a:xfrm>
                <a:off x="3743280" y="2000160"/>
                <a:ext cx="607680" cy="4597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8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20"/>
              <p:cNvSpPr/>
              <p:nvPr/>
            </p:nvSpPr>
            <p:spPr>
              <a:xfrm>
                <a:off x="4165200" y="2071080"/>
                <a:ext cx="1027440" cy="825120"/>
              </a:xfrm>
              <a:prstGeom prst="rect">
                <a:avLst/>
              </a:prstGeom>
              <a:solidFill>
                <a:srgbClr val="cc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P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21"/>
            <p:cNvGrpSpPr/>
            <p:nvPr/>
          </p:nvGrpSpPr>
          <p:grpSpPr>
            <a:xfrm>
              <a:off x="4464000" y="3009600"/>
              <a:ext cx="1871640" cy="935280"/>
              <a:chOff x="4464000" y="3009600"/>
              <a:chExt cx="1871640" cy="935280"/>
            </a:xfrm>
          </p:grpSpPr>
          <p:sp>
            <p:nvSpPr>
              <p:cNvPr id="303" name="Rectangle 22"/>
              <p:cNvSpPr/>
              <p:nvPr/>
            </p:nvSpPr>
            <p:spPr>
              <a:xfrm>
                <a:off x="4464000" y="3009600"/>
                <a:ext cx="1871640" cy="935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4464000" y="3009600"/>
                <a:ext cx="607680" cy="459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4885920" y="3080520"/>
                <a:ext cx="1027440" cy="825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Sn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5"/>
            <p:cNvGrpSpPr/>
            <p:nvPr/>
          </p:nvGrpSpPr>
          <p:grpSpPr>
            <a:xfrm>
              <a:off x="5472000" y="4089240"/>
              <a:ext cx="1871640" cy="934920"/>
              <a:chOff x="5472000" y="4089240"/>
              <a:chExt cx="1871640" cy="934920"/>
            </a:xfrm>
          </p:grpSpPr>
          <p:sp>
            <p:nvSpPr>
              <p:cNvPr id="307" name="Rectangle 26"/>
              <p:cNvSpPr/>
              <p:nvPr/>
            </p:nvSpPr>
            <p:spPr>
              <a:xfrm>
                <a:off x="5472000" y="4089240"/>
                <a:ext cx="1871640" cy="9349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27"/>
              <p:cNvSpPr/>
              <p:nvPr/>
            </p:nvSpPr>
            <p:spPr>
              <a:xfrm>
                <a:off x="5472000" y="4089240"/>
                <a:ext cx="607680" cy="45972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5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28"/>
              <p:cNvSpPr/>
              <p:nvPr/>
            </p:nvSpPr>
            <p:spPr>
              <a:xfrm>
                <a:off x="5893920" y="4160160"/>
                <a:ext cx="1027440" cy="82512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S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9"/>
            <p:cNvGrpSpPr/>
            <p:nvPr/>
          </p:nvGrpSpPr>
          <p:grpSpPr>
            <a:xfrm>
              <a:off x="7272000" y="3009600"/>
              <a:ext cx="1871640" cy="935280"/>
              <a:chOff x="7272000" y="3009600"/>
              <a:chExt cx="1871640" cy="935280"/>
            </a:xfrm>
          </p:grpSpPr>
          <p:sp>
            <p:nvSpPr>
              <p:cNvPr id="311" name="Rectangle 30"/>
              <p:cNvSpPr/>
              <p:nvPr/>
            </p:nvSpPr>
            <p:spPr>
              <a:xfrm>
                <a:off x="7272000" y="3009600"/>
                <a:ext cx="1871640" cy="9352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31"/>
              <p:cNvSpPr/>
              <p:nvPr/>
            </p:nvSpPr>
            <p:spPr>
              <a:xfrm>
                <a:off x="7272000" y="3009600"/>
                <a:ext cx="607680" cy="45972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32"/>
              <p:cNvSpPr/>
              <p:nvPr/>
            </p:nvSpPr>
            <p:spPr>
              <a:xfrm>
                <a:off x="7693920" y="3080520"/>
                <a:ext cx="1027440" cy="82512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Arial"/>
                  </a:rPr>
                  <a:t>F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33" descr="image115"/>
          <p:cNvPicPr/>
          <p:nvPr/>
        </p:nvPicPr>
        <p:blipFill>
          <a:blip r:embed="rId2"/>
          <a:stretch/>
        </p:blipFill>
        <p:spPr>
          <a:xfrm>
            <a:off x="7095960" y="189000"/>
            <a:ext cx="18813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28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68360" y="134136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ре  һәм тере булмаган табигать «патшалары» булып саналалар.Бу нинди элементлар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7" name="Group 9"/>
          <p:cNvGrpSpPr/>
          <p:nvPr/>
        </p:nvGrpSpPr>
        <p:grpSpPr>
          <a:xfrm>
            <a:off x="1187280" y="3357720"/>
            <a:ext cx="2879640" cy="1871640"/>
            <a:chOff x="1187280" y="3357720"/>
            <a:chExt cx="2879640" cy="1871640"/>
          </a:xfrm>
        </p:grpSpPr>
        <p:sp>
          <p:nvSpPr>
            <p:cNvPr id="318" name="Rectangle 5"/>
            <p:cNvSpPr/>
            <p:nvPr/>
          </p:nvSpPr>
          <p:spPr>
            <a:xfrm>
              <a:off x="1187280" y="3357720"/>
              <a:ext cx="2879640" cy="1871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1187280" y="3357720"/>
              <a:ext cx="936720" cy="581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7"/>
            <p:cNvSpPr/>
            <p:nvPr/>
          </p:nvSpPr>
          <p:spPr>
            <a:xfrm>
              <a:off x="1834920" y="3500280"/>
              <a:ext cx="1584360" cy="1312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8"/>
            <p:cNvSpPr/>
            <p:nvPr/>
          </p:nvSpPr>
          <p:spPr>
            <a:xfrm>
              <a:off x="2266560" y="4581360"/>
              <a:ext cx="1729080" cy="520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углер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16"/>
          <p:cNvGrpSpPr/>
          <p:nvPr/>
        </p:nvGrpSpPr>
        <p:grpSpPr>
          <a:xfrm>
            <a:off x="5292720" y="3357720"/>
            <a:ext cx="2879640" cy="1871640"/>
            <a:chOff x="5292720" y="3357720"/>
            <a:chExt cx="2879640" cy="1871640"/>
          </a:xfrm>
        </p:grpSpPr>
        <p:sp>
          <p:nvSpPr>
            <p:cNvPr id="323" name="Rectangle 12"/>
            <p:cNvSpPr/>
            <p:nvPr/>
          </p:nvSpPr>
          <p:spPr>
            <a:xfrm>
              <a:off x="5292720" y="3357720"/>
              <a:ext cx="2879640" cy="1871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5364000" y="3429000"/>
              <a:ext cx="936720" cy="581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4"/>
            <p:cNvSpPr/>
            <p:nvPr/>
          </p:nvSpPr>
          <p:spPr>
            <a:xfrm>
              <a:off x="5940360" y="3500640"/>
              <a:ext cx="1584360" cy="1312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Arial"/>
                </a:rPr>
                <a:t>Si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5"/>
            <p:cNvSpPr/>
            <p:nvPr/>
          </p:nvSpPr>
          <p:spPr>
            <a:xfrm>
              <a:off x="6372000" y="4581720"/>
              <a:ext cx="1729080" cy="520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крем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28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24000" y="15001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ренче  б</a:t>
            </a:r>
            <a:r>
              <a:rPr b="0" lang="tt-RU" sz="2400" spc="-1" strike="noStrike">
                <a:solidFill>
                  <a:srgbClr val="000000"/>
                </a:solidFill>
                <a:latin typeface="Trebuchet MS"/>
              </a:rPr>
              <a:t>ө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нд</a:t>
            </a:r>
            <a:r>
              <a:rPr b="0" lang="tt-RU" sz="2400" spc="-1" strike="noStrike">
                <a:solidFill>
                  <a:srgbClr val="000000"/>
                </a:solidFill>
                <a:latin typeface="Trebuchet MS"/>
              </a:rPr>
              <a:t>өн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ья сугышы вакытында кулланылган яшкельт сары агулы газ к</a:t>
            </a:r>
            <a:r>
              <a:rPr b="0" lang="tt-RU" sz="2400" spc="-1" strike="noStrike">
                <a:solidFill>
                  <a:srgbClr val="000000"/>
                </a:solidFill>
                <a:latin typeface="Trebuchet MS"/>
              </a:rPr>
              <a:t>үпләрне үлемгә  китергән.Македония оф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рларының савыт сабасы составындагы  металл йогышлы эчәк авыруларыннан саклап кала алган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29" name="Group 32"/>
          <p:cNvGrpSpPr/>
          <p:nvPr/>
        </p:nvGrpSpPr>
        <p:grpSpPr>
          <a:xfrm>
            <a:off x="2124000" y="3284640"/>
            <a:ext cx="4751280" cy="1858320"/>
            <a:chOff x="2124000" y="3284640"/>
            <a:chExt cx="4751280" cy="1858320"/>
          </a:xfrm>
        </p:grpSpPr>
        <p:grpSp>
          <p:nvGrpSpPr>
            <p:cNvPr id="330" name="Group 27"/>
            <p:cNvGrpSpPr/>
            <p:nvPr/>
          </p:nvGrpSpPr>
          <p:grpSpPr>
            <a:xfrm>
              <a:off x="2124000" y="3284640"/>
              <a:ext cx="1871640" cy="1858320"/>
              <a:chOff x="2124000" y="3284640"/>
              <a:chExt cx="1871640" cy="1858320"/>
            </a:xfrm>
          </p:grpSpPr>
          <p:sp>
            <p:nvSpPr>
              <p:cNvPr id="331" name="Rectangle 12"/>
              <p:cNvSpPr/>
              <p:nvPr/>
            </p:nvSpPr>
            <p:spPr>
              <a:xfrm>
                <a:off x="2124000" y="3284640"/>
                <a:ext cx="1871640" cy="185832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3"/>
              <p:cNvSpPr/>
              <p:nvPr/>
            </p:nvSpPr>
            <p:spPr>
              <a:xfrm>
                <a:off x="2195280" y="3429720"/>
                <a:ext cx="608040" cy="45972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4"/>
              <p:cNvSpPr/>
              <p:nvPr/>
            </p:nvSpPr>
            <p:spPr>
              <a:xfrm>
                <a:off x="2771640" y="3429720"/>
                <a:ext cx="1027080" cy="82512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28"/>
            <p:cNvGrpSpPr/>
            <p:nvPr/>
          </p:nvGrpSpPr>
          <p:grpSpPr>
            <a:xfrm>
              <a:off x="5003640" y="3284640"/>
              <a:ext cx="1871640" cy="1858320"/>
              <a:chOff x="5003640" y="3284640"/>
              <a:chExt cx="1871640" cy="1858320"/>
            </a:xfrm>
          </p:grpSpPr>
          <p:sp>
            <p:nvSpPr>
              <p:cNvPr id="335" name="Rectangle 29"/>
              <p:cNvSpPr/>
              <p:nvPr/>
            </p:nvSpPr>
            <p:spPr>
              <a:xfrm>
                <a:off x="5003640" y="3284640"/>
                <a:ext cx="1871640" cy="18583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0"/>
              <p:cNvSpPr/>
              <p:nvPr/>
            </p:nvSpPr>
            <p:spPr>
              <a:xfrm>
                <a:off x="5074920" y="3429720"/>
                <a:ext cx="608040" cy="4597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31"/>
              <p:cNvSpPr/>
              <p:nvPr/>
            </p:nvSpPr>
            <p:spPr>
              <a:xfrm>
                <a:off x="5651280" y="3429720"/>
                <a:ext cx="1027080" cy="8251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6"/>
          <p:cNvGrpSpPr/>
          <p:nvPr/>
        </p:nvGrpSpPr>
        <p:grpSpPr>
          <a:xfrm>
            <a:off x="6588000" y="189000"/>
            <a:ext cx="2374920" cy="3703680"/>
            <a:chOff x="6588000" y="189000"/>
            <a:chExt cx="2374920" cy="3703680"/>
          </a:xfrm>
        </p:grpSpPr>
        <p:pic>
          <p:nvPicPr>
            <p:cNvPr id="339" name="Picture 4" descr="берц"/>
            <p:cNvPicPr/>
            <p:nvPr/>
          </p:nvPicPr>
          <p:blipFill>
            <a:blip r:embed="rId1"/>
            <a:stretch/>
          </p:blipFill>
          <p:spPr>
            <a:xfrm>
              <a:off x="6588000" y="189000"/>
              <a:ext cx="2371680" cy="27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5"/>
            <p:cNvSpPr/>
            <p:nvPr/>
          </p:nvSpPr>
          <p:spPr>
            <a:xfrm>
              <a:off x="6588000" y="3067200"/>
              <a:ext cx="237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Йенс Якоб Берцелиу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Organization Chart 8"/>
          <p:cNvGrpSpPr/>
          <p:nvPr/>
        </p:nvGrpSpPr>
        <p:grpSpPr>
          <a:xfrm>
            <a:off x="468360" y="333360"/>
            <a:ext cx="5471280" cy="2302920"/>
            <a:chOff x="468360" y="333360"/>
            <a:chExt cx="5471280" cy="2302920"/>
          </a:xfrm>
        </p:grpSpPr>
        <p:cxnSp>
          <p:nvCxnSpPr>
            <p:cNvPr id="342" name="_s1028"/>
            <p:cNvCxnSpPr>
              <a:stCxn id="343" idx="0"/>
              <a:endCxn id="344" idx="2"/>
            </p:cNvCxnSpPr>
            <p:nvPr/>
          </p:nvCxnSpPr>
          <p:spPr>
            <a:xfrm flipV="1" rot="16200000">
              <a:off x="3709440" y="747360"/>
              <a:ext cx="461160" cy="1474200"/>
            </a:xfrm>
            <a:prstGeom prst="bentConnector3">
              <a:avLst>
                <a:gd name="adj1" fmla="val 208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5" name="_s1029"/>
            <p:cNvCxnSpPr>
              <a:stCxn id="346" idx="0"/>
              <a:endCxn id="344" idx="2"/>
            </p:cNvCxnSpPr>
            <p:nvPr/>
          </p:nvCxnSpPr>
          <p:spPr>
            <a:xfrm flipH="1" flipV="1" rot="5400000">
              <a:off x="2236680" y="747720"/>
              <a:ext cx="461160" cy="1473480"/>
            </a:xfrm>
            <a:prstGeom prst="bentConnector3">
              <a:avLst>
                <a:gd name="adj1" fmla="val 208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4" name="_s1030"/>
            <p:cNvSpPr/>
            <p:nvPr/>
          </p:nvSpPr>
          <p:spPr>
            <a:xfrm>
              <a:off x="1941120" y="333360"/>
              <a:ext cx="2525040" cy="92124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Химическ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элемент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031"/>
            <p:cNvSpPr/>
            <p:nvPr/>
          </p:nvSpPr>
          <p:spPr>
            <a:xfrm>
              <a:off x="468360" y="1715040"/>
              <a:ext cx="2525040" cy="921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метал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>
              <a:off x="3414600" y="1715040"/>
              <a:ext cx="2525040" cy="921240"/>
            </a:xfrm>
            <a:prstGeom prst="roundRect">
              <a:avLst>
                <a:gd name="adj" fmla="val 16667"/>
              </a:avLst>
            </a:prstGeom>
            <a:solidFill>
              <a:srgbClr val="f4e7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неметал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8"/>
          <p:cNvSpPr/>
          <p:nvPr/>
        </p:nvSpPr>
        <p:spPr>
          <a:xfrm>
            <a:off x="395280" y="27082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Fe, Cu, Al, Hg, Au, Ag </a:t>
            </a:r>
            <a:r>
              <a:rPr b="1" lang="ru-RU" sz="2800" spc="-1" strike="noStrike">
                <a:solidFill>
                  <a:srgbClr val="cc0099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"/>
          <p:cNvSpPr/>
          <p:nvPr/>
        </p:nvSpPr>
        <p:spPr>
          <a:xfrm>
            <a:off x="3276720" y="2708280"/>
            <a:ext cx="2735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S, P, 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50920" y="3645000"/>
            <a:ext cx="3384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К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Металлик ялтыравык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Электр һәм җылыүткәргеч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лас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9"/>
          <p:cNvSpPr/>
          <p:nvPr/>
        </p:nvSpPr>
        <p:spPr>
          <a:xfrm>
            <a:off x="3564000" y="3573360"/>
            <a:ext cx="3744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Каты ,сыек,газсыман матдә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Металлик ялтыравыклык хас түг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Изоляторла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Көпш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611280" y="476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3300"/>
                </a:solidFill>
                <a:latin typeface="Arial"/>
              </a:rPr>
              <a:t>Бирем. </a:t>
            </a:r>
            <a:r>
              <a:rPr b="0" lang="tt-RU" sz="2000" spc="-1" strike="noStrike">
                <a:solidFill>
                  <a:srgbClr val="000000"/>
                </a:solidFill>
                <a:latin typeface="Arial"/>
              </a:rPr>
              <a:t>Үзлекләре буенча нинди элементлар турында сүз б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39640" y="1773360"/>
          <a:ext cx="8136000" cy="3676680"/>
        </p:xfrm>
        <a:graphic>
          <a:graphicData uri="http://schemas.openxmlformats.org/drawingml/2006/table">
            <a:tbl>
              <a:tblPr/>
              <a:tblGrid>
                <a:gridCol w="4068720"/>
                <a:gridCol w="4067280"/>
              </a:tblGrid>
              <a:tr h="39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эрү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97,86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кайн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883,15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ы матдә –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ычак белән киселә, кислородлы кушылмасы 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1" lang="ru-RU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кислоталар һәм су белән кушыл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</a:t>
                      </a:r>
                      <a:r>
                        <a:rPr b="0" lang="ru-R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эрү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0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кайн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97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улы яшкелт сары газ–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r>
                        <a:rPr b="1" lang="ru-RU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водород белән кушылып төссез газ  барлыкка китерә 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селтеләр белән кушы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1:10:44Z</dcterms:created>
  <dc:creator>HOME</dc:creator>
  <dc:description/>
  <dc:language>en-US</dc:language>
  <cp:lastModifiedBy>Admin</cp:lastModifiedBy>
  <dcterms:modified xsi:type="dcterms:W3CDTF">2013-02-12T14:59:20Z</dcterms:modified>
  <cp:revision>16</cp:revision>
  <dc:subject/>
  <dc:title>Классификация химических элементов</dc:title>
</cp:coreProperties>
</file>