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224-2A86-48B3-A742-B18F9065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4FB-B4DF-42F2-829D-0842C0AA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DE2-8055-407B-96D1-8A96FC12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AED-9865-48F4-9B54-D7C30A08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649-49D0-4660-A60A-858DB2F2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4DE-2FB2-436E-BFBC-F8C219C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444-EF41-430F-B8D1-6FCC7468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F68-1D07-480E-9EA7-5E46EC38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5CA-DB11-4588-A03D-FFA3FDA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82F-A4F4-4E0A-9D96-285A2C5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BB8-5C66-4841-9DF8-A86853C1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1BA-280A-49A3-BF83-1E9A75C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321C-2041-46A3-801A-3BC831B4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90;&#1080;&#1085;&#1077;&#1085;&#1090;" TargetMode="External"/><Relationship Id="rId2" Type="http://schemas.openxmlformats.org/officeDocument/2006/relationships/hyperlink" Target="http://ru.wikipedia.org/wiki/&#1047;&#1077;&#1084;&#1083;&#1103;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549360"/>
            <a:ext cx="726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ил: Чичилин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2А класса школы 46 г. Хабаров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мощи Чичилиной Алены Вячеслав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le:Antarctica 6400px from Blue Marble.jpg"/>
          <p:cNvPicPr/>
          <p:nvPr/>
        </p:nvPicPr>
        <p:blipFill>
          <a:blip r:embed="rId1"/>
          <a:stretch/>
        </p:blipFill>
        <p:spPr>
          <a:xfrm>
            <a:off x="395280" y="3213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4321080" cy="3235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аркти́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тин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расположенный на самом юге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ем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700360" y="2060640"/>
            <a:ext cx="3529080" cy="3516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арктида отличается крайне суровым холодным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лимат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900000" y="1413000"/>
            <a:ext cx="1219176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е температуры зимних месяцев (июнь, июль, август) от −60 до −75 °С, летних (декабрь, январь, февраль) от −30 до −50 °С; на побережье зимой от −8 до −35 °С, летом 0—5 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208720" cy="4292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побережья водятся несколько видов тюленей. Большую часть времени   они проводят  в воде, а для продолжения рода вылезают на суш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843360" cy="2270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456000" cy="213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26920" y="3749760"/>
            <a:ext cx="4105440" cy="223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26920" y="1628640"/>
            <a:ext cx="3673800" cy="2156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нтарктиде также обитают и птицы: альбатросы, поморники, 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ни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мператорский пингв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440000"/>
            <a:ext cx="2736720" cy="231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529080" cy="2305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507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3529080" cy="2589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376720" cy="2313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6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арктида не принадлежит ни одному государству.  Здесь разрешена только научная   деятель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18520" cy="489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Антарктиде расположено около 80 % мирового запаса пресной воды. Антарктида является последним ресурсным резервом для человечества на Земле. После исчерпания сырья на пяти обжитых континентах люди будут осваивать его ресурс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572000" cy="2930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780000" cy="2686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7:46:13Z</dcterms:created>
  <dc:creator>Loner-XP</dc:creator>
  <dc:description/>
  <dc:language>en-US</dc:language>
  <cp:lastModifiedBy>Loner-XP</cp:lastModifiedBy>
  <dcterms:modified xsi:type="dcterms:W3CDTF">2013-01-21T12:43:10Z</dcterms:modified>
  <cp:revision>7</cp:revision>
  <dc:subject/>
  <dc:title>Антарктида </dc:title>
</cp:coreProperties>
</file>