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13.gif" ContentType="image/gi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C8A8-A20D-4E17-92C4-2A8C80BDA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DC9E-B74F-4CFD-81F5-F8149A06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491A-9102-42C0-99A7-E912A1E4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760B-D70C-44D5-A567-95717E6C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0556-DE50-4BFD-A17A-24F5658F4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FFE7-FE15-414E-A320-FA277CDF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2386-5F8D-4DC2-B42C-9D85B47E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C9A0-A63C-4F22-B5EB-2C23CC1B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33C4-7AC4-4145-9006-2BEEFCBF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901C-4BB5-49C0-B77A-95D8A652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C214-A017-42EA-AFB6-BED2F741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8A5E-EAE0-4CBB-841F-B6E2DC74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ED60-1B8D-431D-ACF0-3519B092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ED1A-B7B2-4999-881A-F89ED716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07DB-7537-47CC-87AB-9E2620E4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568F-06E3-47AA-9271-5B8521F12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8CAB-4856-4AE6-A0FC-6BCE72EEE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BC718-D3BA-4585-8B33-2C8E2531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0ECBB-08EC-413D-BC3A-CF7B476B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A9673-B84B-4E81-9258-1AF82B67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C8512-C02E-48AC-8BFA-1A097F1F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FA8D8-ABF8-49C9-9E2F-B843DD97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D392-4353-4988-BCA9-E793389A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BFB98-3CB1-49C2-A5F0-7E4ED5C9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404C5-D82B-4C62-999F-7ADD38ED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27D73-C51F-49D1-B531-65FA5052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F2255-6AD4-437E-A420-2FEA8F77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934ED-F945-4C60-9AC1-A5A3B276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AD8C5-79A3-445B-BC7D-74109B35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B1FF2-BF1B-45B2-8269-9022CE50A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9DC9F-93EA-49E1-8C1B-E932B661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A4A96-CD70-4861-AE18-6E4B2AA1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9EE10-1461-414E-9750-FF730E74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4DBA-0EF7-478A-A63E-8EFB3BDC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48F87-7F3E-46EC-A35F-125895C5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3325D-F027-4979-9A75-DBD51012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96852-EBDB-4CEC-9856-6D8D8311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548B3-0232-4BDB-8DB9-3523A5FD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87EFC-8E54-41E0-8BA9-DD6CE73A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44DB9-FCDB-4D17-B712-8640CB08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52243-3A50-40B6-90FF-C3FD784E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41559-EA12-4D06-9217-49F0A1842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1709B-6CF1-464D-990E-3E77AC36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64D9-A0C8-457F-A4D6-56753973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63EB-FD13-4886-939A-BC2B7FF6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7F54-71BD-4CD2-8C1E-FB7530EB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C8D5-5F55-4BCE-9809-64AB3655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0D68-2CCC-4E11-BD98-8DC908B7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CBFE-EC16-4E0C-B4B8-53869EA3DCC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A733-C076-4583-8DA9-DF4E2C8CBB3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88F3-5323-4D19-B682-393F10A2B44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89D4-0E6E-424C-B7CB-9EC5909448C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klub-drug.ru/wp-content/uploads/2011/04/51470012.gif" TargetMode="External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" descr=""/>
          <p:cNvPicPr/>
          <p:nvPr/>
        </p:nvPicPr>
        <p:blipFill>
          <a:blip r:embed="rId1"/>
          <a:stretch/>
        </p:blipFill>
        <p:spPr>
          <a:xfrm>
            <a:off x="3676680" y="3760920"/>
            <a:ext cx="2511360" cy="2815920"/>
          </a:xfrm>
          <a:prstGeom prst="rect">
            <a:avLst/>
          </a:prstGeom>
          <a:ln w="0">
            <a:noFill/>
          </a:ln>
        </p:spPr>
      </p:pic>
      <p:pic>
        <p:nvPicPr>
          <p:cNvPr id="196" name="Прямоугольник 5" descr=""/>
          <p:cNvPicPr/>
          <p:nvPr/>
        </p:nvPicPr>
        <p:blipFill>
          <a:blip r:embed="rId2"/>
          <a:stretch/>
        </p:blipFill>
        <p:spPr>
          <a:xfrm>
            <a:off x="-6480" y="1390680"/>
            <a:ext cx="9253800" cy="1895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ОИГРАЕМ-УГАДАЕМ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ажно по двору ходи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 острым клювом крокодил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Головой весь день мотал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-то громко бормота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олько, это верно, бы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икакой не крокодил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А индюшек лучший друг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гадайте -кто?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rcRect l="17917" t="0" r="7806" b="0"/>
          <a:stretch/>
        </p:blipFill>
        <p:spPr>
          <a:xfrm>
            <a:off x="5867280" y="3549600"/>
            <a:ext cx="3276720" cy="3308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Calibri"/>
              </a:rPr>
              <a:t>КТО ЭТО?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24000" y="1484280"/>
            <a:ext cx="790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а! Индюк! Признаться, братцы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рудно было догадаться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 индюком случилось чудо-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евратился он в верблюда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тал он лаять и рычать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 земле хвостом стуча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Я запутался, однако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н верблюд или…кто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5214960" y="4000680"/>
            <a:ext cx="2987640" cy="2420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Calibri"/>
              </a:rPr>
              <a:t>КТО ЭТО?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Не зовут собаку Шавкой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И не спит она под лавкой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А глядит она в окошко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А мяукает как кто?..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5857920" y="3643200"/>
            <a:ext cx="2879640" cy="2376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Calibri"/>
              </a:rPr>
              <a:t>ЧТО ЭТО?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ерно, верно! Угадали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Будто где её видали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А теперь давайте с ва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 лес поедем за гриб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смотрите-ка, ребят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ут -лисички, там -опят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у а это, на полянке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Ядовитые…Что?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rcRect l="12915" t="0" r="0" b="0"/>
          <a:stretch/>
        </p:blipFill>
        <p:spPr>
          <a:xfrm>
            <a:off x="5749920" y="4149720"/>
            <a:ext cx="3394080" cy="2435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Calibri"/>
              </a:rPr>
              <a:t>КТО ЭТО?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? Поганки? Неужел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о поганки захотел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тать полезными гриба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 пришли на кухню са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 сказали:- Как хотите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Хоть зажарьте, хоть сварите.-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божаем поваров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енавидим…Кого?..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6300720" y="2079720"/>
            <a:ext cx="2448000" cy="2295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МОЛОДЦЫ!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То, что я сказал вам, -тайн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Догадались вы случайно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Это был большой секрет…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Но то вас секретов нет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4" descr="514700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4941720"/>
            <a:ext cx="1800360" cy="1366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6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08:37:49Z</dcterms:created>
  <dc:creator>Admin</dc:creator>
  <dc:description/>
  <dc:language>en-US</dc:language>
  <cp:lastModifiedBy>User</cp:lastModifiedBy>
  <dcterms:modified xsi:type="dcterms:W3CDTF">2013-02-13T11:14:09Z</dcterms:modified>
  <cp:revision>4</cp:revision>
  <dc:subject/>
  <dc:title>Библиотечный урок       по произведениям С.В.Михалкова       «Мои любимые детские книжки»</dc:title>
</cp:coreProperties>
</file>