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1FB-9C11-4266-BBDF-54B6E831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B6D-C648-4C07-ADD7-B68EBE51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886-741B-4EC2-9BB2-8886DD53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E42-CD93-4625-AFC1-3A97E193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BBAD-5456-46C5-8A96-36490CFD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008B-F230-448F-98DA-62F27060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4ECD-4689-4F61-96BB-9AEA105C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B761-E742-4FB3-94A9-B45AD4FB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8F59-7116-4EF7-97E5-2CCC9988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6F9F-30D0-4B9F-8E6D-87CF887B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26AA-5142-4613-9C0D-56D656B3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207-6BC5-491B-8788-C880B622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F48F-2CEC-4602-8ACA-A070156D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0884-0256-4550-9A72-F83574D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F661-0EF6-4234-93D7-A2060DF5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39EE-8AB7-4B74-B163-C3194C65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F701-8625-4FBB-88E3-4E03084D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9B90-E6E3-4508-B646-94E2A0D0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B910-4A72-4F94-91D3-BEDD472A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8745F-91A0-4B97-9F28-CE0E970A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9527-C78F-4035-9480-09AB0694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FF5F-FDAC-4420-90FB-19242C10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BC2-A117-4FB4-8B4E-3957257D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5627A-F6EB-4AFF-AA9E-A24A0EDF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4C33-9001-448B-B2BF-4E41A034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6C66-F4F6-4946-AAAF-FE2090FB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7191-3285-4173-B892-3A50D38A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38F0-8CEA-4B9E-AE56-EFC4F3A8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CC80-50C2-4303-9759-B3EDB272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BB5F4-B3DD-450C-BDB5-245AB072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031D-379C-47C5-B137-B8D74940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FA669-5F56-41FA-A329-B2C0866E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5CF40-23B5-4A9F-84C4-FFA50DBC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5C3-54A7-49C8-BA08-32C17AC2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950A9-34A6-4ACD-BE67-C2A92C91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558F-83CC-4031-82F0-F872D9D0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3C0AF-52DA-42AA-AA7D-B71DDBD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F0BD-17E1-4D3D-975D-42DD256D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B1A2-1678-4EE0-AFE9-98FDB583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1B0E4-04E7-46CC-B8A2-600E3E82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4DA23-D376-4B6A-BE72-EDE61816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D1F9-18C8-408B-AAFC-8757FE07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CAF0A-85CA-401F-B2EC-8B6B030E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386-1051-42EE-B094-EF367026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C33-66E7-4234-A0A8-FFB1AF30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FE2-14EB-4287-8238-43075F76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55C-8BBD-4FFE-9BB9-A6CBCE43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C01-3CD5-4EC2-A62F-9CA3BFA5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CF84-ADCE-498F-B7D8-E233BB68B37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FDA0-64B0-49CD-8731-188F35699B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4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5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C957-A681-4BFC-A977-6F70A1B729A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743A-1E6E-4E76-B487-EEE2A70A3E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Болдинская осень в творчестве А.С. Пушкин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1" name="Picture 6" descr="http://im6-tub.yandex.net/i?id=14097497&amp;tov=6"/>
          <p:cNvPicPr/>
          <p:nvPr/>
        </p:nvPicPr>
        <p:blipFill>
          <a:blip r:embed="rId1"/>
          <a:stretch/>
        </p:blipFill>
        <p:spPr>
          <a:xfrm>
            <a:off x="324000" y="1557360"/>
            <a:ext cx="3311280" cy="4392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«Я снова жизни полн…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.С. Пушкин 1830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дино Пушкин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нравилось «Ах, м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лый! что за преле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дешняя деревня! – писа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эт П.А. Плетневу,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образи: степь да степь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едей ни души; пиш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олько вздумается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кто не помешает. Уж 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бе наготовлю всячины,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зы и стихов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Picture 9" descr="i?id=38084701&amp;tov=3"/>
          <p:cNvPicPr/>
          <p:nvPr/>
        </p:nvPicPr>
        <p:blipFill>
          <a:blip r:embed="rId1"/>
          <a:stretch/>
        </p:blipFill>
        <p:spPr>
          <a:xfrm>
            <a:off x="684360" y="1700280"/>
            <a:ext cx="34560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лдинская осень Пушкина вошла в историю как один из величайших взлетов русской поэзии. Здесь он завершил свое любимое детище – «Евгения Онег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Picture 8" descr="push4i"/>
          <p:cNvPicPr/>
          <p:nvPr/>
        </p:nvPicPr>
        <p:blipFill>
          <a:blip r:embed="rId1"/>
          <a:stretch/>
        </p:blipFill>
        <p:spPr>
          <a:xfrm>
            <a:off x="90000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http://im0-tub.yandex.net/i?id=4442085&amp;tov=0"/>
          <p:cNvPicPr/>
          <p:nvPr/>
        </p:nvPicPr>
        <p:blipFill>
          <a:blip r:embed="rId2"/>
          <a:stretch/>
        </p:blipFill>
        <p:spPr>
          <a:xfrm>
            <a:off x="826920" y="3502080"/>
            <a:ext cx="3384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Этот перечень свидетельствует о необыкновенном творческом подъеме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14 октября завершает повесть «Выстрел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16 октября – стихотворение «Моя родословна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17 октября – «Заклинани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20-го – повесть «Метел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23-го – «Скупой рыцар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26-го – «Моцарт и Сальер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1 ноября – «История села Горюх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4 ноября – «Каменный гос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6 ноября – «Пир во время чумы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Повести Белкин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6" descr="i?id=17374002&amp;tov=4"/>
          <p:cNvPicPr/>
          <p:nvPr/>
        </p:nvPicPr>
        <p:blipFill>
          <a:blip r:embed="rId1"/>
          <a:stretch/>
        </p:blipFill>
        <p:spPr>
          <a:xfrm>
            <a:off x="5435640" y="1628640"/>
            <a:ext cx="3024000" cy="3587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i?id=3196464&amp;tov=5"/>
          <p:cNvPicPr/>
          <p:nvPr/>
        </p:nvPicPr>
        <p:blipFill>
          <a:blip r:embed="rId2"/>
          <a:stretch/>
        </p:blipFill>
        <p:spPr>
          <a:xfrm>
            <a:off x="900000" y="1628640"/>
            <a:ext cx="3095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Маленькие трагедии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антазия уноси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ушкина в эпох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днег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невековья,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еодально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ыцарское обще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5" descr="i?id=40363447&amp;tov=6"/>
          <p:cNvPicPr/>
          <p:nvPr/>
        </p:nvPicPr>
        <p:blipFill>
          <a:blip r:embed="rId1"/>
          <a:stretch/>
        </p:blipFill>
        <p:spPr>
          <a:xfrm>
            <a:off x="5435640" y="1773360"/>
            <a:ext cx="31478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9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1833 и 1834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ушкину пришлос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еще дважды побыват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Болдино. Здесь о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оздал: «Анджело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Медный всадник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Пиковая дама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каз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6" descr="push1i"/>
          <p:cNvPicPr/>
          <p:nvPr/>
        </p:nvPicPr>
        <p:blipFill>
          <a:blip r:embed="rId1"/>
          <a:stretch/>
        </p:blipFill>
        <p:spPr>
          <a:xfrm>
            <a:off x="1042920" y="148428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i?id=28355138&amp;tov=0"/>
          <p:cNvPicPr/>
          <p:nvPr/>
        </p:nvPicPr>
        <p:blipFill>
          <a:blip r:embed="rId2"/>
          <a:stretch/>
        </p:blipFill>
        <p:spPr>
          <a:xfrm>
            <a:off x="1332000" y="3860640"/>
            <a:ext cx="2160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0:02:00Z</dcterms:created>
  <dc:creator>User</dc:creator>
  <dc:description/>
  <dc:language>en-US</dc:language>
  <cp:lastModifiedBy>ASD</cp:lastModifiedBy>
  <dcterms:modified xsi:type="dcterms:W3CDTF">2013-02-13T16:44:46Z</dcterms:modified>
  <cp:revision>4</cp:revision>
  <dc:subject/>
  <dc:title>Болдинская осень в творчестве А.С. Пушкина</dc:title>
</cp:coreProperties>
</file>