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F809-124D-4B60-BBA2-89025E8E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480E-3B00-4B91-A581-7FE4B971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DA67-27A8-47F1-B60E-A80EF9E00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E35B-4D1B-41CF-B9F9-AB92BAD1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879F-BE0C-42B9-8177-D6A572455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3F13-08AB-4A21-B3A6-4EF43FB8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C262-D917-4B23-946B-F806FD43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5854-BF10-4736-946F-7BD02776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03AC-CC2F-47F0-9CDE-0C2DBEAC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DC84-0636-418E-88AB-FE9E604D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2D50-990F-4D55-BF0A-53B26E68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EBCE-85CF-4B73-8267-5A88B7CA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5719-4677-4668-B562-50822575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BE82-3658-4885-B81C-E3078999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FB89-4340-43A7-9133-1E3AAE34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4AEA-CD78-4A9D-A5BE-BC358A641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9A69-CD74-487B-B71D-887C0211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11D33-4F8E-4799-9210-999EF116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388FB-CF56-468F-979E-F5C522D1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44035-B65B-47A7-89AD-E6231378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6DFE0-34EB-4160-B64F-55D89EBB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6FB84-301D-48DF-A368-A5514F5B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ED58-2EEC-4C79-AB37-C028E97F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99AE5-9E4B-4AF2-9C1A-4D27A6B7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FB801-8FAE-48C3-8607-4E60535D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E74E0-C8A2-45E2-9B06-7695A842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A6904-DF5B-47C1-B730-C2F7953A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CD559-D376-4395-9DF7-9448C2D8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3FA8D-C871-462F-B63D-187FB4D4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5FE88-8845-400E-B651-F8BBD6A3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9957B-541F-4A0B-AEB5-BF45D8FBB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FB56F-FACE-40BA-89C0-6AB5C77B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D40F1-E479-4E5B-BD5B-9E2F77F7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44B0-6565-4AC8-A437-559700CF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17254-D457-4755-B221-4E80A4F4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0C7A6-E02A-4713-9EAD-C7BDF6A2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A189C-CA4E-43F0-8039-BF86340D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7693D-029F-4533-B5D6-D2D477AF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467B5-9CB8-4797-A8D8-093B59F1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02160-CB14-41C1-B819-40998DFB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BE5AD-CE57-45DC-8821-F63F1F17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6962A-6A4D-4B70-B7F3-909051560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13AA6-116B-4400-A755-16C80F11A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75AE-7DD8-4AF1-A816-8F59D7E1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F3A4-B7F9-4F0C-BB14-0B310664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A7FC-EDDC-4670-9CD4-926A5B8E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43BF-708A-4A13-982F-630AD4B2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E6B9-33B3-4419-8D86-F1309E37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737F-1DBA-4744-8BA7-5C72CD1A20C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E532-BF5A-425E-A93F-53361DB482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4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5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B367-5A6C-4F64-8884-B023D6F5BB0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2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7AB1-5CFD-4407-B6B4-C8F81AD2028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Болдинская осень в творчестве А.С. Пушкина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81" name="Picture 6" descr="http://im6-tub.yandex.net/i?id=14097497&amp;tov=6"/>
          <p:cNvPicPr/>
          <p:nvPr/>
        </p:nvPicPr>
        <p:blipFill>
          <a:blip r:embed="rId1"/>
          <a:stretch/>
        </p:blipFill>
        <p:spPr>
          <a:xfrm>
            <a:off x="324000" y="1557360"/>
            <a:ext cx="3311280" cy="43927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«Я снова жизни полн…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.С. Пушкин 1830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олдино Пушкин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нравилось «Ах, м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илый! что за прелес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дешняя деревня! – писал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эт П.А. Плетневу,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ообрази: степь да степь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седей ни души; пиш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колько вздумается –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икто не помешает. Уж 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ебе наготовлю всячины, 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зы и стихов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Picture 9" descr="i?id=38084701&amp;tov=3"/>
          <p:cNvPicPr/>
          <p:nvPr/>
        </p:nvPicPr>
        <p:blipFill>
          <a:blip r:embed="rId1"/>
          <a:stretch/>
        </p:blipFill>
        <p:spPr>
          <a:xfrm>
            <a:off x="684360" y="1700280"/>
            <a:ext cx="345600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animClr clrSpc="rgb">
                                      <p:cBhvr>
                                        <p:cTn id="24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25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250" autoRev="1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250" autoRev="1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250" autoRev="1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250" autoRev="1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250" autoRev="1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250" autoRev="1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250" autoRev="1" fill="hold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250" autoRev="1" fill="hold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250" autoRev="1" fill="hold"/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250" autoRev="1" fill="hold"/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олдинская осень Пушкина вошла в историю как один из величайших взлетов русской поэзии. Здесь он завершил свое любимое детище – «Евгения Онегин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Picture 8" descr="push4i"/>
          <p:cNvPicPr/>
          <p:nvPr/>
        </p:nvPicPr>
        <p:blipFill>
          <a:blip r:embed="rId1"/>
          <a:stretch/>
        </p:blipFill>
        <p:spPr>
          <a:xfrm>
            <a:off x="900000" y="981000"/>
            <a:ext cx="2376720" cy="23767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9" descr="http://im0-tub.yandex.net/i?id=4442085&amp;tov=0"/>
          <p:cNvPicPr/>
          <p:nvPr/>
        </p:nvPicPr>
        <p:blipFill>
          <a:blip r:embed="rId2"/>
          <a:stretch/>
        </p:blipFill>
        <p:spPr>
          <a:xfrm>
            <a:off x="826920" y="3502080"/>
            <a:ext cx="338472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486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Этот перечень свидетельствует о необыкновенном творческом подъеме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14 октября завершает повесть «Выстрел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16 октября – стихотворение «Моя родословная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17 октября – «Заклинание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20-го – повесть «Метель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23-го – «Скупой рыцарь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26-го – «Моцарт и Сальери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1 ноября – «История села Горюхин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4 ноября – «Каменный гость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6 ноября – «Пир во время чумы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«Повести Белкина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Picture 6" descr="i?id=17374002&amp;tov=4"/>
          <p:cNvPicPr/>
          <p:nvPr/>
        </p:nvPicPr>
        <p:blipFill>
          <a:blip r:embed="rId1"/>
          <a:stretch/>
        </p:blipFill>
        <p:spPr>
          <a:xfrm>
            <a:off x="5435640" y="1628640"/>
            <a:ext cx="3024000" cy="35877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i?id=3196464&amp;tov=5"/>
          <p:cNvPicPr/>
          <p:nvPr/>
        </p:nvPicPr>
        <p:blipFill>
          <a:blip r:embed="rId2"/>
          <a:stretch/>
        </p:blipFill>
        <p:spPr>
          <a:xfrm>
            <a:off x="900000" y="1628640"/>
            <a:ext cx="3095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2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7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2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«Маленькие трагедии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антазия уносил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ушкина в эпоху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зднег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редневековья, 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еодально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ыцарское обществ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5" descr="i?id=40363447&amp;tov=6"/>
          <p:cNvPicPr/>
          <p:nvPr/>
        </p:nvPicPr>
        <p:blipFill>
          <a:blip r:embed="rId1"/>
          <a:stretch/>
        </p:blipFill>
        <p:spPr>
          <a:xfrm>
            <a:off x="5435640" y="1773360"/>
            <a:ext cx="314784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5" dur="2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2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3" dur="20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7" dur="20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1" dur="20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5" dur="2000" fill="hold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9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animClr clrSpc="rgb">
                                      <p:cBhvr>
                                        <p:cTn id="290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291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1833 и 1834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ушкину пришлос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еще дважды побыват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 Болдино. Здесь он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оздал: «Анджело»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«Медный всадник»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«Пиковая дама»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каз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Picture 6" descr="push1i"/>
          <p:cNvPicPr/>
          <p:nvPr/>
        </p:nvPicPr>
        <p:blipFill>
          <a:blip r:embed="rId1"/>
          <a:stretch/>
        </p:blipFill>
        <p:spPr>
          <a:xfrm>
            <a:off x="1042920" y="1484280"/>
            <a:ext cx="2521080" cy="2232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i?id=28355138&amp;tov=0"/>
          <p:cNvPicPr/>
          <p:nvPr/>
        </p:nvPicPr>
        <p:blipFill>
          <a:blip r:embed="rId2"/>
          <a:stretch/>
        </p:blipFill>
        <p:spPr>
          <a:xfrm>
            <a:off x="1332000" y="3860640"/>
            <a:ext cx="21603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10:02:00Z</dcterms:created>
  <dc:creator>User</dc:creator>
  <dc:description/>
  <dc:language>en-US</dc:language>
  <cp:lastModifiedBy>ASD</cp:lastModifiedBy>
  <dcterms:modified xsi:type="dcterms:W3CDTF">2013-02-13T16:44:46Z</dcterms:modified>
  <cp:revision>4</cp:revision>
  <dc:subject/>
  <dc:title>Болдинская осень в творчестве А.С. Пушкина</dc:title>
</cp:coreProperties>
</file>