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1.jpeg" ContentType="image/jpeg"/>
  <Override PartName="/ppt/media/image36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35.wmf" ContentType="image/x-wm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CD51-7E07-4C51-AB37-82B6748FD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73E0-EBC4-4CC9-8523-C005778CDB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04A2-98B0-4CF4-AFCB-AB7088CB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55A-D7D3-4949-9A28-12E37AD0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73E-25B4-4298-8040-88667AB6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B81-CD1A-443F-B98B-83EF58C7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AEB3-6F77-4FBD-A5E7-35604C24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36DD-4348-4F53-9667-60B3900D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63AE-2667-4CF1-802C-78740966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A21B-B7A1-4008-A59F-D8661DCF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ECCB-9647-4082-A680-FE79BFC1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7338-9409-4502-B679-DCCA3579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32C2-FFC7-4AB4-B10B-5106502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FD5-14FE-4E0D-9D2E-8D35B4CB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1C29-9707-46AE-84FC-A37895E4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7CC1-BDA4-49B5-8C0C-E568A8FE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3564-6AF9-4993-A8B8-6F6CB988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29F9-549E-4D8A-B242-E0B5F4D8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5F34-BE51-4BFA-BE23-785C82F8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B69-2EBA-4CCF-A4C9-5439F1B5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BC9-2F11-4923-8382-51A9B23D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9EB-2373-43CD-B24E-22A622D3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5CB-FA34-4765-8A08-BAC0960C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456-C755-45D2-B06F-006F40BB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313-5959-4DEF-AED9-C3F4AB24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655-8795-4FEF-9914-64E85DAC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FF9F-5079-45A2-A149-29E97F3C2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55DF-FB23-43F0-BA37-1F3E3072C6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solidFill>
            <a:srgbClr val="000099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 Чехове Россия полюбила себ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635280" y="981000"/>
            <a:ext cx="5508720" cy="5877000"/>
          </a:xfrm>
          <a:custGeom>
            <a:avLst/>
            <a:gdLst>
              <a:gd name="textAreaLeft" fmla="*/ 1257480 w 5508720"/>
              <a:gd name="textAreaRight" fmla="*/ 4251240 w 5508720"/>
              <a:gd name="textAreaTop" fmla="*/ 1341720 h 5877000"/>
              <a:gd name="textAreaBottom" fmla="*/ 4535280 h 587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е успокаивайте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е давайте усыплять себ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ока молоды, сильны, бод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е уставайте делать добр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ссказ “Крыжовник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C:\Program Files\Новый диск\Энциклопедия русской литературы\data\img\images\2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210" name="AutoShape 4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C:\Program Files\Новый диск\Энциклопедия русской литературы\data\img\emp.gif"/>
          <p:cNvPicPr/>
          <p:nvPr/>
        </p:nvPicPr>
        <p:blipFill>
          <a:blip r:embed="rId2"/>
          <a:stretch/>
        </p:blipFill>
        <p:spPr>
          <a:xfrm>
            <a:off x="3143160" y="2076480"/>
            <a:ext cx="628920" cy="85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Program Files\Новый диск\Энциклопедия русской литературы\data\img\emp.gif"/>
          <p:cNvPicPr/>
          <p:nvPr/>
        </p:nvPicPr>
        <p:blipFill>
          <a:blip r:embed="rId3"/>
          <a:stretch/>
        </p:blipFill>
        <p:spPr>
          <a:xfrm>
            <a:off x="3143160" y="2076480"/>
            <a:ext cx="9720" cy="66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3143160" y="2076480"/>
            <a:ext cx="9622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143160" y="2076480"/>
            <a:ext cx="9381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143160" y="2076480"/>
            <a:ext cx="9381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1121400" y="5667120"/>
            <a:ext cx="7031160" cy="1191240"/>
          </a:xfrm>
          <a:prstGeom prst="rect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ffffff">
                  <a:alpha val="1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цена из спектакля "Вишневый сад". Театр "Современник".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ня - Мария Аниканова, Раневская - Марина Неелов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аря - Елена Яковлев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31"/>
          <p:cNvSpPr/>
          <p:nvPr/>
        </p:nvSpPr>
        <p:spPr>
          <a:xfrm>
            <a:off x="0" y="1628640"/>
            <a:ext cx="9144000" cy="3961080"/>
          </a:xfrm>
          <a:custGeom>
            <a:avLst/>
            <a:gdLst>
              <a:gd name="textAreaLeft" fmla="*/ 0 w 9144000"/>
              <a:gd name="textAreaRight" fmla="*/ 9144360 w 9144000"/>
              <a:gd name="textAreaTop" fmla="*/ 817560 h 3961080"/>
              <a:gd name="textAreaBottom" fmla="*/ 314352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Пьеса «Вишневый са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дает почти "физическое ощущение текучести времени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Уже современники Чехова заметил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что «главное невидимо действующее лиц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в его произведениях - "беспощадно уходящее время"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2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500"/>
                            </p:stCondLst>
                            <p:childTnLst>
                              <p:par>
                                <p:cTn id="3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650"/>
                            </p:stCondLst>
                            <p:childTnLst>
                              <p:par>
                                <p:cTn id="332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850"/>
                            </p:stCondLst>
                            <p:childTnLst>
                              <p:par>
                                <p:cTn id="339" nodeType="after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6850"/>
                            </p:stCondLst>
                            <p:childTnLst>
                              <p:par>
                                <p:cTn id="3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233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9"/>
          <p:cNvSpPr/>
          <p:nvPr/>
        </p:nvSpPr>
        <p:spPr>
          <a:xfrm>
            <a:off x="0" y="0"/>
            <a:ext cx="5329080" cy="6858000"/>
          </a:xfrm>
          <a:prstGeom prst="verticalScrol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4797360"/>
            <a:ext cx="4211640" cy="2060640"/>
          </a:xfrm>
          <a:prstGeom prst="rect">
            <a:avLst/>
          </a:pr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Сцена из спектак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"Вишневый сад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Театр им. Моссо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Раневская - Ольга Остроумо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Гаев - Евгений Стеб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71640" y="1197000"/>
            <a:ext cx="322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ад философски показывает одиночество ник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е любимых героев в неукротимом круговороте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Их одиночество  отзывается в судьбе вишневого сад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таящего в себе молчаливую иро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о отношению как к прежним, так и будущим хозяев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0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4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xit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7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7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20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3200"/>
                            </p:stCondLst>
                            <p:childTnLst>
                              <p:par>
                                <p:cTn id="39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8200"/>
                            </p:stCondLst>
                            <p:childTnLst>
                              <p:par>
                                <p:cTn id="4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200"/>
                            </p:stCondLst>
                            <p:childTnLst>
                              <p:par>
                                <p:cTn id="409" nodeType="afterEffect" fill="hold" presetClass="exit" presetID="2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2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 flipV="1">
            <a:off x="0" y="-720"/>
            <a:ext cx="2987640" cy="1413000"/>
          </a:xfrm>
          <a:prstGeom prst="wedgeRoundRectCallout">
            <a:avLst>
              <a:gd name="adj1" fmla="val 46490"/>
              <a:gd name="adj2" fmla="val -162138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1258920" y="3645000"/>
            <a:ext cx="5761080" cy="3213000"/>
          </a:xfrm>
          <a:prstGeom prst="roundRect">
            <a:avLst>
              <a:gd name="adj" fmla="val 16667"/>
            </a:avLst>
          </a:pr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рагическое в пьес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остоя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бивается на фар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огда как сквозь ком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ступает дра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716360" y="594180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цена из спектакля "Вишневый сад". Малый театр.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Фирс - Юрий Каю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0"/>
                            </p:stCondLst>
                            <p:childTnLst>
                              <p:par>
                                <p:cTn id="434" nodeType="afterEffect" fill="hold" presetClass="exit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43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200"/>
                            </p:stCondLst>
                            <p:childTnLst>
                              <p:par>
                                <p:cTn id="4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2750"/>
                            </p:stCondLst>
                            <p:childTnLst>
                              <p:par>
                                <p:cTn id="449" nodeType="afterEffect" fill="hold" presetClass="exit" presetID="3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250"/>
                            </p:stCondLst>
                            <p:childTnLst>
                              <p:par>
                                <p:cTn id="4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8250"/>
                            </p:stCondLst>
                            <p:childTnLst>
                              <p:par>
                                <p:cTn id="463" nodeType="after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2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7"/>
          <p:cNvSpPr/>
          <p:nvPr/>
        </p:nvSpPr>
        <p:spPr>
          <a:xfrm flipV="1">
            <a:off x="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8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042920" y="5667120"/>
            <a:ext cx="24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цена из спектакля "Вишневый сад". Театр "Современник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0" y="1413000"/>
            <a:ext cx="9144000" cy="4743360"/>
          </a:xfrm>
          <a:prstGeom prst="horizontalScrol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2340000" y="2205000"/>
            <a:ext cx="4562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Человек не может б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сю жиз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доров и весе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его всегда ожидают потер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 не мож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беречься от смер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отя бы бы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лександром Македонски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500"/>
                            </p:stCondLst>
                            <p:childTnLst>
                              <p:par>
                                <p:cTn id="489" nodeType="afterEffect" fill="hold" presetClass="exit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49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8700"/>
                            </p:stCondLst>
                            <p:childTnLst>
                              <p:par>
                                <p:cTn id="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70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6100"/>
                            </p:stCondLst>
                            <p:childTnLst>
                              <p:par>
                                <p:cTn id="509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1100"/>
                            </p:stCondLst>
                            <p:childTnLst>
                              <p:par>
                                <p:cTn id="516" nodeType="after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3100"/>
                            </p:stCondLst>
                            <p:childTnLst>
                              <p:par>
                                <p:cTn id="5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234"/>
          <p:cNvPicPr/>
          <p:nvPr/>
        </p:nvPicPr>
        <p:blipFill>
          <a:blip r:embed="rId1"/>
          <a:stretch/>
        </p:blipFill>
        <p:spPr>
          <a:xfrm>
            <a:off x="0" y="0"/>
            <a:ext cx="329076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3276720" y="1512360"/>
            <a:ext cx="5867280" cy="5533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Р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оссийская общественность с большим восторгом встретила пьесу, чей светлый дух не мог не покорить зрителя. Постановки "Вишневого сада" с успехом шли во многих театрах России. Но, тем не менее, Чехов так и не увидел спектакль, всецело отвечавший его творческим замыслам.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"Глава о Чехове еще не кончена"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- писал Станиславский, признавая, что А. П. Чехов далеко обогнал развитие театр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1" descr="emp"/>
          <p:cNvPicPr/>
          <p:nvPr/>
        </p:nvPicPr>
        <p:blipFill>
          <a:blip r:embed="rId2"/>
          <a:stretch/>
        </p:blipFill>
        <p:spPr>
          <a:xfrm>
            <a:off x="5440320" y="3056040"/>
            <a:ext cx="19080" cy="114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emp"/>
          <p:cNvPicPr/>
          <p:nvPr/>
        </p:nvPicPr>
        <p:blipFill>
          <a:blip r:embed="rId3"/>
          <a:stretch/>
        </p:blipFill>
        <p:spPr>
          <a:xfrm>
            <a:off x="2820960" y="3529080"/>
            <a:ext cx="19080" cy="66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emp"/>
          <p:cNvPicPr/>
          <p:nvPr/>
        </p:nvPicPr>
        <p:blipFill>
          <a:blip r:embed="rId4"/>
          <a:stretch/>
        </p:blipFill>
        <p:spPr>
          <a:xfrm>
            <a:off x="5478480" y="3308400"/>
            <a:ext cx="961920" cy="666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9"/>
          <p:cNvSpPr/>
          <p:nvPr/>
        </p:nvSpPr>
        <p:spPr>
          <a:xfrm>
            <a:off x="0" y="5392800"/>
            <a:ext cx="3276720" cy="1465560"/>
          </a:xfrm>
          <a:prstGeom prst="rect">
            <a:avLst/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цена из спектакля "Вишневый сад". Театр им. Моссовета.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Раневская - Ольга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троум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4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85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238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0" y="984240"/>
            <a:ext cx="37432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еки критическим прогнозам "Вишневый сад" стал неувядающей классикой отечественного театра. Художественные открытия автора в драматургии, его самобытное видение противоречивых сторон жизни необычайно четко проявились в этом вдумчиво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оизведе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5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xit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81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1100"/>
                            </p:stCondLst>
                            <p:childTnLst>
                              <p:par>
                                <p:cTn id="5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0" descr="C:\Program Files\Новый диск\Энциклопедия русской литературы\data\img\images\2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"/>
          <p:cNvSpPr/>
          <p:nvPr/>
        </p:nvSpPr>
        <p:spPr>
          <a:xfrm flipV="1">
            <a:off x="0" y="-720"/>
            <a:ext cx="2987640" cy="1413000"/>
          </a:xfrm>
          <a:prstGeom prst="wedgeRoundRectCallout">
            <a:avLst>
              <a:gd name="adj1" fmla="val 79328"/>
              <a:gd name="adj2" fmla="val -50004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0" y="0"/>
            <a:ext cx="9144000" cy="60948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Arial"/>
              </a:rPr>
              <a:t>«Вишневый сад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0" y="1341360"/>
            <a:ext cx="9144000" cy="5040360"/>
          </a:xfrm>
          <a:prstGeom prst="horizontalScrol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ад еще появится у Маяков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("Через четыре года здесь будет город-сад"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его призрак еще возникнет в "Темных аллеях" Буни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его даже перенесут в косм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("И на Марсе будут яблони цвести"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 нем в ностальгической тоске еще вспомня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аши современники (фильм "Мой друг Иван Лапшин"). </a:t>
            </a:r>
            <a:br>
              <a:rPr sz="2000"/>
            </a:b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Но того - чеховского - вишневого сада больше не буд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Его вырубили в последней пье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оследнего русского классик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8000"/>
                            </p:stCondLst>
                            <p:childTnLst>
                              <p:par>
                                <p:cTn id="615" nodeType="afterEffect" fill="hold" presetClass="exit" presetID="3" presetSubtype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616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9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0" y="811080"/>
            <a:ext cx="9144000" cy="6046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684360" y="787320"/>
            <a:ext cx="7596000" cy="60706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3"/>
          <a:stretch/>
        </p:blipFill>
        <p:spPr>
          <a:xfrm>
            <a:off x="755640" y="3486240"/>
            <a:ext cx="4145040" cy="274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4000"/>
                            </p:stCondLst>
                            <p:childTnLst>
                              <p:par>
                                <p:cTn id="6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xit" presetID="34">
                                  <p:stCondLst>
                                    <p:cond delay="2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5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5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6485040" y="621612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Й «ЛАВКА ЧЕХОВЫХ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692360" y="2460600"/>
            <a:ext cx="5688000" cy="2228400"/>
          </a:xfrm>
          <a:prstGeom prst="rect">
            <a:avLst/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этом доме прошли пять лет жизни будущего писателя, годы его детства и отрочества. Рассказы «Ванька», «Спать хочется», «Канитель», «Певчие», «Архиерей», «Отец се­мейства», «Тяжелые люди» и другие — отголоски этих воспомин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6156360" cy="4048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3"/>
          <a:stretch/>
        </p:blipFill>
        <p:spPr>
          <a:xfrm>
            <a:off x="2843280" y="2741760"/>
            <a:ext cx="6300720" cy="411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45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500"/>
                            </p:stCondLst>
                            <p:childTnLst>
                              <p:par>
                                <p:cTn id="675" nodeType="afterEffect" fill="hold" presetClass="exit" presetID="55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5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0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3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0" y="7761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1692360" y="2316240"/>
            <a:ext cx="5472000" cy="2228400"/>
          </a:xfrm>
          <a:prstGeom prst="rect">
            <a:avLst/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споминания об учебе в гимназии нашли отражение в творчестве Чехова. Рассказы «И то, и се», «Репетитор», «Учитель словесности», «Случай с классиком», «Ариадна», «Человек в фут­ляре» и другие открывают гимназический мир Че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6227640" y="5228280"/>
            <a:ext cx="2916360" cy="642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ТЕРАТУРНЫЙ МУЗЕЙ А.П. ЧЕХОВ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047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4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1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500"/>
                            </p:stCondLst>
                            <p:childTnLst>
                              <p:par>
                                <p:cTn id="726" nodeType="afterEffect" fill="hold" presetClass="exit" presetID="52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72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29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9" nodeType="after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0" dur="3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0"/>
          <p:cNvSpPr/>
          <p:nvPr/>
        </p:nvSpPr>
        <p:spPr>
          <a:xfrm>
            <a:off x="4427640" y="0"/>
            <a:ext cx="4716360" cy="6858000"/>
          </a:xfrm>
          <a:prstGeom prst="beve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9" descr="227"/>
          <p:cNvPicPr/>
          <p:nvPr/>
        </p:nvPicPr>
        <p:blipFill>
          <a:blip r:embed="rId1"/>
          <a:stretch/>
        </p:blipFill>
        <p:spPr>
          <a:xfrm>
            <a:off x="5076720" y="620640"/>
            <a:ext cx="3456000" cy="56880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74" name="AutoShape 11"/>
          <p:cNvSpPr/>
          <p:nvPr/>
        </p:nvSpPr>
        <p:spPr>
          <a:xfrm>
            <a:off x="0" y="260280"/>
            <a:ext cx="4284720" cy="6264360"/>
          </a:xfrm>
          <a:prstGeom prst="verticalScrol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Автор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Мифа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Евг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ченик 8Г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МОУ СОШ №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г. Звере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0" y="81756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1835280" y="2424240"/>
            <a:ext cx="5689440" cy="1923480"/>
          </a:xfrm>
          <a:prstGeom prst="rect">
            <a:avLst/>
          </a:pr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большом двусветном зале дворца устраивались балы и концер­ты, как местных исполнителей, так и приезжих знаменитостей, на кото­рых А.П. Чехов бывал гимназистом и в годы приездов в Таганро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6588000" y="5445000"/>
            <a:ext cx="192276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рико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аевед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з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6012000" cy="3867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"/>
          <p:cNvPicPr/>
          <p:nvPr/>
        </p:nvPicPr>
        <p:blipFill>
          <a:blip r:embed="rId3"/>
          <a:stretch/>
        </p:blipFill>
        <p:spPr>
          <a:xfrm>
            <a:off x="0" y="1197000"/>
            <a:ext cx="4632480" cy="5661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"/>
          <p:cNvPicPr/>
          <p:nvPr/>
        </p:nvPicPr>
        <p:blipFill>
          <a:blip r:embed="rId4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4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0"/>
                            </p:stCondLst>
                            <p:childTnLst>
                              <p:par>
                                <p:cTn id="7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500"/>
                            </p:stCondLst>
                            <p:childTnLst>
                              <p:par>
                                <p:cTn id="758" nodeType="after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769" nodeType="afterEffect" fill="hold" presetClass="exit" presetID="5" presetSubtype="10">
                                  <p:stCondLst>
                                    <p:cond delay="2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1500"/>
                            </p:stCondLst>
                            <p:childTnLst>
                              <p:par>
                                <p:cTn id="7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3500"/>
                            </p:stCondLst>
                            <p:childTnLst>
                              <p:par>
                                <p:cTn id="780" nodeType="afterEffect" fill="hold" presetClass="exit" presetID="5" presetSubtype="10">
                                  <p:stCondLst>
                                    <p:cond delay="2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7000"/>
                            </p:stCondLst>
                            <p:childTnLst>
                              <p:par>
                                <p:cTn id="7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9000"/>
                            </p:stCondLst>
                            <p:childTnLst>
                              <p:par>
                                <p:cTn id="791" nodeType="afterEffect" fill="hold" presetClass="exit" presetID="5" presetSubtype="10">
                                  <p:stCondLst>
                                    <p:cond delay="25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0" y="1149480"/>
            <a:ext cx="9144000" cy="5708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6"/>
          <p:cNvSpPr/>
          <p:nvPr/>
        </p:nvSpPr>
        <p:spPr>
          <a:xfrm>
            <a:off x="5832360" y="5545800"/>
            <a:ext cx="3311640" cy="1313640"/>
          </a:xfrm>
          <a:prstGeom prst="rect">
            <a:avLst/>
          </a:prstGeom>
          <a:gradFill rotWithShape="0">
            <a:gsLst>
              <a:gs pos="0">
                <a:srgbClr val="d4eff8">
                  <a:alpha val="22352"/>
                </a:srgbClr>
              </a:gs>
              <a:gs pos="100000">
                <a:srgbClr val="cbe5ed">
                  <a:alpha val="2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АГАНРОГСКИЙ ОРДЕНА ПОЧ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РАМАТИЧЕСКИЙ ТЕАТР им. А.П. ЧЕХ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619280" y="2316240"/>
            <a:ext cx="5257800" cy="2228400"/>
          </a:xfrm>
          <a:prstGeom prst="rect">
            <a:avLst/>
          </a:prstGeom>
          <a:solidFill>
            <a:srgbClr val="d4eff8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лександр Чехов вспоминал: «&lt;...&gt; городской театр был настоящей, изящной и миленькой игрушкой. На потолке были художественно изображены девять муз. Чудные были картины, великолепные. На них отдыхал глаз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3500"/>
                            </p:stCondLst>
                            <p:childTnLst>
                              <p:par>
                                <p:cTn id="811" nodeType="afterEffect" fill="hold" presetClass="exit" presetID="55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4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232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.Чехов – гордость Д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4616280" y="765000"/>
            <a:ext cx="4527720" cy="6093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7"/>
          <p:cNvSpPr/>
          <p:nvPr/>
        </p:nvSpPr>
        <p:spPr>
          <a:xfrm>
            <a:off x="611280" y="1025280"/>
            <a:ext cx="2952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ткрыт 26 января 1960 г. в сквере им. Чехова на территории Красной (бывшей Александровской) площади. Скульптор — член-корреспондент Академии художеств СССР, народный художник РСФСР, лауреат премии Ленинского комсомола Иулиан Митрофа-нович Рукавишников, архитектор Григорий Алексеевич Заха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4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4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4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4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4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5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d4eff8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нтерес  современного школь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 произведениям А.П.Че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0" y="1125360"/>
            <a:ext cx="9144000" cy="5732640"/>
          </a:xfrm>
          <a:custGeom>
            <a:avLst/>
            <a:gdLst>
              <a:gd name="textAreaLeft" fmla="*/ 2868840 w 9144000"/>
              <a:gd name="textAreaRight" fmla="*/ 6275160 w 9144000"/>
              <a:gd name="textAreaTop" fmla="*/ 1798560 h 5732640"/>
              <a:gd name="textAreaBottom" fmla="*/ 3934080 h 573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153" y="11493"/>
                </a:lnTo>
                <a:lnTo>
                  <a:pt x="368" y="13595"/>
                </a:lnTo>
                <a:lnTo>
                  <a:pt x="5525" y="12931"/>
                </a:lnTo>
                <a:lnTo>
                  <a:pt x="1447" y="16200"/>
                </a:lnTo>
                <a:lnTo>
                  <a:pt x="6257" y="14224"/>
                </a:lnTo>
                <a:lnTo>
                  <a:pt x="3163" y="18437"/>
                </a:lnTo>
                <a:lnTo>
                  <a:pt x="7298" y="15283"/>
                </a:lnTo>
                <a:lnTo>
                  <a:pt x="5400" y="20153"/>
                </a:lnTo>
                <a:lnTo>
                  <a:pt x="8577" y="16037"/>
                </a:lnTo>
                <a:lnTo>
                  <a:pt x="8005" y="21232"/>
                </a:lnTo>
                <a:lnTo>
                  <a:pt x="10008" y="16434"/>
                </a:lnTo>
                <a:lnTo>
                  <a:pt x="10800" y="21600"/>
                </a:lnTo>
                <a:lnTo>
                  <a:pt x="11493" y="16447"/>
                </a:lnTo>
                <a:lnTo>
                  <a:pt x="13595" y="21232"/>
                </a:lnTo>
                <a:lnTo>
                  <a:pt x="12931" y="16075"/>
                </a:lnTo>
                <a:lnTo>
                  <a:pt x="16200" y="20153"/>
                </a:lnTo>
                <a:lnTo>
                  <a:pt x="14224" y="15343"/>
                </a:lnTo>
                <a:lnTo>
                  <a:pt x="18437" y="18437"/>
                </a:lnTo>
                <a:lnTo>
                  <a:pt x="15283" y="14302"/>
                </a:lnTo>
                <a:lnTo>
                  <a:pt x="20153" y="16200"/>
                </a:lnTo>
                <a:lnTo>
                  <a:pt x="16037" y="13023"/>
                </a:lnTo>
                <a:lnTo>
                  <a:pt x="21232" y="13595"/>
                </a:lnTo>
                <a:lnTo>
                  <a:pt x="16434" y="11592"/>
                </a:lnTo>
                <a:lnTo>
                  <a:pt x="21600" y="10800"/>
                </a:lnTo>
                <a:lnTo>
                  <a:pt x="16447" y="10107"/>
                </a:lnTo>
                <a:lnTo>
                  <a:pt x="21232" y="8005"/>
                </a:lnTo>
                <a:lnTo>
                  <a:pt x="16075" y="8669"/>
                </a:lnTo>
                <a:lnTo>
                  <a:pt x="20153" y="5400"/>
                </a:lnTo>
                <a:lnTo>
                  <a:pt x="15343" y="7376"/>
                </a:lnTo>
                <a:lnTo>
                  <a:pt x="18437" y="3163"/>
                </a:lnTo>
                <a:lnTo>
                  <a:pt x="14302" y="6317"/>
                </a:lnTo>
                <a:lnTo>
                  <a:pt x="16200" y="1447"/>
                </a:lnTo>
                <a:lnTo>
                  <a:pt x="13023" y="5563"/>
                </a:lnTo>
                <a:lnTo>
                  <a:pt x="13595" y="368"/>
                </a:lnTo>
                <a:lnTo>
                  <a:pt x="11592" y="5166"/>
                </a:lnTo>
                <a:lnTo>
                  <a:pt x="10800" y="0"/>
                </a:lnTo>
                <a:lnTo>
                  <a:pt x="10107" y="5153"/>
                </a:lnTo>
                <a:lnTo>
                  <a:pt x="8005" y="368"/>
                </a:lnTo>
                <a:lnTo>
                  <a:pt x="8669" y="5525"/>
                </a:lnTo>
                <a:lnTo>
                  <a:pt x="5400" y="1447"/>
                </a:lnTo>
                <a:lnTo>
                  <a:pt x="7376" y="6257"/>
                </a:lnTo>
                <a:lnTo>
                  <a:pt x="3163" y="3163"/>
                </a:lnTo>
                <a:lnTo>
                  <a:pt x="6317" y="7298"/>
                </a:lnTo>
                <a:lnTo>
                  <a:pt x="1447" y="5400"/>
                </a:lnTo>
                <a:lnTo>
                  <a:pt x="5563" y="8577"/>
                </a:lnTo>
                <a:lnTo>
                  <a:pt x="368" y="8005"/>
                </a:lnTo>
                <a:lnTo>
                  <a:pt x="5166" y="10008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пров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нашей школ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и уче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В класса и 8Г клас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5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d4eff8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Интерес  современного школь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 произведениям А.П.Че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0" y="907920"/>
            <a:ext cx="9144000" cy="3429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 такой А.П. Чех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зовут Чехова?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ие произведения Чехова вы зна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де родился и жил А.П.Чех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 когда-нибудь были на Родине Чехо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овите драму, которая была создана пер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ая драма потерпела фиаско при первой постанов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акой драме главным действующим лицом является сад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м по профессии был А.П.Чех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" name="Object 8"/>
          <p:cNvGraphicFramePr/>
          <p:nvPr/>
        </p:nvGraphicFramePr>
        <p:xfrm>
          <a:off x="-181080" y="4295880"/>
          <a:ext cx="9506160" cy="256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4295880"/>
                    <a:ext cx="950616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29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8"/>
          <p:cNvSpPr/>
          <p:nvPr/>
        </p:nvSpPr>
        <p:spPr>
          <a:xfrm>
            <a:off x="5076720" y="1268280"/>
            <a:ext cx="3888000" cy="5589720"/>
          </a:xfrm>
          <a:prstGeom prst="foldedCorner">
            <a:avLst>
              <a:gd name="adj" fmla="val 8393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1801440"/>
            <a:ext cx="4427640" cy="48488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истории России Антон Павлович Чехов остался как мастер короткого рассказа и нового типа пьесы - трагикомедии. Его умение найти точную художественную деталь, талант отражения тончайших душевных переживаний героев снискали ему известность не только в России, но и  во многих странах ми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6" descr="764"/>
          <p:cNvPicPr/>
          <p:nvPr/>
        </p:nvPicPr>
        <p:blipFill>
          <a:blip r:embed="rId1"/>
          <a:stretch/>
        </p:blipFill>
        <p:spPr>
          <a:xfrm>
            <a:off x="5435640" y="1700280"/>
            <a:ext cx="3186000" cy="482436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10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750"/>
                            </p:stCondLst>
                            <p:childTnLst>
                              <p:par>
                                <p:cTn id="8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750"/>
                            </p:stCondLst>
                            <p:childTnLst>
                              <p:par>
                                <p:cTn id="9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826920" y="981000"/>
            <a:ext cx="7848720" cy="5472360"/>
          </a:xfrm>
          <a:prstGeom prst="horizontalScroll">
            <a:avLst>
              <a:gd name="adj" fmla="val 8731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мятники архитектуры, истории и культур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казывающие о биографиче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творческих связях А.П. Чех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родным городом Таганрог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идетельствуют о т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Чехова любят и помнят на Д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50"/>
                            </p:stCondLst>
                            <p:childTnLst>
                              <p:par>
                                <p:cTn id="9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4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0" y="907920"/>
            <a:ext cx="9144000" cy="5950080"/>
          </a:xfrm>
          <a:custGeom>
            <a:avLst/>
            <a:gdLst>
              <a:gd name="textAreaLeft" fmla="*/ 2087280 w 9144000"/>
              <a:gd name="textAreaRight" fmla="*/ 7056720 w 9144000"/>
              <a:gd name="textAreaTop" fmla="*/ 1358280 h 5950080"/>
              <a:gd name="textAreaBottom" fmla="*/ 4591800 h 595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ологический опрос показа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школьники хорошо помня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исателя Антона Павловича Чехов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ют его биограф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тают его произ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формационные ресурс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тератур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омов М.П. «Книга о Чехове»,М., «Современник», 198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урин М.Г.,Мотольская Д.К.«Русская литература»,М., «Просвещение», 1982, 311-35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оплева Е.П., Кожевникова Е.А. «Чеховские места в Таганроге», г.Таганрог, ООО Издательство «Лукоморье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сурсы 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ika.ru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сайт «Информика» Министерства образования Р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льтимедийная энциклопедия «Русская литература», ЗАО «Новый диск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4140360" cy="5084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5651640" y="5235840"/>
            <a:ext cx="3492360" cy="1618560"/>
          </a:xfrm>
          <a:prstGeom prst="rect">
            <a:avLst/>
          </a:prstGeom>
          <a:solidFill>
            <a:srgbClr val="c1e7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нтон Павлович Чехов у Льва Николаевича Толстого (Крым, 1901). Фотография С. А. Толс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0" y="0"/>
            <a:ext cx="9144000" cy="1368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0 h 1368360"/>
              <a:gd name="textAreaBottom" fmla="*/ 1216440 h 1368360"/>
            </a:gdLst>
            <a:ahLst/>
            <a:rect l="textAreaLeft" t="textAreaTop" r="textAreaRight" b="textAreaBottom"/>
            <a:pathLst>
              <a:path w="21600" h="21600">
                <a:moveTo>
                  <a:pt x="8100" y="19198"/>
                </a:moveTo>
                <a:lnTo>
                  <a:pt x="8100" y="21000"/>
                </a:lnTo>
                <a:cubicBezTo>
                  <a:pt x="8100" y="213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001"/>
                </a:lnTo>
                <a:lnTo>
                  <a:pt x="0" y="2402"/>
                </a:lnTo>
                <a:lnTo>
                  <a:pt x="5400" y="2402"/>
                </a:lnTo>
                <a:lnTo>
                  <a:pt x="5400" y="601"/>
                </a:lnTo>
                <a:cubicBezTo>
                  <a:pt x="5400" y="3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00"/>
                  <a:pt x="16200" y="601"/>
                </a:cubicBezTo>
                <a:lnTo>
                  <a:pt x="16200" y="2402"/>
                </a:lnTo>
                <a:lnTo>
                  <a:pt x="21600" y="2402"/>
                </a:lnTo>
                <a:lnTo>
                  <a:pt x="18850" y="12001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300"/>
                  <a:pt x="13500" y="21000"/>
                </a:cubicBezTo>
                <a:lnTo>
                  <a:pt x="13500" y="19198"/>
                </a:lnTo>
                <a:close/>
              </a:path>
              <a:path fill="darkenLess" w="21600" h="21600">
                <a:moveTo>
                  <a:pt x="8100" y="19198"/>
                </a:moveTo>
                <a:lnTo>
                  <a:pt x="8100" y="21000"/>
                </a:lnTo>
                <a:cubicBezTo>
                  <a:pt x="8100" y="20699"/>
                  <a:pt x="7680" y="20399"/>
                  <a:pt x="7260" y="20399"/>
                </a:cubicBezTo>
                <a:lnTo>
                  <a:pt x="6240" y="20399"/>
                </a:lnTo>
                <a:cubicBezTo>
                  <a:pt x="5820" y="20399"/>
                  <a:pt x="5400" y="20099"/>
                  <a:pt x="5400" y="19799"/>
                </a:cubicBezTo>
                <a:cubicBezTo>
                  <a:pt x="5400" y="19498"/>
                  <a:pt x="5820" y="19198"/>
                  <a:pt x="6240" y="19198"/>
                </a:cubicBezTo>
                <a:close/>
              </a:path>
              <a:path fill="darkenLess" w="21600" h="21600">
                <a:moveTo>
                  <a:pt x="13500" y="19198"/>
                </a:moveTo>
                <a:lnTo>
                  <a:pt x="13500" y="21000"/>
                </a:lnTo>
                <a:cubicBezTo>
                  <a:pt x="13500" y="20699"/>
                  <a:pt x="13920" y="20399"/>
                  <a:pt x="14340" y="20399"/>
                </a:cubicBezTo>
                <a:lnTo>
                  <a:pt x="15360" y="20399"/>
                </a:lnTo>
                <a:cubicBezTo>
                  <a:pt x="15780" y="20399"/>
                  <a:pt x="16200" y="20099"/>
                  <a:pt x="16200" y="19799"/>
                </a:cubicBezTo>
                <a:cubicBezTo>
                  <a:pt x="16200" y="19498"/>
                  <a:pt x="15780" y="19198"/>
                  <a:pt x="15360" y="19198"/>
                </a:cubicBezTo>
                <a:close/>
              </a:path>
              <a:path fill="darkenLess" w="21600" h="21600">
                <a:moveTo>
                  <a:pt x="5400" y="19799"/>
                </a:moveTo>
                <a:lnTo>
                  <a:pt x="5400" y="2402"/>
                </a:lnTo>
              </a:path>
              <a:path fill="darkenLess" w="21600" h="21600">
                <a:moveTo>
                  <a:pt x="16200" y="19799"/>
                </a:moveTo>
                <a:lnTo>
                  <a:pt x="16200" y="2402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Тема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«Вся Россия наш сад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0" y="1916280"/>
            <a:ext cx="4932360" cy="4941720"/>
          </a:xfrm>
          <a:custGeom>
            <a:avLst/>
            <a:gdLst>
              <a:gd name="textAreaLeft" fmla="*/ 0 w 4932360"/>
              <a:gd name="textAreaRight" fmla="*/ 4932720 w 4932360"/>
              <a:gd name="textAreaTop" fmla="*/ 640440 h 4941720"/>
              <a:gd name="textAreaBottom" fmla="*/ 4301280 h 4941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Гипотез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Неизгладимый след Чеховс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мысли в Ро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А.П.Чехов – гордость Д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Интерес  современного школьн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к произведениям А.П.Чех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9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4"/>
          <p:cNvSpPr/>
          <p:nvPr/>
        </p:nvSpPr>
        <p:spPr>
          <a:xfrm flipV="1">
            <a:off x="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421160" cy="595008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81" name="Rectangle 6"/>
          <p:cNvSpPr/>
          <p:nvPr/>
        </p:nvSpPr>
        <p:spPr>
          <a:xfrm>
            <a:off x="0" y="1375920"/>
            <a:ext cx="399564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яжелые впечатления детства и юности найдут позже отражение в рассказах Чехова о детях. Вспомним хотя бы такие его рассказы, как "Ванька", "Спать хочется". Есть у него также своеобразная серия рассказов об учителях - "Человек в футляре", "Крыжовник", "О перв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бви"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Мастер короткого расска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940360" y="47242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мятник: А. П. Чехову (Украина, Крым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xit" presetID="2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3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3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3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90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681360" cy="4653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4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0" y="0"/>
            <a:ext cx="9144000" cy="15987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47160 h 1598760"/>
              <a:gd name="textAreaBottom" fmla="*/ 1199160 h 159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Трагикомед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0" y="1700280"/>
            <a:ext cx="5076720" cy="5157720"/>
          </a:xfrm>
          <a:custGeom>
            <a:avLst/>
            <a:gdLst>
              <a:gd name="textAreaLeft" fmla="*/ 247680 w 5076720"/>
              <a:gd name="textAreaRight" fmla="*/ 4829040 w 5076720"/>
              <a:gd name="textAreaTop" fmla="*/ 247680 h 5157720"/>
              <a:gd name="textAreaBottom" fmla="*/ 4910040 h 5157720"/>
            </a:gdLst>
            <a:ahLst/>
            <a:rect l="textAreaLeft" t="textAreaTop" r="textAreaRight" b="textAreaBottom"/>
            <a:pathLst>
              <a:path w="21600" h="21945">
                <a:moveTo>
                  <a:pt x="3600" y="0"/>
                </a:moveTo>
                <a:arcTo wR="3600" hR="3600" stAng="16200000" swAng="-5400000"/>
                <a:lnTo>
                  <a:pt x="0" y="18345"/>
                </a:lnTo>
                <a:arcTo wR="3600" hR="3600" stAng="10800000" swAng="-5400000"/>
                <a:lnTo>
                  <a:pt x="18000" y="219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Антон Павлович Чех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как никогда ощутил устарел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ряда основных прие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характерных д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традиционной драматург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Уже в "Чайке" (1896) он намет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"иные пути для драмы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Именно там главный гер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(Треплев) произноси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знаменитый моно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о современном театр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с его морализм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утверждая, что это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</a:rPr>
              <a:t>"рутина", "предрассудок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xit" presetID="2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5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>
            <a:grayscl/>
            <a:lum contrast="-4000"/>
          </a:blip>
          <a:stretch/>
        </p:blipFill>
        <p:spPr>
          <a:xfrm>
            <a:off x="4356000" y="1844640"/>
            <a:ext cx="4422960" cy="472428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8"/>
          <p:cNvSpPr/>
          <p:nvPr/>
        </p:nvSpPr>
        <p:spPr>
          <a:xfrm>
            <a:off x="0" y="1682640"/>
            <a:ext cx="3816360" cy="5175360"/>
          </a:xfrm>
          <a:prstGeom prst="horizontalScroll">
            <a:avLst>
              <a:gd name="adj" fmla="val 12500"/>
            </a:avLst>
          </a:prstGeom>
          <a:solidFill>
            <a:srgbClr val="c1e7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508720" y="5377320"/>
            <a:ext cx="3168720" cy="1008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А. П. Чехов и Д. М. Мусина-Пушкина в Мелихо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39640" y="2276640"/>
            <a:ext cx="3203640" cy="48488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Чехов строит свой театр на недосказанн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а аллюзиях, намеках, полутонах, настроения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взрывающих изнутри традиционные формы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0" y="0"/>
            <a:ext cx="9144000" cy="15987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47160 h 1598760"/>
              <a:gd name="textAreaBottom" fmla="*/ 1199160 h 159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Трагикомед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flipV="1">
            <a:off x="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2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200"/>
                            </p:stCondLst>
                            <p:childTnLst>
                              <p:par>
                                <p:cTn id="1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91" fill="hold">
                                          <p:stCondLst>
                                            <p:cond delay="9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1" autoRev="1" fill="hold">
                                          <p:stCondLst>
                                            <p:cond delay="91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7" fill="hold">
                                          <p:stCondLst>
                                            <p:cond delay="173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2700"/>
                            </p:stCondLst>
                            <p:childTnLst>
                              <p:par>
                                <p:cTn id="177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3"/>
          <p:cNvSpPr/>
          <p:nvPr/>
        </p:nvSpPr>
        <p:spPr>
          <a:xfrm>
            <a:off x="4284720" y="1341360"/>
            <a:ext cx="4859280" cy="5516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"/>
          <p:cNvPicPr/>
          <p:nvPr/>
        </p:nvPicPr>
        <p:blipFill>
          <a:blip r:embed="rId1"/>
          <a:stretch/>
        </p:blipFill>
        <p:spPr>
          <a:xfrm>
            <a:off x="4930920" y="1916280"/>
            <a:ext cx="3655800" cy="446544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4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4480 h 836640"/>
              <a:gd name="textAreaBottom" fmla="*/ 627480 h 836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c1e7f5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ff"/>
                </a:solidFill>
                <a:latin typeface="Arial"/>
              </a:rPr>
              <a:t>Трагикомед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250920" y="1700280"/>
            <a:ext cx="4105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рамах Чехова конфли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сит принципиально новый характ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го особая природа позволяет обнаруж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го произведениях внутреннее и внешнее действие и подобного же плана сюж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ем главным является не внешний традиционный сюж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нутренний, «второй план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и "подводное течение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определению Вл. И. Немировича-Данчен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20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291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2987640" y="907920"/>
            <a:ext cx="5867280" cy="5950080"/>
          </a:xfrm>
          <a:prstGeom prst="triangle">
            <a:avLst>
              <a:gd name="adj" fmla="val 50000"/>
            </a:avLst>
          </a:pr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Настоящ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провалом ст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постановка перв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оригинальной пье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Чехова «Чай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Только Моск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Художественный театр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оценивший простот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естественность и внутрен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подтекст пьесы, смог воплот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авторскую концепц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С тех пор «Чайка» стала символ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театра, а Чехов – его постоянным авто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0" y="5943600"/>
            <a:ext cx="2556000" cy="914400"/>
          </a:xfrm>
          <a:prstGeom prst="rect">
            <a:avLst/>
          </a:pr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Дом-муз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 Мелихо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0" y="0"/>
            <a:ext cx="9144000" cy="7621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1e7f5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«Чайк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5"/>
          <p:cNvSpPr/>
          <p:nvPr/>
        </p:nvSpPr>
        <p:spPr>
          <a:xfrm>
            <a:off x="2627280" y="5157720"/>
            <a:ext cx="3794040" cy="1700280"/>
          </a:xfrm>
          <a:prstGeom prst="wedgeRectCallout">
            <a:avLst>
              <a:gd name="adj1" fmla="val -44685"/>
              <a:gd name="adj2" fmla="val -52055"/>
            </a:avLst>
          </a:prstGeom>
          <a:solidFill>
            <a:srgbClr val="d4eff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Сцена из спектакля "Вишневый сад". Театр "Современник". Аня - Мария Аниканова, Варя - Елена Яковле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flipV="1">
            <a:off x="179280" y="-720"/>
            <a:ext cx="2987640" cy="1413000"/>
          </a:xfrm>
          <a:prstGeom prst="wedgeRoundRectCallout">
            <a:avLst>
              <a:gd name="adj1" fmla="val 103398"/>
              <a:gd name="adj2" fmla="val -94157"/>
              <a:gd name="adj3" fmla="val 16667"/>
            </a:avLst>
          </a:prstGeom>
          <a:solidFill>
            <a:srgbClr val="d4eff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Неизгладимый след Чеховской мысли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 rot="10800000">
            <a:off x="3203280" y="0"/>
            <a:ext cx="5940360" cy="6858000"/>
          </a:xfrm>
          <a:prstGeom prst="triangle">
            <a:avLst>
              <a:gd name="adj" fmla="val 50000"/>
            </a:avLst>
          </a:prstGeom>
          <a:solidFill>
            <a:srgbClr val="c1e7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Идеологически "Чайка" говорит: напрас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иллюзии и надежды построить жиз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на удовлетворении  личного счасть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жизнь их неумолимо разоблача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Нужны идеалы и ве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в своё призвани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для служения котор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человек мог бы жертвен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отнест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к своей лич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80"/>
                </a:solidFill>
                <a:uFillTx/>
                <a:latin typeface="Arial"/>
              </a:rPr>
              <a:t>судь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179280" y="189000"/>
            <a:ext cx="8964720" cy="609480"/>
          </a:xfrm>
          <a:custGeom>
            <a:avLst/>
            <a:gdLst>
              <a:gd name="textAreaLeft" fmla="*/ 2241000 w 8964720"/>
              <a:gd name="textAreaRight" fmla="*/ 6723720 w 89647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0" stAng="16200000" swAng="-5400000"/>
                <a:lnTo>
                  <a:pt x="8100" y="0"/>
                </a:lnTo>
                <a:lnTo>
                  <a:pt x="13500" y="0"/>
                </a:lnTo>
                <a:lnTo>
                  <a:pt x="13500" y="0"/>
                </a:lnTo>
                <a:arcTo wR="675" hR="0" stAng="10800000" swAng="-5400000"/>
                <a:lnTo>
                  <a:pt x="21600" y="0"/>
                </a:lnTo>
                <a:lnTo>
                  <a:pt x="18900" y="10800"/>
                </a:lnTo>
                <a:lnTo>
                  <a:pt x="21600" y="21600"/>
                </a:lnTo>
                <a:lnTo>
                  <a:pt x="16200" y="21600"/>
                </a:lnTo>
                <a:lnTo>
                  <a:pt x="16200" y="21600"/>
                </a:lnTo>
                <a:arcTo wR="675" hR="0" stAng="0" swAng="-5400000"/>
                <a:lnTo>
                  <a:pt x="6075" y="21600"/>
                </a:lnTo>
                <a:arcTo wR="675" hR="0" stAng="16200000" swAng="-5400000"/>
                <a:lnTo>
                  <a:pt x="54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  <a:path fill="none" w="21600" h="21600">
                <a:moveTo>
                  <a:pt x="8100" y="0"/>
                </a:moveTo>
                <a:arcTo wR="675" hR="0" stAng="0" swAng="-5400000"/>
                <a:lnTo>
                  <a:pt x="6075" y="0"/>
                </a:lnTo>
                <a:arcTo wR="675" hR="0" stAng="16200000" swAng="-5400000"/>
                <a:arcTo wR="675" hR="0" stAng="10800000" swAng="-5400000"/>
                <a:lnTo>
                  <a:pt x="8100" y="0"/>
                </a:lnTo>
              </a:path>
              <a:path fill="none" w="21600" h="21600">
                <a:moveTo>
                  <a:pt x="13500" y="0"/>
                </a:moveTo>
                <a:arcTo wR="675" hR="0" stAng="10800000" swAng="-5400000"/>
                <a:lnTo>
                  <a:pt x="15525" y="0"/>
                </a:lnTo>
                <a:arcTo wR="675" hR="0" stAng="16200000" swAng="-5400000"/>
                <a:arcTo wR="675" hR="0" stAng="0" swAng="-5400000"/>
                <a:lnTo>
                  <a:pt x="13500" y="0"/>
                </a:lnTo>
              </a:path>
              <a:path fill="none" w="21600" h="21600">
                <a:moveTo>
                  <a:pt x="5400" y="0"/>
                </a:moveTo>
                <a:lnTo>
                  <a:pt x="5400" y="21600"/>
                </a:lnTo>
              </a:path>
              <a:path fill="none" w="21600" h="21600">
                <a:moveTo>
                  <a:pt x="16200" y="0"/>
                </a:moveTo>
                <a:lnTo>
                  <a:pt x="16200" y="21600"/>
                </a:lnTo>
              </a:path>
            </a:pathLst>
          </a:custGeom>
          <a:solidFill>
            <a:srgbClr val="c1e7f5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«Чайка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xit" presetID="29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1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500"/>
                            </p:stCondLst>
                            <p:childTnLst>
                              <p:par>
                                <p:cTn id="272" nodeType="afterEffect" fill="hold" presetClass="exit" presetID="5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6600"/>
                            </p:stCondLst>
                            <p:childTnLst>
                              <p:par>
                                <p:cTn id="287" nodeType="afterEffect" fill="hold" presetClass="exit" presetID="55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600"/>
                            </p:stCondLst>
                            <p:childTnLst>
                              <p:par>
                                <p:cTn id="2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5350"/>
                            </p:stCondLst>
                            <p:childTnLst>
                              <p:par>
                                <p:cTn id="299" nodeType="afterEffect" fill="hold" presetClass="exit" presetID="55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1:14:30Z</dcterms:created>
  <dc:creator>Я</dc:creator>
  <dc:description/>
  <dc:language>en-US</dc:language>
  <cp:lastModifiedBy>Admin</cp:lastModifiedBy>
  <dcterms:modified xsi:type="dcterms:W3CDTF">2009-11-18T19:23:28Z</dcterms:modified>
  <cp:revision>16</cp:revision>
  <dc:subject/>
  <dc:title>«Чехове Россия полюбила себя»</dc:title>
</cp:coreProperties>
</file>