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3C4-13D5-4EA1-A3BB-28AB2C97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AC25-FEE4-4582-A347-3CB480A5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85B-C1CC-40EE-B71D-9A00F476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87A-E030-48A3-81F8-8DCA6B07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BBED-AE06-4DE7-9274-0F43C2A3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BA90-888D-4A59-ACEC-EDC70F76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53B3-01A6-4E5F-BC0A-E068D337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F34C-B52B-4FD6-B79C-626737A7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94CB-C954-4B5F-9CEA-1B11C86C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1314-75FC-4668-B923-42EF3058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4BBA-41F3-484E-A19C-92284D3F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484-F90E-412C-AED1-BDCF4FE7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B3E2-E32C-4258-9260-89A4F28E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EE59-99A7-49A8-9E52-7C6B9310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49C0-1C30-4788-8F11-9B80CB81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02CF-A984-4B65-A5C3-223B9DAB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300A-B8A7-4CF5-93BA-7577E03E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750-2613-424D-BB75-8991B12A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19E-164C-4418-9D0D-466F5C69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44C-A9F2-48C2-9431-18E72FDC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7A4-2847-4066-A058-05324E25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500-61A3-4CFB-A53A-49B98056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ED7-3E08-4238-82CD-3690819C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7D9-3B73-4203-B39F-B3A771A6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9EC4-56AC-4658-BE18-13830D76F9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8AFC-86B3-4017-8470-CFE2682D99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День учителя                            математик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3962520"/>
            <a:ext cx="768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Фестиваль педагогических ид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477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   </a:t>
            </a: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Участники фестивал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5" descr="IMG_0520"/>
          <p:cNvPicPr/>
          <p:nvPr/>
        </p:nvPicPr>
        <p:blipFill>
          <a:blip r:embed="rId1">
            <a:lum bright="18000"/>
          </a:blip>
          <a:srcRect l="0" t="10643" r="0" b="0"/>
          <a:stretch/>
        </p:blipFill>
        <p:spPr>
          <a:xfrm>
            <a:off x="324000" y="112536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Рабочие момен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5" descr="IMG_0492"/>
          <p:cNvPicPr/>
          <p:nvPr/>
        </p:nvPicPr>
        <p:blipFill>
          <a:blip r:embed="rId1"/>
          <a:stretch/>
        </p:blipFill>
        <p:spPr>
          <a:xfrm>
            <a:off x="838080" y="2527200"/>
            <a:ext cx="3927600" cy="294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STB_0476"/>
          <p:cNvPicPr/>
          <p:nvPr/>
        </p:nvPicPr>
        <p:blipFill>
          <a:blip r:embed="rId2"/>
          <a:stretch/>
        </p:blipFill>
        <p:spPr>
          <a:xfrm>
            <a:off x="491796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Презентация учебн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565360"/>
            <a:ext cx="45352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Выступает с презентацией учебника учитель математики МОУ Тээлинская СОШ – Хомушку Алефтина Чылбак-ооловн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IMG_0504"/>
          <p:cNvPicPr/>
          <p:nvPr/>
        </p:nvPicPr>
        <p:blipFill>
          <a:blip r:embed="rId1"/>
          <a:stretch/>
        </p:blipFill>
        <p:spPr>
          <a:xfrm>
            <a:off x="5408640" y="2036880"/>
            <a:ext cx="3195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Мастер-клас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000" y="2708280"/>
            <a:ext cx="429732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астер – класс проводит учитель математики и информатики МОУ Тээлинская СОШ – Таргын Надежда Владими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7" descr="IMG_0513"/>
          <p:cNvPicPr/>
          <p:nvPr/>
        </p:nvPicPr>
        <p:blipFill>
          <a:blip r:embed="rId1">
            <a:lum bright="12000"/>
          </a:blip>
          <a:srcRect l="11360" t="0" r="0" b="0"/>
          <a:stretch/>
        </p:blipFill>
        <p:spPr>
          <a:xfrm>
            <a:off x="5148360" y="2527200"/>
            <a:ext cx="36972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11" descr="STC_0477"/>
          <p:cNvPicPr/>
          <p:nvPr/>
        </p:nvPicPr>
        <p:blipFill>
          <a:blip r:embed="rId1"/>
          <a:stretch/>
        </p:blipFill>
        <p:spPr>
          <a:xfrm>
            <a:off x="571680" y="612720"/>
            <a:ext cx="52146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440" y="4857480"/>
            <a:ext cx="54864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уководитель  КМО  учителей математики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углай-оол Эльвира Кызыл-оо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3296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Вручение сертификато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8" descr="IMG_0533"/>
          <p:cNvPicPr/>
          <p:nvPr/>
        </p:nvPicPr>
        <p:blipFill>
          <a:blip r:embed="rId1"/>
          <a:stretch/>
        </p:blipFill>
        <p:spPr>
          <a:xfrm>
            <a:off x="357120" y="135720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43080" y="5357880"/>
            <a:ext cx="1857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IMG_0537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21640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Рабочие момен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7" descr="STF_0480"/>
          <p:cNvPicPr/>
          <p:nvPr/>
        </p:nvPicPr>
        <p:blipFill>
          <a:blip r:embed="rId1"/>
          <a:srcRect l="16250" t="0" r="0" b="0"/>
          <a:stretch/>
        </p:blipFill>
        <p:spPr>
          <a:xfrm rot="20808600">
            <a:off x="536040" y="2690280"/>
            <a:ext cx="4102200" cy="3310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STG_0481"/>
          <p:cNvPicPr/>
          <p:nvPr/>
        </p:nvPicPr>
        <p:blipFill>
          <a:blip r:embed="rId2"/>
          <a:srcRect l="20535" t="0" r="0" b="0"/>
          <a:stretch/>
        </p:blipFill>
        <p:spPr>
          <a:xfrm rot="20752200">
            <a:off x="5181120" y="2360160"/>
            <a:ext cx="356724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Гость фестивал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917960" y="3428640"/>
            <a:ext cx="3927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нспектор КожОО – Тойбу-Хаа Долаана Болат-оо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IMG_0488"/>
          <p:cNvPicPr/>
          <p:nvPr/>
        </p:nvPicPr>
        <p:blipFill>
          <a:blip r:embed="rId1">
            <a:lum bright="6000"/>
          </a:blip>
          <a:srcRect l="9175" t="9805" r="11965" b="0"/>
          <a:stretch/>
        </p:blipFill>
        <p:spPr>
          <a:xfrm>
            <a:off x="568440" y="2060640"/>
            <a:ext cx="4508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2:34:48Z</dcterms:created>
  <dc:creator>XP GAME 2008</dc:creator>
  <dc:description/>
  <dc:language>en-US</dc:language>
  <cp:lastModifiedBy>server</cp:lastModifiedBy>
  <dcterms:modified xsi:type="dcterms:W3CDTF">2010-12-02T05:20:41Z</dcterms:modified>
  <cp:revision>6</cp:revision>
  <dc:subject/>
  <dc:title>        День учителя                            математики</dc:title>
</cp:coreProperties>
</file>