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1640-8A89-4DE7-92D4-6D60AA152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2AE1-495F-40C7-B894-6FE13353A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C558-7FE2-4BFB-8B83-E7B37E10B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599A-CC22-4F5C-9630-ED24235CC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1F575-D088-4143-82B0-740B5ADF4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2F505-FA16-42D6-8973-CF72A2AD3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8DB52-D046-4A4C-8989-620AA47C3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A2037-8F73-4661-BC36-43E36BE7E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509F3-BC35-4A8E-AB09-4A8264FF5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5EDE2-04B3-46FF-91FA-3FABE2D30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BA39F-085D-410B-B1FF-BE65F4A2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3C6F-7353-4049-89A8-162ABE64C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87CA6-5EA7-4F72-BB77-3BE2ACE2A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6A7E9-C248-4250-954B-FACEE410C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F7519-DB7F-4F98-997A-312E7490E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BB4F3-435B-47E5-A085-B9F4BBBB5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8D307-CF2B-4D14-B0AE-B09AEFAF7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FE4F-852A-4609-8C11-D2C6ED4AD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FE9B-1791-43A9-8F16-490231B4D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E78F-D517-49CD-A04D-2A2BB88FB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2DF1-A627-4E05-8B09-E9D7D1C35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935B-81A6-42BC-A5E3-8E474C833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1128-C4AD-41A9-A5AD-F05320474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D78C-5622-4FFD-A566-091B4AAE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E5FA4-693B-495E-B104-2C8A3922F16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D600B-6E01-40B8-A13E-5FFC7B70C8D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        </a:t>
            </a: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День учителя                            математики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360" y="3962520"/>
            <a:ext cx="7684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66"/>
                </a:solidFill>
                <a:latin typeface="Arial"/>
              </a:rPr>
              <a:t>Фестиваль педагогических иде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74772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 Black"/>
              </a:rPr>
              <a:t>   </a:t>
            </a:r>
            <a:r>
              <a:rPr b="1" lang="ru-RU" sz="4000" spc="-1" strike="noStrike">
                <a:solidFill>
                  <a:srgbClr val="000099"/>
                </a:solidFill>
                <a:latin typeface="Arial Black"/>
              </a:rPr>
              <a:t>Участники фестиваля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1" name="Picture 5" descr="IMG_0520"/>
          <p:cNvPicPr/>
          <p:nvPr/>
        </p:nvPicPr>
        <p:blipFill>
          <a:blip r:embed="rId1">
            <a:lum bright="18000"/>
          </a:blip>
          <a:srcRect l="0" t="10643" r="0" b="0"/>
          <a:stretch/>
        </p:blipFill>
        <p:spPr>
          <a:xfrm>
            <a:off x="324000" y="1125360"/>
            <a:ext cx="82803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 Black"/>
              </a:rPr>
              <a:t>      </a:t>
            </a:r>
            <a:r>
              <a:rPr b="1" lang="ru-RU" sz="4400" spc="-1" strike="noStrike">
                <a:solidFill>
                  <a:srgbClr val="000099"/>
                </a:solidFill>
                <a:latin typeface="Arial Black"/>
              </a:rPr>
              <a:t>Рабочие момен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3" name="Picture 5" descr="IMG_0492"/>
          <p:cNvPicPr/>
          <p:nvPr/>
        </p:nvPicPr>
        <p:blipFill>
          <a:blip r:embed="rId1"/>
          <a:stretch/>
        </p:blipFill>
        <p:spPr>
          <a:xfrm>
            <a:off x="838080" y="2527200"/>
            <a:ext cx="3927600" cy="2946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STB_0476"/>
          <p:cNvPicPr/>
          <p:nvPr/>
        </p:nvPicPr>
        <p:blipFill>
          <a:blip r:embed="rId2"/>
          <a:stretch/>
        </p:blipFill>
        <p:spPr>
          <a:xfrm>
            <a:off x="4917960" y="2527200"/>
            <a:ext cx="3927600" cy="29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 Black"/>
              </a:rPr>
              <a:t>Презентация учебни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360" y="2565360"/>
            <a:ext cx="45352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Выступает с презентацией учебника учитель математики МОУ Тээлинская СОШ – Хомушку Алефтина Чылбак-ооловна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7" descr="IMG_0504"/>
          <p:cNvPicPr/>
          <p:nvPr/>
        </p:nvPicPr>
        <p:blipFill>
          <a:blip r:embed="rId1"/>
          <a:stretch/>
        </p:blipFill>
        <p:spPr>
          <a:xfrm>
            <a:off x="5408640" y="2036880"/>
            <a:ext cx="3195720" cy="42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</a:t>
            </a:r>
            <a:r>
              <a:rPr b="1" lang="ru-RU" sz="4400" spc="-1" strike="noStrike">
                <a:solidFill>
                  <a:srgbClr val="000099"/>
                </a:solidFill>
                <a:latin typeface="Arial Black"/>
              </a:rPr>
              <a:t>Мастер-класс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68000" y="2708280"/>
            <a:ext cx="4297320" cy="33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Мастер – класс проводит учитель математики и информатики МОУ Тээлинская СОШ – Таргын Надежда Владимиро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7" descr="IMG_0513"/>
          <p:cNvPicPr/>
          <p:nvPr/>
        </p:nvPicPr>
        <p:blipFill>
          <a:blip r:embed="rId1">
            <a:lum bright="12000"/>
          </a:blip>
          <a:srcRect l="11360" t="0" r="0" b="0"/>
          <a:stretch/>
        </p:blipFill>
        <p:spPr>
          <a:xfrm>
            <a:off x="5148360" y="2527200"/>
            <a:ext cx="3697200" cy="33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2" name="Picture 11" descr="STC_0477"/>
          <p:cNvPicPr/>
          <p:nvPr/>
        </p:nvPicPr>
        <p:blipFill>
          <a:blip r:embed="rId1"/>
          <a:stretch/>
        </p:blipFill>
        <p:spPr>
          <a:xfrm>
            <a:off x="571680" y="612720"/>
            <a:ext cx="5214600" cy="4114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92440" y="4857480"/>
            <a:ext cx="5486400" cy="13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Руководитель  КМО  учителей математики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Суглай-оол Эльвира Кызыл-ооло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3296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 Black"/>
              </a:rPr>
              <a:t>  </a:t>
            </a:r>
            <a:r>
              <a:rPr b="1" lang="ru-RU" sz="3600" spc="-1" strike="noStrike">
                <a:solidFill>
                  <a:srgbClr val="000099"/>
                </a:solidFill>
                <a:latin typeface="Arial Black"/>
              </a:rPr>
              <a:t>Вручение сертификатов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5" name="Picture 8" descr="IMG_0533"/>
          <p:cNvPicPr/>
          <p:nvPr/>
        </p:nvPicPr>
        <p:blipFill>
          <a:blip r:embed="rId1"/>
          <a:stretch/>
        </p:blipFill>
        <p:spPr>
          <a:xfrm>
            <a:off x="357120" y="1357200"/>
            <a:ext cx="5111640" cy="3834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143080" y="5357880"/>
            <a:ext cx="18576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7" descr="IMG_0537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5216400" y="2527200"/>
            <a:ext cx="3927600" cy="29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</a:t>
            </a:r>
            <a:r>
              <a:rPr b="1" lang="ru-RU" sz="4400" spc="-1" strike="noStrike">
                <a:solidFill>
                  <a:srgbClr val="000099"/>
                </a:solidFill>
                <a:latin typeface="Arial Black"/>
              </a:rPr>
              <a:t>Рабочие момен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9" name="Picture 7" descr="STF_0480"/>
          <p:cNvPicPr/>
          <p:nvPr/>
        </p:nvPicPr>
        <p:blipFill>
          <a:blip r:embed="rId1"/>
          <a:srcRect l="16250" t="0" r="0" b="0"/>
          <a:stretch/>
        </p:blipFill>
        <p:spPr>
          <a:xfrm rot="20808600">
            <a:off x="536040" y="2690280"/>
            <a:ext cx="4102200" cy="33102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STG_0481"/>
          <p:cNvPicPr/>
          <p:nvPr/>
        </p:nvPicPr>
        <p:blipFill>
          <a:blip r:embed="rId2"/>
          <a:srcRect l="20535" t="0" r="0" b="0"/>
          <a:stretch/>
        </p:blipFill>
        <p:spPr>
          <a:xfrm rot="20752200">
            <a:off x="5181120" y="2360160"/>
            <a:ext cx="356724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</a:t>
            </a:r>
            <a:r>
              <a:rPr b="1" lang="ru-RU" sz="4400" spc="-1" strike="noStrike">
                <a:solidFill>
                  <a:srgbClr val="000099"/>
                </a:solidFill>
                <a:latin typeface="Arial Black"/>
              </a:rPr>
              <a:t>Гость фестивал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917960" y="3428640"/>
            <a:ext cx="39276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Инспектор КожОО – Тойбу-Хаа Долаана Болат-ооло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7" descr="IMG_0488"/>
          <p:cNvPicPr/>
          <p:nvPr/>
        </p:nvPicPr>
        <p:blipFill>
          <a:blip r:embed="rId1">
            <a:lum bright="6000"/>
          </a:blip>
          <a:srcRect l="9175" t="9805" r="11965" b="0"/>
          <a:stretch/>
        </p:blipFill>
        <p:spPr>
          <a:xfrm>
            <a:off x="568440" y="2060640"/>
            <a:ext cx="4508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1T12:34:48Z</dcterms:created>
  <dc:creator>XP GAME 2008</dc:creator>
  <dc:description/>
  <dc:language>en-US</dc:language>
  <cp:lastModifiedBy>server</cp:lastModifiedBy>
  <dcterms:modified xsi:type="dcterms:W3CDTF">2010-12-02T05:20:41Z</dcterms:modified>
  <cp:revision>6</cp:revision>
  <dc:subject/>
  <dc:title>        День учителя                            математики</dc:title>
</cp:coreProperties>
</file>