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laser.wav" ContentType="audio/x-wav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click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D74-7774-4DC4-8F81-0C968174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D77-9CB6-49B2-9AA3-DC72BE5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BCF-0786-479E-A943-3442B782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E6D-C1A5-4D9C-83AF-60938958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AB4-815C-4244-A713-04562519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180-06A1-4382-9E15-63D3610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443-0587-4F78-862E-40C4890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C55-1024-4576-9966-4B97DFD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5C1-97B9-47BF-9B92-79038E4D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4E4-7EFC-4A4B-A741-91ABE5A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E5C-C114-4EE9-A5E0-5B93E6C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864-809E-45CA-8D83-EB9E35F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822-A2D5-46FD-BB78-0B6E8E3EB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5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6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99ff"/>
                </a:solidFill>
                <a:latin typeface="Comic Sans MS"/>
              </a:rPr>
              <a:t>Наш народ бережно хранит свои традиции и передает их из поколения в поко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 TMP10"/>
          <p:cNvPicPr/>
          <p:nvPr/>
        </p:nvPicPr>
        <p:blipFill>
          <a:blip r:embed="rId2"/>
          <a:stretch/>
        </p:blipFill>
        <p:spPr>
          <a:xfrm>
            <a:off x="5148360" y="476280"/>
            <a:ext cx="3456000" cy="6005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Comic Sans MS"/>
              </a:rPr>
              <a:t>Встреча с родственниками Соодой – ламы на месте субарг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 TMP5"/>
          <p:cNvPicPr/>
          <p:nvPr/>
        </p:nvPicPr>
        <p:blipFill>
          <a:blip r:embed="rId2"/>
          <a:stretch/>
        </p:blipFill>
        <p:spPr>
          <a:xfrm>
            <a:off x="1187280" y="2276640"/>
            <a:ext cx="7129800" cy="4105080"/>
          </a:xfrm>
          <a:prstGeom prst="rect">
            <a:avLst/>
          </a:prstGeom>
          <a:ln w="28440">
            <a:solidFill>
              <a:srgbClr val="cc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Comic Sans MS"/>
              </a:rPr>
              <a:t>Подношение ог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9 TMP11"/>
          <p:cNvPicPr/>
          <p:nvPr/>
        </p:nvPicPr>
        <p:blipFill>
          <a:blip r:embed="rId2"/>
          <a:stretch/>
        </p:blipFill>
        <p:spPr>
          <a:xfrm>
            <a:off x="1187280" y="2276640"/>
            <a:ext cx="6985080" cy="40384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Культ огня хранителя домашнего очага, семьи, рода, почитался как земной аналог огня – небесного – Солнца. Огонь был священным суще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0 TMP9"/>
          <p:cNvPicPr/>
          <p:nvPr/>
        </p:nvPicPr>
        <p:blipFill>
          <a:blip r:embed="rId2"/>
          <a:stretch/>
        </p:blipFill>
        <p:spPr>
          <a:xfrm>
            <a:off x="5076720" y="404640"/>
            <a:ext cx="3743280" cy="61200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ношение ог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 TMP8"/>
          <p:cNvPicPr/>
          <p:nvPr/>
        </p:nvPicPr>
        <p:blipFill>
          <a:blip r:embed="rId2"/>
          <a:stretch/>
        </p:blipFill>
        <p:spPr>
          <a:xfrm>
            <a:off x="684360" y="1700280"/>
            <a:ext cx="7488000" cy="4753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Comic Sans MS"/>
              </a:rPr>
              <a:t>Дом внучатой племянницы Соодой – ламы Эржимы Дамбае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12 TMP6"/>
          <p:cNvPicPr/>
          <p:nvPr/>
        </p:nvPicPr>
        <p:blipFill>
          <a:blip r:embed="rId2"/>
          <a:stretch/>
        </p:blipFill>
        <p:spPr>
          <a:xfrm>
            <a:off x="826920" y="2082960"/>
            <a:ext cx="7345440" cy="429876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Богата и разнообразна культура бурятского народа. Наша задача – сохранить их, передать друг другу, младшему покол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TMP13"/>
          <p:cNvPicPr/>
          <p:nvPr/>
        </p:nvPicPr>
        <p:blipFill>
          <a:blip r:embed="rId2"/>
          <a:stretch/>
        </p:blipFill>
        <p:spPr>
          <a:xfrm>
            <a:off x="2700360" y="2781360"/>
            <a:ext cx="4897440" cy="338436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MP2"/>
          <p:cNvPicPr/>
          <p:nvPr/>
        </p:nvPicPr>
        <p:blipFill>
          <a:blip r:embed="rId2"/>
          <a:stretch/>
        </p:blipFill>
        <p:spPr>
          <a:xfrm>
            <a:off x="4788000" y="1052640"/>
            <a:ext cx="3384360" cy="4606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42498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Экспедиция  </a:t>
            </a:r>
            <a:br>
              <a:rPr sz="4400"/>
            </a:b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на родину </a:t>
            </a:r>
            <a:br>
              <a:rPr sz="4400"/>
            </a:b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 Соодой – лам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Субурга"/>
          <p:cNvPicPr/>
          <p:nvPr/>
        </p:nvPicPr>
        <p:blipFill>
          <a:blip r:embed="rId2"/>
          <a:stretch/>
        </p:blipFill>
        <p:spPr>
          <a:xfrm>
            <a:off x="4940280" y="333360"/>
            <a:ext cx="3348000" cy="5964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Comic Sans MS"/>
              </a:rPr>
              <a:t>Ступа Соодой – ламы в местности Нижний Куйтун в Курумканском рай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1 фото для наташиTMP12"/>
          <p:cNvPicPr/>
          <p:nvPr/>
        </p:nvPicPr>
        <p:blipFill>
          <a:blip r:embed="rId2"/>
          <a:stretch/>
        </p:blipFill>
        <p:spPr>
          <a:xfrm>
            <a:off x="1500120" y="2571840"/>
            <a:ext cx="6262920" cy="37796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Поклонение ступе Соодой - л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 TMP3"/>
          <p:cNvPicPr/>
          <p:nvPr/>
        </p:nvPicPr>
        <p:blipFill>
          <a:blip r:embed="rId2"/>
          <a:stretch/>
        </p:blipFill>
        <p:spPr>
          <a:xfrm>
            <a:off x="1071720" y="2071800"/>
            <a:ext cx="7053120" cy="4249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3 TMP2"/>
          <p:cNvPicPr/>
          <p:nvPr/>
        </p:nvPicPr>
        <p:blipFill>
          <a:blip r:embed="rId2"/>
          <a:srcRect l="-132" t="-710" r="0" b="0"/>
          <a:stretch/>
        </p:blipFill>
        <p:spPr>
          <a:xfrm>
            <a:off x="1116000" y="1557360"/>
            <a:ext cx="7128000" cy="4390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ношение хад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Хурдэ и алтарный дом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аташа TMP4"/>
          <p:cNvPicPr/>
          <p:nvPr/>
        </p:nvPicPr>
        <p:blipFill>
          <a:blip r:embed="rId2"/>
          <a:stretch/>
        </p:blipFill>
        <p:spPr>
          <a:xfrm>
            <a:off x="826920" y="1916280"/>
            <a:ext cx="7777440" cy="410508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Вид алтаря изну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 TMP13"/>
          <p:cNvPicPr/>
          <p:nvPr/>
        </p:nvPicPr>
        <p:blipFill>
          <a:blip r:embed="rId2"/>
          <a:stretch/>
        </p:blipFill>
        <p:spPr>
          <a:xfrm>
            <a:off x="684360" y="2049480"/>
            <a:ext cx="7488000" cy="42591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Эржима Дамбаевна развешивает хии морин  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– символ удачи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TMP1"/>
          <p:cNvPicPr/>
          <p:nvPr/>
        </p:nvPicPr>
        <p:blipFill>
          <a:blip r:embed="rId2"/>
          <a:stretch/>
        </p:blipFill>
        <p:spPr>
          <a:xfrm>
            <a:off x="5364000" y="549360"/>
            <a:ext cx="3384720" cy="575928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6:50:56Z</dcterms:created>
  <dc:creator>Эрхитуев </dc:creator>
  <dc:description/>
  <dc:language>en-US</dc:language>
  <cp:lastModifiedBy>user</cp:lastModifiedBy>
  <dcterms:modified xsi:type="dcterms:W3CDTF">2013-02-13T10:44:41Z</dcterms:modified>
  <cp:revision>7</cp:revision>
  <dc:subject/>
  <dc:title>Слайд 1</dc:title>
</cp:coreProperties>
</file>