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A63-A0B0-49E7-A7D2-354C8CC8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1B1-0C4F-4A08-B20B-1E95D667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FB1-EF20-42A6-B96B-A3BAC313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E22-DB75-4C37-852A-D915F133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1FA4-9D82-45C5-8DF5-DA5302AC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55C7-CD8B-4309-A068-93A15AB7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2CA4-5150-473D-A432-4B1DA3E5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6324-2A1F-4BDE-8B2A-0346415C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8501-F26C-4C61-8E88-67FAE914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3C3B-3013-4810-AC6D-DC89F983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F485-AF38-47EB-92C1-269578C1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F56-2355-498D-B3FD-ED501970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CC2D-6011-42DA-8962-2AF92915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453D-6A0C-49E7-B59E-A7F95923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BD0A-CF53-41AF-871B-C1970B8A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08BE-9BC6-4CB5-8CDB-2E37D6DF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3A98-D77D-408B-B32C-3E238758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BD854-27C0-4C98-8585-28D72798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B949D-5749-443E-92E2-EA661754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4B8AD-E797-40CE-968D-E2F230E4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C3EEA-227A-487C-BE75-7C1AAD93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3692D-499C-49A1-9C2F-F73CE91C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9C2-40DF-4E23-8C29-9634C1FB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DB4FE-90A6-40EC-8666-0305473B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67DD4-B7DF-4922-A705-533177E4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58DA2-FE4A-4FAB-9C1B-82771F62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C734D-5342-4BFC-A836-4E43F980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9AE14-C76E-4C35-B5C1-A0194F76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D34D0-A8BE-4A56-A299-8079A684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2FC9B-C1D7-4E9C-B481-F3A0A7E2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0A60D-65E2-49F4-873D-0FB6AC15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1BBF-F0F5-4937-94E8-0227FDD4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1718-ECB5-449A-95E1-A701BCA7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116-0BF5-4115-BA6F-A833B2B1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31233-0368-4224-960F-9FFC7FB2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76F90-D694-4631-8B88-93EF7F3A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F9F2-B435-4495-B95E-4D2E035D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D21E-C4F9-4709-84F2-EAD9DFC5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507A-1D00-4817-9714-3DE6F47D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8706B-5DEB-4F4D-9DC5-53D0DC9A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EEF34-EB54-41B0-A11B-C3815837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78BCF-2408-40E1-A4F7-5DA5C2F7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7D850-7853-4BC3-9A38-8E1D3A64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1A0DA-0826-467B-9805-DB9C0F9D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472-B88B-434F-944E-278A9B81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6688F-836B-437F-A87C-C6F590C3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9741B-25F1-4FF3-A452-EC19B9AC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780BE-3284-4BF3-8594-59AD0E83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C833D1-04B6-43AF-9028-E0A57095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7A271-BCD0-40FA-A9C7-6EFC0F95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8329A-B5E0-4DE6-962F-7682CC46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69137-B207-4A77-8E94-F3782717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8588F-69D2-460C-98A8-BC8D52E3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9CF8F-1C6E-4EA8-9C00-7F640C74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2F6EC-34C6-4932-90FD-85D86764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A92-FBAF-430F-BC91-719CBEDA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C91CF-5F1D-4CFD-9C5D-77648F18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31D48-04BE-4B8E-B1AA-71B56A52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2C0E5-4485-4F17-8ECD-D92FBA64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D9628-EDEF-4208-8201-6811AB50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F78EE-4995-4BDE-8908-28895CFB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14385B-F314-4B63-AA29-A5EE95BD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0306B-A15C-4BE0-A46D-10D3AF5A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6BC24-B958-4465-A267-E15F37DB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BB414-563B-498C-8E4B-5F854A49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925574-C004-4770-9FAE-3CAB18D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192-AA98-42A3-9112-B3C682B7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EDABC-35AF-4EDE-9AB6-C5929067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078A7-0194-4415-AE0D-A4653C63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ADC8B-80E2-46C3-9158-23145862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87D6F-A94D-43AF-A7AD-CE92D69B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9AEC1-9AEE-4294-A988-4EBF07F9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114A9-71B8-4253-A38E-D071A27F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BAD18-FFA0-481A-B155-F1438D51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ABF4B1-8FD6-4FA6-93FA-198EB67A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8EB7F-F1D4-4E0E-8CBB-39BE81CA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5EA2A-A347-4D5E-9AC4-59F484B2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6EA-9FA3-4D38-A3FE-6A2CB219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67E26-0155-430D-AA10-33225BBD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C4AE07-F857-4A78-9654-BA7CA9AD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E5BC9-E8BA-4445-A020-49DDDD87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12CEA-082E-488B-ACEF-FBC49CE3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512BB-9ED8-4772-A51D-932A1505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CFA-38F4-4B15-AFA2-46A9BAFD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C252-6B2B-4760-82B3-CFA52557689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2582-2607-423B-9608-5453D8F33AD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862B-6E68-4FA4-BBEB-70F197EA495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A6A5-6326-4549-BC08-27C7B77D3B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979A-8B0E-4347-A396-E9C336611A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2F14-D9FE-432F-8504-955E30BE34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8CBD-ECD2-4AEA-A02E-9FCBC5B604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2280" y="1371240"/>
            <a:ext cx="822960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5f6d"/>
                </a:solidFill>
                <a:latin typeface="Century Schoolbook"/>
              </a:rPr>
              <a:t>ДРЕВНЕГРЕЧЕСКАЯ МИФОЛОГИЯ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23640" y="-616320"/>
            <a:ext cx="144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ИСТОЧНИК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3" marL="1163520" indent="-178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ревнейшее состояние греческой мифологии известно из табличек эгейской культуры, записанных линейным письмом Б. Для этого периода характерна немногочисленность богов, многие из них именуются иносказательно, у ряда имён имеются женские аналоги. Уже в крито-микенский период известны Зевс, Афина, Дионис и ряд других, хотя их иерархия могла отличаться от позднейшей. Мифология «тёмных веков»  известна только по позднейшим источникам.              Различные сюжеты древнегреческих мифов постоянно фигурируют в произведениях древнегреческих писателей; накануне эпохи эллинизма возникает традиция создавать на их основе собственные аллегорические мифы. В греческой драматургии обыгрываются и развиваются многие мифологические сюжеты. Крупнейшими источниками являются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Илиада» и «Одиссея» Гомер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Теогония» Гесиод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Библиотека» Псевдо-Аполлодор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Мифы» Гиги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Метаморфозы» Овид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ОИСХОЖД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Древнейшие боги греческого пантеона тесно связаны с общеиндоевропейской системой религиозных верований, имеются параллели и в именах — так, индийский Варуна соответствует греческому Урану, и т. д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Дальнейшее развитие мифологии шло по нескольким направлениям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рисоединение к греческому пантеону некоторых божеств соседних или завоёванных народов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обожествление некоторых героев; героические мифы начинают тесно сливаться с мифологией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Зевс, согласно легенде, родился на Крите от Реи и титана Крона (в рим. Кронос или Хронос, что означает время), а Минос, по которому названа крито-минойская цивилизация, считался его сыном. Однако, та мифология, которую мы знаем, и которую потом переняли римляне, органически связана с греческой народностью. О возникновении этой народности можно говорить с приходом первой волны ахейских племен в начале II тыс. до н. э. В 1850 году до н. э. уже были построены Афины, названные по имени богини Афины. Если принять эти соображения, то религия древних греков возникла где-то в районе 2000 года до н. э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БОГИ И БОЖЕСТВА ВОДНОЙ СТИХИИ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мфитрита — богиня моря, супруга Посейдон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Лимнады — нимфы озёр и боло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яды — нимфы родников, источников и рек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реиды — морские нимфы, сестры Амфитриат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кеан — персонификация мифологической мировой реки, омывающей Ойкумену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кеаниды — дочери Океан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нт — бог внутреннего мор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сейдон — бог мор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ечные боги — боги рек, сыновья Океана и Тефид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ефида — титанида, жена Океана, мать океанид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ритоны — свита Посейдона и Амфитрит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ритон — бог, вестник глубин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БОГИ И БОЖЕСТВА ВОЗДУШНОЙ СТИХИИ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ол — полубог, повелитель вет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рей — олицетворение северного бурного вет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ефир — западный сильный ветер, считался также вестником богов, (у римлян стал олицетворять ласкающий, лёгкий ветер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т — южный вете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вр — восточный вете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ура — персонификация лёгкого ветра, воздух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БОГИ СМЕРТИ И ПОДЗЕМНОГО МИ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ид — бог подземного царства мёртвы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сефона — супруга Аида, богиня плодородия и царства мёртвых, дочь Деметр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ос — судья царства умерши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дамант — судья царства умерши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еката — богиня мрака, ночных видений, чародейств, всех чудовищ и привиден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еры — демоны-женщины смер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натос — бог смер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ипнос — бог забвения, бог сна, брат-близнец Танато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ринии — богини ме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РУГИЕ БОГИ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ика — богиня побед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елена — богиня лун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Эрос — бог любв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именей — бог брак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Ирида — богиня радуг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та — богиня заблуждения, помрачения у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пата — богиня обман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обос — божество страха, сын Арес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Деймос — бог ужаса, родной брат Фобос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склепий — бог врачевани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Морфей — бог сновидений (поэтическое божество, сын Гипноса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имерот — бог плотской любви и любовного наслаждени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нанке — божество-воплощение неотвратимости, необходимост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лоэй — древнее божество обмолоченного зерн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ТАТУЯ ЮПИТЕРА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Содержимое 3" descr="376px-Statue_of_Zeus_(Hermitage)_-_Статуя_Юпитера.jpg"/>
          <p:cNvPicPr/>
          <p:nvPr/>
        </p:nvPicPr>
        <p:blipFill>
          <a:blip r:embed="rId1"/>
          <a:stretch/>
        </p:blipFill>
        <p:spPr>
          <a:xfrm>
            <a:off x="2340000" y="907920"/>
            <a:ext cx="43927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ТАТУЯ ПОСЕЙДОНА В ПОРТУ КОПЕНГАГЕН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Содержимое 3" descr="Poseidon_sculpture_Copenhagen_2005.jpg"/>
          <p:cNvPicPr/>
          <p:nvPr/>
        </p:nvPicPr>
        <p:blipFill>
          <a:blip r:embed="rId1"/>
          <a:stretch/>
        </p:blipFill>
        <p:spPr>
          <a:xfrm>
            <a:off x="1770120" y="1600200"/>
            <a:ext cx="48416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3:36:05Z</dcterms:created>
  <dc:creator>валя</dc:creator>
  <dc:description/>
  <dc:language>en-US</dc:language>
  <cp:lastModifiedBy>User</cp:lastModifiedBy>
  <dcterms:modified xsi:type="dcterms:W3CDTF">2013-02-05T12:30:19Z</dcterms:modified>
  <cp:revision>5</cp:revision>
  <dc:subject/>
  <dc:title>Древнегреческая мифология</dc:title>
</cp:coreProperties>
</file>