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07AD-737C-4271-A08C-AAC55C1E1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B269-5E65-4ACB-B51F-73416445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6C75-DE75-4B01-A67D-2B11DCAD4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9F55-02C0-458B-9E4D-F1B4FECD2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B08C-20DD-4B70-B49A-94CCA1E20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E2400-D26F-48C0-AA54-9FA2152A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6CEA-8685-41D8-AF92-B3039212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C4409-6DC0-4D23-AC6D-FFA1B644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11F4-0E32-417D-A2E2-86DCA3ED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BD29-78F6-42A6-B4BA-8D7B2FF4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3728-125B-42F5-B86B-9CC09CB2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CB51-7AE5-4919-9C0B-C11C5881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FFBC-659F-4BE4-9507-D18AEAA8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07E8-0170-4F3E-AB3B-F8AF4823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1FEF8-24DA-46F1-ADF2-C5F9132C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304EE-C483-4D6E-B904-A5D4F3DED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71AF6-D730-4D4A-A73F-9EB016885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BBC4ED-349A-4FA5-B478-FBB952D11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664781-C5CA-44CF-9193-8C9190FE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4C80F0-6427-44C1-ACD0-092E141C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9EE295-7C97-4C93-B909-8357CA84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3FC998-7CAF-4420-BAD3-8FDAB53B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E5EE-E29D-4002-9C99-5DDC1A8E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3EF5E8-E92D-40A4-90A6-946D149D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EF10EA-B511-4463-BE06-CB41703F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8A1614-5E49-4543-8A71-FB9C3349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F907CE-2190-45C4-9CF9-4C86688F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2DEC77-DEFF-4DF7-82F8-82790E9C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1FCCDA-559E-4FCD-9AB7-7C5239564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635624-2D6F-4523-92A6-CB99CAADF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2D684-1590-418B-AE16-B139C098B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A3CAD-B9EC-42DB-8870-A5872832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DDDC0-67EB-451B-A15C-EB10020C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F983-B43A-482B-9C49-4EA1D86D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A21BA-0486-422C-86CF-2CD23760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434D6-DEEB-4E59-B9DC-8089BC36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7E8BD-97D5-455D-9089-C8D58617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BA87C-6154-4F67-B18F-7F7D5315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E9A2B-40EF-4542-8E18-201D48AB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0AF2B-D31B-47B3-A95E-3468FB88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09970-F11D-4DD4-9247-03D26322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4B11D-50B6-4F85-8930-FBB40921D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711E6-8E33-43E3-99CC-66FCBB0FE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1EE35A-A6F0-494C-AEB0-AE04E2794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AF18-2005-4528-A2E8-8756311E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CCDBB6-EB84-43EC-A8DC-6FB5A448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106068-734F-4FF7-9171-6FB8FA16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3247B1-F427-4F52-9942-80D2C7FA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1F0C89-595F-4C0B-A7F9-20CBB8F1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6CF0F1-56B8-4A7F-A077-47150968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EED18C-EE94-46A8-9B29-CC4223C4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A2AE4B-EE72-480A-BF6A-0DC758D1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9AB20E-0C9C-4CA8-B7CC-817B91DC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4C4E6E-32D3-440C-A923-1F58C62E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9989D8-2C2E-457D-A85C-6FC4643BC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E10B-1A4E-4284-B535-F6C4BA96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D85CBE-3558-4355-893D-76DA9BDE7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CB3083-39A1-4BE0-A761-45007C624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AC33CE-B9D1-42CE-8218-20299460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15C00B-B19B-4759-818F-21BB96B3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0560AB-F41E-4F3D-B495-877779D6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29F88B-1041-42C7-ABAF-0C1175FE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30B194-C8B0-4738-9266-854CB74D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E10A42-6986-4041-9E4A-F260A18C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66F9C3-2D6A-4288-830E-EE909959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B7F165-6A55-46AD-AAF3-30E783FD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491C-4C2C-4EDE-9C9E-2FBEEC83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9E0F10-9128-4B2A-9E2B-242432E8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931801-E5EC-42CD-9859-D8585C644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B0319F-10E0-4850-BE19-027E918B2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15A157-D2B9-49FB-94D3-5CF9A00FE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B796A7-57DE-4713-BDA3-BB80BEA4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C94F5F-EA0D-4BD8-893A-FE653316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F4284C-57FA-4C0B-AED5-79A55B9B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C148A2-0BBE-46F9-8B4F-90F572B4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D16362-EFEA-436F-A3B9-24314639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358256-D8C8-43EB-9565-09AD9A29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4ADC-81DF-4478-8112-0E667FDF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B2E05A-FF7C-495E-A7A7-756DE81F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56B568-42BA-494D-BD25-EA96E8AB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7790D5-F4E9-43E5-B565-A75728A9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59F172-30C3-4D8A-95AA-7DD9276FB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EE879B-611E-4153-ADA9-E56677898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FD3E-7944-4060-A77E-45898A92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441E-6855-4D40-9BD2-DF0558C6117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F9CE-FAA6-4F85-ADC3-57D92C54CE1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EFC6-1E32-4D34-ACF9-5524ADD5935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F21C-A860-4B87-BCD4-1437D0B35D7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A6AB-CDA4-4437-983A-A28F4D89FB4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5737-A67A-4806-950B-E6F1EB8BA8F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F327-67C0-4E80-9E22-AD2230E5035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2280" y="1371240"/>
            <a:ext cx="822960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75f6d"/>
                </a:solidFill>
                <a:latin typeface="Century Schoolbook"/>
              </a:rPr>
              <a:t>ДРЕВНЕГРЕЧЕСКАЯ МИФОЛОГИЯ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323640" y="-616320"/>
            <a:ext cx="144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ИСТОЧНИКИ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83664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3" marL="1163520" indent="-17856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Древнейшее состояние греческой мифологии известно из табличек эгейской культуры, записанных линейным письмом Б. Для этого периода характерна немногочисленность богов, многие из них именуются иносказательно, у ряда имён имеются женские аналоги. Уже в крито-микенский период известны Зевс, Афина, Дионис и ряд других, хотя их иерархия могла отличаться от позднейшей. Мифология «тёмных веков»  известна только по позднейшим источникам.              Различные сюжеты древнегреческих мифов постоянно фигурируют в произведениях древнегреческих писателей; накануне эпохи эллинизма возникает традиция создавать на их основе собственные аллегорические мифы. В греческой драматургии обыгрываются и развиваются многие мифологические сюжеты. Крупнейшими источниками являются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Илиада» и «Одиссея» Гомер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Теогония» Гесиод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Библиотека» Псевдо-Аполлодор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Мифы» Гигин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Метаморфозы» Овиди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РОИСХОЖДЕНИ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Древнейшие боги греческого пантеона тесно связаны с общеиндоевропейской системой религиозных верований, имеются параллели и в именах — так, индийский Варуна соответствует греческому Урану, и т. д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Дальнейшее развитие мифологии шло по нескольким направлениям: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присоединение к греческому пантеону некоторых божеств соседних или завоёванных народов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обожествление некоторых героев; героические мифы начинают тесно сливаться с мифологией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Зевс, согласно легенде, родился на Крите от Реи и титана Крона (в рим. Кронос или Хронос, что означает время), а Минос, по которому названа крито-минойская цивилизация, считался его сыном. Однако, та мифология, которую мы знаем, и которую потом переняли римляне, органически связана с греческой народностью. О возникновении этой народности можно говорить с приходом первой волны ахейских племен в начале II тыс. до н. э. В 1850 году до н. э. уже были построены Афины, названные по имени богини Афины. Если принять эти соображения, то религия древних греков возникла где-то в районе 2000 года до н. э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БОГИ И БОЖЕСТВА ВОДНОЙ СТИХИИ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Амфитрита — богиня моря, супруга Посейдона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Лимнады — нимфы озёр и болот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Наяды — нимфы родников, источников и рек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Нереиды — морские нимфы, сестры Амфитриаты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Океан — персонификация мифологической мировой реки, омывающей Ойкумену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Океаниды — дочери Океана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онт — бог внутреннего моря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осейдон — бог моря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Речные боги — боги рек, сыновья Океана и Тефиды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Тефида — титанида, жена Океана, мать океанид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Тритоны — свита Посейдона и Амфитриты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Тритон — бог, вестник глубин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БОГИ И БОЖЕСТВА ВОЗДУШНОЙ СТИХИИ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Эол — полубог, повелитель ветр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орей — олицетворение северного бурного ветр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ефир — западный сильный ветер, считался также вестником богов, (у римлян стал олицетворять ласкающий, лёгкий ветер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от — южный ветер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Эвр — восточный ветер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ура — персонификация лёгкого ветра, воздух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БОГИ СМЕРТИ И ПОДЗЕМНОГО МИР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ид — бог подземного царства мёртвы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ерсефона — супруга Аида, богиня плодородия и царства мёртвых, дочь Деметр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инос — судья царства умерши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дамант — судья царства умерши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еката — богиня мрака, ночных видений, чародейств, всех чудовищ и привидени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еры — демоны-женщины смерт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анатос — бог смерт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ипнос — бог забвения, бог сна, брат-близнец Танатос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Эринии — богини мест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ДРУГИЕ БОГИ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Ника — богиня побед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Селена — богиня лун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Эрос — бог любви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Гименей — бог брак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Ирида — богиня радуги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Ата — богиня заблуждения, помрачения ум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Апата — богиня обман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обос — божество страха, сын Арес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Деймос — бог ужаса, родной брат Фобос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Асклепий — бог врачевания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Морфей — бог сновидений (поэтическое божество, сын Гипноса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Гимерот — бог плотской любви и любовного наслаждения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Ананке — божество-воплощение неотвратимости, необходимости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Алоэй — древнее божество обмолоченного зерн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СТАТУЯ ЮПИТЕРА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6" name="Содержимое 3" descr="376px-Statue_of_Zeus_(Hermitage)_-_Статуя_Юпитера.jpg"/>
          <p:cNvPicPr/>
          <p:nvPr/>
        </p:nvPicPr>
        <p:blipFill>
          <a:blip r:embed="rId1"/>
          <a:stretch/>
        </p:blipFill>
        <p:spPr>
          <a:xfrm>
            <a:off x="2340000" y="907920"/>
            <a:ext cx="439272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ТАТУЯ ПОСЕЙДОНА В ПОРТУ КОПЕНГАГЕНА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8" name="Содержимое 3" descr="Poseidon_sculpture_Copenhagen_2005.jpg"/>
          <p:cNvPicPr/>
          <p:nvPr/>
        </p:nvPicPr>
        <p:blipFill>
          <a:blip r:embed="rId1"/>
          <a:stretch/>
        </p:blipFill>
        <p:spPr>
          <a:xfrm>
            <a:off x="1770120" y="1600200"/>
            <a:ext cx="484164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4T13:36:05Z</dcterms:created>
  <dc:creator>валя</dc:creator>
  <dc:description/>
  <dc:language>en-US</dc:language>
  <cp:lastModifiedBy>User</cp:lastModifiedBy>
  <dcterms:modified xsi:type="dcterms:W3CDTF">2013-02-05T12:30:19Z</dcterms:modified>
  <cp:revision>5</cp:revision>
  <dc:subject/>
  <dc:title>Древнегреческая мифология</dc:title>
</cp:coreProperties>
</file>