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D059-0882-4BA9-B8AD-A765133B0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 милый, друг пря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яхнём рукою ру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в чаше круг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нсам сродну скук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вый раз мы вместе пьё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дко и брани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чашу дружества нальём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тчас помирим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ы, который с детских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весельем дышиш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авный,право, ты поэ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ь плохо басни пишеш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обой тасуюсь без чин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лю тебя душ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ришёл, кудрявый наш пе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ишь ли ты в кругу своих др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октября 1836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 руку, Дельвиг! Что ты спи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нись, ленивец сон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не под кафедрой сидиш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ынью усыплё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ы, красавец молод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ятельный по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ы будешь Вакха жрец лих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очее – за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810-D09A-4625-B495-23382115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06C-6E28-4D25-8D5B-29A6C4B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A45-AE94-40B8-8E83-37937E14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D04-AA72-4E82-A345-6FF58D79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CE6-473A-4E60-AA9A-CF2B3961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C2B-D5BC-4D18-8BAF-FFCE5B67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2B0-8C29-401D-8692-7FD1317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AE2-A112-4093-9BDB-E866AF9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70F-2934-4BF9-9090-977C9C6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530-A5E2-4C0C-9FCE-76D529E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B5B-E118-4E00-A55E-028121D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FA9-0856-4242-858F-3069CBEB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9C3C-728D-4596-ADD5-38558BB4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838760" cy="600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0"/>
            <a:ext cx="8785080" cy="50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Друзья мои, прекрасен наш союз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н,как душа, не разделим и вечен -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колебим, свободен и беспечен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астался он под сенью дружных муз"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ущин Иван Ив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371680" cy="307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5516640"/>
            <a:ext cx="244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Рисунок, пастель Ф. Верне 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2720" y="1628640"/>
            <a:ext cx="5291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оварищ милый, друг пря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ряхнём рукою ру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тавим в чаше круг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едантам сродну ску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 первый раз мы вместе пь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редко и бра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о чашу дружества нальё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 тотчас помир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ихаил Лукьянович ЯКОВЛ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5096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4508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М. Л. ЯКОВЛ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-18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23493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А ты, который с детск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дним весельем дыш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бавный, право, ты поэ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Хоть плохо басни пише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тобой тасуюсь без ч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Люблю тебя душ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1356" t="0" r="6489" b="7166"/>
          <a:stretch/>
        </p:blipFill>
        <p:spPr>
          <a:xfrm>
            <a:off x="5870520" y="2781360"/>
            <a:ext cx="2565360" cy="33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49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орсаков Николай Александ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(1800-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5520" y="1773360"/>
            <a:ext cx="54795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не пришёл, кудрявый наш певе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огнём в очах, с гитарой сладкоглас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д митрами Италии пре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тихо спит, и дружеский ре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 начертал над русскою мог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лов несколько на языке род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Чтоб некогда нашёл привет уны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ын Севера, бродя в краю чу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атюшкин Фёдор Фёд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13979" b="0"/>
          <a:stretch/>
        </p:blipFill>
        <p:spPr>
          <a:xfrm>
            <a:off x="539640" y="1844640"/>
            <a:ext cx="20606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4365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Ф. Ф. МАТЮ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816—18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20800"/>
            <a:ext cx="55710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идишь ли ты в кругу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жих небес любовник беспокой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ь снова ты проходишь тропик зно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вечный лёд полунощных морей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частливый путь!.. С лицейского п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ы на корабль перешагнул шут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с той поры в морях тво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, волн и бурь любимое дит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94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2764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1268280"/>
            <a:ext cx="6934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Роняет лес багряный свой убор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Сребрит мороз увянувшее поле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Проглянет день как будто поневоле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 скроется за край окружных гор...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2520" y="36910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2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1341360"/>
            <a:ext cx="7048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ыла пора: наш праздник молод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ял, шумел и розами венчал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с песнями бокалов звон мешалс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тесною сидели мы толпой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84360" y="4292640"/>
            <a:ext cx="3097080" cy="230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19240" y="455436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3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0" y="404640"/>
            <a:ext cx="3348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Иван Пущин,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Вильгельм Кюхельбекер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Антон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Дельвиг –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ближайшие друзья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Александра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4596" t="23528" r="0" b="3137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60404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8200" y="589752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720" y="18900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Художник Ю. В.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426" t="0" r="57064" b="3474"/>
          <a:stretch/>
        </p:blipFill>
        <p:spPr>
          <a:xfrm>
            <a:off x="5942160" y="907920"/>
            <a:ext cx="2841480" cy="37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И. И. ПУ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Рисунок, пастель Ф. Берне. 1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«Мой </a:t>
            </a:r>
            <a:br>
              <a:rPr sz="4400"/>
            </a:b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первый друг, мой друг бесценны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252108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7840" y="-1420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«Он как дитя был рад нашему свид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ыне здесь, в забытой сей глу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обители пустынных вьюг и хла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е сладкая готовилась отра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..Поэта дом оп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 Пущин мой, ты первый посет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усладил изгнанья день печа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в день его Лицея прев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9 октября 182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3433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51483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икто на свете не был мне ближе Дельвиг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- писал Пушкин П.А. Плетнёву, потрясённый известием о ранней смерти своего лицейского друга.-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мимо его прекрасного таланта, это была отлично устроенная голова и душа склада необычного. Он был лучший из нас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4823280"/>
            <a:ext cx="388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А.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Акварель П.Л. Яковлева 1816-1971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1359" t="2316" r="0" b="0"/>
          <a:stretch/>
        </p:blipFill>
        <p:spPr>
          <a:xfrm>
            <a:off x="539640" y="260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251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Гениальность Пушкина Кюхельбекер признал одним из первых. Когда вышла в свет пушкинская «Полтава», прохладно встреченная критикой, Кюхельбекер оценил её восторженно. Из далёкой сибирской крепости он 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«с оказией» писал Пушкину: «Я тебя не только люблю, как всегда любил, но за твою «Полтаву» уважаю, сколько только можно уважать. Вокруг тебя люди, понимающие тебя, как я – язык китай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192" t="2466" r="3192" b="2466"/>
          <a:stretch/>
        </p:blipFill>
        <p:spPr>
          <a:xfrm>
            <a:off x="5219640" y="836640"/>
            <a:ext cx="307332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51600" y="5157360"/>
            <a:ext cx="47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. К. КЮХЕЛЬБЕК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равюра И. И. Матю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 акварели П. Л. Яковлева. 1820-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11920" y="1916280"/>
            <a:ext cx="1432080" cy="17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178596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71640" y="18900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рующие студенты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3400" y="4797360"/>
            <a:ext cx="203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. Л. ЯКОВЛЕ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-181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368760"/>
            <a:ext cx="17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А. М. ГОРЧАКОВ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Рисунок   неизвестного художника.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6120" y="5445000"/>
            <a:ext cx="21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Ф. Ф. МАТЮШКИ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3560" y="5877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рса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Николай Александр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1800-182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065480" y="342252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6920" y="3450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0560" y="57337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львиг Антон Анто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кварель П.Л. Яковлева 1816-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03680"/>
            <a:ext cx="16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 ущин Иван Ива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исун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астель Ф. Верн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57064" t="11579" r="4993" b="8106"/>
          <a:stretch/>
        </p:blipFill>
        <p:spPr>
          <a:xfrm>
            <a:off x="1258920" y="3645000"/>
            <a:ext cx="1641600" cy="21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0" t="0" r="13979" b="0"/>
          <a:stretch/>
        </p:blipFill>
        <p:spPr>
          <a:xfrm>
            <a:off x="5076720" y="3429000"/>
            <a:ext cx="1603440" cy="207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11356" t="0" r="6489" b="7166"/>
          <a:stretch/>
        </p:blipFill>
        <p:spPr>
          <a:xfrm>
            <a:off x="3708360" y="3789360"/>
            <a:ext cx="15987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12841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2627280" y="4005360"/>
            <a:ext cx="1422360" cy="221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84000" y="3645000"/>
            <a:ext cx="1480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Вильгельм Карло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юхельбек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Акварель П. Л. Яковле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20-е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golian Baiti"/>
              </a:rPr>
              <a:t>Дельвиг Антон Антон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064" t="11579" r="4993" b="8106"/>
          <a:stretch/>
        </p:blipFill>
        <p:spPr>
          <a:xfrm>
            <a:off x="250920" y="2133720"/>
            <a:ext cx="2379600" cy="3108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373720"/>
            <a:ext cx="23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Акварель П.Л. Яковл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816-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708280"/>
            <a:ext cx="6553440" cy="222696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Дай руку, Дельвиг! Что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роснись, ленивец сонн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ы не под кафедрой сид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атынью усыпл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81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Александр  Михайлович ГОРЧ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214720" cy="34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013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художника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—18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2637000"/>
            <a:ext cx="61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А ты, красавец мол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иятельный по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ы будешь Вакха жрец ли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прочее – за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57:33Z</dcterms:created>
  <dc:creator>Nina</dc:creator>
  <dc:description/>
  <dc:language>en-US</dc:language>
  <cp:lastModifiedBy>Нина</cp:lastModifiedBy>
  <dcterms:modified xsi:type="dcterms:W3CDTF">2013-02-13T04:35:27Z</dcterms:modified>
  <cp:revision>9</cp:revision>
  <dc:subject/>
  <dc:title>Слайд 1</dc:title>
</cp:coreProperties>
</file>