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C2BB-5D7A-4A52-B5F9-B2C9BA91B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99BF-142A-463E-8961-D8CD4C32E6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1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подготовительном этапе энергетического обмена происходи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белков до амино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жиров до глицерина и карбоновых 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углеводов до моносахар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нуклеиновых кислот до нуклеот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2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беспечивают гликолиз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пищеварительного тракта и лизос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топлазм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кла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дыхательной цеп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3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животных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4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растений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5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ри гликолизе моль глюкозы образуется всего энерги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6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Три моль глюкозы подверглось гликолизу в животных клетках при недостатке кислорода. При этом углекислого газа выделилось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глекислый газ в животных клетках при гликолизе не выделяе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*Тест 7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 биологическому окислению относя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исление вещества А в реакции: А + 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О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гидрирование вещества А в реакции: АН2 + В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 + ВН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теря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обретение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8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Реакции подготовительного этапа происходя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ищеварительном тракт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итоплазм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лизосом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9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нергия, которая выделяется в реакциях подготовительного этап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ольшая часть рассеивается в форме тепла, мен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ньшая часть рассеивается в форме тепла, бол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10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Энергия, которая выделяется в реакциях гликолиз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0 кДж рассеивается в форме тепла, 8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 кДж рассеивается в форме тепла, 12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7592-1BE0-4F51-89BB-9AA5B7967B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0371-87D2-44B6-AECE-6B1F20B112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F32-92EB-4063-8CB8-892EF77768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280-7DE7-4D3F-9197-E5CB98342C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9860-A0AA-45BD-9360-DFA2AED941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3295-EFB8-4561-80D8-4161B692E5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9B3-4006-4FE5-93D2-BE4E0E8F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51D-8704-4063-90EB-281AE9C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AEA-4CD9-4FF9-AAE8-CDE690BD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978-5B15-46BE-BA51-CE98CFCC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A2B5-070E-478C-A086-7D06D0AA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E3E-C1CA-449B-99D7-972741D8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48C7-B69D-4ACA-BBCF-1A94AF33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E1FE-EF30-4475-BBA6-7DF4EA2F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13D5-44B5-44C5-9785-4006AC3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5A9F-EF2E-4AC6-B0B6-D368FD7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D19-D99D-47C7-81D0-F323283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D15-A295-495E-BA29-C3507ED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8EF1-9778-43D5-A502-FEA03C2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2AC-7345-4A5C-BF7C-52617D8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28ED-8E97-4D20-ACA6-246C04B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E10A-603D-4F40-B21A-C3876C3A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42A9-1726-48A5-BB5B-3F2C05AB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8A9-F8A3-48CC-B71A-B1FDD8F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147-5F50-4328-ABE3-51D80CF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6E8-91AF-4478-8DB1-69C7399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6C8-2492-4AB1-ADEB-1E14BE7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3AC-A893-4B7A-91E2-F8370EF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E77-D935-40F8-A4B9-8A7D39E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97B-9297-40D4-9ABC-4A8CFEF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81A2-ED99-4A0F-A931-5B62F408624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1381-6114-409E-B53A-5BAF46922A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14360" y="1200240"/>
            <a:ext cx="8242200" cy="219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651640" y="2952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068720" y="220500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езультате гликолиза 40% выделившейся энергии запасается в виде АТФ, 60% - рассеивается в виде теп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полное окис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87840" cy="3891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067280" y="1292400"/>
            <a:ext cx="49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ислородное окис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дых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оисходит в митохондр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помним, как устроены митохондр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вы функции митохондр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во происхождение митохондр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лное ки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7956720" cy="187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2857680" cy="29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plit dir="out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1047600" y="2400480"/>
            <a:ext cx="2857680" cy="292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ческие вещества, образовавшиеся н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тапе (например, С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, поступают на ферментативный «конвейер» и расщепляются с участием кислорода до конечных продукт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С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+ 6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+ 36АДФ + 36Н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6АТФ + 6С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+ 42Н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047600" y="2400480"/>
            <a:ext cx="2857680" cy="292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414288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езультате полного окисления органических веществ 60% энергии запасается в виде молекул АТФ, 40% - рассеивается в виде тепл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 окисления глюкозы в клетке сходен с процессом горения. Как и при горении, так и при дыхании глюкоза окисляется при участии молекулярного кислорода до конечных продуктов – углекислого газа и воды с выделением энергии. Объясните, чем же отличаются эти процессы, если их можно выразить общим уравнение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+ 6О</a:t>
            </a: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= 6СО</a:t>
            </a: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+ 6Н</a:t>
            </a: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 + </a:t>
            </a:r>
            <a:r>
              <a:rPr b="1" lang="en-US" sz="2000" spc="-1" strike="noStrike">
                <a:solidFill>
                  <a:srgbClr val="ff3300"/>
                </a:solidFill>
                <a:latin typeface="Book Antiqua"/>
              </a:rPr>
              <a:t>Q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611280" y="981000"/>
            <a:ext cx="8208720" cy="64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бмен веществ (метаболизм) = ассимиляции + диссими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ческие вещества пищи являются основным источником не только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матер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о 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энерг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жизнедеятельности клеток организма. При образовании сложных органических молекул была затрачена энергия, потенциально она находится в форме образованных химических связей. В результате реакций энергетического обмена происходит окисление сложных молекул до более простых и разрушение химических связей, при этом происходит высвобождение энер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Ф + Н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= АДФ + Н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40 кД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держание АТФ в клетках в среднем составляет от 0,05% до 0,5% от массы. Все биохимические реакции требуют затрат энергии молекул АТФ, поэтому запас АТФ должен постоянно пополня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Ф + Н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АТФ + Н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ерг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тосинтез              хемосинтез        окисление органичес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ще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рожение          дых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без 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тения преобразуют энергию солнечных лучей в энергию АТФ в процессе фотосинтеза. Хемосинтезирующие бактерии запасают энергию в форме АТФ, получаемую при химических реакциях окисления различных неорганических соединений. Гетеротрофы получают энергию в результате окисления молекул органических веществ, поступающих с пищей. В ходе биологического окисления расщепление сложных органических веществ осуществляется поэтапно и может идти двумя путям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Неполное окисление органических вещест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Полное окисление органических веществ до С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Н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140360" y="1568520"/>
            <a:ext cx="467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 энергетического обмена можно разделить на три этап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вом этапе происходит пищеварение, то ес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ложные органические молекулы расщепляются до мономер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втором происходи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ескислородное окисление этих мономер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оследнем этапе происходи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кисление с участием кислорода в митохондр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иологическое окис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140360" y="1285920"/>
            <a:ext cx="467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Подготовительный эта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действием ферментов пищеварительного тракта или ферментов лизо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ые органические молекулы расщеп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ел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жи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глевод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уклеиновые кисло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я энергия при этом рассеивается в виде теп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иологическое окис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иологическое окис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24360" y="725400"/>
            <a:ext cx="489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Гликолиз, или бескислородное окисление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исление глюкозы в клетках происходит без кислорода с участием ферментов. Реакции протекают в цитоплазме,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глюкоз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помощью 9 ферментативных реакций распадается на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2 молекулы ПВК — пировиноградной кислоты С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торая во многих клетках превращается в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молочную кислоту С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ри этом суммарно образуются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2 молекулы АТФ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57120" y="18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полное окисле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5157720"/>
            <a:ext cx="87138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этом образуется 200 кДж энергии, 120 рассеивается в форме тепла, 80 кДж запасается в форме 2 моль АТ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2 С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+ 2АТФ + 2Н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24360" y="1357200"/>
            <a:ext cx="489564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льнейшая судьба ПВК зависит от присутств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ле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т, происходит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анаэробное брожение (дыхание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спиртовое брож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еполное окис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378240" cy="341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5:54:26Z</dcterms:created>
  <dc:creator>Pimenov AV</dc:creator>
  <dc:description/>
  <dc:language>en-US</dc:language>
  <cp:lastModifiedBy>User</cp:lastModifiedBy>
  <dcterms:modified xsi:type="dcterms:W3CDTF">2012-12-18T17:15:50Z</dcterms:modified>
  <cp:revision>23</cp:revision>
  <dc:subject/>
  <dc:title>Тема: Энергетический обмен. Анаэробный гликолиз</dc:title>
</cp:coreProperties>
</file>