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5E2-FC2A-41CD-8715-29A6FCE1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574-2D67-4FE2-BD49-8C856959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D15-C4E1-4440-A9E2-19450683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11A-62FA-4A53-A6E4-7899A564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6581-289A-4C00-B612-0A3AD209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13E-C63E-4B0E-BB57-F94204CB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EAE9-02F0-4B5D-B6A8-BF6F037A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4C9F-35E0-49EE-AC7B-27CC7E6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902-90B9-4BD0-8576-D90720B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D6AD-978C-4368-8FD2-DF79326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5B2-11E8-4F72-8478-EEEB0D7A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F9E-48E9-4E27-9ED8-24316D9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0D53-895B-474F-941A-B12E2A5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B82-9DCE-4A34-809F-F186256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7AAC-70CA-4606-8D4E-D050D1A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0D9-6067-4D35-B185-B58EFDFF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116-C59C-4C70-82A5-F19E190C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81-B0E6-4835-9A99-637E4F10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4B3-2B2B-4E46-A226-A6422C68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4AB-DDE3-4DDB-82A9-4D04B70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DF1-EAD6-4037-85A0-CA1DFDFA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294-95D2-4B65-8452-5FF438F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C7E-0076-4E99-8452-3169529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B0B-1537-4CB1-8E70-CF1C971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743-D3DA-4457-8E31-C413788ED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C5B6-2380-477E-A23E-569412BA9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06160" y="1268280"/>
            <a:ext cx="10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6520" y="299736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дж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Национальные празд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января — Н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ижная дата — Табаски (африканское название мусульманского праздника Ид аль-адха — курбан-байр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ижная дата — Чистый 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ая — Ден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августа — День независимости (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ижная дата — Рамадан (Ид аль-фитр, ураза-байрам), мусульманский праздник разгов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ноября — День всех свя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ноября — День провозглашения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декабря — День свободы и демокр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декабря — Р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Собы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февраля 2008 года — Повстанцы в Чаде, пытавшиеся свергнуть президента страны Идриса Деби, прорвались в столицу Нджамену и направились к президентскому дворцу. Посольства Франции и США в Чаде объявили о подготовке к эвакуации своих граждан из страны. Западные СМИ сообщали, что в окрестностях столицы слышны выстрелы. На северо-востоке от Нджамены накануне правительственные войска вступили в столкновение с повстанцами. Повстанцы пытались взять столицу страны. В стране было введено чрезвычайное положение. Закрыты школы, суды, приостановлено действие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897360"/>
            <a:ext cx="4444920" cy="296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27640" y="3951360"/>
            <a:ext cx="4716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51640" cy="371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4788000" cy="314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421160" y="3316320"/>
            <a:ext cx="4722840" cy="354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995640" y="549360"/>
            <a:ext cx="4934160" cy="342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24000" y="1484280"/>
            <a:ext cx="4724280" cy="337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419640" y="2637000"/>
            <a:ext cx="5257800" cy="391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1116000" y="1101600"/>
            <a:ext cx="68407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87200" y="1989000"/>
            <a:ext cx="695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езентацию выполн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Ерофеева Соф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5013000"/>
            <a:ext cx="8137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государство в Центральной Африке. Столица — Нджамена. Не имеет выхода к морю. Граничит на западе с Нигером, Нигерией, Камеруном, на юге с Центральноафриканской Республикой, на востоке с Суданом и Ливией на сев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62040" cy="336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80000" y="4292640"/>
            <a:ext cx="50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ординат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5°16′00″ с. ш. 18°41′00″ в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осударственные символ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11280" y="5877000"/>
            <a:ext cx="493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виз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Unité, Travail, Progrè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р. Единство, труд, прогресс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2160" y="383220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924360" cy="3441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96920" y="2266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тория госуда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0259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олониальны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ониальны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од не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дминистративное д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69948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а разделена на 22 региона. Административное устройство изменилось в 2008 году, до этого было 18 префе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пнейшие города (данные на 2010 год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джамена (792 440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нду (148 544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рх (112 674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еше (81 530 челове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67280" y="3284640"/>
            <a:ext cx="5076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532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— 10,5 млн (оценка на июль 2010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овой прирост — 2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аемость — 40 на 1000 (фертильность — 5,2 рождений на женщ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ность — 16 на 1000 (младенческая смертность — 97 на 1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играция — 4 на 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продолжительность жизни — 47 лет у мужчин, 49 лет у женщ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и — мусульмане 53,1 %, католики 20,1 %, протестанты 14,2 %, анимисты 7,3 %, прочие 2,2 %, атеисты 3,1 % (по переписи 1993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отность — 40 % мужчин и 12 % женщин (оценка 2000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ское население — 27 % (в 2008 год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09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24360" y="3405240"/>
            <a:ext cx="521964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608360" y="0"/>
            <a:ext cx="4535640" cy="3400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547640" y="1197000"/>
            <a:ext cx="61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Эконо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ные ресурсы — месторождения нефти, бокситов, урана, золота, берилла, олова, тантала, м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П на душу населения в 2009 году — 1,6 тыс. долл. (196-е место в мире). Ниже черты бедности — 80 % населения. Чад сильно зависит от иностранной помощи и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ладает сельскохозяйственный сектор (57 % ВВП) — 80 % работающих занято натуральным хозяйством, в основном разведением скота (овцы, козы, верблюды). Также культивируются хлопчатник, сорго, просо, арахис, рис, картоф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конца 2003 года началась существенная добыча нефти, с 2004 года нефть экспортируется. В развитии нефтедобывающей отрасли активно участвуют американские компании и Кит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 — добыча нефти, обработка хлопка, обработка мяса, пивоварение, производство мыла и сига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Внешняя торгов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рт — 4,3 млрд долл. в 2008 году — сырая нефть, скот, хло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купатели — США 90,1 %, Тайвань 2,9 %, Япония 2,2 %, Франция 1,5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орт — 1,9 млрд долл. в 2008 году — промышленная продукция, продовольствие, тексти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ставщики — Франция 17,6 %, Камерун 14,8 %, Китай 9,9 %, Украина 9,6 %, США 7,7 %, Германия 5,6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ит в международную организацию стран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55:53Z</dcterms:created>
  <dc:creator>Пользователь</dc:creator>
  <dc:description/>
  <dc:language>en-US</dc:language>
  <cp:lastModifiedBy>Пользователь</cp:lastModifiedBy>
  <dcterms:modified xsi:type="dcterms:W3CDTF">2013-01-30T14:38:16Z</dcterms:modified>
  <cp:revision>3</cp:revision>
  <dc:subject/>
  <dc:title>Слайд 1</dc:title>
</cp:coreProperties>
</file>