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5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91A-B9B3-4478-8DAB-E13DAD7C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671-A016-4DD2-A2F5-4CC78DF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A87-D0EF-4DCD-B6D9-9C0FF13E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EFB-5E2C-4C7F-88B6-5BE291EC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ED7-57E8-4402-BB9A-3FBE6AA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E06-AA18-4D6C-AB09-B583380D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CE8-C387-4152-8BDA-80BB678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F23-293A-42DA-8E60-EFC3785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05F-9E35-4C8B-B8DC-8985E13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53C-4F72-4EB2-9A21-42C82387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45B-81D8-4BB5-AC90-EE70D92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16-772C-47DB-9D5D-2867464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19C-3A3C-47D9-8B66-10F92A66F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-collection.edu.ru/catalog/rubr/53aeea06-a2ec-4acc-9b4b-b5360c8967df/63023/?interface=pupil&amp;class=43&amp;subject=8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96720" y="365040"/>
            <a:ext cx="8485200" cy="3756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071960"/>
            <a:ext cx="64008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МБОУ СОШ № 8 города Ков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Соколова Татьяна Борис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201600" y="285840"/>
            <a:ext cx="1798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95120" y="281160"/>
            <a:ext cx="9101160" cy="1352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1356840"/>
            <a:ext cx="8929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зеро. Посёлок. Станция. Лес. Опять посё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7358040" y="4714920"/>
            <a:ext cx="1143000" cy="1798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133200" y="2298600"/>
            <a:ext cx="8877600" cy="72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33292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Горизонтальный свиток 3"/>
          <p:cNvSpPr/>
          <p:nvPr/>
        </p:nvSpPr>
        <p:spPr>
          <a:xfrm>
            <a:off x="642960" y="2714760"/>
            <a:ext cx="8072280" cy="10332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ыражает законченную мыс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Горизонтальный свиток 6"/>
          <p:cNvSpPr/>
          <p:nvPr/>
        </p:nvSpPr>
        <p:spPr>
          <a:xfrm>
            <a:off x="642960" y="3857760"/>
            <a:ext cx="8072280" cy="10332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лова связаны по смы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Горизонтальный свиток 7"/>
          <p:cNvSpPr/>
          <p:nvPr/>
        </p:nvSpPr>
        <p:spPr>
          <a:xfrm>
            <a:off x="571680" y="5072040"/>
            <a:ext cx="8143560" cy="10335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Есть главные и второстепенные 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ерфолента 8"/>
          <p:cNvSpPr/>
          <p:nvPr/>
        </p:nvSpPr>
        <p:spPr>
          <a:xfrm>
            <a:off x="2500200" y="1785960"/>
            <a:ext cx="4357800" cy="80496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840" y="2357280"/>
            <a:ext cx="8929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Шустрые воробьи перелетали с ветки на вет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то такое звёз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 хорошо гулять по зимнему лес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то стучится в дверь ко м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йте руки перед едо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ое сегодня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73080" y="549360"/>
            <a:ext cx="899172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291960" y="4286160"/>
            <a:ext cx="17798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предели главные слова в предложении.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Для этого щёлкни мышью по первому слову и прочитай предложение без него. Понятен смысл? Попробуй это задание выполнить с каждым словом и определить  главные слова , без которых предложение теряет смысл.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Белые чайки с криком носились над мор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88581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йки с криком носились над мор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 с криком носились над мор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чайки носились над мор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чайки с криком  над мор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чайки с криком носились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53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3786120" y="5143680"/>
            <a:ext cx="1287360" cy="15444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9" descr=""/>
          <p:cNvPicPr/>
          <p:nvPr/>
        </p:nvPicPr>
        <p:blipFill>
          <a:blip r:embed="rId4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4"/>
          <p:cNvSpPr/>
          <p:nvPr/>
        </p:nvSpPr>
        <p:spPr>
          <a:xfrm>
            <a:off x="428760" y="1643040"/>
            <a:ext cx="307152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429160" y="157176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3"/>
          <p:cNvSpPr/>
          <p:nvPr/>
        </p:nvSpPr>
        <p:spPr>
          <a:xfrm>
            <a:off x="428760" y="285768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 ком или о чём говорится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5"/>
          <p:cNvSpPr/>
          <p:nvPr/>
        </p:nvSpPr>
        <p:spPr>
          <a:xfrm>
            <a:off x="5500800" y="285768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то говорится о подлежа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500040" y="407196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то?               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7"/>
          <p:cNvSpPr/>
          <p:nvPr/>
        </p:nvSpPr>
        <p:spPr>
          <a:xfrm>
            <a:off x="5500800" y="400068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то делать? Что сдел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8"/>
          <p:cNvSpPr/>
          <p:nvPr/>
        </p:nvSpPr>
        <p:spPr>
          <a:xfrm>
            <a:off x="571680" y="5214960"/>
            <a:ext cx="30715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/>
          <p:cNvSpPr/>
          <p:nvPr/>
        </p:nvSpPr>
        <p:spPr>
          <a:xfrm>
            <a:off x="5500800" y="514368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6"/>
          <p:cNvSpPr/>
          <p:nvPr/>
        </p:nvSpPr>
        <p:spPr>
          <a:xfrm>
            <a:off x="928800" y="5715000"/>
            <a:ext cx="2286000" cy="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>
            <a:off x="6000840" y="5715000"/>
            <a:ext cx="2000160" cy="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1"/>
          <p:cNvSpPr/>
          <p:nvPr/>
        </p:nvSpPr>
        <p:spPr>
          <a:xfrm>
            <a:off x="6000840" y="5500800"/>
            <a:ext cx="2000160" cy="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4"/>
          <p:cNvSpPr/>
          <p:nvPr/>
        </p:nvSpPr>
        <p:spPr>
          <a:xfrm>
            <a:off x="3571920" y="2357280"/>
            <a:ext cx="17143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з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5"/>
          <p:cNvSpPr/>
          <p:nvPr/>
        </p:nvSpPr>
        <p:spPr>
          <a:xfrm>
            <a:off x="3714840" y="3643200"/>
            <a:ext cx="17143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ве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6"/>
          <p:cNvSpPr/>
          <p:nvPr/>
        </p:nvSpPr>
        <p:spPr>
          <a:xfrm>
            <a:off x="3714840" y="4857840"/>
            <a:ext cx="1714320" cy="42840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чёрк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682560" y="6480"/>
            <a:ext cx="7785000" cy="1699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57120" y="1857240"/>
            <a:ext cx="84297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Из-за бугра выкатилась пуш…стая туч…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-214200" y="4286160"/>
            <a:ext cx="1963800" cy="23576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4"/>
          <a:stretch/>
        </p:blipFill>
        <p:spPr>
          <a:xfrm>
            <a:off x="2639880" y="4011480"/>
            <a:ext cx="52246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71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2960" y="2714760"/>
            <a:ext cx="814392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chool-collection.edu.ru/catalog/rubr/53aeea06-a2ec-4acc-9b4b-b5360c8967df/63023/?interface=pupil&amp;class=43&amp;subject=8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Учебник: Русский язык 2 класс Н.В. Неча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9:45:42Z</dcterms:created>
  <dc:creator>Татьяна</dc:creator>
  <dc:description/>
  <dc:language>en-US</dc:language>
  <cp:lastModifiedBy>Татьяна</cp:lastModifiedBy>
  <dcterms:modified xsi:type="dcterms:W3CDTF">2013-02-13T07:20:38Z</dcterms:modified>
  <cp:revision>28</cp:revision>
  <dc:subject/>
  <dc:title>Определи главные слова в предложении.  Для этого щёлкни мышью по первому слову и прочитай предложение без него. Понятен смысл? Попробуй это задание выполнить с каждым словом и определить  главные слова , без которых предложение теряет смысл.</dc:title>
</cp:coreProperties>
</file>