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691-E4C1-4252-9373-0C6BA172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B98-D1EC-42AE-A0C4-C6AEB533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2AC-CC07-4163-998E-22B0144B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6CF-65FD-4B79-BDB9-75217167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728-BFD5-4B46-9E37-F7B45808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230-A7D5-4F68-A98A-1C1795CA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C3B-2B79-4B30-90D7-D7B1C121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EA6-7F5A-490C-8D25-1E3CCBA0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96F-530A-4410-95C0-7890613F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A92-FF7B-48C8-B68D-D83F573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9BC-8C36-4EC7-BD18-8D08D4D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266-B79C-48E3-B711-B632FC3B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6185-F08D-4FCA-AEE0-59C7D935D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зраиль - Гефсиманский са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5007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западном склоне Масличной горы около ручья Кедрон раскинулся Гефсиманский сад. До наших дней сохранилась лишь часть сада библейских времен, однако до сих пор цветут восемь олив, посаженных еще в I веке н. э. В христианстве Гефсиманский сад почитается как одно из мест, связанных со Страстями Христа, и является местом христианского паломничества. В саду находится также Гефсиманский грот, в котором молился Христос, когда он удалился от апосто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4368.jpg"/>
          <p:cNvPicPr/>
          <p:nvPr/>
        </p:nvPicPr>
        <p:blipFill>
          <a:blip r:embed="rId2"/>
          <a:stretch/>
        </p:blipFill>
        <p:spPr>
          <a:xfrm>
            <a:off x="1692360" y="549360"/>
            <a:ext cx="550044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зраиль - Гефсиманский са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14367.jpg"/>
          <p:cNvPicPr/>
          <p:nvPr/>
        </p:nvPicPr>
        <p:blipFill>
          <a:blip r:embed="rId2"/>
          <a:stretch/>
        </p:blipFill>
        <p:spPr>
          <a:xfrm>
            <a:off x="142920" y="714240"/>
            <a:ext cx="88948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зраиль - Гефсиманский са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14364.jpg"/>
          <p:cNvPicPr/>
          <p:nvPr/>
        </p:nvPicPr>
        <p:blipFill>
          <a:blip r:embed="rId2"/>
          <a:stretch/>
        </p:blipFill>
        <p:spPr>
          <a:xfrm>
            <a:off x="142920" y="628560"/>
            <a:ext cx="885816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раиль - Горненский монастыр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78584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ославный русский женский Горненский монастырь расположен в Эйн Кареме, в 7 км на юго-запад от Иерусалима. В 1871 году глава Русской духовной миссии архимандрит Антонин (Капустин) выкупил плантацию оливковых деревьев близ Иерусалима и устроил на этом месте женскую общину, которая через три года получила свой устав и была утверждена в качестве женского монасты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14374.jpg"/>
          <p:cNvPicPr/>
          <p:nvPr/>
        </p:nvPicPr>
        <p:blipFill>
          <a:blip r:embed="rId2"/>
          <a:stretch/>
        </p:blipFill>
        <p:spPr>
          <a:xfrm>
            <a:off x="1000080" y="642960"/>
            <a:ext cx="69296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раиль - Горненский монастыр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6" descr="14373.jpg"/>
          <p:cNvPicPr/>
          <p:nvPr/>
        </p:nvPicPr>
        <p:blipFill>
          <a:blip r:embed="rId2"/>
          <a:stretch/>
        </p:blipFill>
        <p:spPr>
          <a:xfrm>
            <a:off x="1643040" y="642960"/>
            <a:ext cx="600084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зраиль - Гробница царя Дав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ерусалим – святой город для трех основных мировых религий. Царь Давид признается пророком в иудаизме, христианстве и исламе. Традиционная библейская версия говорит о том, что царь Давид был похоронен в Иерусалиме на горе Сион. Рядом с могилой царя Давида находится действующая синагога его имени. В IV веке находилась христианская церковь Святого Давида, которая была разрушена персами, и в 1524 году на ее месте возводится мечеть Эль-Дауд, минарет которой можно увидеть и сегодня. Большой каменный саркофаг накрыт покрывалом, на котором установлены короны свитков Торы, символизирующие 22 израильских царства, и вышиты слова из I Книги Царств: «Давид, царь Израиля, жив и существуе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зраиль - Гробница царя Дав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14350.jpg"/>
          <p:cNvPicPr/>
          <p:nvPr/>
        </p:nvPicPr>
        <p:blipFill>
          <a:blip r:embed="rId2"/>
          <a:stretch/>
        </p:blipFill>
        <p:spPr>
          <a:xfrm>
            <a:off x="252360" y="571680"/>
            <a:ext cx="86058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зраиль - Музей бриллиа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478584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ей бриллиантов Гарри Оппенхаймера, расположенный в центре Бриллиантовой биржи в Рамат-Гане. Бриллиантовая промышленность занимает ведущее место в экономике Израиля, а биржа в Рамат-Гане - крупнейшая в мир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5" descr="14309.jpg"/>
          <p:cNvPicPr/>
          <p:nvPr/>
        </p:nvPicPr>
        <p:blipFill>
          <a:blip r:embed="rId2"/>
          <a:stretch/>
        </p:blipFill>
        <p:spPr>
          <a:xfrm>
            <a:off x="1000080" y="571680"/>
            <a:ext cx="67500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4:16:13Z</dcterms:created>
  <dc:creator>user</dc:creator>
  <dc:description/>
  <dc:language>en-US</dc:language>
  <cp:lastModifiedBy>Feniks</cp:lastModifiedBy>
  <dcterms:modified xsi:type="dcterms:W3CDTF">2013-02-13T12:06:23Z</dcterms:modified>
  <cp:revision>5</cp:revision>
  <dc:subject/>
  <dc:title>Израиль - Гефсиманский сад</dc:title>
</cp:coreProperties>
</file>