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1AF-7733-4E02-B4D3-D88735C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310-6086-49F4-86AC-7B6BCE5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D7A-BF6E-4C4D-A072-B858BF55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300-8EDF-4D15-9654-8B5F37F3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6FC5-99DB-4904-BDF4-41573DA8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24C-F28B-415C-9E5C-E302B0F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B28-AB8F-44D4-8358-677EFAD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68B-B020-4B55-8198-BF5757B6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B51E-52D1-406B-9671-33B138C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F81C-4F66-4C2A-95D0-5AD15248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7DF7-CDF7-435C-85E1-31D15A8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D08-C6FA-455D-8F6C-C0BD561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C3B4-A369-403B-802E-F943E3F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A02-AFCB-48DC-9125-3D15E1F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612A-A8FE-4042-B364-FA4CA55E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D671-0958-4456-84E3-06E5D78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280F-8680-4361-9CBA-D0CAE216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44D-38E4-41E1-974D-5F9163B8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780-1903-41E3-B281-A564C38C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F94-0AD4-4A2F-BC8F-6925CC6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BE6-DAC5-46CC-BF16-9431028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8D2-0014-4B55-9084-89BDE10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9DC-888B-4271-B5A9-B6D57CF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2C7-650C-440E-A03D-C877712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9DC-80CA-459C-8B9C-CBF705CA1036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08A-76EC-4B87-8279-151EED8F529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CB9F-D110-43B6-A19F-123719FA551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B4D-C5F8-4D52-B79C-71FE8E77993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85040" cy="17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User\Рабочий стол\31020095.jpg"/>
          <p:cNvPicPr/>
          <p:nvPr/>
        </p:nvPicPr>
        <p:blipFill>
          <a:blip r:embed="rId2"/>
          <a:srcRect l="0" t="0" r="0" b="22741"/>
          <a:stretch/>
        </p:blipFill>
        <p:spPr>
          <a:xfrm>
            <a:off x="358920" y="1341360"/>
            <a:ext cx="3095640" cy="339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0" t="0" r="0" b="19613"/>
          <a:stretch/>
        </p:blipFill>
        <p:spPr>
          <a:xfrm>
            <a:off x="755640" y="4653000"/>
            <a:ext cx="2592360" cy="2043000"/>
          </a:xfrm>
          <a:prstGeom prst="rect">
            <a:avLst/>
          </a:prstGeom>
          <a:ln w="0">
            <a:noFill/>
          </a:ln>
        </p:spPr>
      </p:pic>
      <p:sp>
        <p:nvSpPr>
          <p:cNvPr id="85" name="Содержимое 9"/>
          <p:cNvSpPr/>
          <p:nvPr/>
        </p:nvSpPr>
        <p:spPr>
          <a:xfrm>
            <a:off x="3708360" y="1700280"/>
            <a:ext cx="518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принимательство возникло очень давно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ё во времена Киевской Руси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X – X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.) оно существовало в виде торговли и промыслов. Русские купцы были первыми представителями российского предпринимательства, которые прославили его не только внутри страны, но и далеко за её пределам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1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4005000"/>
            <a:ext cx="2305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рмарка в Киевской Рус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000" y="-360"/>
            <a:ext cx="5435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лотом развития предпринимательства на Руси становились города, вокруг которых множество торговых и промысловых поселений. Сюда сходились для торговли купцы, бобровники, бортники, звероловы, лыкодеры и другие "промышленники".  Места эти получали названия погостов. Отсюда пошла традиция ярмарочной торгов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Рисунок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0"/>
            <a:ext cx="3176640" cy="400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4340160"/>
            <a:ext cx="3492360" cy="251784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4" descr=""/>
          <p:cNvPicPr/>
          <p:nvPr/>
        </p:nvPicPr>
        <p:blipFill>
          <a:blip r:embed="rId3"/>
          <a:stretch/>
        </p:blipFill>
        <p:spPr>
          <a:xfrm>
            <a:off x="3419640" y="4581360"/>
            <a:ext cx="5724360" cy="184644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81160" y="103320"/>
            <a:ext cx="3181320" cy="987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13840" y="928440"/>
            <a:ext cx="3251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10000" y="188640"/>
            <a:ext cx="54259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Бортники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люди, занимающиеся сбором мёда лесных пчё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Бобровники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люди, получавшие в старину право от князей и других владельцев ловить бобров в их владен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Лыкодёр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промышляющие сдираньем с деревьев лыка. Лыко - внутренний (лубяной) слой коры молодых лиственных деревьев (до 10 лет), чаще липы и ивы. Из лыка плетут корзины, короба и другие изделия, раньше - лап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10960" y="620640"/>
            <a:ext cx="3011760" cy="268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 rot="20746200">
            <a:off x="1184400" y="2738160"/>
            <a:ext cx="1639800" cy="22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 rot="15819600">
            <a:off x="929160" y="4478400"/>
            <a:ext cx="1575000" cy="256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advTm="41000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" autoRev="1" fill="remov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7" dur="250" autoRev="1" fill="remov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" dur="250" autoRev="1" fill="remov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" dur="250" autoRev="1" fill="remov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50" autoRev="1" fill="remov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9" dur="250" autoRev="1" fill="remov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" dur="250" autoRev="1" fill="remov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492360" y="351000"/>
            <a:ext cx="5399280" cy="63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сной промысел, развитие сельских и городских ремёсел, обработка дерева и металла в сочетании с торговлей становились сферами российского предприниматель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у появился первый документ, регулировавший предпринимательскую деятельность – кодекс «Русская правд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епенно предметами торговли стали смола, воск, кожа, лес, лён, конопля, полотно, изделия из кожи и метал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C:\Documents and Settings\User\Рабочий стол\Для предпринимательства\Рыбак и разносчик рыбы.jpg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3533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3066840" cy="302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advTm="25000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71800" y="142560"/>
            <a:ext cx="49291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3214800"/>
            <a:ext cx="9001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а в Московской Руси начинается расцвет торговли и промышленности. Первыми промышленниками были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троганов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Мощный импульс своего развития предпринимательство получило при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Петре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Число мануфактур при нём выросло с 10 до 230. В этот период прославилась семь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емидов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торые построили 40 заводов, производившие 40% чугуна всей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C:\Documents and Settings\User\Рабочий стол\Для предпринимательства\img006.jpg"/>
          <p:cNvPicPr/>
          <p:nvPr/>
        </p:nvPicPr>
        <p:blipFill>
          <a:blip r:embed="rId1"/>
          <a:stretch/>
        </p:blipFill>
        <p:spPr>
          <a:xfrm>
            <a:off x="2097000" y="115920"/>
            <a:ext cx="5016600" cy="3017880"/>
          </a:xfrm>
          <a:prstGeom prst="rect">
            <a:avLst/>
          </a:prstGeom>
          <a:ln w="0">
            <a:noFill/>
          </a:ln>
        </p:spPr>
      </p:pic>
    </p:spTree>
  </p:cSld>
  <p:transition advTm="34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916360" y="272880"/>
            <a:ext cx="6084720" cy="545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ные предприниматели для устройства фабрик и заводов получали ссуды без процентов; их снабжали инструментами и орудиями производства; освобождали от государственной службы; предоставляли временные льготы от податей и пошлин, беспошлинный привоз из-за границы машин и инструментов; обеспечивали гарантированными государственными заказ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Documents and Settings\User\Рабочий стол\Для предпринимательства\img012.jpg"/>
          <p:cNvPicPr/>
          <p:nvPr/>
        </p:nvPicPr>
        <p:blipFill>
          <a:blip r:embed="rId1"/>
          <a:stretch/>
        </p:blipFill>
        <p:spPr>
          <a:xfrm>
            <a:off x="324000" y="1244520"/>
            <a:ext cx="3024000" cy="43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advTm="32000"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328920" cy="343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406320" y="105840"/>
            <a:ext cx="555804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1785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у российские предприниматели получают от Екатерины жалованную грамоту, которая сильно возвысила их положение. Согласно этой грамоте, все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купц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были разделены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на три гильд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1-я гильдия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упцы с капиталом не менее 10 тысяч рублей. Получали право оптовой торговли в России и за границей, а также право заводить фабрики и завод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2-я гильд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упцы с капиталом от 5 до 10 тысяч рублей. Получали право оптовой и розничной торговли в Росс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3-я гильд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упцы с капиталом от 1 до 5 тысяч рублей. Эта категория купцов имела право только на розничную торговлю. Купцы всех гильдий были освобождены от подушной подати, а также от личной рекрутской повинност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C:\Documents and Settings\UZER\Рабочий стол\Купцы\kupec.jpg"/>
          <p:cNvPicPr/>
          <p:nvPr/>
        </p:nvPicPr>
        <p:blipFill>
          <a:blip r:embed="rId2"/>
          <a:stretch/>
        </p:blipFill>
        <p:spPr>
          <a:xfrm>
            <a:off x="115920" y="1336680"/>
            <a:ext cx="3527280" cy="4406760"/>
          </a:xfrm>
          <a:prstGeom prst="rect">
            <a:avLst/>
          </a:prstGeom>
          <a:ln w="0">
            <a:noFill/>
          </a:ln>
        </p:spPr>
      </p:pic>
    </p:spTree>
  </p:cSld>
  <p:transition advTm="53000"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2724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714840"/>
            <a:ext cx="282888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35280" y="-360"/>
            <a:ext cx="55087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</a:rPr>
              <a:t>Традиция ярмарок стала сердцем русского предпринимательства, ибо ярмарки были для России своего рода биржами. Место, куда ежегодно в августе со всех концов страны и света стекалось огромное количество людей - 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Нижегородская Макарьевская ярмарка. </a:t>
            </a:r>
            <a:br>
              <a:rPr sz="2600"/>
            </a:br>
            <a:r>
              <a:rPr b="0" lang="ru-RU" sz="2600" spc="-1" strike="noStrike">
                <a:solidFill>
                  <a:srgbClr val="f2f2f2"/>
                </a:solidFill>
                <a:latin typeface="Times New Roman"/>
              </a:rPr>
              <a:t>        Ярмарка товаров была одновременно и ярмаркой-смотром всех творческих сил, технических новинок, тут же рождалась предприимчивость, сколачивались артели, товарищества.</a:t>
            </a:r>
            <a:br>
              <a:rPr sz="2600"/>
            </a:b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Documents and Settings\UZER\Рабочий стол\Купцы\07062514467fdd619f9a9.jpg"/>
          <p:cNvPicPr/>
          <p:nvPr/>
        </p:nvPicPr>
        <p:blipFill>
          <a:blip r:embed="rId2"/>
          <a:stretch/>
        </p:blipFill>
        <p:spPr>
          <a:xfrm>
            <a:off x="-12600" y="262080"/>
            <a:ext cx="3925800" cy="3103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UZER\Рабочий стол\Купцы\01.jpg"/>
          <p:cNvPicPr/>
          <p:nvPr/>
        </p:nvPicPr>
        <p:blipFill>
          <a:blip r:embed="rId3"/>
          <a:stretch/>
        </p:blipFill>
        <p:spPr>
          <a:xfrm>
            <a:off x="23760" y="3475080"/>
            <a:ext cx="3902040" cy="3303720"/>
          </a:xfrm>
          <a:prstGeom prst="rect">
            <a:avLst/>
          </a:prstGeom>
          <a:ln w="0">
            <a:noFill/>
          </a:ln>
        </p:spPr>
      </p:pic>
    </p:spTree>
  </p:cSld>
  <p:transition advTm="40000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Содержимое 3"/>
          <p:cNvGrpSpPr/>
          <p:nvPr/>
        </p:nvGrpSpPr>
        <p:grpSpPr>
          <a:xfrm>
            <a:off x="3564000" y="404640"/>
            <a:ext cx="5381640" cy="5837400"/>
            <a:chOff x="3564000" y="404640"/>
            <a:chExt cx="5381640" cy="5837400"/>
          </a:xfrm>
        </p:grpSpPr>
        <p:pic>
          <p:nvPicPr>
            <p:cNvPr id="114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564000" y="404640"/>
              <a:ext cx="5381640" cy="583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3578400" y="420120"/>
              <a:ext cx="5354640" cy="58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spcBef>
                  <a:spcPts val="700"/>
                </a:spcBef>
                <a:buClr>
                  <a:srgbClr val="f9f9f9"/>
                </a:buClr>
                <a:buSzPct val="65000"/>
                <a:buFont typeface="Wingdings 2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торой этап возрождения предпринимательства начинается с 1992 года. </a:t>
              </a:r>
              <a:br>
                <a:rPr sz="2800"/>
              </a:b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егодня в нашей стране формируются рыночные отношения. Предприниматели</a:t>
              </a:r>
              <a:br>
                <a:rPr sz="2800"/>
              </a:b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должны продолжать традиции русского купечества и заботиться не только о собственном обогащении, но и об экономическом и духовном процветании своего отечества. </a:t>
              </a:r>
              <a:endParaRPr b="0" lang="en-US" sz="2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116" name="Picture 3" descr="C:\Documents and Settings\UZER\Рабочий стол\Бизнес-картинки\image_73.jpg"/>
          <p:cNvPicPr/>
          <p:nvPr/>
        </p:nvPicPr>
        <p:blipFill>
          <a:blip r:embed="rId2"/>
          <a:stretch/>
        </p:blipFill>
        <p:spPr>
          <a:xfrm>
            <a:off x="214200" y="709560"/>
            <a:ext cx="3533760" cy="221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Picture 2" descr="C:\Documents and Settings\UZER\Рабочий стол\Бизнес-картинки\inflas_28.jpg"/>
          <p:cNvPicPr/>
          <p:nvPr/>
        </p:nvPicPr>
        <p:blipFill>
          <a:blip r:embed="rId3"/>
          <a:stretch/>
        </p:blipFill>
        <p:spPr>
          <a:xfrm>
            <a:off x="19080" y="2924280"/>
            <a:ext cx="3973320" cy="3163680"/>
          </a:xfrm>
          <a:prstGeom prst="rect">
            <a:avLst/>
          </a:prstGeom>
          <a:ln w="0">
            <a:noFill/>
          </a:ln>
        </p:spPr>
      </p:pic>
    </p:spTree>
  </p:cSld>
  <p:transition advTm="39000">
    <p:wipe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Самара</cp:lastModifiedBy>
  <dcterms:modified xsi:type="dcterms:W3CDTF">2013-02-13T07:27:19Z</dcterms:modified>
  <cp:revision>193</cp:revision>
  <dc:subject/>
  <dc:title>Слайд 1</dc:title>
</cp:coreProperties>
</file>