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83E9-8DE3-4C3C-8B19-CAF5B62738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етективы всегда пользовались популярностью среди детей и взрослых. Марина Некрасова пишет увлекательно. Сюжет произведений захватывает и интригует. Для детей 10-1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се книги писателя очень интересные  и увлекательные. В борьбе с волшебством всегда побеждает добро и человек остаётся человеком даже в волшебном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У входа нет выхода», «Школа ныряльщиков»- лучшие произведения пис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38C-81AA-499A-A04E-45395C3A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138-AD4D-43A7-A66B-80341806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E06-B25D-4F28-8249-C8F9B0A0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6DA-EC26-4DB3-96D1-BAEA19CA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EDA7-1D11-42EA-A9FC-B82C4643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9F1B-CEF5-46EC-865B-3CE90B45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2356-6978-4FBC-834F-2741BC8D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36E5-FEA3-47F8-ADC8-936C39AD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5102-902B-40D8-A36F-FFD5AFA1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563F-4A0F-48A4-A60C-26899732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D267-1154-4D70-B011-4EFE0BCF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1CF-A933-4A31-A6DF-EFBE29E9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3132-24C7-4984-B861-26B0CEA0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6BF2-080F-444D-BBF6-FE5FC560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A831-CDE1-4F6D-AF70-2C6AD23D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D116-11BA-4E0B-9E48-E9242B9F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4858-9C57-4EDD-B411-06B9E29E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072-F2B6-49D1-B37B-697DB430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F4D-C7A9-44F0-9A39-B3EA2031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34D-25A7-4082-A059-9B9D8DD5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B02-2F91-4DFD-82BE-9BC9581F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532-E0CB-4870-9299-12F23AD6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AB0-04D7-431A-B8AB-8D9BCCCE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B08-0A24-47F2-8E02-09699812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12F4-6D18-4A5D-B1B6-5F1CB08D2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5AE6-E18A-4DC8-948E-0264B6392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childrens-book-drive-image_0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klub-drug.ru/wp-content/uploads/2011/04/&#1082;&#1072;&#1088;&#1090;&#1080;&#1085;&#1082;&#1080;-&#1082;&#1085;&#1080;&#1075;-1.png" TargetMode="External"/><Relationship Id="rId4" Type="http://schemas.openxmlformats.org/officeDocument/2006/relationships/image" Target="../media/image15.png"/><Relationship Id="rId5" Type="http://schemas.openxmlformats.org/officeDocument/2006/relationships/hyperlink" Target="http://klub-drug.ru/wp-content/uploads/2011/04/Reading-Book.gif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b7"/>
                </a:solidFill>
                <a:latin typeface="Arial Black"/>
              </a:rPr>
              <a:t>НОВЫЕ ИМЕНА В ДЕТСКОЙ ЛИТЕРАТУРЕ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АЯ ЭН(р.1965г.)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844280"/>
            <a:ext cx="6039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сатель, поэт.2-ое место в конкурсе на лучшее произведение для подростков «Книгуру-2011»,живёт в Москве. Книги: «Есть ли жизнь на Кошмарсе или Весёлые приключения Няма, Чпока, Фи и Балди, не считая Хлюпы», «Сказки синего сумрака», «Мой личный дневник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Рисунок 8" descr="Ая Эн"/>
          <p:cNvPicPr/>
          <p:nvPr/>
        </p:nvPicPr>
        <p:blipFill>
          <a:blip r:embed="rId1"/>
          <a:srcRect l="0" t="0" r="12757" b="0"/>
          <a:stretch/>
        </p:blipFill>
        <p:spPr>
          <a:xfrm>
            <a:off x="6659640" y="3357720"/>
            <a:ext cx="2484360" cy="3500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00" y="119664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884232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АРИНА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ЕКРАСОВ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88455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ИС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учшие книг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Толстый- проти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хитител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ракон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Толстый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хититель огн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-1902" t="9852" r="0" b="0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ДМИТРИЙ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ЕМЕЦ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9828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ИСАТЕЛ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Лучшие книги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ЦИКЛ КНИГ 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ТАНЕ ГРОТТЕ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16601" t="0" r="0" b="12106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45560" cy="71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МИТРИЙ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ЕМЕ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Лучшие книг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ШКОЛА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ЫРЯЛЬЩ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 ВХОДА НЕТ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Х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9003" t="12628" r="0" b="-449"/>
          <a:stretch/>
        </p:blipFill>
        <p:spPr>
          <a:xfrm>
            <a:off x="4827600" y="0"/>
            <a:ext cx="431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ДЖОАН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ОЛИНГ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ИСАТ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ЕТСКИ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ЕТЕКТИВ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ЦИКЛ КНИ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 ГАР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ТТЕ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9852"/>
          <a:stretch/>
        </p:blipFill>
        <p:spPr>
          <a:xfrm>
            <a:off x="4170240" y="0"/>
            <a:ext cx="497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290680"/>
            <a:ext cx="2424240" cy="2424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221000"/>
            <a:ext cx="1728720" cy="1860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0560" y="476964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Arial Black"/>
              </a:rPr>
              <a:t>ИЭН МАКЬЮЗЭН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7020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ЧТА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етская книга для взрослых или взрослая книга для детей от мастера интеллектуальной прозы Иэна Макьюзэ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учшая книга 2012 г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ля детей 10-15 л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Рисунок 10" descr="Мечтатель. Иэн Макьюэн"/>
          <p:cNvPicPr/>
          <p:nvPr/>
        </p:nvPicPr>
        <p:blipFill>
          <a:blip r:embed="rId1"/>
          <a:srcRect l="26763" t="-5323" r="28617" b="0"/>
          <a:stretch/>
        </p:blipFill>
        <p:spPr>
          <a:xfrm>
            <a:off x="7093080" y="2781360"/>
            <a:ext cx="20509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АНДРЕЙ ЖВАЛЕВСКИЙ(р.1967г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.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6659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сатель, сценарист Лауреат национальной детской премии «Заветная мечта».Самые известные книги: «Цикл о Порри Гаттере», «Правдивая история Деда Мороза», «Время всегда хороше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3" descr="Андрей Жвалевский"/>
          <p:cNvPicPr/>
          <p:nvPr/>
        </p:nvPicPr>
        <p:blipFill>
          <a:blip r:embed="rId1"/>
          <a:stretch/>
        </p:blipFill>
        <p:spPr>
          <a:xfrm>
            <a:off x="6745320" y="3500280"/>
            <a:ext cx="2398680" cy="3357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00" y="26539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761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АРОШТАМ МАРИНА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(р.1960г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56055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исатель, педагог. Лауреат премии «Заветная мечта». Известные книги: «Белые вороны» , «Мохнатый ребёнок»,  «Когда отдыхают ангелы».</a:t>
            </a:r>
            <a:br>
              <a:rPr sz="2800"/>
            </a:br>
            <a:br>
              <a:rPr sz="24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Рисунок 9" descr="Марина Аромштам"/>
          <p:cNvPicPr/>
          <p:nvPr/>
        </p:nvPicPr>
        <p:blipFill>
          <a:blip r:embed="rId1"/>
          <a:stretch/>
        </p:blipFill>
        <p:spPr>
          <a:xfrm>
            <a:off x="5940360" y="2708280"/>
            <a:ext cx="3203640" cy="4149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00" y="37029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448956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Arial Black"/>
              </a:rPr>
              <a:t>АНАТОЛЬ ФРАНС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5786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сатель, лауреат Нобелевской премии, написала одно произведение «Пчёлку» для детей. Сказка о вечной любви, где добро побеждает зло, но не без помощи колдовства.  Эта сказка  для детей  от 8 до 13ле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Рисунок 3" descr="http://www.afisha.uz/ui/materials/2012/02/untitled-2.jpg"/>
          <p:cNvPicPr/>
          <p:nvPr/>
        </p:nvPicPr>
        <p:blipFill>
          <a:blip r:embed="rId1"/>
          <a:stretch/>
        </p:blipFill>
        <p:spPr>
          <a:xfrm>
            <a:off x="6424560" y="3357720"/>
            <a:ext cx="2397240" cy="3500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00" y="19681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b7"/>
                </a:solidFill>
                <a:latin typeface="Arial Black"/>
              </a:rPr>
              <a:t>ТОМ ТИТ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0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ранцузский автор пишет об интересных опытах, проведённых вместе с сыном. Книга сегодня очень актуальна. Произведение гарантирует интересное время провождение, как родителям так и дет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детей 10- 15 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Рисунок 2" descr="http://www.afisha.uz/ui/materials/2012/02/04127703.jpg"/>
          <p:cNvPicPr/>
          <p:nvPr/>
        </p:nvPicPr>
        <p:blipFill>
          <a:blip r:embed="rId1"/>
          <a:srcRect l="16882" t="-1553" r="9669" b="11808"/>
          <a:stretch/>
        </p:blipFill>
        <p:spPr>
          <a:xfrm>
            <a:off x="5580000" y="3357720"/>
            <a:ext cx="3564000" cy="3500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00" y="17773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КОНСТАНТИН СЕРГИЕНКО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4897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брая и сентиментальная повесть-сказка «Картонное сердце» о доброте и самопожертвовании. Доброта всегда побеждает з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детей 7-12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1" descr="http://www.afisha.uz/ui/materials/2012/02/konstantin_sergienko__kartonnoe_serdtse.jpg"/>
          <p:cNvPicPr/>
          <p:nvPr/>
        </p:nvPicPr>
        <p:blipFill>
          <a:blip r:embed="rId1"/>
          <a:stretch/>
        </p:blipFill>
        <p:spPr>
          <a:xfrm>
            <a:off x="6156360" y="2637000"/>
            <a:ext cx="2592360" cy="295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00" y="174888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ЭДУАРД ВЕРКИН(р.1975г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.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11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исатель, лауреат премии «Заветная мечта».Лучшие книги: «Приключения Витьки и Генки», «Хроника страны мечты», «Чёрная чайка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7" descr="Эдуард Веркин"/>
          <p:cNvPicPr/>
          <p:nvPr/>
        </p:nvPicPr>
        <p:blipFill>
          <a:blip r:embed="rId1"/>
          <a:stretch/>
        </p:blipFill>
        <p:spPr>
          <a:xfrm>
            <a:off x="6588000" y="3068640"/>
            <a:ext cx="2556000" cy="3789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00" y="26251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ЕЛЕНА ГАБОВА(р.1952г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.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676908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исатель ,поэт, финалист премии «Заветная мечта» за книгу «Зануда Дёма».Лучшие книги: «Варёная сосулька», «Двойка по поведению»,  «Никто не видел рыжего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Рисунок 5" descr="Елена Габова"/>
          <p:cNvPicPr/>
          <p:nvPr/>
        </p:nvPicPr>
        <p:blipFill>
          <a:blip r:embed="rId1"/>
          <a:stretch/>
        </p:blipFill>
        <p:spPr>
          <a:xfrm>
            <a:off x="6516720" y="3284640"/>
            <a:ext cx="2627280" cy="3573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800" y="24919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1:24:16Z</dcterms:created>
  <dc:creator>Admin</dc:creator>
  <dc:description/>
  <dc:language>en-US</dc:language>
  <cp:lastModifiedBy>Admin</cp:lastModifiedBy>
  <dcterms:modified xsi:type="dcterms:W3CDTF">2013-01-27T00:32:57Z</dcterms:modified>
  <cp:revision>12</cp:revision>
  <dc:subject/>
  <dc:title>НОВЫЕ ИМЕНА В ДЕТСКОЙ ЛИТЕРАТУРЕ</dc:title>
</cp:coreProperties>
</file>