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0ED-655C-44BB-BFFC-6766603D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EABB-A150-44A1-A2DB-B740890F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8774-2F21-4F1E-B858-7BB3BD23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31CA-BE6C-44B8-8DA0-3E4CD318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6AB-1DAA-404E-ADF4-6EDF398B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AF1E-C1FE-4CDA-8FEC-EDA89931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A9E8-AB19-4565-B73E-A52EA9E7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28C-D3B9-4EA4-AA41-B4444AD0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5433-B743-43CD-8FD9-554D4890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5524-5C1B-49EA-A6FD-D6752843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0A4-D4C4-4BE9-A3E1-657B68EC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15E-FD55-4E9D-9727-3B446703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94F2-69EE-471D-ABF4-0F361508D2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МБОУ СОШ № 8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МО «Ахтубинский райо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42960" y="2428920"/>
            <a:ext cx="80438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omic Sans MS"/>
              </a:rPr>
              <a:t>Исследовательская работ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omic Sans MS"/>
              </a:rPr>
              <a:t>в рамках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omic Sans MS"/>
              </a:rPr>
              <a:t>научно-исследовательского конкурс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omic Sans MS"/>
              </a:rPr>
              <a:t>«Я ПОЗНАЮ МИР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МЫ  УЗНА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2960" y="16426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олобок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небольшой круглый хлебец (в народных сказках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Амбар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строение для хранения зерна, муки, припасов, а также това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яжё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жареный в мас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усек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(закрома) место в амбаре где хранится зер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еречитываем сказку, чтобы узнать рецепт колоб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8" descr="2.jpg"/>
          <p:cNvPicPr/>
          <p:nvPr/>
        </p:nvPicPr>
        <p:blipFill>
          <a:blip r:embed="rId2"/>
          <a:stretch/>
        </p:blipFill>
        <p:spPr>
          <a:xfrm>
            <a:off x="428760" y="428760"/>
            <a:ext cx="4386240" cy="5929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8" descr="44.jpg"/>
          <p:cNvPicPr/>
          <p:nvPr/>
        </p:nvPicPr>
        <p:blipFill>
          <a:blip r:embed="rId2"/>
          <a:stretch/>
        </p:blipFill>
        <p:spPr>
          <a:xfrm>
            <a:off x="285840" y="2214720"/>
            <a:ext cx="4700520" cy="4286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казке всё  прост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Старуха наскребла муки  две   горсти, замесила   муку  на сметане,   состряпала колобок. Испекла и на окошко студить положил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А мама спрашивае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«Тесто было без дрожже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Будет невкусно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42908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ратимся к кни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валева  В.М.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гильного Н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Русская кухн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адиции и обычаи», чтобы узнать, как  пекли колоб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0" descr="слайд 10"/>
          <p:cNvPicPr/>
          <p:nvPr/>
        </p:nvPicPr>
        <p:blipFill>
          <a:blip r:embed="rId2"/>
          <a:stretch/>
        </p:blipFill>
        <p:spPr>
          <a:xfrm>
            <a:off x="357120" y="1643040"/>
            <a:ext cx="3500640" cy="49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296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азывается раньше была закваска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в  которой замешивали тесто. У нас закваски нет. Значит, нужны дрожжи и сахар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D:\фото\IMG_0016.JPG"/>
          <p:cNvPicPr/>
          <p:nvPr/>
        </p:nvPicPr>
        <p:blipFill>
          <a:blip r:embed="rId2"/>
          <a:stretch/>
        </p:blipFill>
        <p:spPr>
          <a:xfrm>
            <a:off x="642960" y="357120"/>
            <a:ext cx="7786800" cy="459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5572080" y="1600200"/>
            <a:ext cx="311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перь рецепт старой сказки полностью восстановл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0" descr="слайд 12"/>
          <p:cNvPicPr/>
          <p:nvPr/>
        </p:nvPicPr>
        <p:blipFill>
          <a:blip r:embed="rId2"/>
          <a:stretch/>
        </p:blipFill>
        <p:spPr>
          <a:xfrm>
            <a:off x="208080" y="1571760"/>
            <a:ext cx="5364000" cy="48574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9"/>
          <p:cNvSpPr/>
          <p:nvPr/>
        </p:nvSpPr>
        <p:spPr>
          <a:xfrm rot="21231000">
            <a:off x="945360" y="2250720"/>
            <a:ext cx="351324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ки насыпать  2 гор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ожжей ты ложку  полож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йцо разбей же поскор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метаны в тесто ты нал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 сахар, соль не позабуд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масло надо бы лину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сковород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арь быстре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на окошко полож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го минуточки на тр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сматрива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РЕАЛИЗАЦИЯ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ЗАМЫС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5" descr="DSC00291.JPG"/>
          <p:cNvPicPr/>
          <p:nvPr/>
        </p:nvPicPr>
        <p:blipFill>
          <a:blip r:embed="rId2"/>
          <a:stretch/>
        </p:blipFill>
        <p:spPr>
          <a:xfrm>
            <a:off x="357120" y="2000160"/>
            <a:ext cx="5286600" cy="4357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143680" y="1857240"/>
            <a:ext cx="36432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Приготовили необходимые продук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Мож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начинат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ЗАМЕШИВАЕМ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 ТЕС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5" descr="DSC00296.JPG"/>
          <p:cNvPicPr/>
          <p:nvPr/>
        </p:nvPicPr>
        <p:blipFill>
          <a:blip r:embed="rId2"/>
          <a:stretch/>
        </p:blipFill>
        <p:spPr>
          <a:xfrm>
            <a:off x="1785960" y="1714680"/>
            <a:ext cx="6000840" cy="450036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6" descr="DSC00301.JPG"/>
          <p:cNvPicPr/>
          <p:nvPr/>
        </p:nvPicPr>
        <p:blipFill>
          <a:blip r:embed="rId3"/>
          <a:stretch/>
        </p:blipFill>
        <p:spPr>
          <a:xfrm>
            <a:off x="1428840" y="164304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МИКСЕРА У БАБКИ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НЕ БЫЛО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5" descr="DSC00303.JPG"/>
          <p:cNvPicPr/>
          <p:nvPr/>
        </p:nvPicPr>
        <p:blipFill>
          <a:blip r:embed="rId2"/>
          <a:stretch/>
        </p:blipFill>
        <p:spPr>
          <a:xfrm>
            <a:off x="1928880" y="1714680"/>
            <a:ext cx="5929200" cy="472752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6" descr="DSC00304.JPG"/>
          <p:cNvPicPr/>
          <p:nvPr/>
        </p:nvPicPr>
        <p:blipFill>
          <a:blip r:embed="rId3"/>
          <a:stretch/>
        </p:blipFill>
        <p:spPr>
          <a:xfrm>
            <a:off x="2357280" y="1714680"/>
            <a:ext cx="5072400" cy="4857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5071680" y="1999800"/>
            <a:ext cx="361476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Колобок - круглый бок.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И у нас он будет сказочной фор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10" descr="DSC00310.JPG"/>
          <p:cNvPicPr/>
          <p:nvPr/>
        </p:nvPicPr>
        <p:blipFill>
          <a:blip r:embed="rId2"/>
          <a:stretch/>
        </p:blipFill>
        <p:spPr>
          <a:xfrm>
            <a:off x="357120" y="1714680"/>
            <a:ext cx="50958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Рисунок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400" y="2857680"/>
            <a:ext cx="835812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Загадки 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сказочного колоб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928880" y="357120"/>
            <a:ext cx="52149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В сказке колобок в масле пряжён,              значит будем жар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4" descr="DSC00314.JPG"/>
          <p:cNvPicPr/>
          <p:nvPr/>
        </p:nvPicPr>
        <p:blipFill>
          <a:blip r:embed="rId2"/>
          <a:stretch/>
        </p:blipFill>
        <p:spPr>
          <a:xfrm rot="21174600">
            <a:off x="500040" y="1999800"/>
            <a:ext cx="4286160" cy="4000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E:\Новая папка\DSC00317.JPG"/>
          <p:cNvPicPr/>
          <p:nvPr/>
        </p:nvPicPr>
        <p:blipFill>
          <a:blip r:embed="rId3"/>
          <a:stretch/>
        </p:blipFill>
        <p:spPr>
          <a:xfrm rot="690600">
            <a:off x="4838760" y="2693880"/>
            <a:ext cx="360180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928520"/>
            <a:ext cx="4038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 рецепту сказки, поставили на окошко студить. Присмотрели, чтобы не убеж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6" descr="DSC00334.JPG"/>
          <p:cNvPicPr/>
          <p:nvPr/>
        </p:nvPicPr>
        <p:blipFill>
          <a:blip r:embed="rId2"/>
          <a:stretch/>
        </p:blipFill>
        <p:spPr>
          <a:xfrm>
            <a:off x="4270320" y="1500120"/>
            <a:ext cx="4444920" cy="4214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714920" y="1785600"/>
            <a:ext cx="4038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еперь можно узнать на вкус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акой он  сказочный колоб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одержимое 4" descr="DSC00325.JPG"/>
          <p:cNvPicPr/>
          <p:nvPr/>
        </p:nvPicPr>
        <p:blipFill>
          <a:blip r:embed="rId2"/>
          <a:stretch/>
        </p:blipFill>
        <p:spPr>
          <a:xfrm>
            <a:off x="357120" y="500040"/>
            <a:ext cx="472284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8760" y="2332080"/>
            <a:ext cx="8229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Готовить колобки – очень интересно. И как оказалось не очень сложно и очень вкусно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357120" y="1785960"/>
            <a:ext cx="8143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Уважаемые пекари и повар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omic Sans MS"/>
              </a:rPr>
              <a:t>Готовьте, пожалуйста, для детей колобки. Это так вкус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ИЯТНОГО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АППЕТИТА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Содержимое 5" descr="DSC00335.JPG"/>
          <p:cNvPicPr/>
          <p:nvPr/>
        </p:nvPicPr>
        <p:blipFill>
          <a:blip r:embed="rId2"/>
          <a:stretch/>
        </p:blipFill>
        <p:spPr>
          <a:xfrm>
            <a:off x="1857240" y="17859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Даль В. И. Толковый словарь русского языка. Современная версия. М., 2007 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Ковалев В.М., Могильный Н.П. Русская кухня: традиции и обычаи. М., 199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Колобок. Русская народная сказка. М., 1991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жегов С. И. Словарь русского языка / под ред. Н. Ю. Шведовой. М., 1973 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429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8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Работу выполни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Тараненко Викто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Дехтерев Дани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Ганжа Серг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             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и члены круж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           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«Проектная деятельность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             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1 Б  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      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Руководитель:  Остапенко С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429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итая со своими детьми первые книги – русские народные сказки, которые мы знаем наизусть с детства, порой не замечаем, что многие образы и слова, которые встречаются в этих детских сказках, неизвестны не только нашим детям, но порой и взросл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стой пример – сказка «Колобок». А сколько тайн и загадок содержит в себе самая детская сказк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такое колобок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он должен выгляде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его приготови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64296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как интересно и полез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читать и поразмышлять с ребенком над давно прочитанной в первый раз сказкой по-новому, по-взрослому, с исследовательскими задач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Целью в работе ставим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 найти, разобрать и дать ответ на «загадки» сказки «Колобок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яснить рецепт приготовления колоб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готовить коло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ипотез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ы предполагаем, если в сказке описыва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лебобулочное изделие, то его мож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готови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РАЗРАБОТКА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РОЕКТНОГО  ЗАМЫС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10" descr="IMG_0139.jpg"/>
          <p:cNvPicPr/>
          <p:nvPr/>
        </p:nvPicPr>
        <p:blipFill>
          <a:blip r:embed="rId2"/>
          <a:stretch/>
        </p:blipFill>
        <p:spPr>
          <a:xfrm>
            <a:off x="5530680" y="1843200"/>
            <a:ext cx="2613240" cy="403848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12" descr="IMG_0137.jpg"/>
          <p:cNvPicPr/>
          <p:nvPr/>
        </p:nvPicPr>
        <p:blipFill>
          <a:blip r:embed="rId3"/>
          <a:stretch/>
        </p:blipFill>
        <p:spPr>
          <a:xfrm>
            <a:off x="428760" y="2000160"/>
            <a:ext cx="4786200" cy="300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00b050"/>
                </a:solidFill>
                <a:latin typeface="Comic Sans MS"/>
              </a:rPr>
              <a:t>Составили план работы и отправились в библиотеку – пополнять зн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4" descr="IMG_0010.JPG"/>
          <p:cNvPicPr/>
          <p:nvPr/>
        </p:nvPicPr>
        <p:blipFill>
          <a:blip r:embed="rId2"/>
          <a:stretch/>
        </p:blipFill>
        <p:spPr>
          <a:xfrm>
            <a:off x="4000680" y="1357200"/>
            <a:ext cx="4686120" cy="4357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4" descr="IMG_0011.JPG"/>
          <p:cNvPicPr/>
          <p:nvPr/>
        </p:nvPicPr>
        <p:blipFill>
          <a:blip r:embed="rId2"/>
          <a:stretch/>
        </p:blipFill>
        <p:spPr>
          <a:xfrm>
            <a:off x="357120" y="1643040"/>
            <a:ext cx="4929120" cy="442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</a:rPr>
              <a:t>Тяжелы вы знания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РАБОТА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 ТОЛКОВЫМ СЛОВАР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5" descr="IMG_0014.JPG"/>
          <p:cNvPicPr/>
          <p:nvPr/>
        </p:nvPicPr>
        <p:blipFill>
          <a:blip r:embed="rId2"/>
          <a:stretch/>
        </p:blipFill>
        <p:spPr>
          <a:xfrm>
            <a:off x="4572000" y="1714680"/>
            <a:ext cx="4143240" cy="271440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8" descr="IMG_0013.JPG"/>
          <p:cNvPicPr/>
          <p:nvPr/>
        </p:nvPicPr>
        <p:blipFill>
          <a:blip r:embed="rId3"/>
          <a:stretch/>
        </p:blipFill>
        <p:spPr>
          <a:xfrm>
            <a:off x="357120" y="1785960"/>
            <a:ext cx="3929040" cy="2651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0" descr="слайд 6-1"/>
          <p:cNvPicPr/>
          <p:nvPr/>
        </p:nvPicPr>
        <p:blipFill>
          <a:blip r:embed="rId4"/>
          <a:stretch/>
        </p:blipFill>
        <p:spPr>
          <a:xfrm>
            <a:off x="2571840" y="4357800"/>
            <a:ext cx="3500280" cy="2235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13T14:39:53Z</dcterms:modified>
  <cp:revision>35</cp:revision>
  <dc:subject/>
  <dc:title>Слайд 1</dc:title>
</cp:coreProperties>
</file>