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43.jpeg" ContentType="image/jpeg"/>
  <Override PartName="/ppt/media/image7.gif" ContentType="image/gif"/>
  <Override PartName="/ppt/media/image33.jpeg" ContentType="image/jpeg"/>
  <Override PartName="/ppt/media/image4.gif" ContentType="image/gif"/>
  <Override PartName="/ppt/media/image6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63.gif" ContentType="image/gif"/>
  <Override PartName="/ppt/media/image64.jpeg" ContentType="image/jpeg"/>
  <Override PartName="/ppt/media/image38.jpeg" ContentType="image/jpeg"/>
  <Override PartName="/ppt/media/image20.jpeg" ContentType="image/jpeg"/>
  <Override PartName="/ppt/media/image15.jpeg" ContentType="image/jpeg"/>
  <Override PartName="/ppt/media/image50.jpeg" ContentType="image/jpeg"/>
  <Override PartName="/ppt/media/image23.jpeg" ContentType="image/jpeg"/>
  <Override PartName="/ppt/media/image17.gif" ContentType="image/gif"/>
  <Override PartName="/ppt/media/image51.jpeg" ContentType="image/jpeg"/>
  <Override PartName="/ppt/media/image61.jpeg" ContentType="image/jpeg"/>
  <Override PartName="/ppt/media/image26.png" ContentType="image/png"/>
  <Override PartName="/ppt/media/image25.jpeg" ContentType="image/jpeg"/>
  <Override PartName="/ppt/media/image19.jpeg" ContentType="image/jpeg"/>
  <Override PartName="/ppt/media/image21.jpeg" ContentType="image/jpeg"/>
  <Override PartName="/ppt/media/image6.gif" ContentType="image/gif"/>
  <Override PartName="/ppt/media/image16.jpeg" ContentType="image/jpeg"/>
  <Override PartName="/ppt/media/image27.jpeg" ContentType="image/jpeg"/>
  <Override PartName="/ppt/media/image10.jpeg" ContentType="image/jpeg"/>
  <Override PartName="/ppt/media/image18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52.jpeg" ContentType="image/jpeg"/>
  <Override PartName="/ppt/media/image13.png" ContentType="image/png"/>
  <Override PartName="/ppt/media/image29.jpeg" ContentType="image/jpeg"/>
  <Override PartName="/ppt/media/image12.jpeg" ContentType="image/jpeg"/>
  <Override PartName="/ppt/media/image54.jpeg" ContentType="image/jpeg"/>
  <Override PartName="/ppt/media/image30.gif" ContentType="image/gif"/>
  <Override PartName="/ppt/media/image55.jpeg" ContentType="image/jpeg"/>
  <Override PartName="/ppt/media/image2.jpeg" ContentType="image/jpeg"/>
  <Override PartName="/ppt/media/image31.png" ContentType="image/png"/>
  <Override PartName="/ppt/media/image32.jpeg" ContentType="image/jpeg"/>
  <Override PartName="/ppt/media/image34.jpeg" ContentType="image/jpeg"/>
  <Override PartName="/ppt/media/image36.wmf" ContentType="image/x-wmf"/>
  <Override PartName="/ppt/media/image47.jpeg" ContentType="image/jpeg"/>
  <Override PartName="/ppt/media/image5.png" ContentType="image/png"/>
  <Override PartName="/ppt/media/image39.jpeg" ContentType="image/jpeg"/>
  <Override PartName="/ppt/media/image40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8.jpeg" ContentType="image/jpeg"/>
  <Override PartName="/ppt/media/image8.gif" ContentType="image/gif"/>
  <Override PartName="/ppt/media/image49.jpeg" ContentType="image/jpeg"/>
  <Override PartName="/ppt/media/image5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02A1-0E8A-4E9A-B4E0-D532CEF1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39A4-EC83-48C7-AA2A-425A428A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DF2D-D667-43AE-9772-C9C4D5D9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8ED2-F596-447E-9A0B-B9C238F2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8FF1-DCD3-4EDE-BB1A-795F8327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B1DE-F168-4108-9BA3-23521CBE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090D-6704-4758-8913-5B27CEA9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0988-A450-4A2D-B1EE-D1B53B5A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9517-FA89-4B59-9001-92C8F050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4720" y="306360"/>
            <a:ext cx="90727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926B-0EF0-4C9F-B1EC-67DB6358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11AB-B475-47BF-B522-EC676F9D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8274-301E-46D5-8B96-B226B787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47E0-5DB2-4CC6-B234-3EAD87CB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03BA-03FA-4289-99D9-EEB0CEF8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1E42-196F-43CA-B378-6113855D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9ED6-3AE8-4C42-B8D4-6495EA36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6E7C-2E91-4629-BB29-B5AC2A40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1DE94-E8C4-456A-B700-DF483711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FF527-E0C7-4A13-8BB8-B62EAB5B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6C6F5-9150-41C0-B8F5-26BE3D96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B9843-20F8-4EFC-9713-AB7DF284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9B98F-4EE4-4355-95BC-52A1DB50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85C2-4684-4AEB-86DD-4769D347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504720" y="306360"/>
            <a:ext cx="90727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108D6-F231-4587-8DE1-708AB649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1CBB8-EF08-4B42-880A-211AEF10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72579-302B-4389-A084-72DE8820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82DC1-3AE1-493F-80A0-9ABA33E9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1BFB4-4022-4BB8-93AA-E7861F4C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F8D95-A43D-4EAD-AFE9-EB61F9A2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AB5A8-4696-4E3B-8E56-09B92769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C3BD4-88FD-47F9-8204-BF9916D7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5C363-C1DF-4BBA-B13A-C6AEA76A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6D22C-1C7D-490B-A138-9E126345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70DC-C663-42C4-BE6B-4B1A780A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D418E-E5EA-4BE0-94A1-EA5F95E9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D3726-6DAE-4381-94DE-972A8F96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504720" y="306360"/>
            <a:ext cx="90727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1F56E-0469-45FC-8BD2-DBA5A15C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C5FD4-793B-4CD0-8A87-C397CECC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BC6FE-F080-4D11-BA95-E516ED7E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49A48-6FBF-4E94-8401-131B23DF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35FA7-4E61-4FCB-975E-2093C777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1E80A-5CAA-4DFC-AE87-2A90EC7E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DC0BF-92FF-4C84-865A-4ACEB89B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D5FEC-B3F6-43E9-AF60-AABDAE7A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2594-3346-450A-9F04-873066EF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EBF31-8949-4BB2-B470-B64BB1AF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2FC86-9730-4845-A9D0-68247F7C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BE2EB-B416-4CA4-8FC6-2B07319A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FF42C-2D78-43B8-A3DD-23BE8D8C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504720" y="306360"/>
            <a:ext cx="90727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0BCF9-3497-473B-A308-03668F40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A4E9D-C71C-4923-AAB7-2F29AAF0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8D6A4-029A-48B1-A23D-967CE4B6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AF7AE-95BD-4263-BA83-84F4C40F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26761-DBF6-4E70-BA5E-14EF66A0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BEDDA-3381-42A5-803E-6E8F6008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04720" y="306360"/>
            <a:ext cx="90727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6D79-00FC-4E79-BB1A-C4A7BC85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9130A-2606-446E-9C44-AA2E20FC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F73C64-55C2-4B27-8A8C-D8B21964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443670-3BA8-4D36-B0C8-B57FB048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2B88C4-D0C2-4BC1-BDEB-65AE3A3F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062C74-DBB1-4664-8C6F-862FF10F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607297-AC65-4603-A799-65524E3D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504720" y="306360"/>
            <a:ext cx="90727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2DA070-E6E8-430C-96D8-E1500EE6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740DFF-1D62-4779-8C60-EB49769A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99F192-81EE-43ED-9759-3912EC4C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F99FBF-5388-42F8-BE62-A92DEAB4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CE1D-08D6-445A-B866-419ABCD9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333294-021A-499C-BE78-EEA06F4E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3129DA-4F72-49D9-BFE6-CA104721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E8E458-FEFA-47F8-8DEB-EC512E10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4CD450-61B3-4394-B002-8409D3DD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4C05F7-D73D-4342-A533-CD9BC48B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C5DCD5-60AB-4704-BB41-D657A1D9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92788B-0686-40C8-A9B7-48BFC197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26DE31-6DF9-4B8C-A3A8-5370BF85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504720" y="306360"/>
            <a:ext cx="90727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00FD06-9A87-422A-A717-9E70AA9A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6768E4-0B82-4114-90BC-A75EAB08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89E9-81E6-4C52-9ECD-0A28FB2A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BDDEB5-4A7A-44A7-9C1A-D3B8ADC5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DCAA70-18F4-4016-B12C-8CDE85A9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6BF5C3-C770-4DBF-B3E5-1F905571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049F38-1EAB-4EFF-A6D8-7EF39F81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668F8E-7C66-4048-82BB-CEACD0DF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C90DC-3387-405D-A593-AA1A03DD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4F383-0903-46A7-8EF3-D877F174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36904-FDC6-489C-9C1F-7A71D0D7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8F381-6870-404C-B121-9183513C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65606-97FC-4B72-AA20-43C901F0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C6E2-7DE3-43DB-AC14-88364BDC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04720" y="306360"/>
            <a:ext cx="90727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63177-E0BD-405C-AB8C-018D5E4B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3CDD8-70A3-42A7-935E-60D2566F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EA869-8507-40C3-8FE2-CFF133EA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8FFBC-9947-401B-9DAE-9C18A95C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0DC61-35DA-4FA6-8F92-CD596AC6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57DDD-A28D-48E9-A9FB-602C3E09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F3E6D-5225-40A5-AD31-1748F4EB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07280" y="7086600"/>
            <a:ext cx="314280" cy="23184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703760"/>
            <a:ext cx="10077120" cy="2855520"/>
            <a:chOff x="3240" y="4703760"/>
            <a:chExt cx="10077120" cy="2855520"/>
          </a:xfrm>
        </p:grpSpPr>
        <p:sp>
          <p:nvSpPr>
            <p:cNvPr id="2" name=""/>
            <p:cNvSpPr/>
            <p:nvPr/>
          </p:nvSpPr>
          <p:spPr>
            <a:xfrm>
              <a:off x="3240" y="4703760"/>
              <a:ext cx="10077120" cy="28555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6174360" y="6500880"/>
              <a:ext cx="1385280" cy="911160"/>
              <a:chOff x="6174360" y="6500880"/>
              <a:chExt cx="1385280" cy="911160"/>
            </a:xfrm>
          </p:grpSpPr>
          <p:sp>
            <p:nvSpPr>
              <p:cNvPr id="4" name=""/>
              <p:cNvSpPr/>
              <p:nvPr/>
            </p:nvSpPr>
            <p:spPr>
              <a:xfrm>
                <a:off x="6452280" y="6666840"/>
                <a:ext cx="930600" cy="571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522480" y="6719400"/>
                <a:ext cx="790560" cy="4809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620400" y="6775200"/>
                <a:ext cx="601560" cy="3618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690240" y="6817320"/>
                <a:ext cx="45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749640" y="6862680"/>
                <a:ext cx="335880" cy="187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58240" y="6500880"/>
                <a:ext cx="669960" cy="281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468120" y="7296840"/>
                <a:ext cx="776520" cy="1152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174360" y="6834600"/>
                <a:ext cx="155880" cy="37764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247440" y="6553080"/>
                <a:ext cx="1312200" cy="8060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066440" y="6511320"/>
                <a:ext cx="167760" cy="5220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844320" y="6908400"/>
                <a:ext cx="146520" cy="921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107880" y="6354000"/>
              <a:ext cx="2845080" cy="1194480"/>
              <a:chOff x="3107880" y="6354000"/>
              <a:chExt cx="2845080" cy="1194480"/>
            </a:xfrm>
          </p:grpSpPr>
          <p:sp>
            <p:nvSpPr>
              <p:cNvPr id="16" name=""/>
              <p:cNvSpPr/>
              <p:nvPr/>
            </p:nvSpPr>
            <p:spPr>
              <a:xfrm>
                <a:off x="3968640" y="6883920"/>
                <a:ext cx="1116720" cy="6591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048920" y="6925680"/>
                <a:ext cx="950400" cy="5806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096080" y="6962400"/>
                <a:ext cx="876600" cy="523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143600" y="6994080"/>
                <a:ext cx="776880" cy="4507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173120" y="7008120"/>
                <a:ext cx="722520" cy="4194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4264200" y="7044840"/>
                <a:ext cx="535680" cy="3355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332240" y="7097040"/>
                <a:ext cx="397080" cy="2358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448160" y="7169040"/>
                <a:ext cx="156960" cy="1044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523400" y="6687720"/>
                <a:ext cx="785520" cy="3250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748320" y="6740280"/>
                <a:ext cx="1560600" cy="80820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643200" y="6698160"/>
                <a:ext cx="712080" cy="85032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226840" y="7076160"/>
                <a:ext cx="188640" cy="44064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618360" y="6448320"/>
                <a:ext cx="1460880" cy="26208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267000" y="6742080"/>
                <a:ext cx="299160" cy="80640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5163840" y="6563520"/>
                <a:ext cx="630000" cy="98460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4056120" y="6354000"/>
                <a:ext cx="1886040" cy="7430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781600" y="7139160"/>
                <a:ext cx="171360" cy="4093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107880" y="6427080"/>
                <a:ext cx="841680" cy="11214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7224120" y="5879880"/>
              <a:ext cx="2364120" cy="1436040"/>
              <a:chOff x="7224120" y="5879880"/>
              <a:chExt cx="2364120" cy="1436040"/>
            </a:xfrm>
          </p:grpSpPr>
          <p:sp>
            <p:nvSpPr>
              <p:cNvPr id="35" name=""/>
              <p:cNvSpPr/>
              <p:nvPr/>
            </p:nvSpPr>
            <p:spPr>
              <a:xfrm>
                <a:off x="7350120" y="5952960"/>
                <a:ext cx="2101680" cy="127872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224120" y="5889960"/>
                <a:ext cx="951840" cy="128952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385840" y="5879880"/>
                <a:ext cx="1065600" cy="44064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9180360" y="7011720"/>
                <a:ext cx="126000" cy="94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884000" y="7127280"/>
                <a:ext cx="1233720" cy="18864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9338040" y="6393960"/>
                <a:ext cx="250200" cy="59652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857080" y="6341400"/>
                <a:ext cx="145080" cy="1573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778880" y="6215400"/>
                <a:ext cx="1254600" cy="7542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610760" y="6141960"/>
                <a:ext cx="1590480" cy="9327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86960" y="6110640"/>
                <a:ext cx="638640" cy="1152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810560" y="6226200"/>
                <a:ext cx="115200" cy="83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955640" y="6313320"/>
                <a:ext cx="906120" cy="5580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011800" y="6351840"/>
                <a:ext cx="780120" cy="474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067600" y="6386760"/>
                <a:ext cx="675360" cy="407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144640" y="6436080"/>
                <a:ext cx="521280" cy="309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207640" y="6471000"/>
                <a:ext cx="388440" cy="2430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91520" y="6523200"/>
                <a:ext cx="220320" cy="14184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9240120" y="5291640"/>
              <a:ext cx="743400" cy="451080"/>
              <a:chOff x="9240120" y="5291640"/>
              <a:chExt cx="743400" cy="451080"/>
            </a:xfrm>
          </p:grpSpPr>
          <p:sp>
            <p:nvSpPr>
              <p:cNvPr id="53" name=""/>
              <p:cNvSpPr/>
              <p:nvPr/>
            </p:nvSpPr>
            <p:spPr>
              <a:xfrm>
                <a:off x="9240120" y="5574600"/>
                <a:ext cx="669960" cy="16812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301320" y="5291640"/>
                <a:ext cx="451080" cy="94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878760" y="5364720"/>
                <a:ext cx="104760" cy="2728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9406080" y="5679720"/>
                <a:ext cx="335880" cy="3132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281880" y="5322960"/>
                <a:ext cx="281520" cy="32544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9605880" y="5322960"/>
                <a:ext cx="325080" cy="3672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353880" y="5351040"/>
                <a:ext cx="522720" cy="32508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9416880" y="5398200"/>
                <a:ext cx="396720" cy="230400"/>
                <a:chOff x="9416880" y="5398200"/>
                <a:chExt cx="396720" cy="2304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9416880" y="5398200"/>
                  <a:ext cx="396720" cy="23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9455040" y="5422680"/>
                  <a:ext cx="317880" cy="1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9504000" y="5439960"/>
                  <a:ext cx="218520" cy="14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9551160" y="5467680"/>
                  <a:ext cx="12744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88e4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99ff99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4261438D-E59D-451F-8FAB-5385705B2A33}" type="slidenum">
              <a:rPr b="0" lang="ru-RU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703760"/>
            <a:ext cx="10077120" cy="2855520"/>
            <a:chOff x="3240" y="4703760"/>
            <a:chExt cx="10077120" cy="2855520"/>
          </a:xfrm>
        </p:grpSpPr>
        <p:sp>
          <p:nvSpPr>
            <p:cNvPr id="107" name=""/>
            <p:cNvSpPr/>
            <p:nvPr/>
          </p:nvSpPr>
          <p:spPr>
            <a:xfrm>
              <a:off x="3240" y="4703760"/>
              <a:ext cx="10077120" cy="28555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6174360" y="6500880"/>
              <a:ext cx="1385280" cy="911160"/>
              <a:chOff x="6174360" y="6500880"/>
              <a:chExt cx="1385280" cy="911160"/>
            </a:xfrm>
          </p:grpSpPr>
          <p:sp>
            <p:nvSpPr>
              <p:cNvPr id="109" name=""/>
              <p:cNvSpPr/>
              <p:nvPr/>
            </p:nvSpPr>
            <p:spPr>
              <a:xfrm>
                <a:off x="6452280" y="6666840"/>
                <a:ext cx="930600" cy="571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22480" y="6719400"/>
                <a:ext cx="790560" cy="4809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620400" y="6775200"/>
                <a:ext cx="601560" cy="3618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690240" y="6817320"/>
                <a:ext cx="45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749640" y="6862680"/>
                <a:ext cx="335880" cy="187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58240" y="6500880"/>
                <a:ext cx="669960" cy="281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468120" y="7296840"/>
                <a:ext cx="776520" cy="1152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74360" y="6834600"/>
                <a:ext cx="155880" cy="37764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247440" y="6553080"/>
                <a:ext cx="1312200" cy="8060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66440" y="6511320"/>
                <a:ext cx="167760" cy="5220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844320" y="6908400"/>
                <a:ext cx="146520" cy="921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107880" y="6354000"/>
              <a:ext cx="2845080" cy="1194480"/>
              <a:chOff x="3107880" y="6354000"/>
              <a:chExt cx="2845080" cy="1194480"/>
            </a:xfrm>
          </p:grpSpPr>
          <p:sp>
            <p:nvSpPr>
              <p:cNvPr id="121" name=""/>
              <p:cNvSpPr/>
              <p:nvPr/>
            </p:nvSpPr>
            <p:spPr>
              <a:xfrm>
                <a:off x="3968640" y="6883920"/>
                <a:ext cx="1116720" cy="6591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48920" y="6925680"/>
                <a:ext cx="950400" cy="5806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096080" y="6962400"/>
                <a:ext cx="876600" cy="523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143600" y="6994080"/>
                <a:ext cx="776880" cy="4507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173120" y="7008120"/>
                <a:ext cx="722520" cy="4194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264200" y="7044840"/>
                <a:ext cx="535680" cy="3355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332240" y="7097040"/>
                <a:ext cx="397080" cy="2358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448160" y="7169040"/>
                <a:ext cx="156960" cy="1044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23400" y="6687720"/>
                <a:ext cx="785520" cy="3250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748320" y="6740280"/>
                <a:ext cx="1560600" cy="80820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643200" y="6698160"/>
                <a:ext cx="712080" cy="85032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226840" y="7076160"/>
                <a:ext cx="188640" cy="44064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618360" y="6448320"/>
                <a:ext cx="1460880" cy="26208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67000" y="6742080"/>
                <a:ext cx="299160" cy="80640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163840" y="6563520"/>
                <a:ext cx="630000" cy="98460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056120" y="6354000"/>
                <a:ext cx="1886040" cy="7430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781600" y="7139160"/>
                <a:ext cx="171360" cy="4093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107880" y="6427080"/>
                <a:ext cx="841680" cy="11214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224120" y="5879880"/>
              <a:ext cx="2364120" cy="1436040"/>
              <a:chOff x="7224120" y="5879880"/>
              <a:chExt cx="2364120" cy="1436040"/>
            </a:xfrm>
          </p:grpSpPr>
          <p:sp>
            <p:nvSpPr>
              <p:cNvPr id="140" name=""/>
              <p:cNvSpPr/>
              <p:nvPr/>
            </p:nvSpPr>
            <p:spPr>
              <a:xfrm>
                <a:off x="7350120" y="5952960"/>
                <a:ext cx="2101680" cy="127872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224120" y="5889960"/>
                <a:ext cx="951840" cy="128952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385840" y="5879880"/>
                <a:ext cx="1065600" cy="44064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180360" y="7011720"/>
                <a:ext cx="126000" cy="94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884000" y="7127280"/>
                <a:ext cx="1233720" cy="18864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338040" y="6393960"/>
                <a:ext cx="250200" cy="59652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57080" y="6341400"/>
                <a:ext cx="145080" cy="1573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78880" y="6215400"/>
                <a:ext cx="1254600" cy="7542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610760" y="6141960"/>
                <a:ext cx="1590480" cy="9327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986960" y="6110640"/>
                <a:ext cx="638640" cy="1152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10560" y="6226200"/>
                <a:ext cx="115200" cy="83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955640" y="6313320"/>
                <a:ext cx="906120" cy="5580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011800" y="6351840"/>
                <a:ext cx="780120" cy="474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067600" y="6386760"/>
                <a:ext cx="675360" cy="407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144640" y="6436080"/>
                <a:ext cx="521280" cy="309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207640" y="6471000"/>
                <a:ext cx="388440" cy="2430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291520" y="6523200"/>
                <a:ext cx="220320" cy="14184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9240120" y="5291640"/>
              <a:ext cx="743400" cy="451080"/>
              <a:chOff x="9240120" y="5291640"/>
              <a:chExt cx="743400" cy="451080"/>
            </a:xfrm>
          </p:grpSpPr>
          <p:sp>
            <p:nvSpPr>
              <p:cNvPr id="158" name=""/>
              <p:cNvSpPr/>
              <p:nvPr/>
            </p:nvSpPr>
            <p:spPr>
              <a:xfrm>
                <a:off x="9240120" y="5574600"/>
                <a:ext cx="669960" cy="16812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301320" y="5291640"/>
                <a:ext cx="451080" cy="94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878760" y="5364720"/>
                <a:ext cx="104760" cy="2728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406080" y="5679720"/>
                <a:ext cx="335880" cy="3132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281880" y="5322960"/>
                <a:ext cx="281520" cy="32544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9605880" y="5322960"/>
                <a:ext cx="325080" cy="3672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353880" y="5351040"/>
                <a:ext cx="522720" cy="32508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9416880" y="5398200"/>
                <a:ext cx="396720" cy="230400"/>
                <a:chOff x="9416880" y="5398200"/>
                <a:chExt cx="396720" cy="2304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9416880" y="5398200"/>
                  <a:ext cx="396720" cy="23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455040" y="5422680"/>
                  <a:ext cx="317880" cy="1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9504000" y="5439960"/>
                  <a:ext cx="218520" cy="14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9551160" y="5467680"/>
                  <a:ext cx="12744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1864800"/>
            <a:ext cx="8569440" cy="1914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50436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7224480" y="6888240"/>
            <a:ext cx="23526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F47C2AEE-981F-458A-A66E-3878BBAB2078}" type="slidenum">
              <a:rPr b="0" lang="ru-RU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31920" y="252000"/>
            <a:ext cx="9383760" cy="146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331920" y="1847880"/>
            <a:ext cx="9416880" cy="487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336600" y="6884640"/>
            <a:ext cx="251928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8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9"/>
          </p:nvPr>
        </p:nvSpPr>
        <p:spPr>
          <a:xfrm>
            <a:off x="7224840" y="6884640"/>
            <a:ext cx="251928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311CD6AB-6A34-491D-8468-A86632A40C6E}" type="slidenum">
              <a:rPr b="0" lang="ru-RU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5640" y="2184120"/>
            <a:ext cx="8569440" cy="1763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0"/>
          </p:nvPr>
        </p:nvSpPr>
        <p:spPr>
          <a:xfrm>
            <a:off x="336600" y="6884640"/>
            <a:ext cx="251928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1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2"/>
          </p:nvPr>
        </p:nvSpPr>
        <p:spPr>
          <a:xfrm>
            <a:off x="7224840" y="6884640"/>
            <a:ext cx="251928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B9EA8077-5025-4D07-B241-A0CAAE149E85}" type="slidenum">
              <a:rPr b="0" lang="ru-RU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504720" y="2099880"/>
            <a:ext cx="907272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876"/>
              </a:spcBef>
              <a:buClr>
                <a:srgbClr val="ffffff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763640" indent="-252360">
              <a:spcBef>
                <a:spcPts val="876"/>
              </a:spcBef>
              <a:buClr>
                <a:srgbClr val="ffffff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3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4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5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90E47E09-346F-4784-8B9D-C7B65DA9E7EA}" type="slidenum">
              <a:rPr b="0" lang="ru-RU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314280" y="3090960"/>
            <a:ext cx="3240" cy="33447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ftr" idx="16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17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AF07EB43-545D-4BB5-BDB1-BA140494C3D7}" type="slidenum">
              <a:rPr b="0" lang="ru-RU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dt" idx="18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dt" idx="19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ldNum" idx="20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55A45B1C-F917-44F1-A568-898A14EE73D2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76" name="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377" name=""/>
              <p:cNvSpPr/>
              <p:nvPr/>
            </p:nvSpPr>
            <p:spPr>
              <a:xfrm>
                <a:off x="3024000" y="4626000"/>
                <a:ext cx="5043600" cy="292356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297920" y="4673160"/>
                <a:ext cx="2202840" cy="14191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074920" y="5854320"/>
                <a:ext cx="4985640" cy="16952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08880" y="3902040"/>
                <a:ext cx="5262480" cy="364752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876800" y="4053960"/>
                <a:ext cx="2183760" cy="94284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5814000" y="2346120"/>
              <a:ext cx="319392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0" y="0"/>
              <a:ext cx="10077120" cy="3107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1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424" name="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25" name=""/>
              <p:cNvSpPr/>
              <p:nvPr/>
            </p:nvSpPr>
            <p:spPr>
              <a:xfrm>
                <a:off x="3024000" y="4626000"/>
                <a:ext cx="5043600" cy="292356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297920" y="4673160"/>
                <a:ext cx="2202840" cy="14191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074920" y="5854320"/>
                <a:ext cx="4985640" cy="16952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808880" y="3902040"/>
                <a:ext cx="5262480" cy="364752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876800" y="4053960"/>
                <a:ext cx="2183760" cy="94284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5814000" y="2346120"/>
              <a:ext cx="319392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0" y="0"/>
              <a:ext cx="10077120" cy="3107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55640" y="1914120"/>
            <a:ext cx="85694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2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23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24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173E6B6F-E1AB-4283-93C6-B8443AAEC00C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gif"/><Relationship Id="rId4" Type="http://schemas.openxmlformats.org/officeDocument/2006/relationships/slideLayout" Target="../slideLayouts/slideLayout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0800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Вода в природе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0800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ставил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педагог высшей категори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ДЭБЦ г.Ростова-на-Дону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Попивненко Т.М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0000ff"/>
                </a:solidFill>
                <a:latin typeface="Arial"/>
              </a:rPr>
              <a:t>Мраморное море</a:t>
            </a:r>
            <a:br>
              <a:rPr sz="4900"/>
            </a:b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44290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spcBef>
                <a:spcPts val="601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этом море есть остров, где с древнейших времен добывали мрамор и на кораблях по морю везли его разные города. Поэтому море назвали Мрамор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5472000" y="1116000"/>
            <a:ext cx="4281480" cy="34416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5688000" y="3203640"/>
            <a:ext cx="863640" cy="67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Кому нужна вода?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555480" y="1785600"/>
            <a:ext cx="4446720" cy="240804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5183280" y="1870200"/>
            <a:ext cx="4394160" cy="237312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3"/>
          <a:stretch/>
        </p:blipFill>
        <p:spPr>
          <a:xfrm>
            <a:off x="4859280" y="1619280"/>
            <a:ext cx="5040360" cy="306072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4"/>
          <a:stretch/>
        </p:blipFill>
        <p:spPr>
          <a:xfrm>
            <a:off x="5154120" y="4925880"/>
            <a:ext cx="4429080" cy="182880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5"/>
          <a:stretch/>
        </p:blipFill>
        <p:spPr>
          <a:xfrm>
            <a:off x="720720" y="4665600"/>
            <a:ext cx="3921120" cy="235440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6"/>
          <a:stretch/>
        </p:blipFill>
        <p:spPr>
          <a:xfrm>
            <a:off x="539640" y="1619280"/>
            <a:ext cx="4500720" cy="306072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7"/>
          <a:stretch/>
        </p:blipFill>
        <p:spPr>
          <a:xfrm>
            <a:off x="549360" y="4500720"/>
            <a:ext cx="5391000" cy="27352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8"/>
          <a:stretch/>
        </p:blipFill>
        <p:spPr>
          <a:xfrm>
            <a:off x="5040360" y="4500720"/>
            <a:ext cx="485928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Кому нужна вода?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741240" y="1963800"/>
          <a:ext cx="4281480" cy="235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40" y="1963800"/>
                    <a:ext cx="428148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8" name="" descr=""/>
          <p:cNvPicPr/>
          <p:nvPr/>
        </p:nvPicPr>
        <p:blipFill>
          <a:blip r:embed="rId3"/>
          <a:stretch/>
        </p:blipFill>
        <p:spPr>
          <a:xfrm>
            <a:off x="720720" y="1979640"/>
            <a:ext cx="4319640" cy="251928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5040360" y="1979640"/>
            <a:ext cx="4495680" cy="25192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5"/>
          <a:stretch/>
        </p:blipFill>
        <p:spPr>
          <a:xfrm>
            <a:off x="5040360" y="4522680"/>
            <a:ext cx="4545000" cy="249732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6"/>
          <a:stretch/>
        </p:blipFill>
        <p:spPr>
          <a:xfrm>
            <a:off x="720720" y="4500720"/>
            <a:ext cx="431964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Кому нужна вода?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15640" y="1907640"/>
            <a:ext cx="42814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Ах, вода, вода, вода-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876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Жизни колыбель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876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Напоить бы всех всегда -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876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В этом твоя цель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4896000" y="2050920"/>
            <a:ext cx="4608360" cy="31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500" spc="-1" strike="noStrike">
                <a:solidFill>
                  <a:srgbClr val="ccecff"/>
                </a:solidFill>
                <a:latin typeface="Arial"/>
              </a:rPr>
              <a:t>Кому нужна вода?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184360" y="1834920"/>
            <a:ext cx="442908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spcBef>
                <a:spcPts val="601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да нужна и растени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601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 воды прожить не могут  птица, зверь и человек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601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поэтому всегда всем, везде нуж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601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Д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792000" y="1979640"/>
            <a:ext cx="367380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Ростовскому Водоканалу </a:t>
            </a:r>
            <a:br>
              <a:rPr sz="4900"/>
            </a:b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 145 лет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5235480" y="2050920"/>
            <a:ext cx="4281480" cy="380232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90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1865г.городская Дума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заключила договор с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упцами Т.П. Куксою, С.Н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ошкиным,Г.В.Дмитриевым-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онтракт по устройству в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городе водопровода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бная подача воды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остоялась в конце 1865г.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что стало началом работ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остовского водопровода.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4720" y="313920"/>
            <a:ext cx="90741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Памятник водопроводу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1030320" y="1962000"/>
            <a:ext cx="3703680" cy="49374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40000" y="1835280"/>
            <a:ext cx="4824360" cy="4821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елестная бронзова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евушка с ведром у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олонки появилась в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ень города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остов - на - Дон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был одним из первых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городов России, где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явился водопрово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линой около 5 км. По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ем временам -революция  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жизни нашего города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-8596440" y="-2475000"/>
            <a:ext cx="42768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Батюшка Дон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720360" y="1362240"/>
            <a:ext cx="4281480" cy="56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spcBef>
                <a:spcPts val="751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амая крупная река Ростовской области- Дон. Она протекает по территории Тульской,Воронежской, Волгоградской и Ростовской областей. За медленное, спокойное течение назвали Дон-Тихи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5154120" y="1895400"/>
            <a:ext cx="4429080" cy="48643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5040360" y="1440000"/>
            <a:ext cx="5040360" cy="54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Осетровые рыбы реки Дон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60360" y="1260000"/>
            <a:ext cx="4680000" cy="5650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spcBef>
                <a:spcPts val="700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етровые самые древние и ц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700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ыбы р. Дон. Белуга самая крупная рыба р. Дон вес ее иногда достигает 300-400кг. Живет в море, а нерестится в Дону. В настоящее время выращивают её на осетровых рыбоводных  завод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5111640" y="1619280"/>
            <a:ext cx="4318200" cy="270036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5472000" y="4500720"/>
            <a:ext cx="4318200" cy="23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4720" y="349200"/>
            <a:ext cx="90741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Осетровые рыбы 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44290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Осетр. Молодь выращенная на осетровом заводе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876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еврюга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5154120" y="4437000"/>
            <a:ext cx="4429080" cy="23176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5040360" y="1800360"/>
            <a:ext cx="4500360" cy="270036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5040360" y="4500720"/>
            <a:ext cx="4765680" cy="23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1" lang="ru-RU" sz="4500" spc="-1" strike="noStrike" u="sng">
                <a:solidFill>
                  <a:srgbClr val="ffff66"/>
                </a:solidFill>
                <a:uFillTx/>
                <a:latin typeface="Arial"/>
              </a:rPr>
              <a:t>Вода на Земле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431640" y="1187280"/>
            <a:ext cx="4199040" cy="43196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40360" y="1260360"/>
            <a:ext cx="4200480" cy="75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47760" indent="-3477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Вода! У тебя нет ни вкуса, ни цвета, ни запаха, тебя невозможно описать.. Нельзя сказать, что ты необходима для жизни: ты - сама жизнь... Ты самое большое богатство на свете».                                    Антуан Экзюпе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776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776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7760" indent="-347760">
              <a:spcBef>
                <a:spcPts val="87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647640" y="5867280"/>
            <a:ext cx="1619280" cy="130500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3384720" y="5587920"/>
            <a:ext cx="1769760" cy="19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Ценные рыбы реки Дон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4535640" y="1547640"/>
            <a:ext cx="5256000" cy="29070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20360" y="208296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spcBef>
                <a:spcPts val="700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ыбец ценная промысловая рыба Азово-Донского бассей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spcBef>
                <a:spcPts val="7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700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емая занесена в Красную книгу. Это очень ценная рыб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4824360" y="4511520"/>
            <a:ext cx="4896000" cy="25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Ценные промысловые рыбы (карповые)реки Дон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40000" y="2098440"/>
            <a:ext cx="411660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Лещ                                                                                                                                                                                              Тарань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647640" y="1692360"/>
            <a:ext cx="4859280" cy="272556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2592360" y="4572000"/>
            <a:ext cx="487836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Карповые рыбы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79280" y="1979280"/>
            <a:ext cx="395892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азан водится в реке Дон в диком виде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876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Карп- это одомашненный  сазан, его выращивают в прудах и продают как товарную рыбу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5183280" y="1870200"/>
            <a:ext cx="4394160" cy="237312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5154120" y="4437000"/>
            <a:ext cx="4429080" cy="231768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3"/>
          <a:stretch/>
        </p:blipFill>
        <p:spPr>
          <a:xfrm>
            <a:off x="5221440" y="1319040"/>
            <a:ext cx="4857480" cy="270036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4"/>
          <a:stretch/>
        </p:blipFill>
        <p:spPr>
          <a:xfrm>
            <a:off x="5221440" y="4140360"/>
            <a:ext cx="44449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Промысловые рыбы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154120" y="1895400"/>
            <a:ext cx="442908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23000" indent="-317160">
              <a:spcBef>
                <a:spcPts val="876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удак хищная ценная рыба семейства окуневых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23000" indent="-317160">
              <a:spcBef>
                <a:spcPts val="876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Чехонь обитает в Дону и восточной части Таганрогского залива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287280" y="4500720"/>
            <a:ext cx="4681440" cy="270036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287280" y="1332000"/>
            <a:ext cx="46814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Рыбы акклиматизированный из реки Амур 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00360" y="1646280"/>
            <a:ext cx="428148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4000"/>
          </a:bodyPr>
          <a:p>
            <a:pPr marL="405720" indent="-304200">
              <a:spcBef>
                <a:spcPts val="799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лстолобик питается планктоном пруд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5720" indent="-304200">
              <a:spcBef>
                <a:spcPts val="799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мур поедает высшую растительность в прудах. Этих карповых рыб выращивают как товарную рыбу в пруд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87280" y="4643280"/>
            <a:ext cx="5400720" cy="234000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0" y="1908000"/>
            <a:ext cx="5438880" cy="25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Хищные рыбы реки Дон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00360" y="190188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876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м пресноводная хищная рыба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876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Щука «акула» пресных водоемов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431640" y="1476360"/>
            <a:ext cx="4319640" cy="251928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576360" y="4211640"/>
            <a:ext cx="4859280" cy="270036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8280360" y="6010200"/>
            <a:ext cx="1081080" cy="8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img10.jpg (37451 bytes)"/>
          <p:cNvPicPr/>
          <p:nvPr/>
        </p:nvPicPr>
        <p:blipFill>
          <a:blip r:embed="rId1"/>
          <a:stretch/>
        </p:blipFill>
        <p:spPr>
          <a:xfrm>
            <a:off x="2664000" y="33480"/>
            <a:ext cx="5824440" cy="75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44480" y="385560"/>
            <a:ext cx="860760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1" lang="ru-RU" sz="4900" spc="-1" strike="noStrike" u="sng">
                <a:solidFill>
                  <a:srgbClr val="9900ff"/>
                </a:solidFill>
                <a:uFillTx/>
                <a:latin typeface="Arial"/>
              </a:rPr>
              <a:t>Карта Земли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154120" y="1895400"/>
            <a:ext cx="442908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Если на карту Земли посмотре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уши на Земле всего одна треть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о странный вопрос возникает тогда: планета должна называться -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вода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7056360" y="4788000"/>
            <a:ext cx="2809800" cy="21063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216000" y="4716360"/>
            <a:ext cx="2025720" cy="27003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5400720" y="5292720"/>
            <a:ext cx="1944720" cy="151596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4"/>
          <a:stretch/>
        </p:blipFill>
        <p:spPr>
          <a:xfrm>
            <a:off x="216000" y="1403280"/>
            <a:ext cx="4754520" cy="31528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5"/>
          <a:stretch/>
        </p:blipFill>
        <p:spPr>
          <a:xfrm>
            <a:off x="2448000" y="5129280"/>
            <a:ext cx="3097080" cy="23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31920" y="252360"/>
            <a:ext cx="93852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b7e7ff"/>
                </a:solidFill>
                <a:latin typeface="Arial"/>
              </a:rPr>
              <a:t>Три состояния воды</a:t>
            </a:r>
            <a:endParaRPr b="0" lang="en-US" sz="49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20720" y="2700000"/>
            <a:ext cx="42004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876"/>
              </a:spcBef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1.Твердое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876"/>
              </a:spcBef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нег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876"/>
              </a:spcBef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Лед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3816360" y="1690560"/>
            <a:ext cx="5450040" cy="47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44480" y="385560"/>
            <a:ext cx="860760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Три состояния воды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20720" y="32464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2. Газообразное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876"/>
              </a:spcBef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Пар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876"/>
              </a:spcBef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Туман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824360" y="3419640"/>
            <a:ext cx="4281480" cy="32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ecff"/>
                </a:solidFill>
                <a:latin typeface="Arial"/>
              </a:rPr>
              <a:t>Три состояния воды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90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3.Жидкое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876"/>
              </a:spcBef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Дождь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spcBef>
                <a:spcPts val="876"/>
              </a:spcBef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Роса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4319640" y="1403280"/>
            <a:ext cx="5111640" cy="38340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503280" y="4211640"/>
            <a:ext cx="3674880" cy="27543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2232000" y="2195640"/>
            <a:ext cx="187488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4720" y="321840"/>
            <a:ext cx="9074160" cy="152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Tahoma"/>
              </a:rPr>
              <a:t>Распределение воды на Земле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6000" y="1907640"/>
            <a:ext cx="428148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spcBef>
                <a:spcPts val="601"/>
              </a:spcBef>
              <a:buClr>
                <a:srgbClr val="ffcc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Мировой океан приходится более 96% воды.  Материки и острова делят его на отдельные океан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1640" indent="-323640">
              <a:spcBef>
                <a:spcPts val="601"/>
              </a:spcBef>
              <a:buClr>
                <a:srgbClr val="ffcc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Тих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1640" indent="-323640">
              <a:spcBef>
                <a:spcPts val="601"/>
              </a:spcBef>
              <a:buClr>
                <a:srgbClr val="ffcc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Атлантиче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1640" indent="-323640">
              <a:spcBef>
                <a:spcPts val="601"/>
              </a:spcBef>
              <a:buClr>
                <a:srgbClr val="ffcc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Индий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1640" indent="-323640">
              <a:spcBef>
                <a:spcPts val="601"/>
              </a:spcBef>
              <a:buClr>
                <a:srgbClr val="ffcc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Север.Ледовитый океа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1640" indent="-323640">
              <a:spcBef>
                <a:spcPts val="601"/>
              </a:spcBef>
              <a:buClr>
                <a:srgbClr val="ffcc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Южный оке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5327640" y="1692360"/>
            <a:ext cx="4535640" cy="34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1" lang="ru-RU" sz="4900" spc="-1" strike="noStrike">
                <a:solidFill>
                  <a:srgbClr val="e5e5ff"/>
                </a:solidFill>
                <a:latin typeface="Garamond"/>
              </a:rPr>
              <a:t>Моря по цвету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90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ffcc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Garamond"/>
              </a:rPr>
              <a:t>Черное 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431640" indent="-323640">
              <a:spcBef>
                <a:spcPts val="876"/>
              </a:spcBef>
              <a:buClr>
                <a:srgbClr val="ffcc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Garamond"/>
              </a:rPr>
              <a:t>Белое 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431640" indent="-323640">
              <a:spcBef>
                <a:spcPts val="876"/>
              </a:spcBef>
              <a:buClr>
                <a:srgbClr val="ffcc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Garamond"/>
              </a:rPr>
              <a:t>Красное 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431640" indent="-323640">
              <a:spcBef>
                <a:spcPts val="876"/>
              </a:spcBef>
              <a:buClr>
                <a:srgbClr val="ffcc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Garamond"/>
              </a:rPr>
              <a:t>Желтое 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431640" indent="-323640">
              <a:spcBef>
                <a:spcPts val="876"/>
              </a:spcBef>
              <a:buClr>
                <a:srgbClr val="ffcc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Garamond"/>
              </a:rPr>
              <a:t>Синее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3311640" y="3276720"/>
            <a:ext cx="4539960" cy="340344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7991640" y="5651640"/>
            <a:ext cx="2089080" cy="139212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3"/>
          <a:stretch/>
        </p:blipFill>
        <p:spPr>
          <a:xfrm>
            <a:off x="7416720" y="1549440"/>
            <a:ext cx="2305080" cy="153504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4"/>
          <a:stretch/>
        </p:blipFill>
        <p:spPr>
          <a:xfrm>
            <a:off x="4178160" y="1403280"/>
            <a:ext cx="2540160" cy="171468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5"/>
          <a:stretch/>
        </p:blipFill>
        <p:spPr>
          <a:xfrm>
            <a:off x="2016000" y="5508720"/>
            <a:ext cx="1168560" cy="136836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6"/>
          <a:stretch/>
        </p:blipFill>
        <p:spPr>
          <a:xfrm>
            <a:off x="8280360" y="3708360"/>
            <a:ext cx="1584360" cy="9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81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cc0066"/>
                </a:solidFill>
                <a:latin typeface="Arial"/>
              </a:rPr>
              <a:t>Мертвое море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90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spcBef>
                <a:spcPts val="601"/>
              </a:spcBef>
              <a:buClr>
                <a:srgbClr val="99ff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десь не увидишь ни птицы, ни рыбы Только песок да угрюмые глыбы.       На берегах ни кустов, ни травы...    Будто и впрямь его   воды мертвы..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5154120" y="1895400"/>
            <a:ext cx="4429080" cy="486432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5111640" y="2916360"/>
            <a:ext cx="3814920" cy="410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18:23Z</dcterms:created>
  <dc:creator>Анжела</dc:creator>
  <dc:description/>
  <dc:language>en-US</dc:language>
  <cp:lastModifiedBy>Таня</cp:lastModifiedBy>
  <dcterms:modified xsi:type="dcterms:W3CDTF">2013-02-13T08:58:47Z</dcterms:modified>
  <cp:revision>33</cp:revision>
  <dc:subject/>
  <dc:title>Вода на Земле</dc:title>
</cp:coreProperties>
</file>