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43.jpeg" ContentType="image/jpeg"/>
  <Override PartName="/ppt/media/image7.gif" ContentType="image/gif"/>
  <Override PartName="/ppt/media/image33.jpeg" ContentType="image/jpeg"/>
  <Override PartName="/ppt/media/image4.gif" ContentType="image/gif"/>
  <Override PartName="/ppt/media/image6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63.gif" ContentType="image/gif"/>
  <Override PartName="/ppt/media/image64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50.jpeg" ContentType="image/jpeg"/>
  <Override PartName="/ppt/media/image23.jpeg" ContentType="image/jpeg"/>
  <Override PartName="/ppt/media/image17.gif" ContentType="image/gif"/>
  <Override PartName="/ppt/media/image51.jpeg" ContentType="image/jpeg"/>
  <Override PartName="/ppt/media/image61.jpeg" ContentType="image/jpeg"/>
  <Override PartName="/ppt/media/image26.png" ContentType="image/png"/>
  <Override PartName="/ppt/media/image25.jpeg" ContentType="image/jpeg"/>
  <Override PartName="/ppt/media/image19.jpeg" ContentType="image/jpeg"/>
  <Override PartName="/ppt/media/image21.jpeg" ContentType="image/jpeg"/>
  <Override PartName="/ppt/media/image6.gif" ContentType="image/gif"/>
  <Override PartName="/ppt/media/image16.jpeg" ContentType="image/jpeg"/>
  <Override PartName="/ppt/media/image27.jpeg" ContentType="image/jpeg"/>
  <Override PartName="/ppt/media/image10.jpeg" ContentType="image/jpeg"/>
  <Override PartName="/ppt/media/image1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52.jpeg" ContentType="image/jpeg"/>
  <Override PartName="/ppt/media/image13.png" ContentType="image/png"/>
  <Override PartName="/ppt/media/image29.jpeg" ContentType="image/jpeg"/>
  <Override PartName="/ppt/media/image12.jpeg" ContentType="image/jpeg"/>
  <Override PartName="/ppt/media/image54.jpeg" ContentType="image/jpeg"/>
  <Override PartName="/ppt/media/image30.gif" ContentType="image/gif"/>
  <Override PartName="/ppt/media/image55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4.jpeg" ContentType="image/jpeg"/>
  <Override PartName="/ppt/media/image36.wmf" ContentType="image/x-wmf"/>
  <Override PartName="/ppt/media/image47.jpeg" ContentType="image/jpeg"/>
  <Override PartName="/ppt/media/image5.png" ContentType="image/png"/>
  <Override PartName="/ppt/media/image39.jpeg" ContentType="image/jpeg"/>
  <Override PartName="/ppt/media/image40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8.gif" ContentType="image/gif"/>
  <Override PartName="/ppt/media/image49.jpeg" ContentType="image/jpeg"/>
  <Override PartName="/ppt/media/image5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360-E93F-42AB-9E7F-DEFC797B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184-530D-47AF-8B99-E8689910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442-055F-4351-8207-D63F734A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69F-94BC-44CE-9191-3E37742A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BE98-6C6B-416E-B2C7-9DCE6CA4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DADC-7504-4D0C-A5FD-B21484C5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C76C-EF26-435D-AF81-0A859867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F4CF-78CA-4E67-B1A3-1BF6D5EA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105C-6316-4648-9AB3-2E50D946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EC1B-053E-41EF-921A-1A8BF39F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39E8-2B50-428B-96CE-24FB1D56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65D-1CD3-4B6F-8051-4F36CDB5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F55A-A2AC-4082-A1FC-2F2400B1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5503-8FBB-4328-8031-3C615395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6E7A-425A-4F3C-9A0C-08A69D45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8E8E-C09D-498D-9842-06F41F24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C90C-1EDC-4D1E-AF5E-F7F2979C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7285-38A6-40E4-A97C-68566BC9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1DB3D-C420-4AEF-A7E9-CA866154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4628-C799-49E1-8346-3BE5094B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82796-D26D-459B-AE68-203AE704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83FE-A67B-4A6A-8679-026D6ACB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F69-5FEA-4325-B998-935853FC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103A-7D6F-4F89-98DB-B8B2F542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4722C-58D6-479A-9E3C-25DFC9AF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578A6-9A12-427B-9220-9D082F5A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0C722-C252-45FB-BFF9-02F01C9D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B835-0677-4C1D-A3F3-CFD5DEFF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5102-8EA7-42D5-9838-C72A52A5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C248-434A-49F6-BC8B-2F900E36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AD297-CFD4-45EB-8D99-67610638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25AA-C7A6-4A9E-9CBD-DD2D0CCB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67F41-79D0-4E77-A8AE-44B4DE86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C5C9-6DF1-4EA7-8C49-E2F8A856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2F183-2BA5-49D3-B10E-4E0AB49F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806E7-6111-43FB-ACBE-79689F2B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D0DAC-FE01-4CF9-B73D-154AA2A0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8F45E-0B70-4A90-B0FF-1A6CD0DB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1294F-F0F3-42EF-AB7F-45D7BDB1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50EB-D09C-4392-81BF-80ADA618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E07D9-879F-4026-A781-3A7FCA6B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8EEC5-8F60-4502-8178-C73ACE77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BE844-A573-49E0-B5D6-64CC3F61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D4B6F-BC43-4669-959B-624C23D6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D9B-EB33-479E-AF78-C93523D0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6A8FD-05C5-49CB-ABE2-ED0E45B6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C1823-6115-4ADB-BEA6-0D1ED199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C02EC-5F6F-4271-849D-C5E859C1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5CAD2-7AAE-4318-9559-4103CB7E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35591-4B12-4F96-A545-95915C08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3BC84-15B6-4907-90D9-2336F711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19F6B-A419-4C29-8BF5-660EE80F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E42DD-2416-4FA7-AE40-058A5516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7BCE2-97C1-4A86-A5C1-6B9D5C2C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5A372-8866-4BB9-A95D-93133782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1F4-EC44-4AE9-BCE5-C30F210E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DD29C-CAC2-430C-8F02-1429A06D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019C5D-59AB-4883-9223-74604251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BACD0-D868-445E-9894-E546AC52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937DA2-4CF2-4274-B418-3B41269B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BBC451-3754-4801-BA75-171FE789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86E006-4C08-49A6-9967-CA83C036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462B2-845A-4AD3-BDCE-46CC5ECB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FBF4B1-BEF4-4FD3-83A0-E0B92A22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A543F-0D52-4F68-8E15-CF8EF9DD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566C19-B69C-4FC9-AAEF-4BFBEAAA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CD1-888E-4D06-9CBE-FE5114DD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F5DEB-4649-4034-BBCC-E0AC4C4C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DA016-3AF5-4308-BE43-587FD553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F0F3A-BC71-4581-87DA-46955004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4C953-214D-4472-8B3F-77ED6DE6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220BD2-0E72-4E1C-8D38-6D42657E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82A5AB-7952-4C0D-938F-E92E6674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CD9BE2-550C-4596-9A7B-7BB23ED9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21AC30-DB42-4B5B-BAE6-FE7A49A8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8E83F7-BF7A-4C12-BF60-A52567BC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1F7FC-9234-4495-8D91-E012F5BB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2E5-9454-4651-8B94-01E1BB62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4624B0-8CCF-426A-883E-E30BC148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2A1D7D-8CC7-41D4-969D-B2453B0A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7F8FE-8698-4631-8ED1-74603713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68E62C-4EF1-43EE-9202-B523A3F1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11F329-54E0-4BA0-90B4-BD1074B7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94748-8BDB-4E31-A95B-5A7494E3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429A6-4E66-4B84-B362-9E8831BB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62A9C-FF13-4843-9A3F-DB49A5F9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E724E-B2F1-403D-92D0-87D8D504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DA325-336D-4A51-ACE0-F7FF812A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F5CA-97C3-4300-9080-34C04711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70D1B-C9FF-4D00-895E-34E13ACE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45C08-C02E-45C3-A2CB-B8FBBB95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B52EE-9E20-48ED-9EAA-D5C66E56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C10E7-4B24-41F7-869A-2A88DA1B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8A5F7-2672-4981-A265-E4AFF8F2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29498-77D3-47CC-A189-A51D2B29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0F613-C326-439C-8B65-FA1DC229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07280" y="7086600"/>
            <a:ext cx="314280" cy="23184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703760"/>
            <a:ext cx="10077120" cy="2855520"/>
            <a:chOff x="3240" y="4703760"/>
            <a:chExt cx="10077120" cy="2855520"/>
          </a:xfrm>
        </p:grpSpPr>
        <p:sp>
          <p:nvSpPr>
            <p:cNvPr id="2" name=""/>
            <p:cNvSpPr/>
            <p:nvPr/>
          </p:nvSpPr>
          <p:spPr>
            <a:xfrm>
              <a:off x="3240" y="4703760"/>
              <a:ext cx="10077120" cy="28555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6174360" y="6500880"/>
              <a:ext cx="1385280" cy="911160"/>
              <a:chOff x="6174360" y="6500880"/>
              <a:chExt cx="1385280" cy="911160"/>
            </a:xfrm>
          </p:grpSpPr>
          <p:sp>
            <p:nvSpPr>
              <p:cNvPr id="4" name=""/>
              <p:cNvSpPr/>
              <p:nvPr/>
            </p:nvSpPr>
            <p:spPr>
              <a:xfrm>
                <a:off x="6452280" y="6666840"/>
                <a:ext cx="930600" cy="571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522480" y="6719400"/>
                <a:ext cx="7905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620400" y="6775200"/>
                <a:ext cx="601560" cy="3618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690240" y="6817320"/>
                <a:ext cx="45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749640" y="6862680"/>
                <a:ext cx="335880" cy="187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58240" y="6500880"/>
                <a:ext cx="669960" cy="281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468120" y="7296840"/>
                <a:ext cx="776520" cy="1152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174360" y="6834600"/>
                <a:ext cx="155880" cy="37764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247440" y="6553080"/>
                <a:ext cx="1312200" cy="8060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066440" y="6511320"/>
                <a:ext cx="167760" cy="522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844320" y="6908400"/>
                <a:ext cx="146520" cy="92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107880" y="6354000"/>
              <a:ext cx="2845080" cy="1194480"/>
              <a:chOff x="3107880" y="6354000"/>
              <a:chExt cx="2845080" cy="1194480"/>
            </a:xfrm>
          </p:grpSpPr>
          <p:sp>
            <p:nvSpPr>
              <p:cNvPr id="16" name=""/>
              <p:cNvSpPr/>
              <p:nvPr/>
            </p:nvSpPr>
            <p:spPr>
              <a:xfrm>
                <a:off x="3968640" y="6883920"/>
                <a:ext cx="1116720" cy="659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048920" y="6925680"/>
                <a:ext cx="950400" cy="580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096080" y="6962400"/>
                <a:ext cx="876600" cy="523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143600" y="6994080"/>
                <a:ext cx="776880" cy="4507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173120" y="7008120"/>
                <a:ext cx="722520" cy="4194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264200" y="7044840"/>
                <a:ext cx="535680" cy="3355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332240" y="7097040"/>
                <a:ext cx="397080" cy="2358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448160" y="7169040"/>
                <a:ext cx="156960" cy="104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523400" y="6687720"/>
                <a:ext cx="785520" cy="325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748320" y="6740280"/>
                <a:ext cx="1560600" cy="80820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643200" y="6698160"/>
                <a:ext cx="712080" cy="8503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226840" y="7076160"/>
                <a:ext cx="188640" cy="44064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618360" y="6448320"/>
                <a:ext cx="1460880" cy="26208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267000" y="6742080"/>
                <a:ext cx="299160" cy="8064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163840" y="6563520"/>
                <a:ext cx="630000" cy="98460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056120" y="6354000"/>
                <a:ext cx="1886040" cy="7430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781600" y="7139160"/>
                <a:ext cx="171360" cy="4093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07880" y="6427080"/>
                <a:ext cx="841680" cy="11214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7224120" y="5879880"/>
              <a:ext cx="2364120" cy="1436040"/>
              <a:chOff x="7224120" y="5879880"/>
              <a:chExt cx="2364120" cy="1436040"/>
            </a:xfrm>
          </p:grpSpPr>
          <p:sp>
            <p:nvSpPr>
              <p:cNvPr id="35" name=""/>
              <p:cNvSpPr/>
              <p:nvPr/>
            </p:nvSpPr>
            <p:spPr>
              <a:xfrm>
                <a:off x="7350120" y="5952960"/>
                <a:ext cx="2101680" cy="12787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224120" y="5889960"/>
                <a:ext cx="951840" cy="128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385840" y="5879880"/>
                <a:ext cx="1065600" cy="44064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180360" y="7011720"/>
                <a:ext cx="12600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884000" y="7127280"/>
                <a:ext cx="1233720" cy="1886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9338040" y="6393960"/>
                <a:ext cx="250200" cy="5965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857080" y="6341400"/>
                <a:ext cx="145080" cy="1573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778880" y="6215400"/>
                <a:ext cx="1254600" cy="7542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610760" y="6141960"/>
                <a:ext cx="1590480" cy="9327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86960" y="6110640"/>
                <a:ext cx="638640" cy="1152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10560" y="6226200"/>
                <a:ext cx="115200" cy="83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955640" y="6313320"/>
                <a:ext cx="906120" cy="5580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11800" y="6351840"/>
                <a:ext cx="780120" cy="474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067600" y="6386760"/>
                <a:ext cx="675360" cy="407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144640" y="6436080"/>
                <a:ext cx="521280" cy="30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07640" y="6471000"/>
                <a:ext cx="388440" cy="2430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91520" y="6523200"/>
                <a:ext cx="220320" cy="14184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9240120" y="5291640"/>
              <a:ext cx="743400" cy="451080"/>
              <a:chOff x="9240120" y="5291640"/>
              <a:chExt cx="743400" cy="451080"/>
            </a:xfrm>
          </p:grpSpPr>
          <p:sp>
            <p:nvSpPr>
              <p:cNvPr id="53" name=""/>
              <p:cNvSpPr/>
              <p:nvPr/>
            </p:nvSpPr>
            <p:spPr>
              <a:xfrm>
                <a:off x="9240120" y="5574600"/>
                <a:ext cx="669960" cy="16812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301320" y="5291640"/>
                <a:ext cx="451080" cy="94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878760" y="5364720"/>
                <a:ext cx="104760" cy="272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406080" y="5679720"/>
                <a:ext cx="335880" cy="3132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281880" y="5322960"/>
                <a:ext cx="281520" cy="325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9605880" y="5322960"/>
                <a:ext cx="325080" cy="3672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353880" y="5351040"/>
                <a:ext cx="522720" cy="325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9416880" y="5398200"/>
                <a:ext cx="396720" cy="230400"/>
                <a:chOff x="9416880" y="5398200"/>
                <a:chExt cx="396720" cy="230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9416880" y="5398200"/>
                  <a:ext cx="396720" cy="23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9455040" y="5422680"/>
                  <a:ext cx="317880" cy="1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9504000" y="5439960"/>
                  <a:ext cx="218520" cy="14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9551160" y="5467680"/>
                  <a:ext cx="12744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88e4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99ff99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A29EF325-10EB-4555-B137-566AD777F9C4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703760"/>
            <a:ext cx="10077120" cy="2855520"/>
            <a:chOff x="3240" y="4703760"/>
            <a:chExt cx="10077120" cy="2855520"/>
          </a:xfrm>
        </p:grpSpPr>
        <p:sp>
          <p:nvSpPr>
            <p:cNvPr id="107" name=""/>
            <p:cNvSpPr/>
            <p:nvPr/>
          </p:nvSpPr>
          <p:spPr>
            <a:xfrm>
              <a:off x="3240" y="4703760"/>
              <a:ext cx="10077120" cy="28555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174360" y="6500880"/>
              <a:ext cx="1385280" cy="911160"/>
              <a:chOff x="6174360" y="6500880"/>
              <a:chExt cx="1385280" cy="911160"/>
            </a:xfrm>
          </p:grpSpPr>
          <p:sp>
            <p:nvSpPr>
              <p:cNvPr id="109" name=""/>
              <p:cNvSpPr/>
              <p:nvPr/>
            </p:nvSpPr>
            <p:spPr>
              <a:xfrm>
                <a:off x="6452280" y="6666840"/>
                <a:ext cx="930600" cy="571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22480" y="6719400"/>
                <a:ext cx="7905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20400" y="6775200"/>
                <a:ext cx="601560" cy="3618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90240" y="6817320"/>
                <a:ext cx="45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749640" y="6862680"/>
                <a:ext cx="335880" cy="187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58240" y="6500880"/>
                <a:ext cx="669960" cy="281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68120" y="7296840"/>
                <a:ext cx="776520" cy="1152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74360" y="6834600"/>
                <a:ext cx="155880" cy="37764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47440" y="6553080"/>
                <a:ext cx="1312200" cy="8060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66440" y="6511320"/>
                <a:ext cx="167760" cy="522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44320" y="6908400"/>
                <a:ext cx="146520" cy="92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107880" y="6354000"/>
              <a:ext cx="2845080" cy="1194480"/>
              <a:chOff x="3107880" y="6354000"/>
              <a:chExt cx="2845080" cy="1194480"/>
            </a:xfrm>
          </p:grpSpPr>
          <p:sp>
            <p:nvSpPr>
              <p:cNvPr id="121" name=""/>
              <p:cNvSpPr/>
              <p:nvPr/>
            </p:nvSpPr>
            <p:spPr>
              <a:xfrm>
                <a:off x="3968640" y="6883920"/>
                <a:ext cx="1116720" cy="659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48920" y="6925680"/>
                <a:ext cx="950400" cy="580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96080" y="6962400"/>
                <a:ext cx="876600" cy="523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43600" y="6994080"/>
                <a:ext cx="776880" cy="4507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173120" y="7008120"/>
                <a:ext cx="722520" cy="4194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264200" y="7044840"/>
                <a:ext cx="535680" cy="3355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32240" y="7097040"/>
                <a:ext cx="397080" cy="2358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48160" y="7169040"/>
                <a:ext cx="156960" cy="104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23400" y="6687720"/>
                <a:ext cx="785520" cy="325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48320" y="6740280"/>
                <a:ext cx="1560600" cy="80820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643200" y="6698160"/>
                <a:ext cx="712080" cy="8503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226840" y="7076160"/>
                <a:ext cx="188640" cy="44064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618360" y="6448320"/>
                <a:ext cx="1460880" cy="26208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67000" y="6742080"/>
                <a:ext cx="299160" cy="8064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63840" y="6563520"/>
                <a:ext cx="630000" cy="98460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056120" y="6354000"/>
                <a:ext cx="1886040" cy="7430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81600" y="7139160"/>
                <a:ext cx="171360" cy="4093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07880" y="6427080"/>
                <a:ext cx="841680" cy="11214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24120" y="5879880"/>
              <a:ext cx="2364120" cy="1436040"/>
              <a:chOff x="7224120" y="5879880"/>
              <a:chExt cx="2364120" cy="1436040"/>
            </a:xfrm>
          </p:grpSpPr>
          <p:sp>
            <p:nvSpPr>
              <p:cNvPr id="140" name=""/>
              <p:cNvSpPr/>
              <p:nvPr/>
            </p:nvSpPr>
            <p:spPr>
              <a:xfrm>
                <a:off x="7350120" y="5952960"/>
                <a:ext cx="2101680" cy="12787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224120" y="5889960"/>
                <a:ext cx="951840" cy="128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85840" y="5879880"/>
                <a:ext cx="1065600" cy="44064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180360" y="7011720"/>
                <a:ext cx="12600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84000" y="7127280"/>
                <a:ext cx="1233720" cy="1886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338040" y="6393960"/>
                <a:ext cx="250200" cy="5965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57080" y="6341400"/>
                <a:ext cx="145080" cy="1573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78880" y="6215400"/>
                <a:ext cx="1254600" cy="7542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610760" y="6141960"/>
                <a:ext cx="1590480" cy="9327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86960" y="6110640"/>
                <a:ext cx="638640" cy="1152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10560" y="6226200"/>
                <a:ext cx="115200" cy="83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55640" y="6313320"/>
                <a:ext cx="906120" cy="5580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11800" y="6351840"/>
                <a:ext cx="780120" cy="474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67600" y="6386760"/>
                <a:ext cx="675360" cy="407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144640" y="6436080"/>
                <a:ext cx="521280" cy="30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207640" y="6471000"/>
                <a:ext cx="388440" cy="2430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91520" y="6523200"/>
                <a:ext cx="220320" cy="14184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9240120" y="5291640"/>
              <a:ext cx="743400" cy="451080"/>
              <a:chOff x="9240120" y="5291640"/>
              <a:chExt cx="743400" cy="451080"/>
            </a:xfrm>
          </p:grpSpPr>
          <p:sp>
            <p:nvSpPr>
              <p:cNvPr id="158" name=""/>
              <p:cNvSpPr/>
              <p:nvPr/>
            </p:nvSpPr>
            <p:spPr>
              <a:xfrm>
                <a:off x="9240120" y="5574600"/>
                <a:ext cx="669960" cy="16812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301320" y="5291640"/>
                <a:ext cx="451080" cy="94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878760" y="5364720"/>
                <a:ext cx="104760" cy="272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406080" y="5679720"/>
                <a:ext cx="335880" cy="3132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281880" y="5322960"/>
                <a:ext cx="281520" cy="325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605880" y="5322960"/>
                <a:ext cx="325080" cy="3672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353880" y="5351040"/>
                <a:ext cx="522720" cy="325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9416880" y="5398200"/>
                <a:ext cx="396720" cy="230400"/>
                <a:chOff x="9416880" y="5398200"/>
                <a:chExt cx="396720" cy="230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9416880" y="5398200"/>
                  <a:ext cx="396720" cy="23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455040" y="5422680"/>
                  <a:ext cx="317880" cy="1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504000" y="5439960"/>
                  <a:ext cx="218520" cy="14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9551160" y="5467680"/>
                  <a:ext cx="12744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64800"/>
            <a:ext cx="8569440" cy="191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CD1DD77B-76C8-4F22-8B41-AAA0ECE083E0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31920" y="252000"/>
            <a:ext cx="9383760" cy="146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31920" y="1847880"/>
            <a:ext cx="9416880" cy="487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336600" y="6884640"/>
            <a:ext cx="251928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7224840" y="6884640"/>
            <a:ext cx="251928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A163686-4334-4984-8567-C0D689218976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2184120"/>
            <a:ext cx="8569440" cy="1763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0"/>
          </p:nvPr>
        </p:nvSpPr>
        <p:spPr>
          <a:xfrm>
            <a:off x="336600" y="6884640"/>
            <a:ext cx="251928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1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2"/>
          </p:nvPr>
        </p:nvSpPr>
        <p:spPr>
          <a:xfrm>
            <a:off x="7224840" y="6884640"/>
            <a:ext cx="251928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FB85A46-C55E-4A30-8609-ECBE76EEF36D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3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4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5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75942B9-7E4D-407A-86D3-E699BD75D7E0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314280" y="3090960"/>
            <a:ext cx="3240" cy="33447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ftr" idx="16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17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CE3F0963-2107-44C3-939A-2CB906FE0A1D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dt" idx="18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dt" idx="19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ldNum" idx="20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A1DD79F-DF92-435E-B5DF-4F9128FC7CB2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76" name="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377" name=""/>
              <p:cNvSpPr/>
              <p:nvPr/>
            </p:nvSpPr>
            <p:spPr>
              <a:xfrm>
                <a:off x="3024000" y="4626000"/>
                <a:ext cx="5043600" cy="29235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297920" y="4673160"/>
                <a:ext cx="2202840" cy="14191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074920" y="5854320"/>
                <a:ext cx="4985640" cy="16952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8880" y="3902040"/>
                <a:ext cx="5262480" cy="364752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876800" y="4053960"/>
                <a:ext cx="2183760" cy="9428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5814000" y="2346120"/>
              <a:ext cx="319392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0"/>
              <a:ext cx="10077120" cy="3107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1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424" name="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25" name=""/>
              <p:cNvSpPr/>
              <p:nvPr/>
            </p:nvSpPr>
            <p:spPr>
              <a:xfrm>
                <a:off x="3024000" y="4626000"/>
                <a:ext cx="5043600" cy="29235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297920" y="4673160"/>
                <a:ext cx="2202840" cy="14191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074920" y="5854320"/>
                <a:ext cx="4985640" cy="16952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808880" y="3902040"/>
                <a:ext cx="5262480" cy="364752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876800" y="4053960"/>
                <a:ext cx="2183760" cy="9428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814000" y="2346120"/>
              <a:ext cx="319392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0"/>
              <a:ext cx="10077120" cy="3107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55640" y="1914120"/>
            <a:ext cx="85694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2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3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4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89AC4CBD-7977-456C-9B1B-18E8053048CD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0800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Вода в природе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0800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ставил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педагог высшей категори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ДЭБЦ г.Ростова-на-Дон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Попивненко Т.М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0000ff"/>
                </a:solidFill>
                <a:latin typeface="Arial"/>
              </a:rPr>
              <a:t>Мраморное море</a:t>
            </a:r>
            <a:br>
              <a:rPr sz="4900"/>
            </a:b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44290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601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том море есть остров, где с древнейших времен добывали мрамор и на кораблях по морю везли его разные города. Поэтому море назвали Мрамор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5472000" y="1116000"/>
            <a:ext cx="4281480" cy="3441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5688000" y="3203640"/>
            <a:ext cx="863640" cy="6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Кому нужна вода?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55480" y="1785600"/>
            <a:ext cx="4446720" cy="24080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5183280" y="1870200"/>
            <a:ext cx="4394160" cy="23731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4859280" y="1619280"/>
            <a:ext cx="5040360" cy="30607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5154120" y="4925880"/>
            <a:ext cx="4429080" cy="18288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>
            <a:off x="720720" y="4665600"/>
            <a:ext cx="3921120" cy="23544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6"/>
          <a:stretch/>
        </p:blipFill>
        <p:spPr>
          <a:xfrm>
            <a:off x="539640" y="1619280"/>
            <a:ext cx="4500720" cy="30607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7"/>
          <a:stretch/>
        </p:blipFill>
        <p:spPr>
          <a:xfrm>
            <a:off x="549360" y="4500720"/>
            <a:ext cx="5391000" cy="2735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8"/>
          <a:stretch/>
        </p:blipFill>
        <p:spPr>
          <a:xfrm>
            <a:off x="5040360" y="4500720"/>
            <a:ext cx="48592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Кому нужна вода?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741240" y="1963800"/>
          <a:ext cx="4281480" cy="235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1963800"/>
                    <a:ext cx="42814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720720" y="1979640"/>
            <a:ext cx="4319640" cy="25192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5040360" y="1979640"/>
            <a:ext cx="4495680" cy="2519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5"/>
          <a:stretch/>
        </p:blipFill>
        <p:spPr>
          <a:xfrm>
            <a:off x="5040360" y="4522680"/>
            <a:ext cx="4545000" cy="24973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6"/>
          <a:stretch/>
        </p:blipFill>
        <p:spPr>
          <a:xfrm>
            <a:off x="720720" y="4500720"/>
            <a:ext cx="43196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Кому нужна вода?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15640" y="1907640"/>
            <a:ext cx="42814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Ах, вода, вода, вода-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Жизни колыбель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Напоить бы всех всегда -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В этом твоя цель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4896000" y="2050920"/>
            <a:ext cx="4608360" cy="31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500" spc="-1" strike="noStrike">
                <a:solidFill>
                  <a:srgbClr val="ccecff"/>
                </a:solidFill>
                <a:latin typeface="Arial"/>
              </a:rPr>
              <a:t>Кому нужна вода?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184360" y="1834920"/>
            <a:ext cx="442908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601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а нужна и растен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601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воды прожить не могут  птица, зверь и человек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601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оэтому всегда всем, везде нуж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601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792000" y="1979640"/>
            <a:ext cx="36738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Ростовскому Водоканалу </a:t>
            </a:r>
            <a:br>
              <a:rPr sz="4900"/>
            </a:b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 145 лет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5235480" y="2050920"/>
            <a:ext cx="4281480" cy="38023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1865г.городская Дум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ключила договор с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упцами Т.П. Куксою, С.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ошкиным,Г.В.Дмитриевым-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онтракт по устройству в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ороде водопровод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бная подача воды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остоялась в конце 1865г.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стало началом рабо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остовского водопровода.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4720" y="313920"/>
            <a:ext cx="9074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Памятник водопроводу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030320" y="1962000"/>
            <a:ext cx="3703680" cy="49374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40000" y="1835280"/>
            <a:ext cx="4824360" cy="4821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лестная бронзова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евушка с ведром у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олонки появилась в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ень город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остов - на - Дон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ыл одним из первых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ородов России, гд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явился водопров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линой около 5 км. По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ем временам -революция  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жизни нашего город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-8596440" y="-2475000"/>
            <a:ext cx="42768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Батюшка Дон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20360" y="1362240"/>
            <a:ext cx="4281480" cy="56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751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амая крупная река Ростовской области- Дон. Она протекает по территории Тульской,Воронежской, Волгоградской и Ростовской областей. За медленное, спокойное течение назвали Дон-Тихи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5154120" y="1895400"/>
            <a:ext cx="4429080" cy="4864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5040360" y="1440000"/>
            <a:ext cx="5040360" cy="54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Осетровые рыбы реки Дон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60360" y="1260000"/>
            <a:ext cx="4680000" cy="5650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етровые самые древние и ц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ыбы р. Дон. Белуга самая крупная рыба р. Дон вес ее иногда достигает 300-400кг. Живет в море, а нерестится в Дону. В настоящее время выращивают её на осетровых рыбоводных  завод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5111640" y="1619280"/>
            <a:ext cx="4318200" cy="27003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5472000" y="4500720"/>
            <a:ext cx="4318200" cy="23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4720" y="349200"/>
            <a:ext cx="90741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Осетровые рыбы 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44290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Осетр. Молодь выращенная на осетровом заводе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еврюга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5154120" y="4437000"/>
            <a:ext cx="4429080" cy="23176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5040360" y="1800360"/>
            <a:ext cx="4500360" cy="27003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5040360" y="4500720"/>
            <a:ext cx="4765680" cy="23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1" lang="ru-RU" sz="4500" spc="-1" strike="noStrike" u="sng">
                <a:solidFill>
                  <a:srgbClr val="ffff66"/>
                </a:solidFill>
                <a:uFillTx/>
                <a:latin typeface="Arial"/>
              </a:rPr>
              <a:t>Вода на Земле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31640" y="1187280"/>
            <a:ext cx="4199040" cy="43196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40360" y="1260360"/>
            <a:ext cx="4200480" cy="75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47760" indent="-3477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ода! У тебя нет ни вкуса, ни цвета, ни запаха, тебя невозможно описать.. Нельзя сказать, что ты необходима для жизни: ты - сама жизнь... Ты самое большое богатство на свете».                                    Антуан Экзюп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776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776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647640" y="5867280"/>
            <a:ext cx="1619280" cy="13050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384720" y="5587920"/>
            <a:ext cx="176976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Ценные рыбы реки Дон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4535640" y="1547640"/>
            <a:ext cx="5256000" cy="2907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20360" y="208296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ыбец ценная промысловая рыба Азово-Донского бассей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мая занесена в Красную книгу. Это очень ценная рыб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4824360" y="4511520"/>
            <a:ext cx="4896000" cy="25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Ценные промысловые рыбы (карповые)реки Дон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40000" y="2098440"/>
            <a:ext cx="411660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Лещ                                                                                                                                                                                              Тарань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647640" y="1692360"/>
            <a:ext cx="4859280" cy="27255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2592360" y="4572000"/>
            <a:ext cx="487836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Карповые рыбы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79280" y="1979280"/>
            <a:ext cx="395892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азан водится в реке Дон в диком виде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Карп- это одомашненный  сазан, его выращивают в прудах и продают как товарную рыбу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5183280" y="1870200"/>
            <a:ext cx="4394160" cy="237312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5154120" y="4437000"/>
            <a:ext cx="4429080" cy="23176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5221440" y="1319040"/>
            <a:ext cx="4857480" cy="27003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5221440" y="4140360"/>
            <a:ext cx="44449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Промысловые рыбы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54120" y="1895400"/>
            <a:ext cx="44290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-31716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удак хищная ценная рыба семейства окуневых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23000" indent="-31716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Чехонь обитает в Дону и восточной части Таганрогского залива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287280" y="4500720"/>
            <a:ext cx="4681440" cy="27003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287280" y="1332000"/>
            <a:ext cx="46814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Рыбы акклиматизированный из реки Амур 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00360" y="1646280"/>
            <a:ext cx="428148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405720" indent="-304200">
              <a:spcBef>
                <a:spcPts val="799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лстолобик питается планктоном пруд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5720" indent="-304200">
              <a:spcBef>
                <a:spcPts val="799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мур поедает высшую растительность в прудах. Этих карповых рыб выращивают как товарную рыбу в пруд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87280" y="4643280"/>
            <a:ext cx="5400720" cy="23400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0" y="1908000"/>
            <a:ext cx="5438880" cy="25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Хищные рыбы реки Дон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00360" y="190188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м пресноводная хищная рыба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Щука «акула» пресных водоемов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431640" y="1476360"/>
            <a:ext cx="4319640" cy="25192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576360" y="4211640"/>
            <a:ext cx="4859280" cy="270036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8280360" y="6010200"/>
            <a:ext cx="108108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img10.jpg (37451 bytes)"/>
          <p:cNvPicPr/>
          <p:nvPr/>
        </p:nvPicPr>
        <p:blipFill>
          <a:blip r:embed="rId1"/>
          <a:stretch/>
        </p:blipFill>
        <p:spPr>
          <a:xfrm>
            <a:off x="2664000" y="33480"/>
            <a:ext cx="5824440" cy="75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44480" y="385560"/>
            <a:ext cx="860760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1" lang="ru-RU" sz="4900" spc="-1" strike="noStrike" u="sng">
                <a:solidFill>
                  <a:srgbClr val="9900ff"/>
                </a:solidFill>
                <a:uFillTx/>
                <a:latin typeface="Arial"/>
              </a:rPr>
              <a:t>Карта Земли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154120" y="1895400"/>
            <a:ext cx="44290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а карту Земли посмотре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уши на Земле всего одна тре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о странный вопрос возникает тогда: планета должна называться -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вода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056360" y="4788000"/>
            <a:ext cx="2809800" cy="21063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216000" y="4716360"/>
            <a:ext cx="2025720" cy="270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5400720" y="5292720"/>
            <a:ext cx="1944720" cy="15159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216000" y="1403280"/>
            <a:ext cx="4754520" cy="31528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2448000" y="5129280"/>
            <a:ext cx="309708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31920" y="252360"/>
            <a:ext cx="93852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b7e7ff"/>
                </a:solidFill>
                <a:latin typeface="Arial"/>
              </a:rPr>
              <a:t>Три состояния воды</a:t>
            </a:r>
            <a:endParaRPr b="0" lang="en-US" sz="49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20720" y="2700000"/>
            <a:ext cx="4200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1.Твердо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нег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Лед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816360" y="1690560"/>
            <a:ext cx="545004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44480" y="385560"/>
            <a:ext cx="860760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Три состояния воды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20720" y="32464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2. Газообразно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Пар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Туман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824360" y="3419640"/>
            <a:ext cx="4281480" cy="32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Три состояния воды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3.Жидко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Дождь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Роса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319640" y="1403280"/>
            <a:ext cx="5111640" cy="3834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503280" y="4211640"/>
            <a:ext cx="3674880" cy="2754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2232000" y="2195640"/>
            <a:ext cx="187488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4720" y="321840"/>
            <a:ext cx="9074160" cy="152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Распределение воды на Земле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6000" y="1907640"/>
            <a:ext cx="42814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601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Мировой океан приходится более 96% воды.  Материки и острова делят его на отдельные океа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601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Тих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601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Атлант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601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Индий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601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Север.Ледовитый океа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601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Южный оке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5327640" y="1692360"/>
            <a:ext cx="4535640" cy="34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1" lang="ru-RU" sz="4900" spc="-1" strike="noStrike">
                <a:solidFill>
                  <a:srgbClr val="e5e5ff"/>
                </a:solidFill>
                <a:latin typeface="Garamond"/>
              </a:rPr>
              <a:t>Моря по цвету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Черное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431640" indent="-323640">
              <a:spcBef>
                <a:spcPts val="876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Белое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431640" indent="-323640">
              <a:spcBef>
                <a:spcPts val="876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Красное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431640" indent="-323640">
              <a:spcBef>
                <a:spcPts val="876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Желтое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431640" indent="-323640">
              <a:spcBef>
                <a:spcPts val="876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Синее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3311640" y="3276720"/>
            <a:ext cx="4539960" cy="34034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7991640" y="5651640"/>
            <a:ext cx="2089080" cy="13921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7416720" y="1549440"/>
            <a:ext cx="2305080" cy="15350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4"/>
          <a:stretch/>
        </p:blipFill>
        <p:spPr>
          <a:xfrm>
            <a:off x="4178160" y="1403280"/>
            <a:ext cx="2540160" cy="17146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5"/>
          <a:stretch/>
        </p:blipFill>
        <p:spPr>
          <a:xfrm>
            <a:off x="2016000" y="5508720"/>
            <a:ext cx="1168560" cy="13683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6"/>
          <a:stretch/>
        </p:blipFill>
        <p:spPr>
          <a:xfrm>
            <a:off x="8280360" y="3708360"/>
            <a:ext cx="1584360" cy="9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0066"/>
                </a:solidFill>
                <a:latin typeface="Arial"/>
              </a:rPr>
              <a:t>Мертвое море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601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есь не увидишь ни птицы, ни рыбы Только песок да угрюмые глыбы.       На берегах ни кустов, ни травы...    Будто и впрямь его   воды мертвы..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5154120" y="1895400"/>
            <a:ext cx="4429080" cy="48643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5111640" y="2916360"/>
            <a:ext cx="38149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18:23Z</dcterms:created>
  <dc:creator>Анжела</dc:creator>
  <dc:description/>
  <dc:language>en-US</dc:language>
  <cp:lastModifiedBy>Таня</cp:lastModifiedBy>
  <dcterms:modified xsi:type="dcterms:W3CDTF">2013-02-13T08:58:47Z</dcterms:modified>
  <cp:revision>33</cp:revision>
  <dc:subject/>
  <dc:title>Вода на Земле</dc:title>
</cp:coreProperties>
</file>