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breeze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8FE-0085-4062-8048-C1585E57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F2C-E8F9-49EC-9181-19B4DDB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CC1-4D5A-41CD-8466-41302991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4B7-C322-43FC-9842-36A284A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6053-D3D2-4D0C-9D92-B063B9AC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58CC-0040-4F85-ADB1-85478A1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9882-D3C0-4364-8AD8-6C421577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0CE4-9148-46E3-AB0A-E90486A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FB25-2F3C-42BF-81A7-28DF6D4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D081-AE97-4283-9BE8-623E0EC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B036-04D9-423B-8B31-A0779E9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37-5E2F-443D-BF43-7AE23361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84B-2B12-42C6-B50B-15631C2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D4C-9522-450D-8A51-2D21E85D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D29F-73AD-431F-96AC-A9F6D639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6551-9D3E-4A10-A9DE-8A9789B5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6597-CC10-4840-841D-8826383B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73C-F66C-4D64-AB23-3C85883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56B-3571-402C-897F-93EE4B83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A14-B588-47B6-AF7D-A23AB6BA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251-E807-4F78-91F3-CDEFAF9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857-D993-46B3-8ED4-9D4BA27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A94-D6FF-47AA-A322-93E6869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16A-F6E0-459C-8EC3-F976519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1ED6-2134-459E-AC89-85482433FF8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B7E-8A3E-4CFC-BD27-535E194333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"/>
          <p:cNvSpPr/>
          <p:nvPr/>
        </p:nvSpPr>
        <p:spPr>
          <a:xfrm>
            <a:off x="179280" y="24210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684360" y="2637000"/>
            <a:ext cx="7920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ё любимое числ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2" descr="arg-5-50-trans"/>
          <p:cNvPicPr/>
          <p:nvPr/>
        </p:nvPicPr>
        <p:blipFill>
          <a:blip r:embed="rId1"/>
          <a:stretch/>
        </p:blipFill>
        <p:spPr>
          <a:xfrm>
            <a:off x="3276720" y="5084640"/>
            <a:ext cx="1143000" cy="14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arg-4-25-trans-y"/>
          <p:cNvPicPr/>
          <p:nvPr/>
        </p:nvPicPr>
        <p:blipFill>
          <a:blip r:embed="rId2"/>
          <a:stretch/>
        </p:blipFill>
        <p:spPr>
          <a:xfrm>
            <a:off x="755640" y="443700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rg-2-50-trans"/>
          <p:cNvPicPr/>
          <p:nvPr/>
        </p:nvPicPr>
        <p:blipFill>
          <a:blip r:embed="rId3"/>
          <a:stretch/>
        </p:blipFill>
        <p:spPr>
          <a:xfrm rot="350400">
            <a:off x="7164360" y="5013000"/>
            <a:ext cx="1009800" cy="124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arg-6-25-trans-y"/>
          <p:cNvPicPr/>
          <p:nvPr/>
        </p:nvPicPr>
        <p:blipFill>
          <a:blip r:embed="rId4"/>
          <a:stretch/>
        </p:blipFill>
        <p:spPr>
          <a:xfrm>
            <a:off x="6877080" y="1413000"/>
            <a:ext cx="1447920" cy="117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arg-4-25-trans-y"/>
          <p:cNvPicPr/>
          <p:nvPr/>
        </p:nvPicPr>
        <p:blipFill>
          <a:blip r:embed="rId5"/>
          <a:stretch/>
        </p:blipFill>
        <p:spPr>
          <a:xfrm>
            <a:off x="2340000" y="76500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arg-2-50-trans"/>
          <p:cNvPicPr/>
          <p:nvPr/>
        </p:nvPicPr>
        <p:blipFill>
          <a:blip r:embed="rId6"/>
          <a:stretch/>
        </p:blipFill>
        <p:spPr>
          <a:xfrm rot="350400">
            <a:off x="468360" y="475920"/>
            <a:ext cx="1009440" cy="12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arg-6-25-trans-y"/>
          <p:cNvPicPr/>
          <p:nvPr/>
        </p:nvPicPr>
        <p:blipFill>
          <a:blip r:embed="rId7"/>
          <a:stretch/>
        </p:blipFill>
        <p:spPr>
          <a:xfrm>
            <a:off x="5076720" y="4365720"/>
            <a:ext cx="1447920" cy="11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arg-5-50-trans"/>
          <p:cNvPicPr/>
          <p:nvPr/>
        </p:nvPicPr>
        <p:blipFill>
          <a:blip r:embed="rId8"/>
          <a:stretch/>
        </p:blipFill>
        <p:spPr>
          <a:xfrm>
            <a:off x="5076720" y="189000"/>
            <a:ext cx="11430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сканирование0008"/>
          <p:cNvPicPr/>
          <p:nvPr/>
        </p:nvPicPr>
        <p:blipFill>
          <a:blip r:embed="rId1"/>
          <a:srcRect l="2743" t="0" r="0" b="1501"/>
          <a:stretch/>
        </p:blipFill>
        <p:spPr>
          <a:xfrm>
            <a:off x="0" y="1916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1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 используют числ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34290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Мышка зёрна собир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И в кладовку убир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Мышка, Мышка, как де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Пять мешков я собрал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50920" y="260280"/>
            <a:ext cx="8353440" cy="29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В поле бабочка ле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Колоски она счи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Может нам ей подсказ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Что колосьев ровно п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411640" y="4125960"/>
            <a:ext cx="644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Рано утром возле плош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Собрались на завтрак кош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Молочка им нужно да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ошек – пять и плошек -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 него смешные щё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спине полосок п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за щёчками мешо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бы семечки таскать.    (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96320" y="4005360"/>
            <a:ext cx="704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али мы ворон счит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, два, три, четыре, пя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дем всех птенцов считат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, два, три, четыре, пя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оё любимое число в картинках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3851280" y="148428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572000" y="256536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5940360" y="256536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219640" y="1484280"/>
            <a:ext cx="1368360" cy="115092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659640" y="148428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084720" y="3860640"/>
            <a:ext cx="2808360" cy="2448000"/>
          </a:xfrm>
          <a:custGeom>
            <a:avLst/>
            <a:gdLst/>
            <a:ahLst/>
            <a:rect l="l" t="t" r="r" b="b"/>
            <a:pathLst>
              <a:path w="2808287" h="2447925">
                <a:moveTo>
                  <a:pt x="3" y="935022"/>
                </a:moveTo>
                <a:lnTo>
                  <a:pt x="1072676" y="935028"/>
                </a:lnTo>
                <a:lnTo>
                  <a:pt x="1404144" y="0"/>
                </a:lnTo>
                <a:lnTo>
                  <a:pt x="1735611" y="935028"/>
                </a:lnTo>
                <a:lnTo>
                  <a:pt x="2808284" y="935022"/>
                </a:lnTo>
                <a:lnTo>
                  <a:pt x="1940469" y="1512894"/>
                </a:lnTo>
                <a:lnTo>
                  <a:pt x="2271950" y="2447919"/>
                </a:lnTo>
                <a:lnTo>
                  <a:pt x="1404144" y="1870035"/>
                </a:lnTo>
                <a:lnTo>
                  <a:pt x="536337" y="2447919"/>
                </a:lnTo>
                <a:lnTo>
                  <a:pt x="867818" y="1512894"/>
                </a:lnTo>
                <a:lnTo>
                  <a:pt x="3" y="93502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7" descr="Пир5колец"/>
          <p:cNvPicPr/>
          <p:nvPr/>
        </p:nvPicPr>
        <p:blipFill>
          <a:blip r:embed="rId1"/>
          <a:stretch/>
        </p:blipFill>
        <p:spPr>
          <a:xfrm>
            <a:off x="0" y="3789360"/>
            <a:ext cx="2719440" cy="3068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Рука5 прозрачная"/>
          <p:cNvPicPr/>
          <p:nvPr/>
        </p:nvPicPr>
        <p:blipFill>
          <a:blip r:embed="rId2"/>
          <a:stretch/>
        </p:blipFill>
        <p:spPr>
          <a:xfrm>
            <a:off x="2556000" y="3817800"/>
            <a:ext cx="3384360" cy="30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спользуемые источни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и: математика, энциклопедия, орфографический словар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ы и голово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евизор, ради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ы со взросл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и наблю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Футляр для карандашей и руче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Чем стирают со школьной дос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тол, за которым сидит ученик в шко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овый дом несу в ру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Дверц а дома на зам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Тут жильц ы бумаж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се ужасно важные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88000" y="2492280"/>
            <a:ext cx="230364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1640" y="2997360"/>
            <a:ext cx="2808000" cy="50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3500280"/>
            <a:ext cx="237636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419640" y="4005360"/>
            <a:ext cx="3600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8028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7524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020000" y="24919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588000" y="2492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6156360" y="299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65164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514836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471636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428472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385128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615456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5270400" y="3009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765320" y="3441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3038400" y="4017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845964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665964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8582400" y="25797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8148960" y="2508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816948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4"/>
          <p:cNvSpPr/>
          <p:nvPr/>
        </p:nvSpPr>
        <p:spPr>
          <a:xfrm>
            <a:off x="7642800" y="2579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5"/>
          <p:cNvSpPr/>
          <p:nvPr/>
        </p:nvSpPr>
        <p:spPr>
          <a:xfrm>
            <a:off x="7219440" y="257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6"/>
          <p:cNvSpPr/>
          <p:nvPr/>
        </p:nvSpPr>
        <p:spPr>
          <a:xfrm>
            <a:off x="6727680" y="2565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578052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48"/>
          <p:cNvSpPr/>
          <p:nvPr/>
        </p:nvSpPr>
        <p:spPr>
          <a:xfrm>
            <a:off x="6296040" y="3068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9"/>
          <p:cNvSpPr/>
          <p:nvPr/>
        </p:nvSpPr>
        <p:spPr>
          <a:xfrm>
            <a:off x="6710400" y="3084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50"/>
          <p:cNvSpPr/>
          <p:nvPr/>
        </p:nvSpPr>
        <p:spPr>
          <a:xfrm>
            <a:off x="7138800" y="308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1"/>
          <p:cNvSpPr/>
          <p:nvPr/>
        </p:nvSpPr>
        <p:spPr>
          <a:xfrm>
            <a:off x="7667640" y="30686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5"/>
          <p:cNvSpPr/>
          <p:nvPr/>
        </p:nvSpPr>
        <p:spPr>
          <a:xfrm>
            <a:off x="5287680" y="3573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5772240" y="35877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7"/>
          <p:cNvSpPr/>
          <p:nvPr/>
        </p:nvSpPr>
        <p:spPr>
          <a:xfrm>
            <a:off x="6275520" y="3587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6716880" y="358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9"/>
          <p:cNvSpPr/>
          <p:nvPr/>
        </p:nvSpPr>
        <p:spPr>
          <a:xfrm>
            <a:off x="7140960" y="35877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346680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3968640" y="409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4403880" y="4092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845240" y="409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8800" y="4092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5778000" y="409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7"/>
          <p:cNvSpPr/>
          <p:nvPr/>
        </p:nvSpPr>
        <p:spPr>
          <a:xfrm>
            <a:off x="6279120" y="409248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8"/>
          <p:cNvSpPr/>
          <p:nvPr/>
        </p:nvSpPr>
        <p:spPr>
          <a:xfrm>
            <a:off x="670716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9"/>
          <p:cNvSpPr/>
          <p:nvPr/>
        </p:nvSpPr>
        <p:spPr>
          <a:xfrm>
            <a:off x="8148960" y="3084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95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ЯТЬ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ИЗОГНУЛА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УДТО КРЮЧ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НО ПОВЕС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НЕЙ РЮКЗАЧ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5003640" y="836640"/>
            <a:ext cx="35798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5" descr="STARFISH"/>
          <p:cNvPicPr/>
          <p:nvPr/>
        </p:nvPicPr>
        <p:blipFill>
          <a:blip r:embed="rId1"/>
          <a:stretch/>
        </p:blipFill>
        <p:spPr>
          <a:xfrm>
            <a:off x="179280" y="3933720"/>
            <a:ext cx="4464000" cy="25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Ирина\Мои документы\Мои рисунки\Клипарты10\Разные предметы\domik35.pn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Ирина\Мои документы\Мои рисунки\Новые\e0f1d88b7aee.png"/>
          <p:cNvPicPr/>
          <p:nvPr/>
        </p:nvPicPr>
        <p:blipFill>
          <a:blip r:embed="rId2"/>
          <a:stretch/>
        </p:blipFill>
        <p:spPr>
          <a:xfrm>
            <a:off x="5643720" y="5429160"/>
            <a:ext cx="987120" cy="781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рина\Мои документы\Мои рисунки\Новые\e0f1d88b7aee.png"/>
          <p:cNvPicPr/>
          <p:nvPr/>
        </p:nvPicPr>
        <p:blipFill>
          <a:blip r:embed="rId3"/>
          <a:stretch/>
        </p:blipFill>
        <p:spPr>
          <a:xfrm>
            <a:off x="6929280" y="5000760"/>
            <a:ext cx="987480" cy="780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Documents and Settings\Ирина\Мои документы\Мои рисунки\Новые\e0f1d88b7aee.png"/>
          <p:cNvPicPr/>
          <p:nvPr/>
        </p:nvPicPr>
        <p:blipFill>
          <a:blip r:embed="rId4"/>
          <a:stretch/>
        </p:blipFill>
        <p:spPr>
          <a:xfrm>
            <a:off x="4214880" y="5715000"/>
            <a:ext cx="9874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Ирина\Мои документы\Мои рисунки\Новые\e0f1d88b7aee.png"/>
          <p:cNvPicPr/>
          <p:nvPr/>
        </p:nvPicPr>
        <p:blipFill>
          <a:blip r:embed="rId5"/>
          <a:stretch/>
        </p:blipFill>
        <p:spPr>
          <a:xfrm>
            <a:off x="428760" y="5076720"/>
            <a:ext cx="1071360" cy="84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Ирина\Мои документы\Мои рисунки\Новые\e0f1d88b7aee.png"/>
          <p:cNvPicPr/>
          <p:nvPr/>
        </p:nvPicPr>
        <p:blipFill>
          <a:blip r:embed="rId6"/>
          <a:stretch/>
        </p:blipFill>
        <p:spPr>
          <a:xfrm>
            <a:off x="1428840" y="5505480"/>
            <a:ext cx="107136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старое\Documents and Settings\С похмела\Мои документы\Мои рисунки\Гифы\37R5.gif"/>
          <p:cNvPicPr/>
          <p:nvPr/>
        </p:nvPicPr>
        <p:blipFill>
          <a:blip r:embed="rId7"/>
          <a:stretch/>
        </p:blipFill>
        <p:spPr>
          <a:xfrm>
            <a:off x="285840" y="357120"/>
            <a:ext cx="1847880" cy="16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Ирина\Мои документы\Мои рисунки\Клипарты10\Разные предметы\domik35.png"/>
          <p:cNvPicPr/>
          <p:nvPr/>
        </p:nvPicPr>
        <p:blipFill>
          <a:blip r:embed="rId8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0" y="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исло «5» в древ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сканирование0002"/>
          <p:cNvPicPr/>
          <p:nvPr/>
        </p:nvPicPr>
        <p:blipFill>
          <a:blip r:embed="rId1"/>
          <a:srcRect l="45622" t="14628" r="18409" b="40287"/>
          <a:stretch/>
        </p:blipFill>
        <p:spPr>
          <a:xfrm>
            <a:off x="3924360" y="1268280"/>
            <a:ext cx="3095640" cy="295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24000" y="4941720"/>
            <a:ext cx="83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СКИЙ ИЕРОГЛИ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исла «5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сканирование0003"/>
          <p:cNvPicPr/>
          <p:nvPr/>
        </p:nvPicPr>
        <p:blipFill>
          <a:blip r:embed="rId1"/>
          <a:srcRect l="31522" t="27455" r="25234" b="57469"/>
          <a:stretch/>
        </p:blipFill>
        <p:spPr>
          <a:xfrm>
            <a:off x="2843280" y="2133720"/>
            <a:ext cx="3457440" cy="100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613800" y="4292640"/>
            <a:ext cx="781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НДЕЙЦЫ МАЙ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ак изображали число «5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сканирование0004"/>
          <p:cNvPicPr/>
          <p:nvPr/>
        </p:nvPicPr>
        <p:blipFill>
          <a:blip r:embed="rId1"/>
          <a:srcRect l="7750" t="22396" r="12067" b="18976"/>
          <a:stretch/>
        </p:blipFill>
        <p:spPr>
          <a:xfrm>
            <a:off x="1042920" y="1268280"/>
            <a:ext cx="6697800" cy="244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55600" y="4660920"/>
            <a:ext cx="85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ГИПЕТСКИЕ иероглиф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сканирование0005"/>
          <p:cNvPicPr/>
          <p:nvPr/>
        </p:nvPicPr>
        <p:blipFill>
          <a:blip r:embed="rId1"/>
          <a:srcRect l="29097" t="23195" r="16355" b="19956"/>
          <a:stretch/>
        </p:blipFill>
        <p:spPr>
          <a:xfrm>
            <a:off x="2843280" y="1268280"/>
            <a:ext cx="4321080" cy="2665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03960" y="515772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ИМСКОЕ ЧИСЛО «5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сканирование0006"/>
          <p:cNvPicPr/>
          <p:nvPr/>
        </p:nvPicPr>
        <p:blipFill>
          <a:blip r:embed="rId1"/>
          <a:srcRect l="23035" t="16457" r="39152" b="23275"/>
          <a:stretch/>
        </p:blipFill>
        <p:spPr>
          <a:xfrm>
            <a:off x="2843280" y="98100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880" y="4365720"/>
            <a:ext cx="89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ображение числа «5»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ЛАВЯНАМ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3:53:14Z</dcterms:created>
  <dc:creator>ТОЛИК</dc:creator>
  <dc:description/>
  <dc:language>en-US</dc:language>
  <cp:lastModifiedBy>Не Влезай - УБЪЁТ!</cp:lastModifiedBy>
  <dcterms:modified xsi:type="dcterms:W3CDTF">2013-01-20T16:11:01Z</dcterms:modified>
  <cp:revision>5</cp:revision>
  <dc:subject/>
  <dc:title>МОЁ ЛЮБИМОЕ ЧИСЛО</dc:title>
</cp:coreProperties>
</file>