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breeze.wav" ContentType="audio/x-wav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gif" ContentType="image/gif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0B3-D118-4CAD-8375-A36AE2C0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DBB-BE29-48EE-945E-7BC7DDD4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38E-FC65-423C-9562-6DC6A7E2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906-C78C-4EAC-AF8E-F6AE5B36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3E59-3074-4E71-AC9C-A9DC2946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93DC-3B06-4044-B595-F37F861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07B-A2AA-4295-88B3-6DA600D5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FF65-03DE-4036-9718-4E74915E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9DD-2109-4118-A049-F126EA2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BD58-6FD3-4981-BBCD-93152CBC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489C-EB97-4C5B-BCB0-8CACF2E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D2FF-AB7A-4461-B494-AB95906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D22-D135-4B1B-AC90-E81AA94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91CB-3998-46D6-9B87-CE384BE0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BA02-0F8C-4585-BC54-83127057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E7D0-B0E9-484C-927E-A97BE664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5600-68FD-4901-8307-B7947F29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AB7-BFD2-4756-9297-F6D8644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741-002C-411D-BA07-62C7491A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094-A5B0-4D8F-857F-12C7AFB1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920-F93A-4F97-9969-48AB722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BBD-0B25-43D1-B9CB-60789DC4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636-3770-4D5A-BD72-8DE626E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A71-8859-496E-96F9-0C9416E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E878-0478-42EB-BE65-821BD14AEC3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4448-6CCE-434A-A8C9-795B86794A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0"/>
          <p:cNvSpPr/>
          <p:nvPr/>
        </p:nvSpPr>
        <p:spPr>
          <a:xfrm>
            <a:off x="179280" y="2421000"/>
            <a:ext cx="858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11"/>
          <p:cNvSpPr txBox="1"/>
          <p:nvPr/>
        </p:nvSpPr>
        <p:spPr>
          <a:xfrm>
            <a:off x="684360" y="2637000"/>
            <a:ext cx="792000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ё любимое числ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2" descr="arg-5-50-trans"/>
          <p:cNvPicPr/>
          <p:nvPr/>
        </p:nvPicPr>
        <p:blipFill>
          <a:blip r:embed="rId1"/>
          <a:stretch/>
        </p:blipFill>
        <p:spPr>
          <a:xfrm>
            <a:off x="3276720" y="5084640"/>
            <a:ext cx="1143000" cy="1457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arg-4-25-trans-y"/>
          <p:cNvPicPr/>
          <p:nvPr/>
        </p:nvPicPr>
        <p:blipFill>
          <a:blip r:embed="rId2"/>
          <a:stretch/>
        </p:blipFill>
        <p:spPr>
          <a:xfrm>
            <a:off x="755640" y="443700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arg-2-50-trans"/>
          <p:cNvPicPr/>
          <p:nvPr/>
        </p:nvPicPr>
        <p:blipFill>
          <a:blip r:embed="rId3"/>
          <a:stretch/>
        </p:blipFill>
        <p:spPr>
          <a:xfrm rot="350400">
            <a:off x="7164360" y="5013000"/>
            <a:ext cx="1009800" cy="124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arg-6-25-trans-y"/>
          <p:cNvPicPr/>
          <p:nvPr/>
        </p:nvPicPr>
        <p:blipFill>
          <a:blip r:embed="rId4"/>
          <a:stretch/>
        </p:blipFill>
        <p:spPr>
          <a:xfrm>
            <a:off x="6877080" y="1413000"/>
            <a:ext cx="1447920" cy="117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arg-4-25-trans-y"/>
          <p:cNvPicPr/>
          <p:nvPr/>
        </p:nvPicPr>
        <p:blipFill>
          <a:blip r:embed="rId5"/>
          <a:stretch/>
        </p:blipFill>
        <p:spPr>
          <a:xfrm>
            <a:off x="2340000" y="765000"/>
            <a:ext cx="1676520" cy="14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arg-2-50-trans"/>
          <p:cNvPicPr/>
          <p:nvPr/>
        </p:nvPicPr>
        <p:blipFill>
          <a:blip r:embed="rId6"/>
          <a:stretch/>
        </p:blipFill>
        <p:spPr>
          <a:xfrm rot="350400">
            <a:off x="468360" y="475920"/>
            <a:ext cx="1009440" cy="12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arg-6-25-trans-y"/>
          <p:cNvPicPr/>
          <p:nvPr/>
        </p:nvPicPr>
        <p:blipFill>
          <a:blip r:embed="rId7"/>
          <a:stretch/>
        </p:blipFill>
        <p:spPr>
          <a:xfrm>
            <a:off x="5076720" y="4365720"/>
            <a:ext cx="1447920" cy="11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9" descr="arg-5-50-trans"/>
          <p:cNvPicPr/>
          <p:nvPr/>
        </p:nvPicPr>
        <p:blipFill>
          <a:blip r:embed="rId8"/>
          <a:stretch/>
        </p:blipFill>
        <p:spPr>
          <a:xfrm>
            <a:off x="5076720" y="189000"/>
            <a:ext cx="11430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сканирование0008"/>
          <p:cNvPicPr/>
          <p:nvPr/>
        </p:nvPicPr>
        <p:blipFill>
          <a:blip r:embed="rId1"/>
          <a:srcRect l="2743" t="0" r="0" b="1501"/>
          <a:stretch/>
        </p:blipFill>
        <p:spPr>
          <a:xfrm>
            <a:off x="0" y="1916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1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 используют числа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342900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Мышка зёрна собир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И в кладовку убир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Мышка, Мышка, как дел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f7cdb"/>
                </a:solidFill>
                <a:latin typeface="Tahoma"/>
              </a:rPr>
              <a:t>Пять мешков я собрал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250920" y="260280"/>
            <a:ext cx="8353440" cy="29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В поле бабочка ле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Колоски она счит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Может нам ей подсказ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9c9"/>
                </a:solidFill>
                <a:latin typeface="Tahoma"/>
              </a:rPr>
              <a:t>Что колосьев ровно п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411640" y="4125960"/>
            <a:ext cx="644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Рано утром возле плош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Собрались на завтрак кош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Молочка им нужно дать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ошек – пять и плошек -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9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7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77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1" dur="77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У него смешные щё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спине полосок пя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за щёчками мешо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Чтобы семечки таскать.    ( 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и, считалки, загадк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которых встречается число "5"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696320" y="4005360"/>
            <a:ext cx="704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али мы ворон счита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, два, три, четыре, пя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дем всех птенцов считать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, два, три, четыре, пят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50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1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5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оё любимое число в картинках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3851280" y="148428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4572000" y="256536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5940360" y="256536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5219640" y="1484280"/>
            <a:ext cx="1368360" cy="115092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6659640" y="1484280"/>
            <a:ext cx="1368360" cy="1201680"/>
          </a:xfrm>
          <a:prstGeom prst="ellipse">
            <a:avLst/>
          </a:prstGeom>
          <a:solidFill>
            <a:srgbClr val="72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084720" y="3860640"/>
            <a:ext cx="2808360" cy="2448000"/>
          </a:xfrm>
          <a:custGeom>
            <a:avLst/>
            <a:gdLst/>
            <a:ahLst/>
            <a:rect l="l" t="t" r="r" b="b"/>
            <a:pathLst>
              <a:path w="2808287" h="2447925">
                <a:moveTo>
                  <a:pt x="3" y="935022"/>
                </a:moveTo>
                <a:lnTo>
                  <a:pt x="1072676" y="935028"/>
                </a:lnTo>
                <a:lnTo>
                  <a:pt x="1404144" y="0"/>
                </a:lnTo>
                <a:lnTo>
                  <a:pt x="1735611" y="935028"/>
                </a:lnTo>
                <a:lnTo>
                  <a:pt x="2808284" y="935022"/>
                </a:lnTo>
                <a:lnTo>
                  <a:pt x="1940469" y="1512894"/>
                </a:lnTo>
                <a:lnTo>
                  <a:pt x="2271950" y="2447919"/>
                </a:lnTo>
                <a:lnTo>
                  <a:pt x="1404144" y="1870035"/>
                </a:lnTo>
                <a:lnTo>
                  <a:pt x="536337" y="2447919"/>
                </a:lnTo>
                <a:lnTo>
                  <a:pt x="867818" y="1512894"/>
                </a:lnTo>
                <a:lnTo>
                  <a:pt x="3" y="93502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17" descr="Пир5колец"/>
          <p:cNvPicPr/>
          <p:nvPr/>
        </p:nvPicPr>
        <p:blipFill>
          <a:blip r:embed="rId1"/>
          <a:stretch/>
        </p:blipFill>
        <p:spPr>
          <a:xfrm>
            <a:off x="0" y="3789360"/>
            <a:ext cx="2719440" cy="3068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Рука5 прозрачная"/>
          <p:cNvPicPr/>
          <p:nvPr/>
        </p:nvPicPr>
        <p:blipFill>
          <a:blip r:embed="rId2"/>
          <a:stretch/>
        </p:blipFill>
        <p:spPr>
          <a:xfrm>
            <a:off x="2556000" y="3817800"/>
            <a:ext cx="3384360" cy="30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Используемые источник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ниги: математика, энциклопедия, орфографический словар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ы и головоломк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левизор, ради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седы со взрослы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и наблю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6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Футляр для карандашей и руче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Чем стирают со школьной доск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Стол, за которым сидит ученик в шко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Новый дом несу в ру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Дверц а дома на зам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Тут жильц ы бумаж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Все ужасно важные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88000" y="2492280"/>
            <a:ext cx="230364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5651640" y="2997360"/>
            <a:ext cx="2808000" cy="502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3500280"/>
            <a:ext cx="237636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419640" y="4005360"/>
            <a:ext cx="360036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8028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7524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020000" y="249192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588000" y="2492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6156360" y="299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65164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514836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471636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21"/>
          <p:cNvSpPr/>
          <p:nvPr/>
        </p:nvSpPr>
        <p:spPr>
          <a:xfrm>
            <a:off x="428472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385128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6154560" y="2492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5270400" y="3009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765320" y="3441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3038400" y="4017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31"/>
          <p:cNvSpPr/>
          <p:nvPr/>
        </p:nvSpPr>
        <p:spPr>
          <a:xfrm>
            <a:off x="8459640" y="2492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6659640" y="263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8582400" y="257976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8148960" y="2508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816948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4"/>
          <p:cNvSpPr/>
          <p:nvPr/>
        </p:nvSpPr>
        <p:spPr>
          <a:xfrm>
            <a:off x="7642800" y="25797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5"/>
          <p:cNvSpPr/>
          <p:nvPr/>
        </p:nvSpPr>
        <p:spPr>
          <a:xfrm>
            <a:off x="7219440" y="2579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6"/>
          <p:cNvSpPr/>
          <p:nvPr/>
        </p:nvSpPr>
        <p:spPr>
          <a:xfrm>
            <a:off x="6727680" y="2565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5780520" y="308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48"/>
          <p:cNvSpPr/>
          <p:nvPr/>
        </p:nvSpPr>
        <p:spPr>
          <a:xfrm>
            <a:off x="6296040" y="3068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9"/>
          <p:cNvSpPr/>
          <p:nvPr/>
        </p:nvSpPr>
        <p:spPr>
          <a:xfrm>
            <a:off x="6710400" y="3084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50"/>
          <p:cNvSpPr/>
          <p:nvPr/>
        </p:nvSpPr>
        <p:spPr>
          <a:xfrm>
            <a:off x="7138800" y="308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1"/>
          <p:cNvSpPr/>
          <p:nvPr/>
        </p:nvSpPr>
        <p:spPr>
          <a:xfrm>
            <a:off x="7667640" y="30686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5"/>
          <p:cNvSpPr/>
          <p:nvPr/>
        </p:nvSpPr>
        <p:spPr>
          <a:xfrm>
            <a:off x="5287680" y="357336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5772240" y="35877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7"/>
          <p:cNvSpPr/>
          <p:nvPr/>
        </p:nvSpPr>
        <p:spPr>
          <a:xfrm>
            <a:off x="6275520" y="35877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6716880" y="358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9"/>
          <p:cNvSpPr/>
          <p:nvPr/>
        </p:nvSpPr>
        <p:spPr>
          <a:xfrm>
            <a:off x="7140960" y="35877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346680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3968640" y="4092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4403880" y="4092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845240" y="409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8800" y="4092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5778000" y="409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67"/>
          <p:cNvSpPr/>
          <p:nvPr/>
        </p:nvSpPr>
        <p:spPr>
          <a:xfrm>
            <a:off x="6279120" y="4092480"/>
            <a:ext cx="3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8"/>
          <p:cNvSpPr/>
          <p:nvPr/>
        </p:nvSpPr>
        <p:spPr>
          <a:xfrm>
            <a:off x="670716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9"/>
          <p:cNvSpPr/>
          <p:nvPr/>
        </p:nvSpPr>
        <p:spPr>
          <a:xfrm>
            <a:off x="8148960" y="3084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88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89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93" dur="250" autoRev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196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197" dur="2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20000"/>
                                      </p:to>
                                    </p:animClr>
                                    <p:set>
                                      <p:cBhvr>
                                        <p:cTn id="201" dur="25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ЯТЬ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ИЗОГНУЛА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УДТО КРЮЧ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ОЖНО ПОВЕС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 НЕЙ РЮКЗАЧ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5003640" y="836640"/>
            <a:ext cx="35798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5" descr="STARFISH"/>
          <p:cNvPicPr/>
          <p:nvPr/>
        </p:nvPicPr>
        <p:blipFill>
          <a:blip r:embed="rId1"/>
          <a:stretch/>
        </p:blipFill>
        <p:spPr>
          <a:xfrm>
            <a:off x="179280" y="3933720"/>
            <a:ext cx="4464000" cy="25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Ирина\Мои документы\Мои рисунки\Клипарты10\Разные предметы\domik35.png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Ирина\Мои документы\Мои рисунки\Новые\e0f1d88b7aee.png"/>
          <p:cNvPicPr/>
          <p:nvPr/>
        </p:nvPicPr>
        <p:blipFill>
          <a:blip r:embed="rId2"/>
          <a:stretch/>
        </p:blipFill>
        <p:spPr>
          <a:xfrm>
            <a:off x="5643720" y="5429160"/>
            <a:ext cx="987120" cy="781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Ирина\Мои документы\Мои рисунки\Новые\e0f1d88b7aee.png"/>
          <p:cNvPicPr/>
          <p:nvPr/>
        </p:nvPicPr>
        <p:blipFill>
          <a:blip r:embed="rId3"/>
          <a:stretch/>
        </p:blipFill>
        <p:spPr>
          <a:xfrm>
            <a:off x="6929280" y="5000760"/>
            <a:ext cx="987480" cy="780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Documents and Settings\Ирина\Мои документы\Мои рисунки\Новые\e0f1d88b7aee.png"/>
          <p:cNvPicPr/>
          <p:nvPr/>
        </p:nvPicPr>
        <p:blipFill>
          <a:blip r:embed="rId4"/>
          <a:stretch/>
        </p:blipFill>
        <p:spPr>
          <a:xfrm>
            <a:off x="4214880" y="5715000"/>
            <a:ext cx="987480" cy="78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Documents and Settings\Ирина\Мои документы\Мои рисунки\Новые\e0f1d88b7aee.png"/>
          <p:cNvPicPr/>
          <p:nvPr/>
        </p:nvPicPr>
        <p:blipFill>
          <a:blip r:embed="rId5"/>
          <a:stretch/>
        </p:blipFill>
        <p:spPr>
          <a:xfrm>
            <a:off x="428760" y="5076720"/>
            <a:ext cx="1071360" cy="84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Documents and Settings\Ирина\Мои документы\Мои рисунки\Новые\e0f1d88b7aee.png"/>
          <p:cNvPicPr/>
          <p:nvPr/>
        </p:nvPicPr>
        <p:blipFill>
          <a:blip r:embed="rId6"/>
          <a:stretch/>
        </p:blipFill>
        <p:spPr>
          <a:xfrm>
            <a:off x="1428840" y="5505480"/>
            <a:ext cx="107136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старое\Documents and Settings\С похмела\Мои документы\Мои рисунки\Гифы\37R5.gif"/>
          <p:cNvPicPr/>
          <p:nvPr/>
        </p:nvPicPr>
        <p:blipFill>
          <a:blip r:embed="rId7"/>
          <a:stretch/>
        </p:blipFill>
        <p:spPr>
          <a:xfrm>
            <a:off x="285840" y="357120"/>
            <a:ext cx="1847880" cy="16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Ирина\Мои документы\Мои рисунки\Клипарты10\Разные предметы\domik35.png"/>
          <p:cNvPicPr/>
          <p:nvPr/>
        </p:nvPicPr>
        <p:blipFill>
          <a:blip r:embed="rId8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0" y="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исло «5» в древ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сканирование0002"/>
          <p:cNvPicPr/>
          <p:nvPr/>
        </p:nvPicPr>
        <p:blipFill>
          <a:blip r:embed="rId1"/>
          <a:srcRect l="45622" t="14628" r="18409" b="40287"/>
          <a:stretch/>
        </p:blipFill>
        <p:spPr>
          <a:xfrm>
            <a:off x="3924360" y="1268280"/>
            <a:ext cx="3095640" cy="295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24000" y="4941720"/>
            <a:ext cx="83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ТАЙСКИЙ ИЕРОГЛИ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исла «5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сканирование0003"/>
          <p:cNvPicPr/>
          <p:nvPr/>
        </p:nvPicPr>
        <p:blipFill>
          <a:blip r:embed="rId1"/>
          <a:srcRect l="31522" t="27455" r="25234" b="57469"/>
          <a:stretch/>
        </p:blipFill>
        <p:spPr>
          <a:xfrm>
            <a:off x="2843280" y="2133720"/>
            <a:ext cx="3457440" cy="100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613800" y="4292640"/>
            <a:ext cx="781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НДЕЙЦЫ МАЙ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ак изображали число «5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сканирование0004"/>
          <p:cNvPicPr/>
          <p:nvPr/>
        </p:nvPicPr>
        <p:blipFill>
          <a:blip r:embed="rId1"/>
          <a:srcRect l="7750" t="22396" r="12067" b="18976"/>
          <a:stretch/>
        </p:blipFill>
        <p:spPr>
          <a:xfrm>
            <a:off x="1042920" y="1268280"/>
            <a:ext cx="6697800" cy="244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55600" y="4660920"/>
            <a:ext cx="85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ЕГИПЕТСКИЕ иероглиф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сканирование0005"/>
          <p:cNvPicPr/>
          <p:nvPr/>
        </p:nvPicPr>
        <p:blipFill>
          <a:blip r:embed="rId1"/>
          <a:srcRect l="29097" t="23195" r="16355" b="19956"/>
          <a:stretch/>
        </p:blipFill>
        <p:spPr>
          <a:xfrm>
            <a:off x="2843280" y="1268280"/>
            <a:ext cx="4321080" cy="2665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03960" y="515772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ИМСКОЕ ЧИСЛО «5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сканирование0006"/>
          <p:cNvPicPr/>
          <p:nvPr/>
        </p:nvPicPr>
        <p:blipFill>
          <a:blip r:embed="rId1"/>
          <a:srcRect l="23035" t="16457" r="39152" b="23275"/>
          <a:stretch/>
        </p:blipFill>
        <p:spPr>
          <a:xfrm>
            <a:off x="2843280" y="981000"/>
            <a:ext cx="3313080" cy="3168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880" y="4365720"/>
            <a:ext cx="89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зображение числа «5»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ЛАВЯНАМИ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3:53:14Z</dcterms:created>
  <dc:creator>ТОЛИК</dc:creator>
  <dc:description/>
  <dc:language>en-US</dc:language>
  <cp:lastModifiedBy>Не Влезай - УБЪЁТ!</cp:lastModifiedBy>
  <dcterms:modified xsi:type="dcterms:W3CDTF">2013-01-20T16:11:01Z</dcterms:modified>
  <cp:revision>5</cp:revision>
  <dc:subject/>
  <dc:title>МОЁ ЛЮБИМОЕ ЧИСЛО</dc:title>
</cp:coreProperties>
</file>