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D2B-70D1-4C82-8DB2-AA141172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22B-AC9B-4D52-90F9-2D7C8E2F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F59-53C1-46F7-9219-C8CC21D2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CE2-D444-4D72-A5D0-9C23DE91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97A-86A1-45BD-8921-D4FB3598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C98-9BC5-4B23-9A4D-F82FA346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3A5-34F1-4807-B7DD-2BC2568B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01A-7607-4791-BA14-570C813C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A75-5E64-41B1-80FB-441BF9D0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375-860C-4A49-8968-F55D6325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569-335E-4478-BCE3-8E3BFEDC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622-D06B-46C6-83BE-DAB3BC27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E0829-56C9-49C4-92E0-B317018F3AF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07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КОУ Мезиновская основная общеобразовательная ш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: Рязанцева Е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1844640"/>
            <a:ext cx="5040360" cy="2384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</a:t>
            </a: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ТТЕСТАЦИЯ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</a:t>
            </a: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ДАГОГО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</a:t>
            </a: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011-2012 уч.г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одучи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н п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овое законода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Изучайте тесты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они есть на сайте (института экспертиз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с приглас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с встретя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м помогу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УДАЧ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5080"/>
            <a:ext cx="82072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Подача заявления в РОНО за</a:t>
            </a:r>
            <a:br>
              <a:rPr sz="4000"/>
            </a:b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3 месяца до окончания трудового догов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147160" cy="48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Главную аттестационную комисс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т Рязанцевой Елены Владимиров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чителя МКОУ Мезиновской средн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бщеобразовательной шк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усь-Хрустального райо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яв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шу  аттестовать меня в 2012 году  на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 соответствие  занимаемой   должности 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валификационную категорию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тоящее время ( имею вторую квалификационную категорию, срок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ё действия до 26.03.2012) либо (квалификационной категории не име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снованием для аттестации на указанную в заявлении квалификационну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тегорию считаю следующие результаты работы соответствующ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ниям ,предъявляемым к квалификационной категории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ладею всеми активными методами обучения( словесным, наглядными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актическими) использую различные формы обучения ,за время своей работы накопила много дидактического материала; владею современными технологиями и применяю их в деятельности ;имею стабильные результаты освоения обучающимися программ по истории и обществознанию 2008-2009г. Среди моих учащихся есть победители районного тура олимпиады по истории 2009г.( Бурмистрова Екатерина).Владею ИКТ, современными методами обучения «Виртуальная школа Кирилла и Меффодия »,использую интернет; Возглавляю МО классных руководителей МКОУ Мезиновской сош. Создаю условия для реализации творческих возможностей учащихся ,принимала участие в районном конкурсе «Отечество» в 2009г. За период работы 2004-2011 являюсь классным руководителе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общаю о себе следующие сведения : образование (когда и какое образовательное учреждение профессионального образования окончил ,полученная специальность и квалификация)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Владимирский государственный гуманитарный университет по специальности учитель  истории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аж педагогической работы (по специальности)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 6 лет,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анной должност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 лет ;в данном учреждении 3 месяц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мею следующие награды, звания ,учёную степень ,учёное зва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рамота отдела образования Гусь-Хрустального района 2007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рамота управления образования 2009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ведения о повышении квалификации 2010г ТК №200 компьютеры для начинающих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ттестацию на заседании аттестационной комиссии прошу провести в моём присутств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 порядком аттестации педагогических работников государственных и муниципальных образовательных учреждений ознакомле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пись   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язанцева Е.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0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 -6 3.33333 -6  C 0.06892 3.33333 -6  0.125 0.02847  0.125 0.06389  C 0.125 0.09907  0.06892 0.12777  3.61111 -6 0.12777  C -0.0691 0.12777  -0.125 0.09907  -0.125 0.06389  C -0.125 0.02847  -0.0691 3.33333 -6  3.61111 -6 3.33333 -6  Z"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9044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ДУМАТЬ НА КАКУЮ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АТЕГОРИЮ ВЫ ПРИТЕНДУ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416320" y="1995120"/>
            <a:ext cx="4311360" cy="3735360"/>
            <a:chOff x="2416320" y="1995120"/>
            <a:chExt cx="4311360" cy="3735360"/>
          </a:xfrm>
        </p:grpSpPr>
        <p:sp>
          <p:nvSpPr>
            <p:cNvPr id="48" name=""/>
            <p:cNvSpPr/>
            <p:nvPr/>
          </p:nvSpPr>
          <p:spPr>
            <a:xfrm flipV="1">
              <a:off x="3852720" y="1994760"/>
              <a:ext cx="1438560" cy="1244520"/>
            </a:xfrm>
            <a:custGeom>
              <a:avLst/>
              <a:gdLst>
                <a:gd name="textAreaLeft" fmla="*/ 516240 w 1438560"/>
                <a:gd name="textAreaRight" fmla="*/ 922320 w 1438560"/>
                <a:gd name="textAreaTop" fmla="*/ 446400 h 1244520"/>
                <a:gd name="textAreaBottom" fmla="*/ 79812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00ff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333399"/>
                  </a:solidFill>
                  <a:latin typeface="Arial"/>
                </a:rPr>
                <a:t>14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333399"/>
                  </a:solidFill>
                  <a:latin typeface="Arial"/>
                </a:rPr>
                <a:t>высш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135240" y="3241080"/>
              <a:ext cx="2873520" cy="1244520"/>
            </a:xfrm>
            <a:custGeom>
              <a:avLst/>
              <a:gdLst>
                <a:gd name="textAreaLeft" fmla="*/ 631800 w 2873520"/>
                <a:gd name="textAreaRight" fmla="*/ 2241720 w 2873520"/>
                <a:gd name="textAreaTop" fmla="*/ 273600 h 1244520"/>
                <a:gd name="textAreaBottom" fmla="*/ 97092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333399"/>
                  </a:solidFill>
                  <a:latin typeface="Arial"/>
                </a:rPr>
                <a:t>13 категор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2416320" y="4485600"/>
              <a:ext cx="4311360" cy="1244520"/>
            </a:xfrm>
            <a:custGeom>
              <a:avLst/>
              <a:gdLst>
                <a:gd name="textAreaLeft" fmla="*/ 748440 w 4311360"/>
                <a:gd name="textAreaRight" fmla="*/ 3562920 w 4311360"/>
                <a:gd name="textAreaTop" fmla="*/ 216000 h 1244520"/>
                <a:gd name="textAreaBottom" fmla="*/ 102852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ffcc"/>
            </a:solidFill>
            <a:ln w="46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333399"/>
                  </a:solidFill>
                  <a:latin typeface="Arial"/>
                </a:rPr>
                <a:t>соответствие занимаемой</a:t>
              </a:r>
              <a:r>
                <a:rPr b="0" lang="ru-RU" sz="16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333399"/>
                  </a:solidFill>
                  <a:latin typeface="Arial"/>
                </a:rPr>
                <a:t>долж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0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 -6 3.33333 -6  C 0.06892 3.33333 -6  0.125 0.02847  0.125 0.06389  C 0.125 0.09907  0.06892 0.12777  3.61111 -6 0.12777  C -0.0691 0.12777  -0.125 0.09907  -0.125 0.06389  C -0.125 0.02847  -0.0691 3.33333 -6  3.61111 -6 3.33333 -6  Z">
                                      <p:cBhvr>
                                        <p:cTn id="13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Знакомство с электронным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мониторинг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тестационные данные 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и Рязанцева Елена Владимир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л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1 повышение квалифик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2 знание нормативно-правовой баз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3 результаты предметного тес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БОР ИНФОРМ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пра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Грам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иа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отоколы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67280" y="2060640"/>
            <a:ext cx="4321080" cy="2698560"/>
          </a:xfrm>
          <a:custGeom>
            <a:avLst/>
            <a:gdLst>
              <a:gd name="textAreaLeft" fmla="*/ 1080360 w 4321080"/>
              <a:gd name="textAreaRight" fmla="*/ 3241080 w 4321080"/>
              <a:gd name="textAreaTop" fmla="*/ 0 h 2698560"/>
              <a:gd name="textAreaBottom" fmla="*/ 2361240 h 26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19044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АЖ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57200" y="529560"/>
            <a:ext cx="8229600" cy="5595120"/>
            <a:chOff x="457200" y="529560"/>
            <a:chExt cx="8229600" cy="5595120"/>
          </a:xfrm>
        </p:grpSpPr>
        <p:cxnSp>
          <p:nvCxnSpPr>
            <p:cNvPr id="58" name=""/>
            <p:cNvCxnSpPr>
              <a:stCxn id="59" idx="1"/>
              <a:endCxn id="60" idx="0"/>
            </p:cNvCxnSpPr>
            <p:nvPr/>
          </p:nvCxnSpPr>
          <p:spPr>
            <a:xfrm rot="10800000">
              <a:off x="4571280" y="529560"/>
              <a:ext cx="905760" cy="288036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61" name=""/>
            <p:cNvCxnSpPr>
              <a:stCxn id="62" idx="0"/>
              <a:endCxn id="60" idx="2"/>
            </p:cNvCxnSpPr>
            <p:nvPr/>
          </p:nvCxnSpPr>
          <p:spPr>
            <a:xfrm flipV="1">
              <a:off x="4570200" y="3404520"/>
              <a:ext cx="90540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63" name=""/>
            <p:cNvCxnSpPr>
              <a:stCxn id="64" idx="0"/>
              <a:endCxn id="60" idx="1"/>
            </p:cNvCxnSpPr>
            <p:nvPr/>
          </p:nvCxnSpPr>
          <p:spPr>
            <a:xfrm flipV="1">
              <a:off x="1690560" y="529560"/>
              <a:ext cx="907200" cy="288180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60" name=""/>
            <p:cNvSpPr/>
            <p:nvPr/>
          </p:nvSpPr>
          <p:spPr>
            <a:xfrm>
              <a:off x="3336840" y="160020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Электронны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мониторинг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Справ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грамот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3684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Награждени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степен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1828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Протокол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выписки из приказ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Под 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fill="hold">
                      <p:stCondLst>
                        <p:cond delay="0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лы себе не выставля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ониторинге всё должно быть по-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ой баллов занимаемся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сной книж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dur="indefinite" fill="hold">
                      <p:stCondLst>
                        <p:cond delay="0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ЛЬКО баллов необходимо набрать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ветствие занимаемой должност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т 5 до 4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13 категория    -от 49 до 5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14 категория   -от 54 до 6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зависимости от предмета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ВАЖ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вовать в конкур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ть классным руковод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ительные результаты ГИ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ительные результаты ЕГ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вовать в научных разработк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вовать в проектно-исслед.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нимать призовые места на уров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йона,облас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7:01:01Z</dcterms:created>
  <dc:creator>User</dc:creator>
  <dc:description/>
  <dc:language>en-US</dc:language>
  <cp:lastModifiedBy>User</cp:lastModifiedBy>
  <dcterms:modified xsi:type="dcterms:W3CDTF">2012-03-05T18:05:59Z</dcterms:modified>
  <cp:revision>2</cp:revision>
  <dc:subject/>
  <dc:title>МКОУ Мезиновская основная общеобразовательная школа</dc:title>
</cp:coreProperties>
</file>