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D63-3D1A-4B8A-98EE-70984EBA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CE2E-B9EB-4A4A-ABD1-C4321D5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E18-7FC4-4922-843D-8FB21C80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D0A-1506-4057-937A-F51B50F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03F-123B-4118-AAA0-E2EB63DC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521-7AF4-4FCF-952B-28033878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C44-2FA7-4D6C-A1FB-BC912AD6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7C6-1ED2-4CBD-9A4F-8B512A23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461-98A3-4615-A5F2-08EB7DB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848-07DE-4E80-9715-3D88089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42F-E38F-46A2-85DE-B09A5F5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15E-F9D8-404F-BA73-74807E6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6F8F7-CE1F-406B-9AFF-2FD4A20A1F6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07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КОУ Мезиновская основная общеобразовательная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: Рязанцева Е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5040360" cy="2384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ТТЕСТАЦ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ДАГОГО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</a:t>
            </a: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11-2012 уч.г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одуч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 п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овое законода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зучайте тесты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они есть на сайте (института экспертиз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 пригла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с встрет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по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080"/>
            <a:ext cx="820728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Подача заявления в РОНО за</a:t>
            </a:r>
            <a:br>
              <a:rPr sz="4000"/>
            </a:b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3 месяца до окончания трудового догов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8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Главную аттестационную комисс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т Рязанцевой Елены Владимиров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я МКОУ Мезиновской средн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щеобразовательной школ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усь-Хрустального рай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яв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шу  аттестовать меня в 2012 году  на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соответствие  занимаемой   должности 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валификационную категорию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тоящее время ( имею вторую квалификационную категорию, ср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ё действия до 26.03.2012) либо (квалификационной категории не име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нованием для аттестации на указанную в заявлении квалификационну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тегорию считаю следующие результаты работы соответствующ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ниям ,предъявляемым к квалификационной категории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ладею всеми активными методами обучения( словесным, наглядным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актическими) использую различные формы обучения ,за время своей работы накопила много дидактического материала; владею современными технологиями и применяю их в деятельности ;имею стабильные результаты освоения обучающимися программ по истории и обществознанию 2008-2009г. Среди моих учащихся есть победители районного тура олимпиады по истории 2009г.( Бурмистрова Екатерина).Владею ИКТ, современными методами обучения «Виртуальная школа Кирилла и Меффодия »,использую интернет; Возглавляю МО классных руководителей МКОУ Мезиновской сош. Создаю условия для реализации творческих возможностей учащихся ,принимала участие в районном конкурсе «Отечество» в 2009г. За период работы 2004-2011 являюсь классным руководителе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общаю о себе следующие сведения : образование (когда и какое образовательное учреждение профессионального образования окончил ,полученная специальность и квалификация)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Владимирский государственный гуманитарный университет по специальности учитель  истории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таж педагогической работы (по специальности)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6 лет,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данной должност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 лет ;в данном учреждении 3 месяц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мею следующие награды, звания ,учёную степень ,учёное зва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амота отдела образования Гусь-Хрустального района 2007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рамота управления образования 2009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дения о повышении квалификации 2010г ТК №200 компьютеры для начинающих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ттестацию на заседании аттестационной комиссии прошу провести в моём присутств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порядком аттестации педагогических работников государственных и муниципальных образовательных учреждений ознакомле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ь  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язанцева Е.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0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ДУМАТЬ НА КАКУЮ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АТЕГОРИЮ ВЫ ПРИТЕНДУ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16320" y="1995120"/>
            <a:ext cx="4311360" cy="3735360"/>
            <a:chOff x="2416320" y="1995120"/>
            <a:chExt cx="4311360" cy="3735360"/>
          </a:xfrm>
        </p:grpSpPr>
        <p:sp>
          <p:nvSpPr>
            <p:cNvPr id="48" name=""/>
            <p:cNvSpPr/>
            <p:nvPr/>
          </p:nvSpPr>
          <p:spPr>
            <a:xfrm flipV="1">
              <a:off x="3852720" y="1994760"/>
              <a:ext cx="1438560" cy="1244520"/>
            </a:xfrm>
            <a:custGeom>
              <a:avLst/>
              <a:gdLst>
                <a:gd name="textAreaLeft" fmla="*/ 516240 w 1438560"/>
                <a:gd name="textAreaRight" fmla="*/ 922320 w 1438560"/>
                <a:gd name="textAreaTop" fmla="*/ 446400 h 1244520"/>
                <a:gd name="textAreaBottom" fmla="*/ 7981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333399"/>
                  </a:solidFill>
                  <a:latin typeface="Arial"/>
                </a:rPr>
                <a:t>14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000" spc="-1" strike="noStrike">
                  <a:solidFill>
                    <a:srgbClr val="333399"/>
                  </a:solidFill>
                  <a:latin typeface="Arial"/>
                </a:rPr>
                <a:t>высш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135240" y="3241080"/>
              <a:ext cx="2873520" cy="1244520"/>
            </a:xfrm>
            <a:custGeom>
              <a:avLst/>
              <a:gdLst>
                <a:gd name="textAreaLeft" fmla="*/ 631800 w 2873520"/>
                <a:gd name="textAreaRight" fmla="*/ 2241720 w 2873520"/>
                <a:gd name="textAreaTop" fmla="*/ 273600 h 1244520"/>
                <a:gd name="textAreaBottom" fmla="*/ 9709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13 категор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416320" y="4485600"/>
              <a:ext cx="4311360" cy="1244520"/>
            </a:xfrm>
            <a:custGeom>
              <a:avLst/>
              <a:gdLst>
                <a:gd name="textAreaLeft" fmla="*/ 748440 w 4311360"/>
                <a:gd name="textAreaRight" fmla="*/ 3562920 w 4311360"/>
                <a:gd name="textAreaTop" fmla="*/ 216000 h 1244520"/>
                <a:gd name="textAreaBottom" fmla="*/ 102852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ccffcc"/>
            </a:solidFill>
            <a:ln w="4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соответствие занимаемой</a:t>
              </a: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долж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13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Знакомство с электронным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мониторин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тестационные данные учи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и Рязанцева Елена Владимир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1 повышение квалифик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2 знание нормативно-правовой б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3 результаты предметного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БОР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р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рам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иа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токол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2060640"/>
            <a:ext cx="4321080" cy="269856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0 h 2698560"/>
              <a:gd name="textAreaBottom" fmla="*/ 2361240 h 26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90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АЖ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57200" y="529560"/>
            <a:ext cx="8229600" cy="5595120"/>
            <a:chOff x="457200" y="529560"/>
            <a:chExt cx="8229600" cy="5595120"/>
          </a:xfrm>
        </p:grpSpPr>
        <p:cxnSp>
          <p:nvCxnSpPr>
            <p:cNvPr id="58" name=""/>
            <p:cNvCxnSpPr>
              <a:stCxn id="59" idx="1"/>
              <a:endCxn id="60" idx="0"/>
            </p:cNvCxnSpPr>
            <p:nvPr/>
          </p:nvCxnSpPr>
          <p:spPr>
            <a:xfrm rot="10800000">
              <a:off x="4571280" y="529560"/>
              <a:ext cx="905760" cy="28803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61" name=""/>
            <p:cNvCxnSpPr>
              <a:stCxn id="62" idx="0"/>
              <a:endCxn id="60" idx="2"/>
            </p:cNvCxnSpPr>
            <p:nvPr/>
          </p:nvCxnSpPr>
          <p:spPr>
            <a:xfrm flipV="1">
              <a:off x="4570200" y="3404520"/>
              <a:ext cx="90540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63" name=""/>
            <p:cNvCxnSpPr>
              <a:stCxn id="64" idx="0"/>
              <a:endCxn id="60" idx="1"/>
            </p:cNvCxnSpPr>
            <p:nvPr/>
          </p:nvCxnSpPr>
          <p:spPr>
            <a:xfrm flipV="1">
              <a:off x="1690560" y="529560"/>
              <a:ext cx="907200" cy="288180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60" name=""/>
            <p:cNvSpPr/>
            <p:nvPr/>
          </p:nvSpPr>
          <p:spPr>
            <a:xfrm>
              <a:off x="333684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Электрон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мониторин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прав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грамо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3684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Награждени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тепен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1828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отокол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ыписки из приказ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од 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0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лы себе не выставля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ниторинге всё должно быть по-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ой баллов занимаемся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ной кни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fill="hold">
                      <p:stCondLst>
                        <p:cond delay="0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баллов необходимо набрать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занимаемой должност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 5 до 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3 категория    -от 49 до 5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14 категория   -от 54 до 6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зависимости от предмет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конкур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классным руковод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результаты ГИ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льные результаты ЕГ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научных разработ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вовать в проектно-исслед.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имать призовые места на уров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йона,област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7:01:01Z</dcterms:created>
  <dc:creator>User</dc:creator>
  <dc:description/>
  <dc:language>en-US</dc:language>
  <cp:lastModifiedBy>User</cp:lastModifiedBy>
  <dcterms:modified xsi:type="dcterms:W3CDTF">2012-03-05T18:05:59Z</dcterms:modified>
  <cp:revision>2</cp:revision>
  <dc:subject/>
  <dc:title>МКОУ Мезиновская основная общеобразовательная школа</dc:title>
</cp:coreProperties>
</file>