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Произвольный показ 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87DE-BDE4-4FF0-AC5F-1578DDE8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68D-90AA-419D-9AC6-DA9191BD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64F-4564-479C-B4AF-6142C48E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DA9-F1D3-4843-9F9C-40A60F03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4ACD-39B9-44B2-A7C2-E3A38031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F65F-94C7-47D6-8445-AFD45872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1CC9-8691-4086-9558-AF6C6168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8ED5-F505-45CA-895E-3FAE5454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0FB8-35A6-42F8-B981-0093913E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C3BF-6CC6-480F-BB8F-2497C431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EFCE-246E-43F2-BA16-630F7DB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938C-01B0-4D3E-860B-C6BDD207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9CDC-E020-4852-9C9A-EEC1CF7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3B25-6D83-44CC-B9F7-EA4E3756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050D-432E-42F6-AD35-B2F1678A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D492-BF9C-4CCE-B647-6622DD7A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4A5-E275-48B0-858A-34041343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DE6-00B2-4258-99FB-7E668DC3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E67-EC64-400C-BE91-D2BB0465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3C9-3050-48CF-B76C-9C9B7774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F631-2ABF-4CF3-86E8-7ADC8D26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A8C-CB7F-45D4-8BB9-C2A0607D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0BF-585C-4C5F-954C-53A0817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C07-0CCA-4A98-A3F5-AAA3AFD2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6261-C426-40C3-840C-9C251D015A5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F671-19C1-42EC-B95B-0E07E3200A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Мы говорим </a:t>
            </a: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ркотикам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– нет!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562720" y="3905280"/>
            <a:ext cx="3200400" cy="2647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готовила классный руковод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 класса Фомина М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У «ООШ с. Степно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1-2012 го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EB1F-DEDC-4099-8A88-EE846649CD89}" type="slidenum">
              <a:t>1</a:t>
            </a:fld>
          </a:p>
        </p:txBody>
      </p:sp>
    </p:spTree>
  </p:cSld>
  <p:transition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думал? В противном случае тебя ждет ужасное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830240"/>
            <a:ext cx="8229600" cy="43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962160" cy="4190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396252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68A-276E-4147-B22F-12403756BDA5}" type="slidenum">
              <a:t>10</a:t>
            </a:fld>
          </a:p>
        </p:txBody>
      </p:sp>
    </p:spTree>
  </p:cSld>
  <p:transition advTm="5000">
    <p:pull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Хотел бы ты оказаться на его месте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229600" cy="44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D06-D754-4477-A1F0-DE01067F97EC}" type="slidenum">
              <a:t>11</a:t>
            </a:fld>
          </a:p>
        </p:txBody>
      </p:sp>
    </p:spTree>
  </p:cSld>
  <p:transition advTm="5000">
    <p:pull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Ну, а вы девочки будущие мамы, вы подумали?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7C6-1DEF-4055-A8CA-C5DBC3614C8E}" type="slidenum">
              <a:t>12</a:t>
            </a:fld>
          </a:p>
        </p:txBody>
      </p:sp>
    </p:spTree>
  </p:cSld>
  <p:transition advTm="5000">
    <p:pull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6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Ребята,  будущее нашей страны, посмотрите какое оно может быть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256-D1EB-44B2-95F6-253E3DC4411A}" type="slidenum">
              <a:t>13</a:t>
            </a:fld>
          </a:p>
        </p:txBody>
      </p:sp>
    </p:spTree>
  </p:cSld>
  <p:transition advTm="5000">
    <p:pull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И таким тоже…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059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BF0F-1737-429D-A5B4-6DAAE43D179B}" type="slidenum">
              <a:t>14</a:t>
            </a:fld>
          </a:p>
        </p:txBody>
      </p:sp>
    </p:spTree>
  </p:cSld>
  <p:transition advTm="5000">
    <p:cut thruBlk="true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а,да! Это все ужасная правда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E7F-325B-4EBC-84B1-65ED5C241FFE}" type="slidenum">
              <a:t>15</a:t>
            </a:fld>
          </a:p>
        </p:txBody>
      </p:sp>
    </p:spTree>
  </p:cSld>
  <p:transition advTm="5000">
    <p:plus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Но мы говорим – наркотикам нет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B91-1A95-4B5E-85E4-1BA0CC1752B6}" type="slidenum">
              <a:t>16</a:t>
            </a:fld>
          </a:p>
        </p:txBody>
      </p:sp>
    </p:spTree>
  </p:cSld>
  <p:transition advTm="5000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ы за здоровый образ жизни и за счастливое будущее, а ты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35434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114800" y="1600200"/>
            <a:ext cx="449568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E829-BD6E-4AD8-8E29-C0AE6580E25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Тогда, ты с нами!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C4F-6AFC-4764-A9EE-B4E5D9A93ABF}" type="slidenum">
              <a:t>18</a:t>
            </a:fld>
          </a:p>
        </p:txBody>
      </p:sp>
    </p:spTree>
  </p:cSld>
  <p:transition advTm="5000">
    <p:circl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думаем, вам понравилос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174-C939-4B4A-A4AD-1ABF1D090AAF}" type="slidenum">
              <a:t>19</a:t>
            </a:fld>
          </a:p>
        </p:txBody>
      </p:sp>
    </p:spTree>
  </p:cSld>
  <p:transition advTm="5000">
    <p:wheel spokes="8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смотрите эту презентацию и сделайте свой выбор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668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190760" cy="507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3E5-F387-492D-BC47-9C4E508E8EFC}" type="slidenum">
              <a:t>2</a:t>
            </a:fld>
          </a:p>
        </p:txBody>
      </p:sp>
    </p:spTree>
  </p:cSld>
  <p:transition advTm="5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Как заманчиво выглядят эти пилюли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7200" y="1638360"/>
            <a:ext cx="8229600" cy="44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94D-F3D5-46AF-8F30-9E9B9D789DDF}" type="slidenum">
              <a:t>3</a:t>
            </a:fld>
          </a:p>
        </p:txBody>
      </p:sp>
    </p:spTree>
  </p:cSld>
  <p:transition advTm="5000"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Какие красивые пузыречки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6F62-221F-4EA0-A212-024055B8550E}" type="slidenum">
              <a:t>4</a:t>
            </a:fld>
          </a:p>
        </p:txBody>
      </p:sp>
    </p:spTree>
  </p:cSld>
  <p:transition advTm="5000"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ам знакома такая картина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9A5-A845-447D-B285-FAF35016B480}" type="slidenum">
              <a:t>5</a:t>
            </a:fld>
          </a:p>
        </p:txBody>
      </p:sp>
    </p:spTree>
  </p:cSld>
  <p:transition advTm="5000">
    <p:wipe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А такая?..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517760"/>
            <a:ext cx="8229600" cy="457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94A-72EA-470B-A48E-5B8715C9F40F}" type="slidenum">
              <a:t>6</a:t>
            </a:fld>
          </a:p>
        </p:txBody>
      </p:sp>
    </p:spTree>
  </p:cSld>
  <p:transition advTm="5000"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Среди вас есть такие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41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21488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42670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65F-E726-435C-BCDF-3066D6E026C6}" type="slidenum">
              <a:t>7</a:t>
            </a:fld>
          </a:p>
        </p:txBody>
      </p:sp>
    </p:spTree>
  </p:cSld>
  <p:transition advTm="5000">
    <p:wipe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Посмотри внимательно и подумай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24C-C4EB-4601-86DA-8F7FADEECDBE}" type="slidenum">
              <a:t>8</a:t>
            </a:fld>
          </a:p>
        </p:txBody>
      </p:sp>
    </p:spTree>
  </p:cSld>
  <p:transition advTm="5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Думай! Думай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4190760" cy="4495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810240" cy="509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001-F0EC-4F5D-B480-E90C09F9C2E0}" type="slidenum">
              <a:t>9</a:t>
            </a:fld>
          </a:p>
        </p:txBody>
      </p:sp>
    </p:spTree>
  </p:cSld>
  <p:transition advTm="5000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3T06:15:5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