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8F5-BCBF-45DF-BEA6-62060B01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94F-90B4-4215-955B-FF6CE019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DB-2FCD-4DC0-AF72-D6B50D58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7FF-9555-4801-9A4D-63E3F4F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036-1B2F-43B0-A8C4-69051DDA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CE88-0106-44C1-922A-7D26266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34D0-6F6A-4D7D-A947-946B04DE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1803-CEA5-4B2F-AA3F-C05B743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9168-1BE5-432D-A481-FC1DE584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23D-1CD3-4920-BB5F-2E71474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EED7-9045-49F5-9A70-2F5188E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0EA-77F0-4704-ADDD-480DEFC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B5B9-DA8E-4CCC-9741-5A92A0D7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A05-286A-4FD2-A2BC-42C8B15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90B-0FB8-4CC4-B151-1FD22BB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612-4BAC-4CDD-B2EF-70AA05DB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A41A-99C4-4E55-8FB5-06B85F84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A44-40F4-47F8-A85D-CB5165D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87E-0AE6-4FC6-A67C-DF2E502D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073-8A16-462D-94A1-6CAD337F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D15-65F7-45C2-9498-656E401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05F-43DF-48D7-9AE0-08F03D92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325-C315-461F-9833-75EE8C8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A8E-69CB-46BF-9EA6-3353330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A5E-F8EC-4670-98F4-E533778004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EBC-96F0-4FCA-9F42-712CC88CE0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Мы говорим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ркотикам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– нет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3905280"/>
            <a:ext cx="3200400" cy="2647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класс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класса Фомина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«ООШ с. Степно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1-2012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8CE-C00C-4728-854C-76D110D532B3}" type="slidenum">
              <a:t>1</a:t>
            </a:fld>
          </a:p>
        </p:txBody>
      </p:sp>
    </p:spTree>
  </p:cSld>
  <p:transition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думал? В противном случае тебя ждет ужасное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962160" cy="419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12E-9390-450A-8436-3E3B7E17A1D5}" type="slidenum">
              <a:t>10</a:t>
            </a:fld>
          </a:p>
        </p:txBody>
      </p:sp>
    </p:spTree>
  </p:cSld>
  <p:transition advTm="5000">
    <p:pull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Хотел бы ты оказаться на его месте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4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1B8-8FB1-4B3C-B620-3BE2F2C290C6}" type="slidenum">
              <a:t>11</a:t>
            </a:fld>
          </a:p>
        </p:txBody>
      </p:sp>
    </p:spTree>
  </p:cSld>
  <p:transition advTm="5000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у, а вы девочки будущие мамы, вы подумали?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B67-C14F-4496-8112-EA4F0DC4A2A8}" type="slidenum">
              <a:t>12</a:t>
            </a:fld>
          </a:p>
        </p:txBody>
      </p:sp>
    </p:spTree>
  </p:cSld>
  <p:transition advTm="5000"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Ребята,  будущее нашей страны, посмотрите какое оно может быть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D64-656A-40EE-BEED-3EA73ACD8249}" type="slidenum">
              <a:t>13</a:t>
            </a:fld>
          </a:p>
        </p:txBody>
      </p:sp>
    </p:spTree>
  </p:cSld>
  <p:transition advTm="5000">
    <p:pull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 таким тоже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517-0D28-4EC1-BD7B-BE4755AD9602}" type="slidenum">
              <a:t>14</a:t>
            </a:fld>
          </a:p>
        </p:txBody>
      </p:sp>
    </p:spTree>
  </p:cSld>
  <p:transition advTm="5000">
    <p:cut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а,да! Это все ужасная правда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83C-4B24-404F-A880-A50EB2424A59}" type="slidenum">
              <a:t>15</a:t>
            </a:fld>
          </a:p>
        </p:txBody>
      </p:sp>
    </p:spTree>
  </p:cSld>
  <p:transition advTm="5000">
    <p:plus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о мы говорим – наркотикам нет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A21-8E6B-40E6-BE49-4CFA980B20A0}" type="slidenum">
              <a:t>16</a:t>
            </a:fld>
          </a:p>
        </p:txBody>
      </p:sp>
    </p:spTree>
  </p:cSld>
  <p:transition advTm="5000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ы за здоровый образ жизни и за счастливое будущее, а т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3543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49568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039-29F9-4785-B3A3-86A56DB269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огда, ты с нами!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2C1-711B-4785-AD6B-44E8C50E7FE8}" type="slidenum">
              <a:t>18</a:t>
            </a:fld>
          </a:p>
        </p:txBody>
      </p:sp>
    </p:spTree>
  </p:cSld>
  <p:transition advTm="5000"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умаем, вам понравилос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7B9-D675-48F9-B7BC-82189216D867}" type="slidenum">
              <a:t>19</a:t>
            </a:fld>
          </a:p>
        </p:txBody>
      </p:sp>
    </p:spTree>
  </p:cSld>
  <p:transition advTm="5000">
    <p:wheel spokes="8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смотрите эту презентацию и сделайте свой выбор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668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190760" cy="50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F38-E9D6-493A-9615-F6C6A6717589}" type="slidenum">
              <a:t>2</a:t>
            </a:fld>
          </a:p>
        </p:txBody>
      </p:sp>
    </p:spTree>
  </p:cSld>
  <p:transition advTm="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ак заманчиво выглядят эти пилюли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38360"/>
            <a:ext cx="8229600" cy="44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D8E-5817-4A5C-9A1D-A8B17E1A3A55}" type="slidenum">
              <a:t>3</a:t>
            </a:fld>
          </a:p>
        </p:txBody>
      </p:sp>
    </p:spTree>
  </p:cSld>
  <p:transition advTm="5000"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ие красивые пузыречки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7CC-65A8-4E80-A3B7-C2F33A88AE60}" type="slidenum">
              <a:t>4</a:t>
            </a:fld>
          </a:p>
        </p:txBody>
      </p:sp>
    </p:spTree>
  </p:cSld>
  <p:transition advTm="5000"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ам знакома такая картина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FA5-BF29-4E4B-9B2A-A4519567AF05}" type="slidenum">
              <a:t>5</a:t>
            </a:fld>
          </a:p>
        </p:txBody>
      </p:sp>
    </p:spTree>
  </p:cSld>
  <p:transition advTm="5000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А такая?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17760"/>
            <a:ext cx="8229600" cy="45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FEF-46D2-4B4E-AC22-DC9855C50B4E}" type="slidenum">
              <a:t>6</a:t>
            </a:fld>
          </a:p>
        </p:txBody>
      </p:sp>
    </p:spTree>
  </p:cSld>
  <p:transition advTm="5000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реди вас есть такие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21488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173-284C-4234-8841-368C7CF150A7}" type="slidenum">
              <a:t>7</a:t>
            </a:fld>
          </a:p>
        </p:txBody>
      </p:sp>
    </p:spTree>
  </p:cSld>
  <p:transition advTm="5000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смотри внимательно и подумай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EA8-C557-4E47-9A4B-9A793E4BC1B7}" type="slidenum">
              <a:t>8</a:t>
            </a:fld>
          </a:p>
        </p:txBody>
      </p:sp>
    </p:spTree>
  </p:cSld>
  <p:transition advTm="5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умай! Думай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19076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102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9D3-BA3E-4E09-BF20-0108715B9A12}" type="slidenum">
              <a:t>9</a:t>
            </a:fld>
          </a:p>
        </p:txBody>
      </p:sp>
    </p:spTree>
  </p:cSld>
  <p:transition advTm="5000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3T06:15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