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2DB-6631-479D-A378-78F2ACA9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015-228A-4758-ADBC-BB4F31E8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EF5-CE0A-4741-9301-2D03DE33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B1A-53FB-4F72-89AD-672E8288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322-70CE-4EDB-9DC2-4E026B71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BA4-A9CB-4C6A-8D3C-EE48533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B59-6A0A-4F22-AA9F-D9A25B6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BED-E2A5-4385-A5FA-5B3E7AAD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9AC-A9BE-49F8-A4E2-F0635A86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E69-C8F7-4151-95F6-B8105BD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A7F-524E-4370-B6F0-6AA194C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F3-4FAB-4DE5-B869-D507C62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5E9-16F9-4F3E-9CE4-FF26B574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12000" y="47628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907920"/>
            <a:ext cx="6048360" cy="26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ескучные пра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7040" y="3933720"/>
            <a:ext cx="45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авила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для 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3760" y="5589720"/>
            <a:ext cx="381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Ш № 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. Пер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лова Татьяна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6680" y="1916280"/>
            <a:ext cx="55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лаю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сейчас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егаю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аю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Это 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ДЕЙСТВИЯ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о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Я не забыв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948360" y="2565360"/>
            <a:ext cx="2195640" cy="3957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14520" y="0"/>
            <a:ext cx="38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Уда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6320" y="1628640"/>
            <a:ext cx="57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меня настроенье плох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Я из школы пришёл и страд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дарение мы изу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ичего я не пони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840" y="4005360"/>
            <a:ext cx="596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оветовал друг мой Ромк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ты крикни любое сло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на слог самый-самый гром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дарение ставь и готово!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240" y="1628640"/>
            <a:ext cx="705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учше спой, - подсказала мне Ольга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ы поёшь и своё слово тян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на слог самый-самый дол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ы своё ударение ставиш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200" y="4076640"/>
            <a:ext cx="58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у а дальше я сам догадался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езударными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ги те, что спокойней и ти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ничем они не выде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8160" y="98100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ЖИ - 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7440" y="4437000"/>
            <a:ext cx="28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У - Щ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7800" y="256536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А - Щ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9800" y="1989000"/>
            <a:ext cx="665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 доме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и лы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котёнок ры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ам учили малы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 буквой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ж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и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4720" y="350028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12000" y="191628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240" y="620640"/>
            <a:ext cx="69195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шка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йник, блюд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а столе сме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Уг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ют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ем всех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ам конфета, вам о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сем большой прив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сем такой совет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амотными нужно ст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 буквой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ис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604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3440" y="494172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4160" y="907920"/>
            <a:ext cx="6919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 в шкафу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ки, но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 штопку от то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Я сижу и всё гр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равил я 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не положено всё знать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 буквой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ис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к же мне обид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 конца не вид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3440" y="3716280"/>
            <a:ext cx="7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05080" y="1052640"/>
            <a:ext cx="151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Ч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720" y="4292640"/>
            <a:ext cx="195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Щ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360" y="3573360"/>
            <a:ext cx="195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Н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720" y="1844640"/>
            <a:ext cx="163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Ч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7080" y="692280"/>
            <a:ext cx="609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ы – мягкие соглас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казал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м мягкий знак не ну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ЩН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Щ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Щ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240" y="3645000"/>
            <a:ext cx="577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если вы ув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Ч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о знайте, знака мяг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ам нет наверня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1844640"/>
            <a:ext cx="649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Име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собствен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91200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7240" y="1484280"/>
            <a:ext cx="682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мя собственное чьё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а его, твоё, мо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Я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юша, он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уж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ы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нюша, он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уш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600" y="2133720"/>
            <a:ext cx="679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Каждый город и деревн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Реки, страны и мо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мена свои имею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х назвали так не з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1040" y="2852640"/>
            <a:ext cx="784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мена любя дава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Называли от ду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Ну и ты с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ГЛАВНОЙ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Имя грамотно пи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6760" y="378000"/>
            <a:ext cx="654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главная бук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 начал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240" y="2492280"/>
            <a:ext cx="686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ачиная предложени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кажи своё ум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запомни – это главное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Буква первая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главная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6520" y="1628640"/>
            <a:ext cx="687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Деление на сл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2360" y="741240"/>
            <a:ext cx="62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просил Незнайка Знайку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ажи мне, как тут быть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е знаю я как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 слоги раздел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240" y="3573360"/>
            <a:ext cx="835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 умненького Знай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 всё ответ готов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Запомни, сколько гласных в слов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только и сло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440" y="1700280"/>
            <a:ext cx="72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Перенос сл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0160" y="907920"/>
            <a:ext cx="739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друг раздался плач Незнайк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 меня не получ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Я пишу, а это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 строке не помещ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дсказал уже тебе 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ольше не про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здели слова на слоги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перенос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404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9800" y="981000"/>
            <a:ext cx="6964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у а если мягкий з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ли краткий Й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х со слогом оставля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перено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ещё навсегда 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икогда это не разрешаетс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дна буква не перенос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на строчке не оставляе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23236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8160" y="620640"/>
            <a:ext cx="6168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Корен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однокоренн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 родственн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880" y="765000"/>
            <a:ext cx="70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к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ой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ич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ем слова близк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Ищ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есом и прохладой вею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 часть общую име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6520" y="3573360"/>
            <a:ext cx="570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лово каждое для вс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одственным явля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 часть общая у 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РНЕ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наз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421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3440" y="981000"/>
            <a:ext cx="6247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Алфавит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12000" y="24210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9600" y="1844640"/>
            <a:ext cx="669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уквы дружно встали в ря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 о чём-то говор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овно 33 сто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лучился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лфави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2200" y="333360"/>
            <a:ext cx="594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Б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 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 запомнил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Всё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Й 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уквы помнить нужно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49480" y="2421000"/>
            <a:ext cx="527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 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 запомню, всё пой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 Х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им вместе, сооб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040" y="4508640"/>
            <a:ext cx="748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вёрдый знак 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Ъ Ы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мягкий знак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мнить их совсем пустя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 в конце, мои друзь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ы запомним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 Ю 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12000" y="297180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3400" y="1197000"/>
            <a:ext cx="674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Знаки препи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в конце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21080" y="3645000"/>
            <a:ext cx="840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6160" y="3357720"/>
            <a:ext cx="730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5080" y="3500280"/>
            <a:ext cx="1390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9080" y="206064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Желаю успехов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20" y="2205000"/>
            <a:ext cx="89971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Где, какой поставить знак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Разобраться в этом как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Если задался вопрос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апа, шарик мне принёс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Да, принёс, что же тут удивительного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Здесь поставил я знак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ительный</a:t>
            </a: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56520" y="189000"/>
            <a:ext cx="1887480" cy="328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5800" y="2085840"/>
            <a:ext cx="86767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А потом я играл и пе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Спать ложиться совсем не хоте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Громко радовался и мой пё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апа, папа нам шарик принёс!</a:t>
            </a:r>
            <a:r>
              <a:rPr b="1" lang="en-US" sz="3400" spc="-1" strike="noStrike">
                <a:solidFill>
                  <a:srgbClr val="006600"/>
                </a:solidFill>
                <a:latin typeface="Arial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Это было так замечательно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Что поставил я знак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склицательный</a:t>
            </a: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12000" y="1341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" y="1628640"/>
            <a:ext cx="75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конец, насмеявшись до слё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 устал и отправился сп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па шарик сегодня принёс.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 шепнул и улёгся в кр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Засыпай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, - успокоила н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от теперь мы поставим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чку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7280" y="770040"/>
            <a:ext cx="337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предм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2160" y="2492280"/>
            <a:ext cx="321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призн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1800" y="4581360"/>
            <a:ext cx="371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дейст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80" y="2421000"/>
            <a:ext cx="75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сли спрося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альчик застегнул пальт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десь нетрудные ответы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льчи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льто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РЕДМЕТ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32000" cy="3886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8520" y="2254320"/>
            <a:ext cx="6472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сскажи, пальт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о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ёплое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лубо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уртка – синяя м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Это 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ПРИЗНАК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, знаю 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0:17:23Z</dcterms:created>
  <dc:creator>ANDREY</dc:creator>
  <dc:description/>
  <dc:language>en-US</dc:language>
  <cp:lastModifiedBy>ANDREY</cp:lastModifiedBy>
  <dcterms:modified xsi:type="dcterms:W3CDTF">2003-12-31T20:26:51Z</dcterms:modified>
  <cp:revision>2</cp:revision>
  <dc:subject/>
  <dc:title>Слайд 1</dc:title>
</cp:coreProperties>
</file>