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29F-668B-421F-A7DC-67C5A924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9A6-93D7-4716-B23F-441034EC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F0D-FC38-45B7-AADD-DB19E93D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1FD-A480-41A6-BE73-FDFE448A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8FB-3B46-4486-AE0D-5663E724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2E8-49C8-46EC-8BDA-60D7DBAD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624-8871-47DD-998A-D0EF9B68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AF3-9742-4CE6-A0CC-5AE8CAC3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E3A-CBA2-449C-886F-B5616678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80A-0317-4858-B65F-5C5C84D3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4A9-05BA-4149-B7D0-FE3D2670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703-CE80-4EBB-A8FA-2E20F13B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385B-1A94-44DD-9C34-E69C62D33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АЭ - Аквапарк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eam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вапарк находится между Аджманом и Рас-Аль-Хаймой, в 15 минутах езды от Шарджи. Аттракционы: "Ленивая речка", "Гиганские шаги", "Черная дыра", "Твин Твистер", отличный мелкий бассейн с джакузи, искусственный вулкан высотой 20 м, благодаря которому имеется редкая возможность наблюдать имитацию уникальных световых эффектов и огненных потоков, которые обычно появляются во время извержения настоящих действующих вулка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0802.jpg"/>
          <p:cNvPicPr/>
          <p:nvPr/>
        </p:nvPicPr>
        <p:blipFill>
          <a:blip r:embed="rId2"/>
          <a:stretch/>
        </p:blipFill>
        <p:spPr>
          <a:xfrm>
            <a:off x="1143000" y="714240"/>
            <a:ext cx="64292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урдж-Халифа – самое высокое здание ми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dubai-downtown-burj-dubai.jpg"/>
          <p:cNvPicPr/>
          <p:nvPr/>
        </p:nvPicPr>
        <p:blipFill>
          <a:blip r:embed="rId2"/>
          <a:stretch/>
        </p:blipFill>
        <p:spPr>
          <a:xfrm>
            <a:off x="214200" y="642960"/>
            <a:ext cx="85726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урдж-Халифа – самое высокое здание ми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Burj_Khalifa_building.jpg"/>
          <p:cNvPicPr/>
          <p:nvPr/>
        </p:nvPicPr>
        <p:blipFill>
          <a:blip r:embed="rId2"/>
          <a:stretch/>
        </p:blipFill>
        <p:spPr>
          <a:xfrm>
            <a:off x="214200" y="744480"/>
            <a:ext cx="4071960" cy="6113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4362840" y="785880"/>
            <a:ext cx="4583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ржественная церемония открыт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стоялась 4 января 2010 года 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упнейшем городе Объединён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рабских Эмиратов — Дуба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21 июля 2007 года — само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сокое строение в мире. С 19 ма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008 года — самое высоко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-либо существовавше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ружение в мир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до этого рекорд принадлеж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авшей в 1991 году Варшавск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диомачте). Точная высот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ружения составляет 828 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ри количестве этажей — 16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АЭ - Дворец Аль-Хус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ворец Аль-Хусн, называемый также Старый или Белый форт, был построен в конце XIX века и является старейшим архитектурным сооружением в городе. В прошлые времена форт служил резиденцией правителей Абу-Даби. И хотя интерьер дворца полностью обновлен, но даже сегодня там можно найти некоторые детали внутреннего убранства которым свыше 100 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10763.jpg"/>
          <p:cNvPicPr/>
          <p:nvPr/>
        </p:nvPicPr>
        <p:blipFill>
          <a:blip r:embed="rId2"/>
          <a:stretch/>
        </p:blipFill>
        <p:spPr>
          <a:xfrm>
            <a:off x="865080" y="785880"/>
            <a:ext cx="7278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АЭ - дворец Шейха Са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 Шейха Саида был построен в конце XIX века на берегу моря, чтобы правитель мог наблюдать за движением кораблей. Ветряные башни и анфилады комнат, окружающие внутренний дворик, делают это сооружение замечательным образцом местной архитектуры.В помещениях собрано несколько экспозиций, каждая из которых посвящена определенной теме в истории Дубая: библиотека; залы, рассказывающие о добыче жемч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5" descr="10573.jpg"/>
          <p:cNvPicPr/>
          <p:nvPr/>
        </p:nvPicPr>
        <p:blipFill>
          <a:blip r:embed="rId2"/>
          <a:stretch/>
        </p:blipFill>
        <p:spPr>
          <a:xfrm>
            <a:off x="714240" y="642960"/>
            <a:ext cx="75726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АЭ - дворец Шейха Са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6" descr="10571.jpg"/>
          <p:cNvPicPr/>
          <p:nvPr/>
        </p:nvPicPr>
        <p:blipFill>
          <a:blip r:embed="rId2"/>
          <a:stretch/>
        </p:blipFill>
        <p:spPr>
          <a:xfrm>
            <a:off x="142920" y="857160"/>
            <a:ext cx="885816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АЭ – мечеть в Дуба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В южной части города стоит мечеть, построенная правящим шейхом в память о своем отце. Здание с простыми чистыми линиями великолепно смотрится на мощеной камнем площади, фасад отделан кремовым резным камнем. Мечеть украшает минарет ступенчатой конструк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10795.jpg"/>
          <p:cNvPicPr/>
          <p:nvPr/>
        </p:nvPicPr>
        <p:blipFill>
          <a:blip r:embed="rId2"/>
          <a:stretch/>
        </p:blipFill>
        <p:spPr>
          <a:xfrm>
            <a:off x="1357200" y="642960"/>
            <a:ext cx="65725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АЭ – парк «Страна чуде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52858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Раскинувшийся на 18 га парк семейного отдыха "Страна Чудес" предлагает гостям посетить комплекс водных аттракционов. Парк может одновременно принять до 8 тысяч человек. Здесь также проходит шоу на воде и демонстрируется "водное кино". Кроме этого, посетителей ждет полный набор "сухопутных аттракционов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5" descr="b234ceec5d996445059e295802fa6037.jpg"/>
          <p:cNvPicPr/>
          <p:nvPr/>
        </p:nvPicPr>
        <p:blipFill>
          <a:blip r:embed="rId2"/>
          <a:stretch/>
        </p:blipFill>
        <p:spPr>
          <a:xfrm>
            <a:off x="571680" y="642960"/>
            <a:ext cx="76197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АЭ – Форт Аль Хис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олевский двухэтажный форт был построен в 1820 году и являлся резиденцией семьи, правившей в Шардже. Со временем постройки подверглись разрушению, но в 1996 году были проведены реставрационные работы. Музей форта рассказывает об истории развития эмирата и различных исторических событиях. Здесь экспонируется коллекция традиционного оружия: ружья, пороховые резервуары и мечи из черепаховых панцир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3886250139.jpg"/>
          <p:cNvPicPr/>
          <p:nvPr/>
        </p:nvPicPr>
        <p:blipFill>
          <a:blip r:embed="rId2"/>
          <a:stretch/>
        </p:blipFill>
        <p:spPr>
          <a:xfrm>
            <a:off x="1143000" y="642960"/>
            <a:ext cx="67150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АЭ – гостиничный компле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овый ультрасовременный гостиничный комплекс, неповторимого архитектурного стиля, открыл двери для посетителей 18 марта 2003 года. Состоящий из 4-х монолитных башен, величественно возвышается над Дубайской бухтой и районом Гархуд и занимает 37 акров живописного тропического пейзажа с 4-мя соединенными между собой водоема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5" descr="89503b.jpg"/>
          <p:cNvPicPr/>
          <p:nvPr/>
        </p:nvPicPr>
        <p:blipFill>
          <a:blip r:embed="rId2"/>
          <a:stretch/>
        </p:blipFill>
        <p:spPr>
          <a:xfrm>
            <a:off x="1285920" y="642960"/>
            <a:ext cx="60008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АЭ – Дубай – столица стр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dubai1.jpg"/>
          <p:cNvPicPr/>
          <p:nvPr/>
        </p:nvPicPr>
        <p:blipFill>
          <a:blip r:embed="rId2"/>
          <a:stretch/>
        </p:blipFill>
        <p:spPr>
          <a:xfrm>
            <a:off x="61920" y="714240"/>
            <a:ext cx="9010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57:28Z</dcterms:created>
  <dc:creator>user</dc:creator>
  <dc:description/>
  <dc:language>en-US</dc:language>
  <cp:lastModifiedBy>Feniks</cp:lastModifiedBy>
  <dcterms:modified xsi:type="dcterms:W3CDTF">2013-02-13T11:59:00Z</dcterms:modified>
  <cp:revision>5</cp:revision>
  <dc:subject/>
  <dc:title>ОАЭ - Аквапарк DreamLand</dc:title>
</cp:coreProperties>
</file>