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16.png" ContentType="image/png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DC2-FE00-4D0C-80DE-52B4D6BC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390-8B32-4445-91AB-629FD9FC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7C7-E631-4AEA-BB77-7F74744F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22B-BF81-4C54-973B-0F9C8598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CF1F-38FB-4CE5-813D-A222EAC6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3CE-D7FB-40A5-9119-C77448B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F1B-0F66-42BF-9517-DFB6EC39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5887-EE55-4087-9637-4A1A8BA4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9061-1D9A-4A70-B333-3EE99C22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7EAE-5E75-4AAB-B6A3-518D599A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9EE8-A5CD-480F-9DFE-9B8141A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4A1-2735-4675-8E3F-EFF360E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07C4-A824-47FD-BF01-A261094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FCC-ACAC-465A-B0BF-A387E77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A8E-39D6-48E4-91B8-67F137D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0E89-7968-4652-BCB6-D7363680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B582-BECF-42DA-BE1B-2ED5D6F3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74E-CAF7-4C56-9671-29BB4F5D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E48-0567-4E41-B46A-0376C76D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798-7920-44EE-8718-9585868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575-D9E0-4294-BC94-D73F956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682-8FB2-46AC-A788-B45A092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655-2BDE-4523-A480-ECADC52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741-1C98-4504-9D16-4E10C898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01A9-1870-45FD-B635-B51970E38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C676-D8F9-4DF6-AAA2-01D148313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629360"/>
            <a:ext cx="65534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148360" y="5661000"/>
            <a:ext cx="3643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Arial"/>
              </a:rPr>
              <a:t>Учитель: Крюкова Н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20877000">
            <a:off x="1116000" y="1268280"/>
            <a:ext cx="741672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играем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ru-RU" sz="5400" spc="-1" strike="noStrike">
                <a:solidFill>
                  <a:srgbClr val="003366"/>
                </a:solidFill>
                <a:latin typeface="Comic Sans MS"/>
              </a:rPr>
              <a:t>Вспомни пословицу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труда не вытянешь и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шь кататься – люби и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лучше дружка, че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 познаётся в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пенье и труд всё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друга – ищи, а нашёл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пеши языком, торопи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629400" y="21718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Молодцы!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3594240" cy="51372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2880" y="4869000"/>
            <a:ext cx="239076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7920" y="771480"/>
            <a:ext cx="7086600" cy="53150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graphicFrame>
        <p:nvGraphicFramePr>
          <p:cNvPr id="182" name=""/>
          <p:cNvGraphicFramePr/>
          <p:nvPr/>
        </p:nvGraphicFramePr>
        <p:xfrm>
          <a:off x="8156520" y="76320"/>
          <a:ext cx="911160" cy="62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6520" y="76320"/>
                    <a:ext cx="911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1905120"/>
            <a:ext cx="8001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бегайте быстро в класс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Поиграем мы сейчас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84720" y="40464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619280" y="5013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86200" y="4876920"/>
            <a:ext cx="2209680" cy="164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80360" y="5300640"/>
            <a:ext cx="1218960" cy="976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32000" y="-2705400"/>
            <a:ext cx="64800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Угадай-ка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орчал живой зам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ёг у двери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велились у цв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четыре лепес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сорвать его хот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спорхнул, и улете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лое, румяное, большое, нали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алить себя не стану 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отрите я как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81680" y="2860560"/>
            <a:ext cx="1065240" cy="1135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086600" y="5486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514600"/>
            <a:ext cx="205740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леж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4114800"/>
            <a:ext cx="213372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стойн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003366"/>
                </a:solidFill>
                <a:latin typeface="Comic Sans MS"/>
              </a:rPr>
              <a:t>Доскажи словечко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а – это не крова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ней нельзя 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сиди за партой строй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еди себ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е не зева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морс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734840" cy="26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0" y="5943600"/>
            <a:ext cx="76320" cy="763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114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5715000"/>
            <a:ext cx="2286000" cy="380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пуга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omic Sans MS"/>
              </a:rPr>
              <a:t>Найди лишний предме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121921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327672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933640" cy="16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2860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omic Sans MS"/>
              </a:rPr>
              <a:t>Найди лишний предмет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1219212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3276720" cy="13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562720" y="1600200"/>
            <a:ext cx="2933640" cy="1671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2286000" cy="1363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81280" y="3124080"/>
            <a:ext cx="25146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3T13:55:45Z</dcterms:modified>
  <cp:revision>26</cp:revision>
  <dc:subject/>
  <dc:title>PowerPoint Presentation</dc:title>
</cp:coreProperties>
</file>