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png" ContentType="image/png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AEC-630C-4A54-81CA-321295FE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22E-9CC3-4526-A873-7FDB6F69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B78-0055-45BF-8118-EFA302A7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603-F517-4096-89C6-37432053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266F-D5D8-471F-BA22-82C85A4B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FD0B-7D98-4AA6-AFCC-69EDC47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9581-29AE-4983-8E06-D8337098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C6E7-BCC2-4C3E-90D0-650304D9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DECC-89B9-46F8-9C37-7C233E2B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FF48-F872-4A50-BDC7-F9A8F328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D2D4-F26B-4730-823C-B4052CE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636-6FB1-473A-A8BE-240E6894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235D-19D9-47B7-9F68-B95FBF32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10B5-B9E5-4170-92A6-057B0F0C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1E1F-D72E-4EB1-8D1A-A1433717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E79F-F9E5-40A5-8163-FDF98E30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96CB-23B8-4F37-8347-BBEA9474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8EC-0AB4-4ED9-8D0A-D2F78744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826-8C17-4C33-A86C-BDB7C4C2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0FC-2B74-47A4-A2A3-E3744D9E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8B3-FBC2-4011-81D1-341AD570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8AC-ABEC-473D-9852-6A4F109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B1A-723E-4AF7-9448-40D8973E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DE5-D00D-4722-ABC3-C88EEF9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CA6F-9813-4D1F-8FB0-DB2FAA9E5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3645-5130-414D-A4CA-03CDC0364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1629360"/>
            <a:ext cx="65534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148360" y="5661000"/>
            <a:ext cx="36432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Arial"/>
              </a:rPr>
              <a:t>Учитель: Крюкова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20877000">
            <a:off x="1116000" y="1268280"/>
            <a:ext cx="741672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играем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ru-RU" sz="5400" spc="-1" strike="noStrike">
                <a:solidFill>
                  <a:srgbClr val="003366"/>
                </a:solidFill>
                <a:latin typeface="Comic Sans MS"/>
              </a:rPr>
              <a:t>Вспомни пословицу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труда не вытянешь и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шь кататься – люби и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лучше дружка, че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познаётся 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пенье и труд всё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друга – ищи, а нашёл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пеши языком, торопи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29400" y="2171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     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Молодцы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360" y="1052640"/>
            <a:ext cx="3594240" cy="51372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2880" y="4869000"/>
            <a:ext cx="239076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47920" y="771480"/>
            <a:ext cx="7086600" cy="53150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graphicFrame>
        <p:nvGraphicFramePr>
          <p:cNvPr id="182" name=""/>
          <p:cNvGraphicFramePr/>
          <p:nvPr/>
        </p:nvGraphicFramePr>
        <p:xfrm>
          <a:off x="8156520" y="76320"/>
          <a:ext cx="91116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6520" y="76320"/>
                    <a:ext cx="911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190512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бегайте быстро в класс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оиграем мы сейчас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19280" y="5013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86200" y="4876920"/>
            <a:ext cx="2209680" cy="1643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80360" y="5300640"/>
            <a:ext cx="1218960" cy="976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32000" y="-2705400"/>
            <a:ext cx="6480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     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Угадай-ка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рчал живой зам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ёг у двери поперё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велились у цве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четыре лепес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орвать его хот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спорхнул, и улете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лое, румяное, большое, налив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алить себя не стану 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ите я как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781680" y="2860560"/>
            <a:ext cx="1065240" cy="1135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086600" y="5486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Доскажи словечко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а – это не кров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ней нельзя 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сиди за партой стр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еди себ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не зев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морс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734840" cy="26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72000" y="4114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Доскажи словечко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а – это не кров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ней нельзя 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сиди за партой стр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еди себ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не зев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морс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734840" cy="2629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4114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514600"/>
            <a:ext cx="2057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ж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Доскажи словечко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а – это не кров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ней нельзя 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сиди за партой стр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еди себ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не зев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морс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734840" cy="2629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4114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4114800"/>
            <a:ext cx="213372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стойн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Доскажи словечко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а – это не кров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ней нельзя 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сиди за партой стр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еди себ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не зев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морс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734840" cy="2629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0" y="5943600"/>
            <a:ext cx="763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114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715000"/>
            <a:ext cx="228600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пуга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omic Sans MS"/>
              </a:rPr>
              <a:t>Найди лишний предмет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1219212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3276720" cy="1373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2933640" cy="1671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22860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omic Sans MS"/>
              </a:rPr>
              <a:t>Найди лишний предмет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1219212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3276720" cy="1373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2933640" cy="1671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2286000" cy="1363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81280" y="3124080"/>
            <a:ext cx="25146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3T13:55:45Z</dcterms:modified>
  <cp:revision>26</cp:revision>
  <dc:subject/>
  <dc:title>PowerPoint Presentation</dc:title>
</cp:coreProperties>
</file>