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1FB-5F59-4066-9258-8D42CCE9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7F2-B526-4325-B2C3-A26F30A0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B8F-27B1-4EC4-BC10-ECE20BF2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348-0EA4-4471-BC0F-DAC02D54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E77C2-0DBD-4496-BF75-E7C4C61A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851C1-F525-4E3C-A389-0CF50F17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CFC1A-6D5A-4DF0-8568-0420FC89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0B369-61C1-42ED-BE1D-5BF1EA0C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4462B-30E6-4C77-B4FB-5E775F04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E8558-B762-43C3-8497-EE10C6B4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FD06A-B55B-4051-BBE1-1384B6BE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67E-AE11-4A53-9D69-5330A1B1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C4985-B1B6-4F6D-B5DA-D81DD970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2ED4F-827A-4A9D-B1E7-FB35963C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54328-E7AA-4447-AC77-9869AF77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DE3CF-3ADD-45F8-993B-0C8C65A0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9580E-C882-4C1F-9D9B-5CBF26C6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56F-22FD-4C36-A46C-DAD1B188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562-7616-4CB7-89DF-2584F788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8F8-6D6C-441D-9123-C8353722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E85-2508-49D5-A40F-2708B5AD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FD2-7A53-4BB3-AC8C-FD471337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8E9-BFB2-457D-9269-4F9E452B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1B6-8B94-44B3-B294-80A25F0A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AD08-C5B1-4599-B73D-A4F117217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148B-79C8-49E1-A460-9F3B1AEC8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4000" y="549360"/>
            <a:ext cx="8820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дравствуйте дорогие друзья, родители и учени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ы вас сегодня пригласили н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семирный праздни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ень Святого Валент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 Днем всех Влюбленных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айна глубокая, чудная, вечн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ЮБОВЬ – блеск солнечный, дождю идущий вслед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ЮБОВЬ всегда свежа, как яркий внешний свет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.Шексп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ОВЬ – секунда или вечнос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ОВЬ – награда или плен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ОВЬ – безумство иль беспечнос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ОВЬ – единство всех времен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Стовб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душе померк бы день, и тьма настала б внов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 бы из неё изгнали мы любов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шь тот блаженство зна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страстно сердце нежи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кто не знал любви, тот все равно, что не жил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ан Батист Моль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ей сказал: ЛЮБОВЬ навеки наша!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написал: «Алёша плюс Наташа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 оценив слагаемые эт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бавил: «Плюс машина, минус дети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. Новичих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ж! ведь любовь не урезони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ей умно не прекослов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ылу восторгов, мук, бессонн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ви ответной ждёт любов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К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ей сказал: Любовь навеки наша!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написал: &lt;&lt; Алёша плюс Наташа . . .&gt;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оценив слагаемые эт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авил: &lt;&lt; Плюс машина, минус дети . . .&gt;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вичих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Всего доброго!!!                                                                                               И спасибо за внимание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8:19:00Z</dcterms:created>
  <dc:creator>1</dc:creator>
  <dc:description/>
  <dc:language>en-US</dc:language>
  <cp:lastModifiedBy>666</cp:lastModifiedBy>
  <dcterms:modified xsi:type="dcterms:W3CDTF">2013-02-08T05:30:19Z</dcterms:modified>
  <cp:revision>3</cp:revision>
  <dc:subject/>
  <dc:title>С Днем всех Влюбленных!</dc:title>
</cp:coreProperties>
</file>