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9AAB-1AD8-42BF-9204-BC3D7DB5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521-CAF7-4459-8811-52CC02F6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798-1B23-4E8B-A4DB-0904E2AA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666-E899-4618-B3ED-10FBD140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9DC2-B065-4D86-AC43-37629084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A255-7832-4D30-B851-73F1E646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8AEA-148B-4212-BB78-DC5C0B76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99F2-9493-4578-A4F7-D86B1476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46EE-7253-4BC7-A146-2C350C2F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CFD5-612A-406B-960A-28E2FE0E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6B6D-39E9-4A09-B06D-A51888E8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B3DF-BBB4-4146-B894-96CEB616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39A9-367D-4247-A9FF-F6BB8DA9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8704-99E8-4ED9-900B-EECAA46A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C52C-7658-4303-91B6-E67D601D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DABA-BC62-47B5-8E9E-ECE52F15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9A15-A970-4873-8269-FB6EAA37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FA2-BB43-47AC-B8E6-DAC119F6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9FE-798B-4F53-A874-01EB610B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A72-7013-4FA0-9F52-4E94E69D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5B8-A17D-46A9-9B15-CB90F32C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4FDC-7DAC-486A-928E-4CB27A0D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5DA-CF02-4479-8648-45EA5DF5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D3F-7B6B-4E8B-BA76-EFE512A9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EA00-F891-41DD-AE59-A28EE29D24D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3F62-068F-47D3-B8DE-ACDE86FE6B8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674640"/>
            <a:ext cx="91440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«Осуществление индивидуально ориентирован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психолого-медико-педагогической помощи дет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с ограниченными возможностями здоровья в услови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специализированного коррекционного учрежден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Tahoma"/>
              </a:rPr>
              <a:t>Боровкова Надежда Сергеев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Tahoma"/>
              </a:rPr>
              <a:t>педагог-психолог, учитель-дефектоло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Tahoma"/>
              </a:rPr>
              <a:t>высше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Tahoma"/>
              </a:rPr>
              <a:t>МКДОУ д/с № 312 «Жемчужин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Tahoma"/>
              </a:rPr>
              <a:t>(для детей с нарушением зр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Новосибир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395280" y="-120240"/>
            <a:ext cx="849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ahoma"/>
                <a:ea typeface="Times New Roman"/>
              </a:rPr>
              <a:t>Тематические акции </a:t>
            </a:r>
            <a:r>
              <a:rPr b="1" i="1" lang="ru-RU" sz="1600" spc="-1" strike="noStrike">
                <a:solidFill>
                  <a:srgbClr val="800000"/>
                </a:solidFill>
                <a:latin typeface="Tahoma"/>
                <a:ea typeface="Times New Roman"/>
              </a:rPr>
              <a:t>(Акция - от лат. Actio-  действие, выступление)</a:t>
            </a:r>
            <a:r>
              <a:rPr b="1" lang="ru-RU" sz="1600" spc="-1" strike="noStrike">
                <a:solidFill>
                  <a:srgbClr val="800000"/>
                </a:solidFill>
                <a:latin typeface="Tahoma"/>
                <a:ea typeface="Times New Roman"/>
              </a:rPr>
              <a:t>,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  <a:ea typeface="Times New Roman"/>
              </a:rPr>
              <a:t>направленные на сплочение детского коллектива, формирование доброжелательных отношений между детьми и педагогами, развитие навыков конструктивного общения, а также на стабилизацию и гармонизацию детско-родительских отнош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91"/>
          <p:cNvSpPr/>
          <p:nvPr/>
        </p:nvSpPr>
        <p:spPr>
          <a:xfrm>
            <a:off x="179280" y="6216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  <a:ea typeface="Times New Roman"/>
              </a:rPr>
              <a:t>Задачи образовательной области «Коммуникация» решаются в ходе реализации различных тематических ак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92"/>
          <p:cNvSpPr/>
          <p:nvPr/>
        </p:nvSpPr>
        <p:spPr>
          <a:xfrm>
            <a:off x="395280" y="5300640"/>
            <a:ext cx="3241800" cy="647640"/>
          </a:xfrm>
          <a:prstGeom prst="flowChartOnlineStorag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Оздоровитель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к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4"/>
          <p:cNvSpPr/>
          <p:nvPr/>
        </p:nvSpPr>
        <p:spPr>
          <a:xfrm rot="10800000">
            <a:off x="3419640" y="5660640"/>
            <a:ext cx="3240000" cy="29700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зкульту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7"/>
          <p:cNvSpPr/>
          <p:nvPr/>
        </p:nvSpPr>
        <p:spPr>
          <a:xfrm rot="10800000">
            <a:off x="5904000" y="5084280"/>
            <a:ext cx="3240000" cy="29700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98"/>
          <p:cNvSpPr/>
          <p:nvPr/>
        </p:nvSpPr>
        <p:spPr>
          <a:xfrm rot="10800000">
            <a:off x="5148360" y="5373360"/>
            <a:ext cx="3240000" cy="29700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9"/>
          <p:cNvSpPr/>
          <p:nvPr/>
        </p:nvSpPr>
        <p:spPr>
          <a:xfrm>
            <a:off x="6807240" y="5108400"/>
            <a:ext cx="15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ез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00"/>
          <p:cNvSpPr/>
          <p:nvPr/>
        </p:nvSpPr>
        <p:spPr>
          <a:xfrm>
            <a:off x="395280" y="4508640"/>
            <a:ext cx="3241800" cy="647640"/>
          </a:xfrm>
          <a:prstGeom prst="flowChartOnlineStorag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Литературные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ак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02"/>
          <p:cNvSpPr/>
          <p:nvPr/>
        </p:nvSpPr>
        <p:spPr>
          <a:xfrm rot="10800000">
            <a:off x="3419640" y="4723920"/>
            <a:ext cx="3240000" cy="29700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Чтени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03"/>
          <p:cNvSpPr/>
          <p:nvPr/>
        </p:nvSpPr>
        <p:spPr>
          <a:xfrm rot="10800000">
            <a:off x="5219640" y="4508640"/>
            <a:ext cx="3240000" cy="29664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Познани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04"/>
          <p:cNvSpPr/>
          <p:nvPr/>
        </p:nvSpPr>
        <p:spPr>
          <a:xfrm>
            <a:off x="395280" y="3716280"/>
            <a:ext cx="3241800" cy="647640"/>
          </a:xfrm>
          <a:prstGeom prst="flowChartOnlineStorage">
            <a:avLst/>
          </a:pr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Трудовые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ак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05"/>
          <p:cNvSpPr/>
          <p:nvPr/>
        </p:nvSpPr>
        <p:spPr>
          <a:xfrm rot="10800000">
            <a:off x="3564000" y="4149360"/>
            <a:ext cx="3240000" cy="29700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Тру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6"/>
          <p:cNvSpPr/>
          <p:nvPr/>
        </p:nvSpPr>
        <p:spPr>
          <a:xfrm rot="10800000">
            <a:off x="5148360" y="3789000"/>
            <a:ext cx="3240000" cy="29700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Безопасность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08"/>
          <p:cNvSpPr/>
          <p:nvPr/>
        </p:nvSpPr>
        <p:spPr>
          <a:xfrm>
            <a:off x="468360" y="2924280"/>
            <a:ext cx="3241800" cy="647640"/>
          </a:xfrm>
          <a:prstGeom prst="flowChartOnlineStorag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Творческие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ак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09"/>
          <p:cNvSpPr/>
          <p:nvPr/>
        </p:nvSpPr>
        <p:spPr>
          <a:xfrm>
            <a:off x="539640" y="2133720"/>
            <a:ext cx="3241800" cy="647640"/>
          </a:xfrm>
          <a:prstGeom prst="flowChartOnlineStorag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Социальные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ак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10"/>
          <p:cNvSpPr/>
          <p:nvPr/>
        </p:nvSpPr>
        <p:spPr>
          <a:xfrm>
            <a:off x="539640" y="1341360"/>
            <a:ext cx="3241800" cy="647640"/>
          </a:xfrm>
          <a:prstGeom prst="flowChartOnlineStorag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Экологические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ак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11"/>
          <p:cNvSpPr/>
          <p:nvPr/>
        </p:nvSpPr>
        <p:spPr>
          <a:xfrm rot="10800000">
            <a:off x="3492000" y="3284640"/>
            <a:ext cx="3240360" cy="296640"/>
          </a:xfrm>
          <a:custGeom>
            <a:avLst/>
            <a:gdLst>
              <a:gd name="textAreaLeft" fmla="*/ 0 w 3240360"/>
              <a:gd name="textAreaRight" fmla="*/ 3240720 w 32403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узык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12"/>
          <p:cNvSpPr/>
          <p:nvPr/>
        </p:nvSpPr>
        <p:spPr>
          <a:xfrm rot="10800000">
            <a:off x="5508720" y="2997360"/>
            <a:ext cx="3240000" cy="29664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Художественное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ворчество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4"/>
          <p:cNvSpPr/>
          <p:nvPr/>
        </p:nvSpPr>
        <p:spPr>
          <a:xfrm rot="10800000">
            <a:off x="3780000" y="2420640"/>
            <a:ext cx="3240000" cy="29664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Труд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16"/>
          <p:cNvSpPr/>
          <p:nvPr/>
        </p:nvSpPr>
        <p:spPr>
          <a:xfrm rot="10800000">
            <a:off x="5580000" y="2133360"/>
            <a:ext cx="3240000" cy="29664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оциализаци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17"/>
          <p:cNvSpPr/>
          <p:nvPr/>
        </p:nvSpPr>
        <p:spPr>
          <a:xfrm rot="10800000">
            <a:off x="3708360" y="1699920"/>
            <a:ext cx="3240000" cy="29664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Познание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19"/>
          <p:cNvSpPr/>
          <p:nvPr/>
        </p:nvSpPr>
        <p:spPr>
          <a:xfrm rot="10800000">
            <a:off x="4572000" y="1412640"/>
            <a:ext cx="3240000" cy="29664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Здоровье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18"/>
          <p:cNvSpPr/>
          <p:nvPr/>
        </p:nvSpPr>
        <p:spPr>
          <a:xfrm rot="10800000">
            <a:off x="5904000" y="1124640"/>
            <a:ext cx="3240000" cy="29700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Труд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5939640" cy="4075920"/>
            <a:chOff x="0" y="0"/>
            <a:chExt cx="5939640" cy="4075920"/>
          </a:xfrm>
        </p:grpSpPr>
        <p:grpSp>
          <p:nvGrpSpPr>
            <p:cNvPr id="134" name="Group 3"/>
            <p:cNvGrpSpPr/>
            <p:nvPr/>
          </p:nvGrpSpPr>
          <p:grpSpPr>
            <a:xfrm>
              <a:off x="1773360" y="0"/>
              <a:ext cx="2364480" cy="2044440"/>
              <a:chOff x="1773360" y="0"/>
              <a:chExt cx="2364480" cy="2044440"/>
            </a:xfrm>
          </p:grpSpPr>
          <p:sp>
            <p:nvSpPr>
              <p:cNvPr id="135" name="AutoShape 4"/>
              <p:cNvSpPr/>
              <p:nvPr/>
            </p:nvSpPr>
            <p:spPr>
              <a:xfrm>
                <a:off x="1792800" y="34920"/>
                <a:ext cx="2345040" cy="2009520"/>
              </a:xfrm>
              <a:prstGeom prst="hexagon">
                <a:avLst>
                  <a:gd name="adj" fmla="val 291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AutoShape 5"/>
              <p:cNvSpPr/>
              <p:nvPr/>
            </p:nvSpPr>
            <p:spPr>
              <a:xfrm>
                <a:off x="1773360" y="0"/>
                <a:ext cx="2345040" cy="2009520"/>
              </a:xfrm>
              <a:prstGeom prst="hexagon">
                <a:avLst>
                  <a:gd name="adj" fmla="val 2917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AutoShape 6"/>
              <p:cNvSpPr/>
              <p:nvPr/>
            </p:nvSpPr>
            <p:spPr>
              <a:xfrm>
                <a:off x="1910520" y="120960"/>
                <a:ext cx="2061000" cy="1767600"/>
              </a:xfrm>
              <a:prstGeom prst="hexagon">
                <a:avLst>
                  <a:gd name="adj" fmla="val 29150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7"/>
            <p:cNvGrpSpPr/>
            <p:nvPr/>
          </p:nvGrpSpPr>
          <p:grpSpPr>
            <a:xfrm>
              <a:off x="0" y="1018080"/>
              <a:ext cx="2365920" cy="2044440"/>
              <a:chOff x="0" y="1018080"/>
              <a:chExt cx="2365920" cy="2044440"/>
            </a:xfrm>
          </p:grpSpPr>
          <p:sp>
            <p:nvSpPr>
              <p:cNvPr id="139" name="AutoShape 8"/>
              <p:cNvSpPr/>
              <p:nvPr/>
            </p:nvSpPr>
            <p:spPr>
              <a:xfrm>
                <a:off x="19440" y="1053000"/>
                <a:ext cx="2346480" cy="2009520"/>
              </a:xfrm>
              <a:prstGeom prst="hexagon">
                <a:avLst>
                  <a:gd name="adj" fmla="val 29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AutoShape 9"/>
              <p:cNvSpPr/>
              <p:nvPr/>
            </p:nvSpPr>
            <p:spPr>
              <a:xfrm>
                <a:off x="0" y="1018080"/>
                <a:ext cx="2346480" cy="2009520"/>
              </a:xfrm>
              <a:prstGeom prst="hexagon">
                <a:avLst>
                  <a:gd name="adj" fmla="val 29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AutoShape 10"/>
              <p:cNvSpPr/>
              <p:nvPr/>
            </p:nvSpPr>
            <p:spPr>
              <a:xfrm>
                <a:off x="137520" y="1139040"/>
                <a:ext cx="2062440" cy="1767600"/>
              </a:xfrm>
              <a:prstGeom prst="hexagon">
                <a:avLst>
                  <a:gd name="adj" fmla="val 29170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Тем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(на неделю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Text Box 11"/>
            <p:cNvSpPr/>
            <p:nvPr/>
          </p:nvSpPr>
          <p:spPr>
            <a:xfrm>
              <a:off x="2883600" y="798480"/>
              <a:ext cx="182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1119240" y="1782000"/>
              <a:ext cx="18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Group 13"/>
            <p:cNvGrpSpPr/>
            <p:nvPr/>
          </p:nvGrpSpPr>
          <p:grpSpPr>
            <a:xfrm>
              <a:off x="3573360" y="1023120"/>
              <a:ext cx="2366280" cy="2044440"/>
              <a:chOff x="3573360" y="1023120"/>
              <a:chExt cx="2366280" cy="2044440"/>
            </a:xfrm>
          </p:grpSpPr>
          <p:sp>
            <p:nvSpPr>
              <p:cNvPr id="145" name="AutoShape 14"/>
              <p:cNvSpPr/>
              <p:nvPr/>
            </p:nvSpPr>
            <p:spPr>
              <a:xfrm>
                <a:off x="3593160" y="1058040"/>
                <a:ext cx="2346480" cy="2009520"/>
              </a:xfrm>
              <a:prstGeom prst="hexagon">
                <a:avLst>
                  <a:gd name="adj" fmla="val 29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AutoShape 15"/>
              <p:cNvSpPr/>
              <p:nvPr/>
            </p:nvSpPr>
            <p:spPr>
              <a:xfrm>
                <a:off x="3573360" y="1023120"/>
                <a:ext cx="2346840" cy="2009520"/>
              </a:xfrm>
              <a:prstGeom prst="hexagon">
                <a:avLst>
                  <a:gd name="adj" fmla="val 2919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AutoShape 16"/>
              <p:cNvSpPr/>
              <p:nvPr/>
            </p:nvSpPr>
            <p:spPr>
              <a:xfrm>
                <a:off x="3710880" y="1144080"/>
                <a:ext cx="2062440" cy="1767600"/>
              </a:xfrm>
              <a:prstGeom prst="hexagon">
                <a:avLst>
                  <a:gd name="adj" fmla="val 29170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Text Box 17"/>
            <p:cNvSpPr/>
            <p:nvPr/>
          </p:nvSpPr>
          <p:spPr>
            <a:xfrm>
              <a:off x="3996360" y="1718280"/>
              <a:ext cx="1584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Group 18"/>
            <p:cNvGrpSpPr/>
            <p:nvPr/>
          </p:nvGrpSpPr>
          <p:grpSpPr>
            <a:xfrm>
              <a:off x="1789200" y="2031480"/>
              <a:ext cx="2365920" cy="2044440"/>
              <a:chOff x="1789200" y="2031480"/>
              <a:chExt cx="2365920" cy="2044440"/>
            </a:xfrm>
          </p:grpSpPr>
          <p:sp>
            <p:nvSpPr>
              <p:cNvPr id="150" name="AutoShape 19"/>
              <p:cNvSpPr/>
              <p:nvPr/>
            </p:nvSpPr>
            <p:spPr>
              <a:xfrm>
                <a:off x="1809000" y="2066400"/>
                <a:ext cx="2346120" cy="2009520"/>
              </a:xfrm>
              <a:prstGeom prst="hexagon">
                <a:avLst>
                  <a:gd name="adj" fmla="val 2918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AutoShape 20"/>
              <p:cNvSpPr/>
              <p:nvPr/>
            </p:nvSpPr>
            <p:spPr>
              <a:xfrm>
                <a:off x="1789200" y="2031480"/>
                <a:ext cx="2346480" cy="2009520"/>
              </a:xfrm>
              <a:prstGeom prst="hexagon">
                <a:avLst>
                  <a:gd name="adj" fmla="val 29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AutoShape 21"/>
              <p:cNvSpPr/>
              <p:nvPr/>
            </p:nvSpPr>
            <p:spPr>
              <a:xfrm>
                <a:off x="1926720" y="2152440"/>
                <a:ext cx="2062080" cy="1767600"/>
              </a:xfrm>
              <a:prstGeom prst="hexagon">
                <a:avLst>
                  <a:gd name="adj" fmla="val 29165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Продуктивные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вид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деятельно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(в течение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недели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Text Box 22"/>
            <p:cNvSpPr/>
            <p:nvPr/>
          </p:nvSpPr>
          <p:spPr>
            <a:xfrm>
              <a:off x="2902320" y="2729880"/>
              <a:ext cx="182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Group 23"/>
          <p:cNvGrpSpPr/>
          <p:nvPr/>
        </p:nvGrpSpPr>
        <p:grpSpPr>
          <a:xfrm>
            <a:off x="3564000" y="1989000"/>
            <a:ext cx="5579280" cy="4176000"/>
            <a:chOff x="3564000" y="1989000"/>
            <a:chExt cx="5579280" cy="4176000"/>
          </a:xfrm>
        </p:grpSpPr>
        <p:grpSp>
          <p:nvGrpSpPr>
            <p:cNvPr id="155" name="Group 24"/>
            <p:cNvGrpSpPr/>
            <p:nvPr/>
          </p:nvGrpSpPr>
          <p:grpSpPr>
            <a:xfrm>
              <a:off x="5229720" y="1989000"/>
              <a:ext cx="2220840" cy="2094480"/>
              <a:chOff x="5229720" y="1989000"/>
              <a:chExt cx="2220840" cy="2094480"/>
            </a:xfrm>
          </p:grpSpPr>
          <p:sp>
            <p:nvSpPr>
              <p:cNvPr id="156" name="AutoShape 25"/>
              <p:cNvSpPr/>
              <p:nvPr/>
            </p:nvSpPr>
            <p:spPr>
              <a:xfrm>
                <a:off x="5248080" y="2024640"/>
                <a:ext cx="2202480" cy="2058840"/>
              </a:xfrm>
              <a:prstGeom prst="hexagon">
                <a:avLst>
                  <a:gd name="adj" fmla="val 2674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AutoShape 26"/>
              <p:cNvSpPr/>
              <p:nvPr/>
            </p:nvSpPr>
            <p:spPr>
              <a:xfrm>
                <a:off x="5229720" y="1989000"/>
                <a:ext cx="2202480" cy="2058840"/>
              </a:xfrm>
              <a:prstGeom prst="hexagon">
                <a:avLst>
                  <a:gd name="adj" fmla="val 2674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AutoShape 27"/>
              <p:cNvSpPr/>
              <p:nvPr/>
            </p:nvSpPr>
            <p:spPr>
              <a:xfrm>
                <a:off x="5358600" y="2112840"/>
                <a:ext cx="1935720" cy="1810800"/>
              </a:xfrm>
              <a:prstGeom prst="hexagon">
                <a:avLst>
                  <a:gd name="adj" fmla="val 26725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Подведение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итогов,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анализ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результатов,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итоговое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мероприятие,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акция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(пятница)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8"/>
            <p:cNvGrpSpPr/>
            <p:nvPr/>
          </p:nvGrpSpPr>
          <p:grpSpPr>
            <a:xfrm>
              <a:off x="3564000" y="3031920"/>
              <a:ext cx="2222280" cy="2094480"/>
              <a:chOff x="3564000" y="3031920"/>
              <a:chExt cx="2222280" cy="2094480"/>
            </a:xfrm>
          </p:grpSpPr>
          <p:sp>
            <p:nvSpPr>
              <p:cNvPr id="160" name="AutoShape 29"/>
              <p:cNvSpPr/>
              <p:nvPr/>
            </p:nvSpPr>
            <p:spPr>
              <a:xfrm>
                <a:off x="3582360" y="3067560"/>
                <a:ext cx="2203920" cy="2058840"/>
              </a:xfrm>
              <a:prstGeom prst="hexagon">
                <a:avLst>
                  <a:gd name="adj" fmla="val 2676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AutoShape 30"/>
              <p:cNvSpPr/>
              <p:nvPr/>
            </p:nvSpPr>
            <p:spPr>
              <a:xfrm>
                <a:off x="3564000" y="3031920"/>
                <a:ext cx="2203920" cy="2058840"/>
              </a:xfrm>
              <a:prstGeom prst="hexagon">
                <a:avLst>
                  <a:gd name="adj" fmla="val 2676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AutoShape 31"/>
              <p:cNvSpPr/>
              <p:nvPr/>
            </p:nvSpPr>
            <p:spPr>
              <a:xfrm>
                <a:off x="3692880" y="3155760"/>
                <a:ext cx="1937160" cy="1810800"/>
              </a:xfrm>
              <a:prstGeom prst="hexagon">
                <a:avLst>
                  <a:gd name="adj" fmla="val 26745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Мультимедийные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тематические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презентации –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ввод новой темы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(четверг)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" name="Text Box 32"/>
            <p:cNvSpPr/>
            <p:nvPr/>
          </p:nvSpPr>
          <p:spPr>
            <a:xfrm>
              <a:off x="6266520" y="2798280"/>
              <a:ext cx="1864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33"/>
            <p:cNvSpPr/>
            <p:nvPr/>
          </p:nvSpPr>
          <p:spPr>
            <a:xfrm>
              <a:off x="4609440" y="3816720"/>
              <a:ext cx="18504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Group 34"/>
            <p:cNvGrpSpPr/>
            <p:nvPr/>
          </p:nvGrpSpPr>
          <p:grpSpPr>
            <a:xfrm>
              <a:off x="6920640" y="3037320"/>
              <a:ext cx="2222640" cy="2094480"/>
              <a:chOff x="6920640" y="3037320"/>
              <a:chExt cx="2222640" cy="2094480"/>
            </a:xfrm>
          </p:grpSpPr>
          <p:sp>
            <p:nvSpPr>
              <p:cNvPr id="166" name="AutoShape 35"/>
              <p:cNvSpPr/>
              <p:nvPr/>
            </p:nvSpPr>
            <p:spPr>
              <a:xfrm>
                <a:off x="6939360" y="3072960"/>
                <a:ext cx="2203920" cy="2058840"/>
              </a:xfrm>
              <a:prstGeom prst="hexagon">
                <a:avLst>
                  <a:gd name="adj" fmla="val 2676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AutoShape 36"/>
              <p:cNvSpPr/>
              <p:nvPr/>
            </p:nvSpPr>
            <p:spPr>
              <a:xfrm>
                <a:off x="6920640" y="3037320"/>
                <a:ext cx="2204280" cy="2058840"/>
              </a:xfrm>
              <a:prstGeom prst="hexagon">
                <a:avLst>
                  <a:gd name="adj" fmla="val 2676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AutoShape 37"/>
              <p:cNvSpPr/>
              <p:nvPr/>
            </p:nvSpPr>
            <p:spPr>
              <a:xfrm>
                <a:off x="7049520" y="3161160"/>
                <a:ext cx="1937160" cy="1810800"/>
              </a:xfrm>
              <a:prstGeom prst="hexagon">
                <a:avLst>
                  <a:gd name="adj" fmla="val 26745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Text Box 38"/>
            <p:cNvSpPr/>
            <p:nvPr/>
          </p:nvSpPr>
          <p:spPr>
            <a:xfrm>
              <a:off x="7966440" y="3749400"/>
              <a:ext cx="186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" name="Group 39"/>
            <p:cNvGrpSpPr/>
            <p:nvPr/>
          </p:nvGrpSpPr>
          <p:grpSpPr>
            <a:xfrm>
              <a:off x="5244480" y="4070520"/>
              <a:ext cx="2222280" cy="2094480"/>
              <a:chOff x="5244480" y="4070520"/>
              <a:chExt cx="2222280" cy="2094480"/>
            </a:xfrm>
          </p:grpSpPr>
          <p:sp>
            <p:nvSpPr>
              <p:cNvPr id="171" name="AutoShape 40"/>
              <p:cNvSpPr/>
              <p:nvPr/>
            </p:nvSpPr>
            <p:spPr>
              <a:xfrm>
                <a:off x="5263200" y="4106160"/>
                <a:ext cx="2203560" cy="2058840"/>
              </a:xfrm>
              <a:prstGeom prst="hexagon">
                <a:avLst>
                  <a:gd name="adj" fmla="val 2675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AutoShape 41"/>
              <p:cNvSpPr/>
              <p:nvPr/>
            </p:nvSpPr>
            <p:spPr>
              <a:xfrm>
                <a:off x="5244480" y="4070520"/>
                <a:ext cx="2203920" cy="2058840"/>
              </a:xfrm>
              <a:prstGeom prst="hexagon">
                <a:avLst>
                  <a:gd name="adj" fmla="val 2676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AutoShape 42"/>
              <p:cNvSpPr/>
              <p:nvPr/>
            </p:nvSpPr>
            <p:spPr>
              <a:xfrm>
                <a:off x="5373360" y="4194360"/>
                <a:ext cx="1936800" cy="1810800"/>
              </a:xfrm>
              <a:prstGeom prst="hexagon">
                <a:avLst>
                  <a:gd name="adj" fmla="val 26740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" name="Text Box 43"/>
            <p:cNvSpPr/>
            <p:nvPr/>
          </p:nvSpPr>
          <p:spPr>
            <a:xfrm>
              <a:off x="6279840" y="4785840"/>
              <a:ext cx="18648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Rectangle 46"/>
          <p:cNvSpPr/>
          <p:nvPr/>
        </p:nvSpPr>
        <p:spPr>
          <a:xfrm>
            <a:off x="2050920" y="620640"/>
            <a:ext cx="165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знавательно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витие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ведение в тем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понедельник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48"/>
          <p:cNvSpPr/>
          <p:nvPr/>
        </p:nvSpPr>
        <p:spPr>
          <a:xfrm>
            <a:off x="3780000" y="1413000"/>
            <a:ext cx="180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теграция и реализация образовательных област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в течение недел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2"/>
          <p:cNvSpPr/>
          <p:nvPr/>
        </p:nvSpPr>
        <p:spPr>
          <a:xfrm>
            <a:off x="5536800" y="4460760"/>
            <a:ext cx="1643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вед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одител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следующу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пятниц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3"/>
          <p:cNvSpPr/>
          <p:nvPr/>
        </p:nvSpPr>
        <p:spPr>
          <a:xfrm>
            <a:off x="4389840" y="277920"/>
            <a:ext cx="38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ahoma"/>
              </a:rPr>
              <a:t>КОМПЛЕКСНО-ТЕМАТ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ahoma"/>
              </a:rPr>
              <a:t>ПЛ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5"/>
          <p:cNvSpPr/>
          <p:nvPr/>
        </p:nvSpPr>
        <p:spPr>
          <a:xfrm>
            <a:off x="7167960" y="3645000"/>
            <a:ext cx="172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орм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тогов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ук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59"/>
          <p:cNvSpPr/>
          <p:nvPr/>
        </p:nvSpPr>
        <p:spPr>
          <a:xfrm>
            <a:off x="179280" y="4223160"/>
            <a:ext cx="489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иды детской деятельно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игров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познавательно-исследователь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коммуника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труд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чт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музыкально-художеств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проду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2"/>
          <p:cNvSpPr/>
          <p:nvPr/>
        </p:nvSpPr>
        <p:spPr>
          <a:xfrm>
            <a:off x="5445000" y="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«ПРЕЗЕНТАШКИ ОТ КИТЁН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(проводят учитель-логопед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тифлопедаг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682560" y="692280"/>
            <a:ext cx="8461440" cy="58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Еженедельный просмот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мультимедийных тематических презентаций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66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еализует принцип комплексно-тематического план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озволяет интегрировать различные образовательные области, так как в процессе просмотра детям предлагаются различные виды деятельности (чтение литературных произведений, двигательные паузы, ситуативные беседы, диалоги, релаксационные паузы, использование музыкального сопровожд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еализует принцип «многоканальности» восприятия, что особенно важно для развития детей с ОВЗ, в частности, с нарушениями з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 доступной форме знакомит детей с современными информационными технологи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еализует принцип взаимосвязи с родителями (участие родителей в создании части презентаций, создание «банка» презентаций для домашнего просмотр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250920" y="33840"/>
            <a:ext cx="863280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По результатам прохождения темы анализиру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SzPct val="115000"/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Присутствие ребенка в течение недели, его участие в непосредственно образовательной деятельности и совместной коррекционной деятельности с учителем- дефектолог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SzPct val="115000"/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Эмоциональный фон в групп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SzPct val="115000"/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Степень «погруженности» детей в деятельность, наличие интереса к предлагаемой 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SzPct val="115000"/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Отражение в самостоятельной деятельности полученных в течение недели зна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SzPct val="115000"/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Адекватность внесения изменений в развивающую среду в соответствии с темой недели (использование детьми предлагаемых педагогом пособий и материалов в самостоятельной деятельност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395280" y="95400"/>
            <a:ext cx="828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По результатам анализа выстраивается деятельность по закреплению пройденной темы на следующую недел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25000"/>
              <a:buFont typeface="Wingdings" charset="2"/>
              <a:buChar char="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Индивидуальная работа в группе и на индивидуальных занятиях у тифлопедагога, психолога, логопеда (внесение корректив в календарные план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25000"/>
              <a:buFont typeface="Wingdings" charset="2"/>
              <a:buChar char="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одгрупповая работа в группе и у специалистов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25000"/>
              <a:buFont typeface="Wingdings" charset="2"/>
              <a:buChar char="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ланирование дидактических игр в совместной и самостоятельн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25000"/>
              <a:buFont typeface="Wingdings" charset="2"/>
              <a:buChar char="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несение изменений в развивающую среду группы и функциональных помещений детского са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-1908000" y="-171360"/>
            <a:ext cx="11375280" cy="7028640"/>
            <a:chOff x="-1908000" y="-171360"/>
            <a:chExt cx="11375280" cy="7028640"/>
          </a:xfrm>
        </p:grpSpPr>
        <p:grpSp>
          <p:nvGrpSpPr>
            <p:cNvPr id="186" name="Group 3"/>
            <p:cNvGrpSpPr/>
            <p:nvPr/>
          </p:nvGrpSpPr>
          <p:grpSpPr>
            <a:xfrm>
              <a:off x="870120" y="-171360"/>
              <a:ext cx="8055000" cy="7028640"/>
              <a:chOff x="870120" y="-171360"/>
              <a:chExt cx="8055000" cy="7028640"/>
            </a:xfrm>
          </p:grpSpPr>
          <p:sp>
            <p:nvSpPr>
              <p:cNvPr id="187" name="Puzzle3"/>
              <p:cNvSpPr/>
              <p:nvPr/>
            </p:nvSpPr>
            <p:spPr>
              <a:xfrm>
                <a:off x="4793040" y="-171360"/>
                <a:ext cx="3166200" cy="3735360"/>
              </a:xfrm>
              <a:custGeom>
                <a:avLst/>
                <a:gdLst>
                  <a:gd name="textAreaLeft" fmla="*/ 332280 w 3166200"/>
                  <a:gd name="textAreaRight" fmla="*/ 2808360 w 3166200"/>
                  <a:gd name="textAreaTop" fmla="*/ 1334520 h 3735360"/>
                  <a:gd name="textAreaBottom" fmla="*/ 3498480 h 3735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cc"/>
                  </a:gs>
                  <a:gs pos="100000">
                    <a:srgbClr val="ffff00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Puzzle2"/>
              <p:cNvSpPr/>
              <p:nvPr/>
            </p:nvSpPr>
            <p:spPr>
              <a:xfrm>
                <a:off x="3871800" y="2549520"/>
                <a:ext cx="5053320" cy="3401640"/>
              </a:xfrm>
              <a:custGeom>
                <a:avLst/>
                <a:gdLst>
                  <a:gd name="textAreaLeft" fmla="*/ 1261800 w 5053320"/>
                  <a:gd name="textAreaRight" fmla="*/ 3785760 w 5053320"/>
                  <a:gd name="textAreaTop" fmla="*/ 1060560 h 3401640"/>
                  <a:gd name="textAreaBottom" fmla="*/ 3219120 h 340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cc"/>
                  </a:gs>
                  <a:gs pos="100000">
                    <a:srgbClr val="ffff00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Puzzle4"/>
              <p:cNvSpPr/>
              <p:nvPr/>
            </p:nvSpPr>
            <p:spPr>
              <a:xfrm>
                <a:off x="1916280" y="2507760"/>
                <a:ext cx="3046680" cy="4349520"/>
              </a:xfrm>
              <a:custGeom>
                <a:avLst/>
                <a:gdLst>
                  <a:gd name="textAreaLeft" fmla="*/ 292680 w 3046680"/>
                  <a:gd name="textAreaRight" fmla="*/ 2850840 w 3046680"/>
                  <a:gd name="textAreaTop" fmla="*/ 1139760 h 4349520"/>
                  <a:gd name="textAreaBottom" fmla="*/ 3216960 h 4349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cc"/>
                  </a:gs>
                  <a:gs pos="100000">
                    <a:srgbClr val="ffff00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Puzzle1"/>
              <p:cNvSpPr/>
              <p:nvPr/>
            </p:nvSpPr>
            <p:spPr>
              <a:xfrm>
                <a:off x="870120" y="958680"/>
                <a:ext cx="5116680" cy="2592720"/>
              </a:xfrm>
              <a:custGeom>
                <a:avLst/>
                <a:gdLst>
                  <a:gd name="textAreaLeft" fmla="*/ 1441080 w 5116680"/>
                  <a:gd name="textAreaRight" fmla="*/ 3820680 w 5116680"/>
                  <a:gd name="textAreaTop" fmla="*/ 308160 h 2592720"/>
                  <a:gd name="textAreaBottom" fmla="*/ 2346120 h 259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cc"/>
                  </a:gs>
                  <a:gs pos="100000">
                    <a:srgbClr val="ffff00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1" name="Text Box 8"/>
            <p:cNvSpPr/>
            <p:nvPr/>
          </p:nvSpPr>
          <p:spPr>
            <a:xfrm>
              <a:off x="8371080" y="3652560"/>
              <a:ext cx="185040" cy="366840"/>
            </a:xfrm>
            <a:prstGeom prst="rect">
              <a:avLst/>
            </a:prstGeom>
            <a:gradFill rotWithShape="0">
              <a:gsLst>
                <a:gs pos="0">
                  <a:srgbClr val="ff33cc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9"/>
            <p:cNvSpPr/>
            <p:nvPr/>
          </p:nvSpPr>
          <p:spPr>
            <a:xfrm>
              <a:off x="-1908000" y="2666160"/>
              <a:ext cx="347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0"/>
            <p:cNvSpPr/>
            <p:nvPr/>
          </p:nvSpPr>
          <p:spPr>
            <a:xfrm>
              <a:off x="1287000" y="-49320"/>
              <a:ext cx="4444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1"/>
            <p:cNvSpPr/>
            <p:nvPr/>
          </p:nvSpPr>
          <p:spPr>
            <a:xfrm>
              <a:off x="4345560" y="6337800"/>
              <a:ext cx="512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Text Box 12"/>
          <p:cNvSpPr/>
          <p:nvPr/>
        </p:nvSpPr>
        <p:spPr>
          <a:xfrm>
            <a:off x="1446120" y="1963800"/>
            <a:ext cx="337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Полифункциональ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4858200" y="1171440"/>
            <a:ext cx="30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рансформируем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124000" y="522936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ариатив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5181840" y="3691080"/>
            <a:ext cx="243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тегратив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-151560" y="0"/>
            <a:ext cx="593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ahoma"/>
              </a:rPr>
              <a:t>При создании предметно-развивающей сре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ahoma"/>
              </a:rPr>
              <a:t>в соответствии с ФГ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ahoma"/>
              </a:rPr>
              <a:t>учитываются следующие принцип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24000" y="-720"/>
            <a:ext cx="842472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истема мониторинга достижения детьми планируемых результатов освоения Програм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Мониторинг детского развития проводится два-три раза в год: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- в октябре - ноябр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- январе (либо по мере необходимости, с детьми группы риска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- в апреле-ма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В проведении мониторинга участвуют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- воспитател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- логопед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-учителя-дефектолог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- психолог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-музыкальный руководител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-воспитатель по ИЗ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медицинские работни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Основная задача мониторинга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- определить степень освоения ребенком образовательной программы и влияние образовательного процесса, организуемого в дошкольном учреждении, на развитие ребенка; отследить эффективность используемых лечебно-оздоровительных  и коррекционных методов сопровождения реб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2"/>
          <p:cNvSpPr/>
          <p:nvPr/>
        </p:nvSpPr>
        <p:spPr>
          <a:xfrm>
            <a:off x="755640" y="214200"/>
            <a:ext cx="7416720" cy="609840"/>
          </a:xfrm>
          <a:prstGeom prst="rect">
            <a:avLst/>
          </a:prstGeom>
          <a:gradFill rotWithShape="0">
            <a:gsLst>
              <a:gs pos="0">
                <a:srgbClr val="9c9cdf"/>
              </a:gs>
              <a:gs pos="50000">
                <a:srgbClr val="ffffff"/>
              </a:gs>
              <a:gs pos="100000">
                <a:srgbClr val="9c9cd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imes New Roman"/>
                <a:ea typeface="Calibri"/>
              </a:rPr>
              <a:t>мониторинг усвоения образовательной 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395280" y="692280"/>
            <a:ext cx="3029040" cy="514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мониторинг образовательного процес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4859280" y="765000"/>
            <a:ext cx="3568680" cy="576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мониторинг детского развития (мониторинг интегративных качеств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0" y="1268280"/>
            <a:ext cx="2695680" cy="733680"/>
          </a:xfrm>
          <a:prstGeom prst="rect">
            <a:avLst/>
          </a:prstGeom>
          <a:solidFill>
            <a:srgbClr val="ffd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водят педагоги, занимающиеся с детьми: воспитатели, специалис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572000" y="1341360"/>
            <a:ext cx="4295880" cy="432000"/>
          </a:xfrm>
          <a:prstGeom prst="rect">
            <a:avLst/>
          </a:prstGeom>
          <a:solidFill>
            <a:srgbClr val="ffd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водит  психолог,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специалисты, мед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79280" y="2133720"/>
            <a:ext cx="3533760" cy="561960"/>
          </a:xfrm>
          <a:prstGeom prst="rect">
            <a:avLst/>
          </a:prstGeom>
          <a:solidFill>
            <a:srgbClr val="ffd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цель: оценка степени продвижения в образовательном процесс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4427640" y="1916280"/>
            <a:ext cx="3744720" cy="1152360"/>
          </a:xfrm>
          <a:prstGeom prst="rect">
            <a:avLst/>
          </a:prstGeom>
          <a:solidFill>
            <a:srgbClr val="ffd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цель: выявление индивидуальных особенностей развития ребенка и  определение (при необходимости) индивидуального образовательного маршру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95280" y="2924280"/>
            <a:ext cx="2352600" cy="546120"/>
          </a:xfrm>
          <a:prstGeom prst="rect">
            <a:avLst/>
          </a:prstGeom>
          <a:solidFill>
            <a:srgbClr val="ffd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методы  мониторин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79280" y="3716280"/>
            <a:ext cx="3167280" cy="1873440"/>
          </a:xfrm>
          <a:prstGeom prst="rect">
            <a:avLst/>
          </a:prstGeom>
          <a:solidFill>
            <a:srgbClr val="ffd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блюдение за ребенком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- анализ продуктов детской деятель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специальные педагогические проб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анализ организации развивающей сре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940360" y="5229360"/>
            <a:ext cx="3009960" cy="1008000"/>
          </a:xfrm>
          <a:prstGeom prst="rect">
            <a:avLst/>
          </a:prstGeom>
          <a:solidFill>
            <a:srgbClr val="ffd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-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блюдение за ребенк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- диагностические метод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- тестовые зад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0" y="6237360"/>
            <a:ext cx="7632720" cy="6206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  <a:ea typeface="Times New Roman"/>
              </a:rPr>
              <a:t>индивидуальная карта развития ребенка, лист здоровь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  <a:ea typeface="Times New Roman"/>
              </a:rPr>
              <a:t>индивидуальный образовательный маршр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3780000" y="3141720"/>
            <a:ext cx="3166920" cy="504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Calibri"/>
              </a:rPr>
              <a:t>оценка физического развития ребенка, состояние его здоровь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492360" y="3789360"/>
            <a:ext cx="280836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Times New Roman"/>
                <a:ea typeface="Calibri"/>
              </a:rPr>
              <a:t>диагностика познавательных способн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6478560" y="3716280"/>
            <a:ext cx="266544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Times New Roman"/>
                <a:ea typeface="Calibri"/>
              </a:rPr>
              <a:t>диагностика  коммуникативных способн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659640" y="4437000"/>
            <a:ext cx="230328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Times New Roman"/>
                <a:ea typeface="Calibri"/>
              </a:rPr>
              <a:t>диагностика регуляторных способн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3708360" y="4365720"/>
            <a:ext cx="280836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Times New Roman"/>
                <a:ea typeface="Calibri"/>
              </a:rPr>
              <a:t>диагностика</a:t>
            </a:r>
            <a:r>
              <a:rPr b="1" lang="ru-RU" sz="1200" spc="-1" strike="noStrike">
                <a:solidFill>
                  <a:srgbClr val="009900"/>
                </a:solidFill>
                <a:latin typeface="Times New Roman"/>
                <a:ea typeface="Calibri"/>
              </a:rPr>
              <a:t> </a:t>
            </a:r>
            <a:r>
              <a:rPr b="1" lang="ru-RU" sz="1400" spc="-1" strike="noStrike">
                <a:solidFill>
                  <a:srgbClr val="009900"/>
                </a:solidFill>
                <a:latin typeface="Times New Roman"/>
                <a:ea typeface="Calibri"/>
              </a:rPr>
              <a:t>особенностей перцептивной сфе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851280" y="4869000"/>
            <a:ext cx="2428920" cy="360360"/>
          </a:xfrm>
          <a:prstGeom prst="rect">
            <a:avLst/>
          </a:prstGeom>
          <a:solidFill>
            <a:srgbClr val="ffd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методы мониторин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24000" y="136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539640" y="4581360"/>
            <a:ext cx="7561440" cy="1584360"/>
          </a:xfrm>
          <a:prstGeom prst="pie">
            <a:avLst/>
          </a:prstGeom>
          <a:solidFill>
            <a:srgbClr val="00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Принципы работы с  родител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50920" y="2637000"/>
            <a:ext cx="3744720" cy="194436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целенаправленнос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истематичнос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ланов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908000" y="404640"/>
            <a:ext cx="4465800" cy="194472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дифференцированный подхо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к работе с родителя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с учётом специф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каждой семь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и состояния здоровья реб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4716360" y="2492280"/>
            <a:ext cx="4176720" cy="22320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открытость детского са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для семь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(каждому родител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обеспечивается возмож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знать и виде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как живет и развива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его ребенок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468360" y="-189360"/>
            <a:ext cx="8064360" cy="69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Проблемы и трудно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6600"/>
              </a:buClr>
              <a:buSzPct val="13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сутствие примерной основной общеобразовательной программы для детей с ограниченными возможностями здоровья, которая должна быть реализована в группах компенсирующей и комбинированной направлен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6600"/>
              </a:buClr>
              <a:buSzPct val="13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нформационный «голод», который испытывают педагоги специальных коррекционных учреждений в процессе реализации федеральных государственных требований – нет методических рекомендаций, пособий, не изучены информационные потребности педагогических кад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6600"/>
              </a:buClr>
              <a:buSzPct val="13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сутствие научного руководства или специального методического сопровождения ведет к трудностям при самостоятельной разработке рабочей программы учреждения, а также делает спорным вопрос о корректности «приведения в соответствие с ФГТ уже используемых в ДОУ программ и технологий», как рекомендуется педагогам-практи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6600"/>
              </a:buClr>
              <a:buSzPct val="13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6600"/>
              </a:buClr>
              <a:buSzPct val="13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«Человеческий» и «временной» факто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468360" y="75996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Необходимость разработки интегрированной образовательной программы развития дошкольников с ОВЗ обусловлена, прежде всего, увеличением количества и степени тяжести различных отклонений в развитии детей, вызванных экологическими, медицинскими, социальными и другими причин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Успешная коррекция развития детей с различными нарушениями требует комплексного подхода, сочетающего в себе совместные усилия медиков, учителей-дефектологов, воспитателей, психологов, логопедов, родител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755640" y="227664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Все в наших руках, поэтому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их нельзя опускать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MCj033517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397080" y="184320"/>
            <a:ext cx="865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33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395280" y="264240"/>
            <a:ext cx="8280360" cy="59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Наша миссия: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сестороннее развитие личности и максимальная самореализация каждого ребенка с учетом его индивидуальных особенностей (склонностей, способностей, социального статуса, психофизического развит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182520"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Наш детский сад посещают 94 ребенка с различными нарушениями зрения, слабовидящие, есть тотально слепой ребенок, дети с задержками в развитии, дети с тяжелыми формами ДЦП, один из них – практически не передвигается самостоятельн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82520"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82520"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В настоящее время выросло количество детей-дошкольников со сложными сочетанными дефектами: различные нарушения зрения и ДЦП разной степени тяжести и форм, тотальная слепота и ДЦП, аутизм, нарушения зрения и ЗПР различного генеза, умственная отсталость разной степени, и друг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82520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Возникает необходимость в построении </a:t>
            </a: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специального коррекционно-психологического сопровождения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каждого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так называемого «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сложного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» ребен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82520"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Специалистами нашего учреждения была отработана единая система организации коррекционно-образовательного процесса и создана система медицинского и коррекционно-психологического сопровождения образовательного процесс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468360" y="331200"/>
            <a:ext cx="820908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Медицинское сопровожд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Его </a:t>
            </a: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целью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является сохранение и укрепление здоровья детей, формирование у родителей, педагогов, воспитанников ответственности в деле сохранения собственного здоров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1.Охрана и укрепление здоровья дошкольников, совершенствование их физического здоровья, повышение сопротивляемости организма, улучшение умственной и физической работоспособ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2.Формирование у детей жизненно необходимых двигательных умений и навыков, достижение определенного уровня физической подготов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3. Формирование потребности в физическом совершенствовании, вооружение знаниями, умениями и навыками, воспитание привычки к здоровому образу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539640" y="351720"/>
            <a:ext cx="82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ahoma"/>
              </a:rPr>
              <a:t>Коррекционно-психологическое сопровождение</a:t>
            </a: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обеспечивает создание условий для повышения автономности и социальной активности детей, для развития интеллектуальных процессов, формирования ценностных установок, соответствующих психическим и физическим возможностям ребен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50920" y="2349000"/>
            <a:ext cx="85406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ahoma"/>
              </a:rPr>
              <a:t>Основными принципами организации деятельности коррекционно-психологического сопровождения явля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приоритет интересов и потребностей ребен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непрерывность сопровож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мультидисциплинар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6156360" y="4313160"/>
            <a:ext cx="2771280" cy="2544840"/>
            <a:chOff x="6156360" y="4313160"/>
            <a:chExt cx="2771280" cy="2544840"/>
          </a:xfrm>
        </p:grpSpPr>
        <p:grpSp>
          <p:nvGrpSpPr>
            <p:cNvPr id="93" name="Group 7"/>
            <p:cNvGrpSpPr/>
            <p:nvPr/>
          </p:nvGrpSpPr>
          <p:grpSpPr>
            <a:xfrm>
              <a:off x="6870240" y="4313160"/>
              <a:ext cx="2057400" cy="2348640"/>
              <a:chOff x="6870240" y="4313160"/>
              <a:chExt cx="2057400" cy="2348640"/>
            </a:xfrm>
          </p:grpSpPr>
          <p:sp>
            <p:nvSpPr>
              <p:cNvPr id="94" name="Puzzle3"/>
              <p:cNvSpPr/>
              <p:nvPr/>
            </p:nvSpPr>
            <p:spPr>
              <a:xfrm>
                <a:off x="7871760" y="4313160"/>
                <a:ext cx="809640" cy="1246680"/>
              </a:xfrm>
              <a:custGeom>
                <a:avLst/>
                <a:gdLst>
                  <a:gd name="textAreaLeft" fmla="*/ 84960 w 809640"/>
                  <a:gd name="textAreaRight" fmla="*/ 717480 w 809640"/>
                  <a:gd name="textAreaTop" fmla="*/ 445680 h 1246680"/>
                  <a:gd name="textAreaBottom" fmla="*/ 1168560 h 124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6100"/>
                  </a:gs>
                  <a:gs pos="100000">
                    <a:srgbClr val="cc9900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Puzzle2"/>
              <p:cNvSpPr/>
              <p:nvPr/>
            </p:nvSpPr>
            <p:spPr>
              <a:xfrm>
                <a:off x="7637040" y="5222160"/>
                <a:ext cx="1290600" cy="1136160"/>
              </a:xfrm>
              <a:custGeom>
                <a:avLst/>
                <a:gdLst>
                  <a:gd name="textAreaLeft" fmla="*/ 321840 w 1290600"/>
                  <a:gd name="textAreaRight" fmla="*/ 966960 w 1290600"/>
                  <a:gd name="textAreaTop" fmla="*/ 354240 h 1136160"/>
                  <a:gd name="textAreaBottom" fmla="*/ 1075320 h 113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d18b"/>
                  </a:gs>
                  <a:gs pos="100000">
                    <a:srgbClr val="ff9900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Puzzle4"/>
              <p:cNvSpPr/>
              <p:nvPr/>
            </p:nvSpPr>
            <p:spPr>
              <a:xfrm>
                <a:off x="7136640" y="5208120"/>
                <a:ext cx="779400" cy="1453680"/>
              </a:xfrm>
              <a:custGeom>
                <a:avLst/>
                <a:gdLst>
                  <a:gd name="textAreaLeft" fmla="*/ 74520 w 779400"/>
                  <a:gd name="textAreaRight" fmla="*/ 729360 w 779400"/>
                  <a:gd name="textAreaTop" fmla="*/ 381600 h 1453680"/>
                  <a:gd name="textAreaBottom" fmla="*/ 1075680 h 145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e57c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Puzzle1"/>
              <p:cNvSpPr/>
              <p:nvPr/>
            </p:nvSpPr>
            <p:spPr>
              <a:xfrm>
                <a:off x="6870240" y="4690440"/>
                <a:ext cx="1306440" cy="866160"/>
              </a:xfrm>
              <a:custGeom>
                <a:avLst/>
                <a:gdLst>
                  <a:gd name="textAreaLeft" fmla="*/ 367920 w 1306440"/>
                  <a:gd name="textAreaRight" fmla="*/ 975960 w 1306440"/>
                  <a:gd name="textAreaTop" fmla="*/ 102960 h 866160"/>
                  <a:gd name="textAreaBottom" fmla="*/ 784080 h 86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6f37"/>
                  </a:gs>
                  <a:gs pos="100000">
                    <a:srgbClr val="343319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Text Box 12"/>
            <p:cNvSpPr/>
            <p:nvPr/>
          </p:nvSpPr>
          <p:spPr>
            <a:xfrm>
              <a:off x="7967160" y="6021000"/>
              <a:ext cx="229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6156360" y="5265360"/>
              <a:ext cx="572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6970680" y="4351320"/>
              <a:ext cx="57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15"/>
            <p:cNvSpPr/>
            <p:nvPr/>
          </p:nvSpPr>
          <p:spPr>
            <a:xfrm>
              <a:off x="7752960" y="6491520"/>
              <a:ext cx="572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Rectangle 16"/>
          <p:cNvSpPr/>
          <p:nvPr/>
        </p:nvSpPr>
        <p:spPr>
          <a:xfrm>
            <a:off x="395280" y="458136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еабилитационные мероприятия проводятся в индивидуальной, подгрупповой и групповой форме с каждым ребенком в рамках проведения целенаправленной медико-психолого-педагогической помощи, особой для каждого ребен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42200" cy="1008000"/>
          </a:xfrm>
          <a:prstGeom prst="rect">
            <a:avLst/>
          </a:prstGeom>
          <a:ln w="0">
            <a:noFill/>
          </a:ln>
        </p:spPr>
      </p:pic>
      <p:sp>
        <p:nvSpPr>
          <p:cNvPr id="104" name="Содержимое 2"/>
          <p:cNvSpPr/>
          <p:nvPr/>
        </p:nvSpPr>
        <p:spPr>
          <a:xfrm>
            <a:off x="324000" y="1844640"/>
            <a:ext cx="84294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 algn="just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Внедрение модели взаимосвязи коррекционно - психологического сопровождения с лечебно-восстановительным  процессом, </a:t>
            </a: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способствующей целенаправленной педагогической коррекции недостатков  психофизического разв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Сочетание педагогических и медицинских средств, направленных на всестороннее развитие личности</a:t>
            </a: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395280" y="1114560"/>
            <a:ext cx="841860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3300"/>
              </a:buClr>
              <a:buSzPct val="190000"/>
              <a:buFont typeface="Arial"/>
              <a:buChar char="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Сбор информации о ребенке, анализ медицинской карты, комплексная диагностика разных сфер жизнедеятельности ребен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90000"/>
              <a:buFont typeface="Arial"/>
              <a:buChar char="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Выбор группы образовательных областей, в рамках которых возможно проведение наиболее эффективной коррекционной работы («зоны успешности»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90000"/>
              <a:buFont typeface="Arial"/>
              <a:buChar char="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Построение индивидуальных коррекционно-образовательных маршрутов в зависимости от структуры дефекта, степени выраженности вторичных дефектов, наличия эмоционально-личностных пробле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90000"/>
              <a:buFont typeface="Arial"/>
              <a:buChar char="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Подбор и методическая подготовка персонала - воспитателей, младших воспитателей (учет индивидуально-личностных особенностей педагогов, эмоциональной составляющей,  уровня эмпати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90000"/>
              <a:buFont typeface="Arial"/>
              <a:buChar char="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Изменение (адаптация) предметно-развивающей среды в соответствии с особенностями инклюзируемого ребен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90000"/>
              <a:buFont typeface="Arial"/>
              <a:buChar char="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90000"/>
              <a:buFont typeface="Arial"/>
              <a:buChar char="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Активное включение в систему коррекционной работы родителей ребенка, других членов семь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90000"/>
              <a:buFont typeface="Arial"/>
              <a:buChar char="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Отслеживание динамики развития ребенка (система мониторинг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50720" y="333360"/>
            <a:ext cx="844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истема специального коррекционно-психологического сопровождения включает в себ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392760" y="260280"/>
            <a:ext cx="75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3b14"/>
                </a:solidFill>
                <a:latin typeface="Arial"/>
              </a:rPr>
              <a:t>РЕАЛИЗАЦИЯ ИНДИВИДУАЛЬНОГО ПОДХОДА  К  РЕБЁН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50920" y="70272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недрение индивидуальной карты развития ребёнка, листа здоровья, куда заносятся данные всех обследова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азработка и выполнение индивидуальной программы коррекции развития ребёнка с ОВЗ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азработка индивидуального маршрута сопровождения ребёнка в каждой группе содержит все коррекционные, оздоровительные и лечебно-профилактические мероприятия, назначенные ребёнку, а также время их провед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оздание банка данных для сопровождения коррекционно-развивающей работы воспитателей групп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- материал, раскрывающий особенности каждого диагноза ребен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- рекомендации по решению коррекционных задач в различных образовательных областях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- перечень и образцы пособий для работы с «инклюзированными» деть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- рекомендации по индивидуальному участию детей в проведении тематических акц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684360" y="543600"/>
            <a:ext cx="80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Рекомендуется составление общего плана деятельности для группы, как непосредственно образовательной, так и самостоятельно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и реализуемой в ходе режимных моментов,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с включением в него блоков-заданий для «инклюзированных» детей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, нуждающихся в силу особенностей развития в дифференцированном и индивидуальном подходе, дополнительном внима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совместной деятельности целесообразно проводить дифференцированное закрепление нового материала, предлагая детям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разноуровневые задания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снижая нагрузку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в групповых формах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4:43:51Z</dcterms:created>
  <dc:creator>пользователь</dc:creator>
  <dc:description/>
  <dc:language>en-US</dc:language>
  <cp:lastModifiedBy>Надечка</cp:lastModifiedBy>
  <dcterms:modified xsi:type="dcterms:W3CDTF">2013-02-13T18:34:35Z</dcterms:modified>
  <cp:revision>36</cp:revision>
  <dc:subject/>
  <dc:title>Слайд 1</dc:title>
</cp:coreProperties>
</file>