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853-AD6E-487D-B38B-7633C07B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CD5-4F05-4E48-ADCA-1FA09BDF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06A-AEE5-4930-98C4-00F028E1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6D4-9DDB-474E-8C4A-CD44A5C9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7443-E7C2-43B9-B615-0EA72C72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62D1-409C-4191-8F8B-AF64C5A2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2579-050A-455F-80B2-E9AEB0BC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7B68-9C0D-4920-9DF1-971722F1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F780-F316-4454-84F4-3B0BFE9B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4E8B-8148-4E71-B513-1C43D624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581-D6A6-4A06-A956-DC21DE3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AAD-99A4-49BF-9611-A7B8C3CA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A810-CC93-40D1-8D8B-F2F5128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F4AB-57EF-492F-B025-E72B7535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26F-0355-4349-810C-2CAB0A65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6B94-3D5C-4008-949C-049406F9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B04-3ED4-46E2-AB11-C0F3CE71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C777-B123-4B3F-91A5-9AC040F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892-80E9-4EE4-9F9B-1D6F9BD2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4F4-7E15-4A4E-A767-0DB65CA1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142-5AA4-4C1A-A6A9-9835154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688-650F-4E21-BB11-7F3C766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797-7BCD-451F-85EC-2C975DD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BFF8-3F62-4E60-AFCF-29706D82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1F8-6061-4B45-8945-CA6168FE35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E46-C543-4FD3-968F-A01265CFBBA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674640"/>
            <a:ext cx="91440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«Осуществление индивидуально ориентирова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психолого-медико-педагогической помощи детя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 ограниченными возможностями здоровья в услов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пециализированного коррекционного учрежден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Боровкова Надежда Сергеевн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педагог-психолог, учитель-дефектоло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высшей катег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МКДОУ д/с № 312 «Жемчужи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ahoma"/>
              </a:rPr>
              <a:t>(для детей с нарушением зр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</a:rPr>
              <a:t>Новосибир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95280" y="-120240"/>
            <a:ext cx="849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Тематические акции </a:t>
            </a:r>
            <a:r>
              <a:rPr b="1" i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(Акция - от лат. Actio-  действие, выступление)</a:t>
            </a:r>
            <a:r>
              <a:rPr b="1" lang="ru-RU" sz="1600" spc="-1" strike="noStrike">
                <a:solidFill>
                  <a:srgbClr val="800000"/>
                </a:solidFill>
                <a:latin typeface="Tahoma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  <a:ea typeface="Times New Roman"/>
              </a:rPr>
              <a:t>направленные на сплочение детского коллектива, формирование доброжелательных отношений между детьми и педагогами, развитие навыков конструктивного общения, а также на стабилизацию и гармонизацию детско-родительских отнош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91"/>
          <p:cNvSpPr/>
          <p:nvPr/>
        </p:nvSpPr>
        <p:spPr>
          <a:xfrm>
            <a:off x="179280" y="62161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ahoma"/>
                <a:ea typeface="Times New Roman"/>
              </a:rPr>
              <a:t>Задачи образовательной области «Коммуникация» решаются в ходе реализации различных тематических а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2"/>
          <p:cNvSpPr/>
          <p:nvPr/>
        </p:nvSpPr>
        <p:spPr>
          <a:xfrm>
            <a:off x="395280" y="5300640"/>
            <a:ext cx="3241800" cy="647640"/>
          </a:xfrm>
          <a:prstGeom prst="flowChartOnlineStorag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Оздоровитель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4"/>
          <p:cNvSpPr/>
          <p:nvPr/>
        </p:nvSpPr>
        <p:spPr>
          <a:xfrm rot="10800000">
            <a:off x="3419640" y="566064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зкуль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7"/>
          <p:cNvSpPr/>
          <p:nvPr/>
        </p:nvSpPr>
        <p:spPr>
          <a:xfrm rot="10800000">
            <a:off x="5904000" y="508428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8"/>
          <p:cNvSpPr/>
          <p:nvPr/>
        </p:nvSpPr>
        <p:spPr>
          <a:xfrm rot="10800000">
            <a:off x="5148360" y="537336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9"/>
          <p:cNvSpPr/>
          <p:nvPr/>
        </p:nvSpPr>
        <p:spPr>
          <a:xfrm>
            <a:off x="6807240" y="510840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00"/>
          <p:cNvSpPr/>
          <p:nvPr/>
        </p:nvSpPr>
        <p:spPr>
          <a:xfrm>
            <a:off x="395280" y="4508640"/>
            <a:ext cx="3241800" cy="64764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Литературные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02"/>
          <p:cNvSpPr/>
          <p:nvPr/>
        </p:nvSpPr>
        <p:spPr>
          <a:xfrm rot="10800000">
            <a:off x="3419640" y="472392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Чтен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03"/>
          <p:cNvSpPr/>
          <p:nvPr/>
        </p:nvSpPr>
        <p:spPr>
          <a:xfrm rot="10800000">
            <a:off x="5219640" y="4508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Познани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04"/>
          <p:cNvSpPr/>
          <p:nvPr/>
        </p:nvSpPr>
        <p:spPr>
          <a:xfrm>
            <a:off x="395280" y="3716280"/>
            <a:ext cx="3241800" cy="647640"/>
          </a:xfrm>
          <a:prstGeom prst="flowChartOnlineStorage">
            <a:avLst/>
          </a:pr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Трудовы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05"/>
          <p:cNvSpPr/>
          <p:nvPr/>
        </p:nvSpPr>
        <p:spPr>
          <a:xfrm rot="10800000">
            <a:off x="3564000" y="414936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ру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6"/>
          <p:cNvSpPr/>
          <p:nvPr/>
        </p:nvSpPr>
        <p:spPr>
          <a:xfrm rot="10800000">
            <a:off x="5148360" y="378900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Безопасность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08"/>
          <p:cNvSpPr/>
          <p:nvPr/>
        </p:nvSpPr>
        <p:spPr>
          <a:xfrm>
            <a:off x="468360" y="2924280"/>
            <a:ext cx="3241800" cy="647640"/>
          </a:xfrm>
          <a:prstGeom prst="flowChartOnlineStorag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Творческие</a:t>
            </a: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09"/>
          <p:cNvSpPr/>
          <p:nvPr/>
        </p:nvSpPr>
        <p:spPr>
          <a:xfrm>
            <a:off x="539640" y="2133720"/>
            <a:ext cx="3241800" cy="647640"/>
          </a:xfrm>
          <a:prstGeom prst="flowChartOnlineStorag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Социальные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66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0"/>
          <p:cNvSpPr/>
          <p:nvPr/>
        </p:nvSpPr>
        <p:spPr>
          <a:xfrm>
            <a:off x="539640" y="1341360"/>
            <a:ext cx="3241800" cy="647640"/>
          </a:xfrm>
          <a:prstGeom prst="flowChartOnlineStorag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Экологические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00"/>
                </a:solidFill>
                <a:latin typeface="Arial"/>
              </a:rPr>
              <a:t>а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11"/>
          <p:cNvSpPr/>
          <p:nvPr/>
        </p:nvSpPr>
        <p:spPr>
          <a:xfrm rot="10800000">
            <a:off x="3492000" y="3284640"/>
            <a:ext cx="3240360" cy="29664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узык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12"/>
          <p:cNvSpPr/>
          <p:nvPr/>
        </p:nvSpPr>
        <p:spPr>
          <a:xfrm rot="10800000">
            <a:off x="5508720" y="299736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Художественное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ворчество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4"/>
          <p:cNvSpPr/>
          <p:nvPr/>
        </p:nvSpPr>
        <p:spPr>
          <a:xfrm rot="10800000">
            <a:off x="3780000" y="2420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Труд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16"/>
          <p:cNvSpPr/>
          <p:nvPr/>
        </p:nvSpPr>
        <p:spPr>
          <a:xfrm rot="10800000">
            <a:off x="5580000" y="213336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оциализаци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17"/>
          <p:cNvSpPr/>
          <p:nvPr/>
        </p:nvSpPr>
        <p:spPr>
          <a:xfrm rot="10800000">
            <a:off x="3708360" y="169992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знание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19"/>
          <p:cNvSpPr/>
          <p:nvPr/>
        </p:nvSpPr>
        <p:spPr>
          <a:xfrm rot="10800000">
            <a:off x="4572000" y="1412640"/>
            <a:ext cx="3240000" cy="29664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Здоровье 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18"/>
          <p:cNvSpPr/>
          <p:nvPr/>
        </p:nvSpPr>
        <p:spPr>
          <a:xfrm rot="10800000">
            <a:off x="5904000" y="1124640"/>
            <a:ext cx="3240000" cy="29700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4" y="0"/>
                </a:lnTo>
                <a:lnTo>
                  <a:pt x="21600" y="10800"/>
                </a:lnTo>
                <a:lnTo>
                  <a:pt x="19214" y="21600"/>
                </a:lnTo>
                <a:lnTo>
                  <a:pt x="0" y="21600"/>
                </a:lnTo>
                <a:lnTo>
                  <a:pt x="2386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руд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939640" cy="4075920"/>
            <a:chOff x="0" y="0"/>
            <a:chExt cx="5939640" cy="4075920"/>
          </a:xfrm>
        </p:grpSpPr>
        <p:grpSp>
          <p:nvGrpSpPr>
            <p:cNvPr id="134" name="Group 3"/>
            <p:cNvGrpSpPr/>
            <p:nvPr/>
          </p:nvGrpSpPr>
          <p:grpSpPr>
            <a:xfrm>
              <a:off x="1773360" y="0"/>
              <a:ext cx="2364480" cy="2044440"/>
              <a:chOff x="1773360" y="0"/>
              <a:chExt cx="2364480" cy="2044440"/>
            </a:xfrm>
          </p:grpSpPr>
          <p:sp>
            <p:nvSpPr>
              <p:cNvPr id="135" name="AutoShape 4"/>
              <p:cNvSpPr/>
              <p:nvPr/>
            </p:nvSpPr>
            <p:spPr>
              <a:xfrm>
                <a:off x="1792800" y="34920"/>
                <a:ext cx="2345040" cy="2009520"/>
              </a:xfrm>
              <a:prstGeom prst="hexagon">
                <a:avLst>
                  <a:gd name="adj" fmla="val 291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AutoShape 5"/>
              <p:cNvSpPr/>
              <p:nvPr/>
            </p:nvSpPr>
            <p:spPr>
              <a:xfrm>
                <a:off x="1773360" y="0"/>
                <a:ext cx="2345040" cy="2009520"/>
              </a:xfrm>
              <a:prstGeom prst="hexagon">
                <a:avLst>
                  <a:gd name="adj" fmla="val 2917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AutoShape 6"/>
              <p:cNvSpPr/>
              <p:nvPr/>
            </p:nvSpPr>
            <p:spPr>
              <a:xfrm>
                <a:off x="1910520" y="120960"/>
                <a:ext cx="2061000" cy="1767600"/>
              </a:xfrm>
              <a:prstGeom prst="hexagon">
                <a:avLst>
                  <a:gd name="adj" fmla="val 29150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7"/>
            <p:cNvGrpSpPr/>
            <p:nvPr/>
          </p:nvGrpSpPr>
          <p:grpSpPr>
            <a:xfrm>
              <a:off x="0" y="1018080"/>
              <a:ext cx="2365920" cy="2044440"/>
              <a:chOff x="0" y="1018080"/>
              <a:chExt cx="2365920" cy="2044440"/>
            </a:xfrm>
          </p:grpSpPr>
          <p:sp>
            <p:nvSpPr>
              <p:cNvPr id="139" name="AutoShape 8"/>
              <p:cNvSpPr/>
              <p:nvPr/>
            </p:nvSpPr>
            <p:spPr>
              <a:xfrm>
                <a:off x="19440" y="105300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AutoShape 9"/>
              <p:cNvSpPr/>
              <p:nvPr/>
            </p:nvSpPr>
            <p:spPr>
              <a:xfrm>
                <a:off x="0" y="101808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0"/>
              <p:cNvSpPr/>
              <p:nvPr/>
            </p:nvSpPr>
            <p:spPr>
              <a:xfrm>
                <a:off x="137520" y="1139040"/>
                <a:ext cx="2062440" cy="1767600"/>
              </a:xfrm>
              <a:prstGeom prst="hexagon">
                <a:avLst>
                  <a:gd name="adj" fmla="val 29170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Тем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(на неделю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11"/>
            <p:cNvSpPr/>
            <p:nvPr/>
          </p:nvSpPr>
          <p:spPr>
            <a:xfrm>
              <a:off x="2883600" y="798480"/>
              <a:ext cx="18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1119240" y="1782000"/>
              <a:ext cx="18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4" name="Group 13"/>
            <p:cNvGrpSpPr/>
            <p:nvPr/>
          </p:nvGrpSpPr>
          <p:grpSpPr>
            <a:xfrm>
              <a:off x="3573360" y="1023120"/>
              <a:ext cx="2366280" cy="2044440"/>
              <a:chOff x="3573360" y="1023120"/>
              <a:chExt cx="2366280" cy="2044440"/>
            </a:xfrm>
          </p:grpSpPr>
          <p:sp>
            <p:nvSpPr>
              <p:cNvPr id="145" name="AutoShape 14"/>
              <p:cNvSpPr/>
              <p:nvPr/>
            </p:nvSpPr>
            <p:spPr>
              <a:xfrm>
                <a:off x="3593160" y="105804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AutoShape 15"/>
              <p:cNvSpPr/>
              <p:nvPr/>
            </p:nvSpPr>
            <p:spPr>
              <a:xfrm>
                <a:off x="3573360" y="1023120"/>
                <a:ext cx="2346840" cy="2009520"/>
              </a:xfrm>
              <a:prstGeom prst="hexagon">
                <a:avLst>
                  <a:gd name="adj" fmla="val 2919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AutoShape 16"/>
              <p:cNvSpPr/>
              <p:nvPr/>
            </p:nvSpPr>
            <p:spPr>
              <a:xfrm>
                <a:off x="3710880" y="1144080"/>
                <a:ext cx="2062440" cy="1767600"/>
              </a:xfrm>
              <a:prstGeom prst="hexagon">
                <a:avLst>
                  <a:gd name="adj" fmla="val 2917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8" name="Text Box 17"/>
            <p:cNvSpPr/>
            <p:nvPr/>
          </p:nvSpPr>
          <p:spPr>
            <a:xfrm>
              <a:off x="3996360" y="1718280"/>
              <a:ext cx="1584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" name="Group 18"/>
            <p:cNvGrpSpPr/>
            <p:nvPr/>
          </p:nvGrpSpPr>
          <p:grpSpPr>
            <a:xfrm>
              <a:off x="1789200" y="2031480"/>
              <a:ext cx="2365920" cy="2044440"/>
              <a:chOff x="1789200" y="2031480"/>
              <a:chExt cx="2365920" cy="2044440"/>
            </a:xfrm>
          </p:grpSpPr>
          <p:sp>
            <p:nvSpPr>
              <p:cNvPr id="150" name="AutoShape 19"/>
              <p:cNvSpPr/>
              <p:nvPr/>
            </p:nvSpPr>
            <p:spPr>
              <a:xfrm>
                <a:off x="1809000" y="2066400"/>
                <a:ext cx="2346120" cy="2009520"/>
              </a:xfrm>
              <a:prstGeom prst="hexagon">
                <a:avLst>
                  <a:gd name="adj" fmla="val 2918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AutoShape 20"/>
              <p:cNvSpPr/>
              <p:nvPr/>
            </p:nvSpPr>
            <p:spPr>
              <a:xfrm>
                <a:off x="1789200" y="2031480"/>
                <a:ext cx="2346480" cy="2009520"/>
              </a:xfrm>
              <a:prstGeom prst="hexagon">
                <a:avLst>
                  <a:gd name="adj" fmla="val 29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AutoShape 21"/>
              <p:cNvSpPr/>
              <p:nvPr/>
            </p:nvSpPr>
            <p:spPr>
              <a:xfrm>
                <a:off x="1926720" y="2152440"/>
                <a:ext cx="2062080" cy="1767600"/>
              </a:xfrm>
              <a:prstGeom prst="hexagon">
                <a:avLst>
                  <a:gd name="adj" fmla="val 29165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одуктивные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вид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деятельно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(в течение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недели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Text Box 22"/>
            <p:cNvSpPr/>
            <p:nvPr/>
          </p:nvSpPr>
          <p:spPr>
            <a:xfrm>
              <a:off x="2902320" y="2729880"/>
              <a:ext cx="18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Group 23"/>
          <p:cNvGrpSpPr/>
          <p:nvPr/>
        </p:nvGrpSpPr>
        <p:grpSpPr>
          <a:xfrm>
            <a:off x="3564000" y="1989000"/>
            <a:ext cx="5579280" cy="4176000"/>
            <a:chOff x="3564000" y="1989000"/>
            <a:chExt cx="5579280" cy="4176000"/>
          </a:xfrm>
        </p:grpSpPr>
        <p:grpSp>
          <p:nvGrpSpPr>
            <p:cNvPr id="155" name="Group 24"/>
            <p:cNvGrpSpPr/>
            <p:nvPr/>
          </p:nvGrpSpPr>
          <p:grpSpPr>
            <a:xfrm>
              <a:off x="5229720" y="1989000"/>
              <a:ext cx="2220840" cy="2094480"/>
              <a:chOff x="5229720" y="1989000"/>
              <a:chExt cx="2220840" cy="2094480"/>
            </a:xfrm>
          </p:grpSpPr>
          <p:sp>
            <p:nvSpPr>
              <p:cNvPr id="156" name="AutoShape 25"/>
              <p:cNvSpPr/>
              <p:nvPr/>
            </p:nvSpPr>
            <p:spPr>
              <a:xfrm>
                <a:off x="5248080" y="2024640"/>
                <a:ext cx="2202480" cy="2058840"/>
              </a:xfrm>
              <a:prstGeom prst="hexagon">
                <a:avLst>
                  <a:gd name="adj" fmla="val 2674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AutoShape 26"/>
              <p:cNvSpPr/>
              <p:nvPr/>
            </p:nvSpPr>
            <p:spPr>
              <a:xfrm>
                <a:off x="5229720" y="1989000"/>
                <a:ext cx="2202480" cy="2058840"/>
              </a:xfrm>
              <a:prstGeom prst="hexagon">
                <a:avLst>
                  <a:gd name="adj" fmla="val 2674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AutoShape 27"/>
              <p:cNvSpPr/>
              <p:nvPr/>
            </p:nvSpPr>
            <p:spPr>
              <a:xfrm>
                <a:off x="5358600" y="2112840"/>
                <a:ext cx="1935720" cy="1810800"/>
              </a:xfrm>
              <a:prstGeom prst="hexagon">
                <a:avLst>
                  <a:gd name="adj" fmla="val 26725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Подведение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тогов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анализ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результатов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тоговое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мероприятие,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акция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(пятница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8"/>
            <p:cNvGrpSpPr/>
            <p:nvPr/>
          </p:nvGrpSpPr>
          <p:grpSpPr>
            <a:xfrm>
              <a:off x="3564000" y="3031920"/>
              <a:ext cx="2222280" cy="2094480"/>
              <a:chOff x="3564000" y="3031920"/>
              <a:chExt cx="2222280" cy="2094480"/>
            </a:xfrm>
          </p:grpSpPr>
          <p:sp>
            <p:nvSpPr>
              <p:cNvPr id="160" name="AutoShape 29"/>
              <p:cNvSpPr/>
              <p:nvPr/>
            </p:nvSpPr>
            <p:spPr>
              <a:xfrm>
                <a:off x="3582360" y="306756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AutoShape 30"/>
              <p:cNvSpPr/>
              <p:nvPr/>
            </p:nvSpPr>
            <p:spPr>
              <a:xfrm>
                <a:off x="3564000" y="303192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AutoShape 31"/>
              <p:cNvSpPr/>
              <p:nvPr/>
            </p:nvSpPr>
            <p:spPr>
              <a:xfrm>
                <a:off x="3692880" y="3155760"/>
                <a:ext cx="1937160" cy="1810800"/>
              </a:xfrm>
              <a:prstGeom prst="hexagon">
                <a:avLst>
                  <a:gd name="adj" fmla="val 26745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Мультимедийные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тематические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презентации –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ввод новой темы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(четверг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Text Box 32"/>
            <p:cNvSpPr/>
            <p:nvPr/>
          </p:nvSpPr>
          <p:spPr>
            <a:xfrm>
              <a:off x="6266520" y="2798280"/>
              <a:ext cx="1864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4609440" y="3816720"/>
              <a:ext cx="18504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Group 34"/>
            <p:cNvGrpSpPr/>
            <p:nvPr/>
          </p:nvGrpSpPr>
          <p:grpSpPr>
            <a:xfrm>
              <a:off x="6920640" y="3037320"/>
              <a:ext cx="2222640" cy="2094480"/>
              <a:chOff x="6920640" y="3037320"/>
              <a:chExt cx="2222640" cy="2094480"/>
            </a:xfrm>
          </p:grpSpPr>
          <p:sp>
            <p:nvSpPr>
              <p:cNvPr id="166" name="AutoShape 35"/>
              <p:cNvSpPr/>
              <p:nvPr/>
            </p:nvSpPr>
            <p:spPr>
              <a:xfrm>
                <a:off x="6939360" y="307296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AutoShape 36"/>
              <p:cNvSpPr/>
              <p:nvPr/>
            </p:nvSpPr>
            <p:spPr>
              <a:xfrm>
                <a:off x="6920640" y="3037320"/>
                <a:ext cx="2204280" cy="2058840"/>
              </a:xfrm>
              <a:prstGeom prst="hexagon">
                <a:avLst>
                  <a:gd name="adj" fmla="val 2676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AutoShape 37"/>
              <p:cNvSpPr/>
              <p:nvPr/>
            </p:nvSpPr>
            <p:spPr>
              <a:xfrm>
                <a:off x="7049520" y="3161160"/>
                <a:ext cx="1937160" cy="1810800"/>
              </a:xfrm>
              <a:prstGeom prst="hexagon">
                <a:avLst>
                  <a:gd name="adj" fmla="val 26745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Text Box 38"/>
            <p:cNvSpPr/>
            <p:nvPr/>
          </p:nvSpPr>
          <p:spPr>
            <a:xfrm>
              <a:off x="7966440" y="3749400"/>
              <a:ext cx="186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" name="Group 39"/>
            <p:cNvGrpSpPr/>
            <p:nvPr/>
          </p:nvGrpSpPr>
          <p:grpSpPr>
            <a:xfrm>
              <a:off x="5244480" y="4070520"/>
              <a:ext cx="2222280" cy="2094480"/>
              <a:chOff x="5244480" y="4070520"/>
              <a:chExt cx="2222280" cy="2094480"/>
            </a:xfrm>
          </p:grpSpPr>
          <p:sp>
            <p:nvSpPr>
              <p:cNvPr id="171" name="AutoShape 40"/>
              <p:cNvSpPr/>
              <p:nvPr/>
            </p:nvSpPr>
            <p:spPr>
              <a:xfrm>
                <a:off x="5263200" y="4106160"/>
                <a:ext cx="2203560" cy="2058840"/>
              </a:xfrm>
              <a:prstGeom prst="hexagon">
                <a:avLst>
                  <a:gd name="adj" fmla="val 2675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utoShape 41"/>
              <p:cNvSpPr/>
              <p:nvPr/>
            </p:nvSpPr>
            <p:spPr>
              <a:xfrm>
                <a:off x="5244480" y="4070520"/>
                <a:ext cx="2203920" cy="2058840"/>
              </a:xfrm>
              <a:prstGeom prst="hexagon">
                <a:avLst>
                  <a:gd name="adj" fmla="val 2676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AutoShape 42"/>
              <p:cNvSpPr/>
              <p:nvPr/>
            </p:nvSpPr>
            <p:spPr>
              <a:xfrm>
                <a:off x="5373360" y="4194360"/>
                <a:ext cx="1936800" cy="1810800"/>
              </a:xfrm>
              <a:prstGeom prst="hexagon">
                <a:avLst>
                  <a:gd name="adj" fmla="val 26740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Text Box 43"/>
            <p:cNvSpPr/>
            <p:nvPr/>
          </p:nvSpPr>
          <p:spPr>
            <a:xfrm>
              <a:off x="6279840" y="4785840"/>
              <a:ext cx="18648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Rectangle 46"/>
          <p:cNvSpPr/>
          <p:nvPr/>
        </p:nvSpPr>
        <p:spPr>
          <a:xfrm>
            <a:off x="2050920" y="620640"/>
            <a:ext cx="165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знавательно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витие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ведение в те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понедельник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8"/>
          <p:cNvSpPr/>
          <p:nvPr/>
        </p:nvSpPr>
        <p:spPr>
          <a:xfrm>
            <a:off x="3780000" y="1413000"/>
            <a:ext cx="180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теграция и реализация образовательных облас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течение недел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5536800" y="4460760"/>
            <a:ext cx="1643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ве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тел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ледующ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пятниц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389840" y="277920"/>
            <a:ext cx="384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КОМПЛЕКСНО-ТЕМА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5"/>
          <p:cNvSpPr/>
          <p:nvPr/>
        </p:nvSpPr>
        <p:spPr>
          <a:xfrm>
            <a:off x="7167960" y="3645000"/>
            <a:ext cx="172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тог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ду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9"/>
          <p:cNvSpPr/>
          <p:nvPr/>
        </p:nvSpPr>
        <p:spPr>
          <a:xfrm>
            <a:off x="179280" y="4223160"/>
            <a:ext cx="489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иды детской деятельност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игров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ознавательно-исследователь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коммуника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труд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музыкально-художе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Arial"/>
              </a:rPr>
              <a:t>прод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2"/>
          <p:cNvSpPr/>
          <p:nvPr/>
        </p:nvSpPr>
        <p:spPr>
          <a:xfrm>
            <a:off x="5445000" y="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«ПРЕЗЕНТАШКИ ОТ КИТЁ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(проводят учитель-логопед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omic Sans MS"/>
              </a:rPr>
              <a:t>тифлопедаго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682560" y="692280"/>
            <a:ext cx="8461440" cy="58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Еженедельный просмот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мультимедийных тематических презентаций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комплексно-тематического план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озволяет интегрировать различные образовательные области, так как в процессе просмотра детям предлагаются различные виды деятельности (чтение литературных произведений, двигательные паузы, ситуативные беседы, диалоги, релаксационные паузы, использование музыкального сопровожд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«многоканальности» восприятия, что особенно важно для развития детей с ОВЗ, в частности, с нарушениями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 доступной форме знакомит детей с современными информационными технолог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4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лизует принцип взаимосвязи с родителями (участие родителей в создании части презентаций, создание «банка» презентаций для домашнего просмотр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50920" y="33840"/>
            <a:ext cx="863280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 результатам прохождения темы анализиру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рисутствие ребенка в течение недели, его участие в непосредственно образовательной деятельности и совместной коррекционной деятельности с учителем- дефектолог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Эмоциональный фон в групп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Степень «погруженности» детей в деятельность, наличие интереса к предлагаемой те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Отражение в самостоятельной деятельности полученных в течение недели зн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SzPct val="115000"/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Адекватность внесения изменений в развивающую среду в соответствии с темой недели (использование детьми предлагаемых педагогом пособий и материалов в самостоятельной деятельност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95280" y="95400"/>
            <a:ext cx="828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о результатам анализа выстраивается деятельность по закреплению пройденной темы на следующую недел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ндивидуальная работа в группе и на индивидуальных занятиях у тифлопедагога, психолога, логопеда (внесение корректив в календарные планы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дгрупповая работа в группе и у специалистов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ланирование дидактических игр в совместной и самостоя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25000"/>
              <a:buFont typeface="Wingdings" charset="2"/>
              <a:buChar char="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несение изменений в развивающую среду группы и функциональных помещений детского с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-1908000" y="-171360"/>
            <a:ext cx="11375280" cy="7028640"/>
            <a:chOff x="-1908000" y="-171360"/>
            <a:chExt cx="11375280" cy="7028640"/>
          </a:xfrm>
        </p:grpSpPr>
        <p:grpSp>
          <p:nvGrpSpPr>
            <p:cNvPr id="186" name="Group 3"/>
            <p:cNvGrpSpPr/>
            <p:nvPr/>
          </p:nvGrpSpPr>
          <p:grpSpPr>
            <a:xfrm>
              <a:off x="870120" y="-171360"/>
              <a:ext cx="8055000" cy="7028640"/>
              <a:chOff x="870120" y="-171360"/>
              <a:chExt cx="8055000" cy="7028640"/>
            </a:xfrm>
          </p:grpSpPr>
          <p:sp>
            <p:nvSpPr>
              <p:cNvPr id="187" name="Puzzle3"/>
              <p:cNvSpPr/>
              <p:nvPr/>
            </p:nvSpPr>
            <p:spPr>
              <a:xfrm>
                <a:off x="4793040" y="-171360"/>
                <a:ext cx="3166200" cy="3735360"/>
              </a:xfrm>
              <a:custGeom>
                <a:avLst/>
                <a:gdLst>
                  <a:gd name="textAreaLeft" fmla="*/ 332280 w 3166200"/>
                  <a:gd name="textAreaRight" fmla="*/ 2808360 w 3166200"/>
                  <a:gd name="textAreaTop" fmla="*/ 1334520 h 3735360"/>
                  <a:gd name="textAreaBottom" fmla="*/ 3498480 h 3735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Puzzle2"/>
              <p:cNvSpPr/>
              <p:nvPr/>
            </p:nvSpPr>
            <p:spPr>
              <a:xfrm>
                <a:off x="3871800" y="2549520"/>
                <a:ext cx="5053320" cy="3401640"/>
              </a:xfrm>
              <a:custGeom>
                <a:avLst/>
                <a:gdLst>
                  <a:gd name="textAreaLeft" fmla="*/ 1261800 w 5053320"/>
                  <a:gd name="textAreaRight" fmla="*/ 3785760 w 5053320"/>
                  <a:gd name="textAreaTop" fmla="*/ 1060560 h 3401640"/>
                  <a:gd name="textAreaBottom" fmla="*/ 3219120 h 340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Puzzle4"/>
              <p:cNvSpPr/>
              <p:nvPr/>
            </p:nvSpPr>
            <p:spPr>
              <a:xfrm>
                <a:off x="1916280" y="2507760"/>
                <a:ext cx="3046680" cy="4349520"/>
              </a:xfrm>
              <a:custGeom>
                <a:avLst/>
                <a:gdLst>
                  <a:gd name="textAreaLeft" fmla="*/ 292680 w 3046680"/>
                  <a:gd name="textAreaRight" fmla="*/ 2850840 w 3046680"/>
                  <a:gd name="textAreaTop" fmla="*/ 1139760 h 4349520"/>
                  <a:gd name="textAreaBottom" fmla="*/ 3216960 h 434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Puzzle1"/>
              <p:cNvSpPr/>
              <p:nvPr/>
            </p:nvSpPr>
            <p:spPr>
              <a:xfrm>
                <a:off x="870120" y="958680"/>
                <a:ext cx="5116680" cy="2592720"/>
              </a:xfrm>
              <a:custGeom>
                <a:avLst/>
                <a:gdLst>
                  <a:gd name="textAreaLeft" fmla="*/ 1441080 w 5116680"/>
                  <a:gd name="textAreaRight" fmla="*/ 3820680 w 5116680"/>
                  <a:gd name="textAreaTop" fmla="*/ 308160 h 2592720"/>
                  <a:gd name="textAreaBottom" fmla="*/ 2346120 h 259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33cc"/>
                  </a:gs>
                  <a:gs pos="100000">
                    <a:srgbClr val="ffff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Text Box 8"/>
            <p:cNvSpPr/>
            <p:nvPr/>
          </p:nvSpPr>
          <p:spPr>
            <a:xfrm>
              <a:off x="8371080" y="3652560"/>
              <a:ext cx="185040" cy="366840"/>
            </a:xfrm>
            <a:prstGeom prst="rect">
              <a:avLst/>
            </a:prstGeom>
            <a:gradFill rotWithShape="0">
              <a:gsLst>
                <a:gs pos="0">
                  <a:srgbClr val="ff33cc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9"/>
            <p:cNvSpPr/>
            <p:nvPr/>
          </p:nvSpPr>
          <p:spPr>
            <a:xfrm>
              <a:off x="-1908000" y="2666160"/>
              <a:ext cx="347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1287000" y="-49320"/>
              <a:ext cx="444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1"/>
            <p:cNvSpPr/>
            <p:nvPr/>
          </p:nvSpPr>
          <p:spPr>
            <a:xfrm>
              <a:off x="4345560" y="6337800"/>
              <a:ext cx="512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Text Box 12"/>
          <p:cNvSpPr/>
          <p:nvPr/>
        </p:nvSpPr>
        <p:spPr>
          <a:xfrm>
            <a:off x="1446120" y="1963800"/>
            <a:ext cx="337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Полифункциональ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4858200" y="1171440"/>
            <a:ext cx="30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ансформируем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124000" y="5229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ариат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181840" y="3691080"/>
            <a:ext cx="243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гратив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-151560" y="0"/>
            <a:ext cx="593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При создании предметно-развивающей сре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в соответствии с ФГ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ahoma"/>
              </a:rPr>
              <a:t>учитываются следующие принцип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24000" y="-720"/>
            <a:ext cx="842472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истема мониторинга достижения детьми планируемых результатов освоения Програм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Мониторинг детского развития проводится два-три раза в год: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в октябре - нояб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январе (либо по мере необходимости, с детьми группы риска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- в апреле-ма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В проведении мониторинга участвую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воспитател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логопе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учителя-дефектолог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 психолог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музыкальный руководител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-воспитатель по ИЗ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медицинские работ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Основная задача мониторинга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определить степень освоения ребенком образовательной программы и влияние образовательного процесса, организуемого в дошкольном учреждении, на развитие ребенка; отследить эффективность используемых лечебно-оздоровительных  и коррекционных методов сопровождения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2"/>
          <p:cNvSpPr/>
          <p:nvPr/>
        </p:nvSpPr>
        <p:spPr>
          <a:xfrm>
            <a:off x="755640" y="214200"/>
            <a:ext cx="7416720" cy="609840"/>
          </a:xfrm>
          <a:prstGeom prst="rect">
            <a:avLst/>
          </a:prstGeom>
          <a:gradFill rotWithShape="0">
            <a:gsLst>
              <a:gs pos="0">
                <a:srgbClr val="9c9cdf"/>
              </a:gs>
              <a:gs pos="50000">
                <a:srgbClr val="ffffff"/>
              </a:gs>
              <a:gs pos="100000">
                <a:srgbClr val="9c9cd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Times New Roman"/>
                <a:ea typeface="Calibri"/>
              </a:rPr>
              <a:t>мониторинг усвоения образовательной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395280" y="692280"/>
            <a:ext cx="3029040" cy="514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ниторинг образовательного проц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4859280" y="765000"/>
            <a:ext cx="356868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мониторинг детского развития (мониторинг интегративных качеств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0" y="1268280"/>
            <a:ext cx="2695680" cy="73368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одят педагоги, занимающиеся с детьми: воспитатели, специалис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72000" y="1341360"/>
            <a:ext cx="4295880" cy="43200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водит  психолог,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исты, мед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179280" y="2133720"/>
            <a:ext cx="3533760" cy="56196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ль: оценка степени продвижения в образовательном процес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427640" y="1916280"/>
            <a:ext cx="3744720" cy="115236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ль: выявление индивидуальных особенностей развития ребенка и  определение (при необходимости) индивидуального образовательного маршру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95280" y="2924280"/>
            <a:ext cx="2352600" cy="54612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етоды  мониторин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79280" y="3716280"/>
            <a:ext cx="3167280" cy="1873440"/>
          </a:xfrm>
          <a:prstGeom prst="rect">
            <a:avLst/>
          </a:prstGeom>
          <a:solidFill>
            <a:srgbClr val="ffd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ребенком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анализ продуктов детской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пециальные педагогические проб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анализ организации развивающей сре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940360" y="5229360"/>
            <a:ext cx="3009960" cy="100800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блюдение за ребенк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диагностические метод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- тестовые зад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0" y="6237360"/>
            <a:ext cx="7632720" cy="620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  <a:ea typeface="Times New Roman"/>
              </a:rPr>
              <a:t>индивидуальная карта развития ребенка, лист здоровь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  <a:ea typeface="Times New Roman"/>
              </a:rPr>
              <a:t>индивидуальный образовательный маршр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3780000" y="3141720"/>
            <a:ext cx="3166920" cy="504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Calibri"/>
              </a:rPr>
              <a:t>оценка физического развития ребенка, состояние его здоров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492360" y="3789360"/>
            <a:ext cx="2808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познаватель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1"/>
          <p:cNvSpPr/>
          <p:nvPr/>
        </p:nvSpPr>
        <p:spPr>
          <a:xfrm>
            <a:off x="6478560" y="3716280"/>
            <a:ext cx="266544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 коммуникатив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659640" y="4437000"/>
            <a:ext cx="230328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 регуляторных способ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708360" y="4365720"/>
            <a:ext cx="2808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00"/>
                </a:solidFill>
                <a:latin typeface="Times New Roman"/>
                <a:ea typeface="Calibri"/>
              </a:rPr>
              <a:t>диагностика</a:t>
            </a:r>
            <a:r>
              <a:rPr b="1" lang="ru-RU" sz="1200" spc="-1" strike="noStrike">
                <a:solidFill>
                  <a:srgbClr val="009900"/>
                </a:solidFill>
                <a:latin typeface="Times New Roman"/>
                <a:ea typeface="Calibri"/>
              </a:rPr>
              <a:t> </a:t>
            </a:r>
            <a:r>
              <a:rPr b="1" lang="ru-RU" sz="1400" spc="-1" strike="noStrike">
                <a:solidFill>
                  <a:srgbClr val="009900"/>
                </a:solidFill>
                <a:latin typeface="Times New Roman"/>
                <a:ea typeface="Calibri"/>
              </a:rPr>
              <a:t>особенностей перцептивной сфе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851280" y="4869000"/>
            <a:ext cx="2428920" cy="360360"/>
          </a:xfrm>
          <a:prstGeom prst="rect">
            <a:avLst/>
          </a:prstGeom>
          <a:solidFill>
            <a:srgbClr val="ffd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методы мониторин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324000" y="136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539640" y="4581360"/>
            <a:ext cx="7561440" cy="1584360"/>
          </a:xfrm>
          <a:prstGeom prst="pie">
            <a:avLst/>
          </a:prstGeom>
          <a:solidFill>
            <a:srgbClr val="00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Принципы работы с  родител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50920" y="2637000"/>
            <a:ext cx="3744720" cy="194436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целенаправленнос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систематичнос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ланов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908000" y="404640"/>
            <a:ext cx="4465800" cy="194472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дифференцированный подхо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к работе с родителя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с учётом специф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каждой семь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и состояния здоровья ребе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0"/>
          <p:cNvSpPr/>
          <p:nvPr/>
        </p:nvSpPr>
        <p:spPr>
          <a:xfrm>
            <a:off x="4716360" y="2492280"/>
            <a:ext cx="4176720" cy="22320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ткрытость детского са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для семь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(каждому родител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обеспечивается возможност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знать и виде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как живет и развив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его ребенок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468360" y="-189360"/>
            <a:ext cx="8064360" cy="69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Проблемы и трудност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сутствие примерной основной общеобразовательной программы для детей с ограниченными возможностями здоровья, которая должна быть реализована в группах компенсирующей и комбинированной направл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нформационный «голод», который испытывают педагоги специальных коррекционных учреждений в процессе реализации федеральных государственных требований – нет методических рекомендаций, пособий, не изучены информационные потребности педагогических кад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сутствие научного руководства или специального методического сопровождения ведет к трудностям при самостоятельной разработке рабочей программы учреждения, а также делает спорным вопрос о корректности «приведения в соответствие с ФГТ уже используемых в ДОУ программ и технологий», как рекомендуется педагогам-практ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66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«Человеческий» и «временной» факт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468360" y="7599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еобходимость разработки интегрированной образовательной программы развития дошкольников с ОВЗ обусловлена, прежде всего, увеличением количества и степени тяжести различных отклонений в развитии детей, вызванных экологическими, медицинскими, социальными и другими причин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Успешная коррекция развития детей с различными нарушениями требует комплексного подхода, сочетающего в себе совместные усилия медиков, учителей-дефектологов, воспитателей, психологов, логопедов, родител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55640" y="227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Все в наших руках, поэтому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их нельзя опускать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MCj0335176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397080" y="184320"/>
            <a:ext cx="86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395280" y="264240"/>
            <a:ext cx="8280360" cy="59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Наша миссия: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сестороннее развитие личности и максимальная самореализация каждого ребенка с учетом его индивидуальных особенностей (склонностей, способностей, социального статуса, психофизического развит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Наш детский сад посещают 94 ребенка с различными нарушениями зрения, слабовидящие, есть тотально слепой ребенок, дети с задержками в развитии, дети с тяжелыми формами ДЦП, один из них – практически не передвигается самостоятельн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 настоящее время выросло количество детей-дошкольников со сложными сочетанными дефектами: различные нарушения зрения и ДЦП разной степени тяжести и форм, тотальная слепота и ДЦП, аутизм, нарушения зрения и ЗПР различного генеза, умственная отсталость разной степени, и други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Возникает необходимость в построении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специального коррекционно-психологического сопровождения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ждого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 так называемого «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сложного</a:t>
            </a: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»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пециалистами нашего учреждения была отработана единая система организации коррекционно-образовательного процесса и создана система медицинского и коррекционно-психологического сопровождения образовательного процесс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68360" y="331200"/>
            <a:ext cx="820908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Медицинское сопровожд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го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целью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является сохранение и укрепление здоровья детей, формирование у родителей, педагогов, воспитанников ответственности в деле сохранения собственного здоров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1.Охрана и укрепление здоровья дошкольников, совершенствование их физического здоровья, повышение сопротивляемости организма, улучшение умственной и физической работоспособ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2.Формирование у детей жизненно необходимых двигательных умений и навыков, достижение определенного уровня физической подготов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3. Формирование потребности в физическом совершенствовании, вооружение знаниями, умениями и навыками, воспитание привычки к здоровому образу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539640" y="351720"/>
            <a:ext cx="82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Коррекционно-психологическое сопровождение</a:t>
            </a: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обеспечивает создание условий для повышения автономности и социальной активности детей, для развития интеллектуальных процессов, формирования ценностных установок, соответствующих психическим и физическим возможностям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50920" y="2349000"/>
            <a:ext cx="854064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ahoma"/>
              </a:rPr>
              <a:t>Основными принципами организации деятельности коррекционно-психологического сопровождения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приоритет интересов и потребностей ребенк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непрерывность сопрово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3300"/>
                </a:solidFill>
                <a:latin typeface="Tahoma"/>
              </a:rPr>
              <a:t>мультидисциплинар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6156360" y="4313160"/>
            <a:ext cx="2771280" cy="2544840"/>
            <a:chOff x="6156360" y="4313160"/>
            <a:chExt cx="2771280" cy="2544840"/>
          </a:xfrm>
        </p:grpSpPr>
        <p:grpSp>
          <p:nvGrpSpPr>
            <p:cNvPr id="93" name="Group 7"/>
            <p:cNvGrpSpPr/>
            <p:nvPr/>
          </p:nvGrpSpPr>
          <p:grpSpPr>
            <a:xfrm>
              <a:off x="6870240" y="4313160"/>
              <a:ext cx="2057400" cy="2348640"/>
              <a:chOff x="6870240" y="4313160"/>
              <a:chExt cx="2057400" cy="2348640"/>
            </a:xfrm>
          </p:grpSpPr>
          <p:sp>
            <p:nvSpPr>
              <p:cNvPr id="94" name="Puzzle3"/>
              <p:cNvSpPr/>
              <p:nvPr/>
            </p:nvSpPr>
            <p:spPr>
              <a:xfrm>
                <a:off x="7871760" y="4313160"/>
                <a:ext cx="809640" cy="1246680"/>
              </a:xfrm>
              <a:custGeom>
                <a:avLst/>
                <a:gdLst>
                  <a:gd name="textAreaLeft" fmla="*/ 84960 w 809640"/>
                  <a:gd name="textAreaRight" fmla="*/ 717480 w 809640"/>
                  <a:gd name="textAreaTop" fmla="*/ 445680 h 1246680"/>
                  <a:gd name="textAreaBottom" fmla="*/ 1168560 h 124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6100"/>
                  </a:gs>
                  <a:gs pos="100000">
                    <a:srgbClr val="cc99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Puzzle2"/>
              <p:cNvSpPr/>
              <p:nvPr/>
            </p:nvSpPr>
            <p:spPr>
              <a:xfrm>
                <a:off x="7637040" y="5222160"/>
                <a:ext cx="1290600" cy="1136160"/>
              </a:xfrm>
              <a:custGeom>
                <a:avLst/>
                <a:gdLst>
                  <a:gd name="textAreaLeft" fmla="*/ 321840 w 1290600"/>
                  <a:gd name="textAreaRight" fmla="*/ 966960 w 1290600"/>
                  <a:gd name="textAreaTop" fmla="*/ 354240 h 1136160"/>
                  <a:gd name="textAreaBottom" fmla="*/ 1075320 h 113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d18b"/>
                  </a:gs>
                  <a:gs pos="100000">
                    <a:srgbClr val="ff9900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Puzzle4"/>
              <p:cNvSpPr/>
              <p:nvPr/>
            </p:nvSpPr>
            <p:spPr>
              <a:xfrm>
                <a:off x="7136640" y="5208120"/>
                <a:ext cx="779400" cy="1453680"/>
              </a:xfrm>
              <a:custGeom>
                <a:avLst/>
                <a:gdLst>
                  <a:gd name="textAreaLeft" fmla="*/ 74520 w 779400"/>
                  <a:gd name="textAreaRight" fmla="*/ 729360 w 779400"/>
                  <a:gd name="textAreaTop" fmla="*/ 381600 h 1453680"/>
                  <a:gd name="textAreaBottom" fmla="*/ 1075680 h 1453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e57c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Puzzle1"/>
              <p:cNvSpPr/>
              <p:nvPr/>
            </p:nvSpPr>
            <p:spPr>
              <a:xfrm>
                <a:off x="6870240" y="4690440"/>
                <a:ext cx="1306440" cy="866160"/>
              </a:xfrm>
              <a:custGeom>
                <a:avLst/>
                <a:gdLst>
                  <a:gd name="textAreaLeft" fmla="*/ 367920 w 1306440"/>
                  <a:gd name="textAreaRight" fmla="*/ 975960 w 1306440"/>
                  <a:gd name="textAreaTop" fmla="*/ 102960 h 866160"/>
                  <a:gd name="textAreaBottom" fmla="*/ 784080 h 86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6f37"/>
                  </a:gs>
                  <a:gs pos="100000">
                    <a:srgbClr val="343319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Text Box 12"/>
            <p:cNvSpPr/>
            <p:nvPr/>
          </p:nvSpPr>
          <p:spPr>
            <a:xfrm>
              <a:off x="7967160" y="6021000"/>
              <a:ext cx="229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156360" y="5265360"/>
              <a:ext cx="57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6970680" y="4351320"/>
              <a:ext cx="57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7752960" y="6491520"/>
              <a:ext cx="572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Rectangle 16"/>
          <p:cNvSpPr/>
          <p:nvPr/>
        </p:nvSpPr>
        <p:spPr>
          <a:xfrm>
            <a:off x="395280" y="458136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еабилитационные мероприятия проводятся в индивидуальной, подгрупповой и групповой форме с каждым ребенком в рамках проведения целенаправленной медико-психолого-педагогической помощи, особой для каждого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42200" cy="1008000"/>
          </a:xfrm>
          <a:prstGeom prst="rect">
            <a:avLst/>
          </a:prstGeom>
          <a:ln w="0">
            <a:noFill/>
          </a:ln>
        </p:spPr>
      </p:pic>
      <p:sp>
        <p:nvSpPr>
          <p:cNvPr id="104" name="Содержимое 2"/>
          <p:cNvSpPr/>
          <p:nvPr/>
        </p:nvSpPr>
        <p:spPr>
          <a:xfrm>
            <a:off x="324000" y="1844640"/>
            <a:ext cx="84294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 algn="just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Внедрение модели взаимосвязи коррекционно - психологического сопровождения с лечебно-восстановительным  процессом, 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способствующей целенаправленной педагогической коррекции недостатков  психофизическ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Tahoma"/>
              </a:rPr>
              <a:t>Сочетание педагогических и медицинских средств, направленных на всестороннее развитие личности</a:t>
            </a:r>
            <a:r>
              <a:rPr b="0" lang="ru-RU" sz="2400" spc="-1" strike="noStrike">
                <a:solidFill>
                  <a:srgbClr val="00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95280" y="1114560"/>
            <a:ext cx="841860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Сбор информации о ребенке, анализ медицинской карты, комплексная диагностика разных сфер жизнедеятельности ребе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Выбор группы образовательных областей, в рамках которых возможно проведение наиболее эффективной коррекционной работы («зоны успешности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строение индивидуальных коррекционно-образовательных маршрутов в зависимости от структуры дефекта, степени выраженности вторичных дефектов, наличия эмоционально-личностных пробле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одбор и методическая подготовка персонала - воспитателей, младших воспитателей (учет индивидуально-личностных особенностей педагогов, эмоциональной составляющей,  уровня эмпати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Изменение (адаптация) предметно-развивающей среды в соответствии с особенностями инклюзируемого ребен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Активное включение в систему коррекционной работы родителей ребенка, других членов семь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SzPct val="190000"/>
              <a:buFont typeface="Arial"/>
              <a:buChar char="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Отслеживание динамики развития ребенка (система мониторинг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50720" y="333360"/>
            <a:ext cx="844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истема специального коррекционно-психологического сопровождения включает в себ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392760" y="260280"/>
            <a:ext cx="75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03b14"/>
                </a:solidFill>
                <a:latin typeface="Arial"/>
              </a:rPr>
              <a:t>РЕАЛИЗАЦИЯ ИНДИВИДУАЛЬНОГО ПОДХОДА  К  РЕБЁ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50920" y="70272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внедрение индивидуальной карты развития ребёнка, листа здоровья, куда заносятся данные всех обследова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работка и выполнение индивидуальной программы коррекции развития ребёнка с ОВЗ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разработка индивидуального маршрута сопровождения ребёнка в каждой группе содержит все коррекционные, оздоровительные и лечебно-профилактические мероприятия, назначенные ребёнку, а также время их прове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создание банка данных для сопровождения коррекционно-развивающей работы воспитателей групп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материал, раскрывающий особенности каждого диагноза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рекомендации по решению коррекционных задач в различных образовательных област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перечень и образцы пособий для работы с «инклюзированными» деть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 рекомендации по индивидуальному участию детей в проведении тематических ак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684360" y="54360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екомендуется составление общего плана деятельности для группы, как непосредственно образовательной, так и самостоятельн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 реализуемой в ходе режимных моментов,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 включением в него блоков-заданий для «инклюзированных» детей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, нуждающихся в силу особенностей развития в дифференцированном и индивидуальном подходе, дополнительном внима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совместной деятельности целесообразно проводить дифференцированное закрепление нового материала, предлагая детям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разноуровневые задания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нижая нагрузку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в групповых формах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4:43:51Z</dcterms:created>
  <dc:creator>пользователь</dc:creator>
  <dc:description/>
  <dc:language>en-US</dc:language>
  <cp:lastModifiedBy>Надечка</cp:lastModifiedBy>
  <dcterms:modified xsi:type="dcterms:W3CDTF">2013-02-13T18:34:35Z</dcterms:modified>
  <cp:revision>36</cp:revision>
  <dc:subject/>
  <dc:title>Слайд 1</dc:title>
</cp:coreProperties>
</file>