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BF6E-EFE9-4E4D-A4AC-450696749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4883-BE2F-4824-9D4F-C59A9E151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E931-F138-427B-99EE-52028EA36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18BA-D266-413E-B89A-44F9D9D6D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EAD9C-F7E7-482A-ACF9-B74752192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EFAE1-90DE-41BB-A47A-DE53DC3AC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8E437-EEE7-4FB7-B3DC-B27C416B6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3095C-2CE1-421A-BE9D-CC7AA15C4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1AE8B-0559-4C69-B50D-62D6FA5A7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69671-CBDF-452A-AA55-AF7F4A94B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4E219-D45B-4494-8847-62523648C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1E5A-40A2-4A48-9962-1D27A85EA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B26A1-9027-4725-90C0-3464C668D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AC99D-4BED-4AB7-9284-52CF41595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982AA-5327-4231-8273-48FB9A179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BD953-B326-4E08-A668-DDA85972C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5DF12-3904-466E-8713-B33400EB2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8EDB-0D9C-43D0-A3F2-12B720CF1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9361-A8AF-4893-8A78-2E5751FF9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ACE7-D119-4B53-9070-336C31233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D930-C2E5-4237-87C0-BD878CFF1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EE08-BAE6-429B-8DBB-5D84FD48D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4D12-8957-4291-AA8F-7C55AB36C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1516-AB7A-4817-9D19-AE869E61A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9E613-1C73-4300-8572-2EE833230F28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ED7C2-159F-41C1-9337-B540872A7BDC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«Профилактика </a:t>
            </a:r>
            <a:br>
              <a:rPr sz="2800"/>
            </a:b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дорожно-транспортного</a:t>
            </a: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травматизма: психология безопасности и методическое обеспечение»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800600" y="3123720"/>
            <a:ext cx="4013280" cy="1822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66"/>
                </a:solidFill>
                <a:latin typeface="Arial"/>
              </a:rPr>
              <a:t>Семинар для педагогов ДОУ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66"/>
                </a:solidFill>
                <a:latin typeface="Arial"/>
              </a:rPr>
              <a:t>Подготовила </a:t>
            </a: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6666"/>
                </a:solidFill>
                <a:latin typeface="Arial"/>
              </a:rPr>
              <a:t> старший воспитатель ГБДОУ №33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66"/>
                </a:solidFill>
                <a:latin typeface="Arial"/>
              </a:rPr>
              <a:t>Пушкинского района                        Санкт-Петербург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66"/>
                </a:solidFill>
                <a:latin typeface="Arial"/>
              </a:rPr>
              <a:t>Сапелкина Екатерина Игоревна</a:t>
            </a:r>
            <a:br>
              <a:rPr sz="1800"/>
            </a:b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Психические процессы. Развитие необходимых качеств и свойств, психических процессов для обеспечения безопасности на дорогах.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Ощущение и восприяти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Личность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амять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оображени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Мышлени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оля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нимани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Эмоции и чувств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пособност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Темперамен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Характер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29440" y="829440"/>
            <a:ext cx="7789320" cy="931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Особенности психофизиологического развития детей дошкольного возраста.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неустойчивость и быстрое истощение нервной системы;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неспособность адекватно оценивать обстановку;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быстрое образование и исчезновение условных рефлексов;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преобладание процессов возбуждения над процессами торможения;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преобладание потребности в движении над осторожностью;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стремление подражать взрослым;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недостаток знаний об источниках опасности;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отсутствие способности отделять главное от второстепенного;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переоценка своих возможностей в реальной ситуации;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неадекватная реакция на сильные резкие раздражители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0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66"/>
                </a:solidFill>
                <a:latin typeface="Arial"/>
              </a:rPr>
              <a:t>Организация и содержание воспитания и дидактических занятий по формированию у дошкольников навыков безопасного поведения на улицах и дорогах.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3366"/>
                </a:solidFill>
                <a:latin typeface="Arial"/>
              </a:rPr>
              <a:t>Программа по воспитанию и формированию у дошкольников навыков и положительных привычек безопасного поведения на улицах и дорогах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3366"/>
                </a:solidFill>
                <a:latin typeface="Arial"/>
              </a:rPr>
              <a:t>Дидактические закономерности и принципы воспитания и формирования у дошкольников навыков и положительных привычек безопасного поведения на улицах и дорогах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0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66"/>
                </a:solidFill>
                <a:latin typeface="Arial"/>
              </a:rPr>
              <a:t>Программа по воспитанию и формированию у дошкольников навыков и положительных привычек безопасного поведения на улицах и дорогах.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рограмма воспитания детей безопасному поведению на улице не является самостоятельной, а входит составной частью в общую программу воспитания и жизни детей в детском саду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опросы по тематике дорожной безопасности реализуются через отдельные направления общей программы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Для каждой возрастной группы дошкольников воспитателем или методистом разрабатывается своя методика проведения дидактических занятий, согласно возрастным особенностям группы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0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1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66"/>
                </a:solidFill>
                <a:latin typeface="Arial"/>
              </a:rPr>
              <a:t>Дидактические закономерности и принципы воспитания и формирования у дошкольников навыков и положительных привычек безопасного поведения на улицах и дорогах.</a:t>
            </a:r>
            <a:br>
              <a:rPr sz="2400"/>
            </a:b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 зависимости от возрастных особенностей детей воспитатель самостоятельно определяет формы и методы проведения дидактических занятий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Объем учебного материала , используемый на каждом занятии, должен соответствовать психофизиологическим особенностям развития дошкольников разных возрастных групп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Формирование навыков безопасного поведения на улицах и дорогах должно проходить систематически, но ненавязчиво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0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66"/>
                </a:solidFill>
                <a:latin typeface="Arial"/>
              </a:rPr>
              <a:t>Форма и методы проведения дидактических занятий по формированию у дошкольников навыков безопасного поведения на улицах и дорогах.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66"/>
                </a:solidFill>
                <a:latin typeface="Arial"/>
              </a:rPr>
              <a:t>Изготовление с детьми атрибутов и игрушек для занятий по тематике дорожной безопасности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66"/>
                </a:solidFill>
                <a:latin typeface="Arial"/>
              </a:rPr>
              <a:t>Рисование, лепка из пластилина, конструирование, наклеивание аппликации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66"/>
                </a:solidFill>
                <a:latin typeface="Arial"/>
              </a:rPr>
              <a:t>Обучающие и развивающие игры по тематике дорожной безопасности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66"/>
                </a:solidFill>
                <a:latin typeface="Arial"/>
              </a:rPr>
              <a:t>Целевые прогулки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66"/>
                </a:solidFill>
                <a:latin typeface="Arial"/>
              </a:rPr>
              <a:t>Рассматривание иллюстраций, плакатов, книг, наглядных пособий по дорожной тематике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66"/>
                </a:solidFill>
                <a:latin typeface="Arial"/>
              </a:rPr>
              <a:t>Фольклорные занятия с использованием стихов, загадок, пословиц по тематике дорожной безопасности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66"/>
                </a:solidFill>
                <a:latin typeface="Arial"/>
              </a:rPr>
              <a:t>Просмотры телевизионных передач, видеороликов, мультфильмов по дорожной тематике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0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2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1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1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0" dur="1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7" dur="1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4" dur="1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66"/>
                </a:solidFill>
                <a:latin typeface="Arial"/>
              </a:rPr>
              <a:t>Типичные ошибки воспитателей в организации дидактических занятий по формированию у дошкольников навыков безопасного поведения на улицах и дорогах.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just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Arial"/>
              </a:rPr>
              <a:t>использование устаревшей терминологии, которой нет в правилах дорожного движения, (например, «мостовая», «постовой», «шофер» и др.);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 algn="just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Arial"/>
              </a:rPr>
              <a:t>неправильно объясняется значение желтого сигнала светофора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 algn="just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Arial"/>
              </a:rPr>
              <a:t>очень редко дается информация о пешеходном светофоре;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 algn="just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Arial"/>
              </a:rPr>
              <a:t>много информации дается по дорожным знакам, особенно для водителей. Детям (даже часто дошкольникам) дается установка на запоминание всех существующих групп дорожных знаков, причем без «привязки» их к конкретным дорожным ситуациям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 algn="just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Arial"/>
              </a:rPr>
              <a:t>детям даются неправильные установки. Например, объясняется, что по тротуару можно ездить на велосипедах, а по дороге нет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 algn="just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Arial"/>
              </a:rPr>
              <a:t>рекомендуется переходить проезжую часть сзади стоящего безрельсового транспорта и спереди рельсового, что нередко (по статистике) приводит к ДТП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085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0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3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0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7" dur="10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4" dur="10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1" dur="10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8" dur="10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5" dur="10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66"/>
                </a:solidFill>
                <a:latin typeface="Arial"/>
              </a:rPr>
              <a:t>Медико-психологические аспекты оказания первой медицинской помощи в экстренных ситуациях на дорогах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3366"/>
                </a:solidFill>
                <a:latin typeface="Arial"/>
              </a:rPr>
              <a:t>Остановка дыхания и сердечной деятельности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3366"/>
                </a:solidFill>
                <a:latin typeface="Arial"/>
              </a:rPr>
              <a:t>Судороги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3366"/>
                </a:solidFill>
                <a:latin typeface="Arial"/>
              </a:rPr>
              <a:t>Обморок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3366"/>
                </a:solidFill>
                <a:latin typeface="Arial"/>
              </a:rPr>
              <a:t>Носовое кровотечени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3366"/>
                </a:solidFill>
                <a:latin typeface="Arial"/>
              </a:rPr>
              <a:t>Переломы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3366"/>
                </a:solidFill>
                <a:latin typeface="Arial"/>
              </a:rPr>
              <a:t>Ушибы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3366"/>
                </a:solidFill>
                <a:latin typeface="Arial"/>
              </a:rPr>
              <a:t>Вывихи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3366"/>
                </a:solidFill>
                <a:latin typeface="Arial"/>
              </a:rPr>
              <a:t>Растяжение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3366"/>
                </a:solidFill>
                <a:latin typeface="Arial"/>
              </a:rPr>
              <a:t>Повреждение позвоночник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3366"/>
                </a:solidFill>
                <a:latin typeface="Arial"/>
              </a:rPr>
              <a:t>Повреждения таза и тазовых органов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3366"/>
                </a:solidFill>
                <a:latin typeface="Arial"/>
              </a:rPr>
              <a:t>Черепно-мозговая травма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3366"/>
                </a:solidFill>
                <a:latin typeface="Arial"/>
              </a:rPr>
              <a:t>Повреждение грудной клетк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fill="hold">
                      <p:stCondLst>
                        <p:cond delay="0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4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1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8" dur="1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5" dur="1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2" dur="10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9" dur="10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6" dur="10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3" dur="1000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0" dur="1000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7" dur="1000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4" dur="1000"/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1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1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8" dur="1000"/>
                                        <p:tgtEl>
                                          <p:spTgt spid="1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Спасибо за внимание!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2" name="Picture 6" descr="P1010978"/>
          <p:cNvPicPr/>
          <p:nvPr/>
        </p:nvPicPr>
        <p:blipFill>
          <a:blip r:embed="rId1"/>
          <a:stretch/>
        </p:blipFill>
        <p:spPr>
          <a:xfrm>
            <a:off x="2201760" y="2362320"/>
            <a:ext cx="4965840" cy="37242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fill="hold">
                      <p:stCondLst>
                        <p:cond delay="0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5" dur="8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6" dur="8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8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8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Цель семинара: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Формирование системы педагогических знаний и практических навыков по профилактике ДДТТ, способствующих обеспечению дорожного движения, формированию основ безопасного поведения на улицах и дорогах, сохранению жизни и здоровья детей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Задачи семинара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Ознакомить слушателей с теоретическими основами безопасности дорожного движения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Ознакомить на практике с новыми эффективными педагогическими технологиями обучения дошкольников с правилами безопасного поведения на улицах и дорогах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Ознакомить с системой и современными направлениями профилактической работы по предупреждению ДДТТ и формированию основ безопасного поведения детей на улицах и дорогах в ДОУ города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Сформировать у слушателей мотивацию на саморазвитие культуры безопасного поведения детей на улицах и дорогах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Теоретический блок ( 1 занятие)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Психология безопасности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Организация и содержание воспитания и дидактических занятий по формированию у дошкольников навыков безопасного поведения на улицах и дорогах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Форма и методы проведения дидактических занятий по формированию у дошкольников навыков безопасного поведения на улицах и дорогах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Типичные ошибки воспитателей в организации дидактических занятий по формированию у дошкольников навыков безопасного поведения на улицах и дорогах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Медико-психологические аспекты оказания первой медицинской помощи в экстренных ситуациях на дорогах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рактический блок (2 занятие)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оказ занятия по профилактике ДДТТ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резентация итогов работы в ДОУ по профилактике ДДТТ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истема работы и современные направления профилактической работы по предупреждению ДДТТ и формированию основ безопасного поведения детей на улицах и дорогах в ДОУ город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685800" indent="-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сихология безопасности:</a:t>
            </a:r>
            <a:br>
              <a:rPr sz="3600"/>
            </a:b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2952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Транспортная психология – наука (общий обзор)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2952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сихология пешеход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2952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сихология пассажир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2952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сихические процессы. Развитие необходимых качеств и свойств, психических процессов для обеспечения безопасности на дорогах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2952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сихофизиологические и возрастные особенности поведения дошкольников на улицах и дорогах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Транспортная психология – наука (общий обзор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Транспортную психологию следует понимать как систему получения знаний в определенных сферах поведения людей. Она изучает основные формы поведения участников дорожного движения, исследуя возможность применения результатов фундаментальных исследований для решения прикладных задач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9" name="Picture 9" descr="j0212957"/>
          <p:cNvPicPr/>
          <p:nvPr/>
        </p:nvPicPr>
        <p:blipFill>
          <a:blip r:embed="rId1"/>
          <a:stretch/>
        </p:blipFill>
        <p:spPr>
          <a:xfrm>
            <a:off x="838080" y="2703600"/>
            <a:ext cx="4114800" cy="31636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сихология пешеход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3366"/>
                </a:solidFill>
                <a:latin typeface="Arial"/>
              </a:rPr>
              <a:t>Трудности поведения</a:t>
            </a:r>
            <a:r>
              <a:rPr b="1" lang="ru-RU" sz="1200" spc="-1" strike="noStrike">
                <a:solidFill>
                  <a:srgbClr val="003366"/>
                </a:solidFill>
                <a:latin typeface="Arial"/>
              </a:rPr>
              <a:t>, специфические для дошкольников: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3366"/>
                </a:solidFill>
                <a:latin typeface="Arial"/>
              </a:rPr>
              <a:t>Затруднения в ориентации</a:t>
            </a: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. Затруднение обзора в сложной обстановке; затруднение при переходе через дорогу (переориентация  середине проезжей части); столкновение с другими пешеходами на переходе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3366"/>
                </a:solidFill>
                <a:latin typeface="Arial"/>
              </a:rPr>
              <a:t>Сужение внимания.</a:t>
            </a: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 Слежение за сигналами светофора в ущерб наблюдению за транспортными средствами; не обращается внимание на поворачивающие транспортные средства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3366"/>
                </a:solidFill>
                <a:latin typeface="Arial"/>
              </a:rPr>
              <a:t>Недостаток информации</a:t>
            </a: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. Незнание возможностей поведения окружающих участников дорожного движения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3366"/>
                </a:solidFill>
                <a:latin typeface="Arial"/>
              </a:rPr>
              <a:t>Неуверенность или нерешительность</a:t>
            </a: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. Неоднозначное поведение на пешеходном переходе типа «зебра»; движение вперед и назад (медленное завершение перехода в момент переключения желтого на красный свет)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3366"/>
                </a:solidFill>
                <a:latin typeface="Arial"/>
              </a:rPr>
              <a:t>Трудности взаимопонимания с другими участниками дорожного движения</a:t>
            </a: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2" name="Picture 6" descr="P1010994"/>
          <p:cNvPicPr/>
          <p:nvPr/>
        </p:nvPicPr>
        <p:blipFill>
          <a:blip r:embed="rId1"/>
          <a:stretch/>
        </p:blipFill>
        <p:spPr>
          <a:xfrm>
            <a:off x="4648320" y="2362320"/>
            <a:ext cx="4267080" cy="35049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Задачи модели взаимного поведения пешеходов и водителей: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ыбор пути для собственного продвижения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стречный взаимный поиск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заимное обнаружение и локализация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заимная оценка поведения и намерений в поведении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Решение действовать определенным образом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Коррекция действий во избежании ДТП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3-02-12T20:44:37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