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gif" ContentType="image/gif"/>
  <Override PartName="/ppt/media/image8.wmf" ContentType="image/x-wmf"/>
  <Override PartName="/ppt/media/image5.gif" ContentType="image/gif"/>
  <Override PartName="/ppt/media/image14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1ED-D30B-4E11-9661-8BC37FC7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4B1-9897-4C34-8766-99C3ECA2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083-10D3-48BE-AC6C-1DC06D9A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33C-6ECD-4D77-954F-01B94A52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8B2-0ACE-43C6-9225-EFA29786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A8D3-F1BF-4992-887D-A30A98FD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2D8-6028-4172-94FA-C8F65BC3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EBEC-6E20-4E90-A2E4-ED22DBFA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44B5-0B2D-4CD9-9ACE-A51ADAB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CDE5-3657-4272-9F4F-95BF0D7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9B1-84E0-451B-B7DF-280AE27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828-3465-48D6-8ADC-DC05821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882-DEB0-45C2-9E3C-D8502AE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E7C-9F8A-4F24-921C-2E5D75B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A4EB-B0D4-436E-9186-8901324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7B55-5A48-43E0-9F17-65258214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E89-7845-4BE4-BE2C-E292CDA4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D3C-6B73-40A3-97A1-AE995614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6A1-19FD-407B-95F1-A389A53E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66B-BEEE-40A1-BB0F-5835F6A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DF5-BC73-4E30-AE2B-A2D5172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2CC-AE87-4D9A-83F0-82F7162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B6B-0A14-4298-ABE4-858B18E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956-A3C6-4A52-B884-22E7E63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D081-B469-4D5B-BC4C-921E4CC22D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B4D-172D-4084-AF57-E11ED067FC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on_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39640" y="1413000"/>
            <a:ext cx="796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СТУД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дошколя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476360" y="260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ализация шко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403280" y="3786120"/>
            <a:ext cx="6697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бучающиеся МБОУ СОШ п.Головановск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воздев Сергей, Кокухин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уководитель: Гвозде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07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116000" y="33336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етоды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71640" y="1557360"/>
            <a:ext cx="74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Анке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Бес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Изучение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Формирующий э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323280" cy="6912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тические основы проблемы адаптации дошкольников к школьным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79280" y="130932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птация (от л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apto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е, прилаживание) – приспособление нашего организма к условиям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ая адаптация- процесс и результат приспособления ребёнка к новой системе социальных условий, новым отношениям, требованиям, видам деятельности, режиму жизнедеятельности и перестройка познавательной, мотивационной и эмоционально-волевой сфер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on-1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411280" y="189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ЛОВИЯ АДАП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692360" y="1770120"/>
            <a:ext cx="575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дидактическ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близких к условиям детского сада (игровые уголки, совместные прогул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ый комфорт во время общения (ребенок не должен бояться взрослых, особенно учите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5280" y="3213000"/>
            <a:ext cx="863640" cy="2448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524720" y="3213000"/>
            <a:ext cx="936720" cy="2449440"/>
          </a:xfrm>
          <a:custGeom>
            <a:avLst/>
            <a:gdLst>
              <a:gd name="textAreaLeft" fmla="*/ 125280 w 936720"/>
              <a:gd name="textAreaRight" fmla="*/ 811440 w 936720"/>
              <a:gd name="textAreaTop" fmla="*/ 428400 h 2449440"/>
              <a:gd name="textAreaBottom" fmla="*/ 177588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2700360" y="4797360"/>
            <a:ext cx="3771720" cy="3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УДИЯ   ДОШКОЛЯ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2484360" y="5589720"/>
            <a:ext cx="4416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ШАГ  В   БУДУЩЕЕ"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fon_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059280" y="189000"/>
            <a:ext cx="35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20"/>
          <p:cNvSpPr txBox="1"/>
          <p:nvPr/>
        </p:nvSpPr>
        <p:spPr>
          <a:xfrm>
            <a:off x="2556000" y="476280"/>
            <a:ext cx="4057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ШАГ  В   БУДУЩЕЕ"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611280" y="1557360"/>
            <a:ext cx="45622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Законы сту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Любовь к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оброжел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тзыв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Любозн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Усид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ворческ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5076720" y="321300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6666cc"/>
                </a:solidFill>
                <a:latin typeface="Arial"/>
              </a:rPr>
              <a:t>учитель русского языка и литературы высшей квалификационной категории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Гвоздева Светла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рганизаторы: </a:t>
            </a:r>
            <a:r>
              <a:rPr b="0" lang="ru-RU" sz="1800" spc="-1" strike="noStrike">
                <a:solidFill>
                  <a:srgbClr val="7070ff"/>
                </a:solidFill>
                <a:latin typeface="Arial"/>
              </a:rPr>
              <a:t>обучающиеся  8 класса Акилова Зарина, Гвоздев Сергей, Кокухина Елизавета, Семено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3" descr="j0283649"/>
          <p:cNvPicPr/>
          <p:nvPr/>
        </p:nvPicPr>
        <p:blipFill>
          <a:blip r:embed="rId2"/>
          <a:stretch/>
        </p:blipFill>
        <p:spPr>
          <a:xfrm>
            <a:off x="3851280" y="1197000"/>
            <a:ext cx="11811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971640" y="333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66"/>
                </a:solidFill>
                <a:latin typeface="Arial"/>
              </a:rPr>
              <a:t>Условия реализации программы поддержки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85652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ие родителей и ребенка на помощь и поддерж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ность взрослых к оказанию психологической поддержки ребен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чество и согласованность действий всех учас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в коллективе (в школе и в сем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exptext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611280" y="2602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Основные принцип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971640" y="1197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бровольность участ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езоцено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влеченность ответственного, что способствует заражению детей соответствующими эмоц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блюдение за здоровьем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ремя проведения занятия строго не регламентировано – 30-40 минут в зависимости от состояния детей (степени интереса, пресыщения или утом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гулярность проведения занятий – 1 раз в неделю; занятия проводятся в послеобеден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соблюдение структуры занят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golub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32400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труктура занятий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143080" y="1071720"/>
            <a:ext cx="56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содержан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 занятия - оценка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 rot="20973000">
            <a:off x="6697440" y="4884840"/>
            <a:ext cx="19494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9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9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10"/>
          <p:cNvSpPr txBox="1"/>
          <p:nvPr/>
        </p:nvSpPr>
        <p:spPr>
          <a:xfrm rot="2131800">
            <a:off x="968400" y="3281400"/>
            <a:ext cx="12952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 rot="21219000">
            <a:off x="4412880" y="3317760"/>
            <a:ext cx="19162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6144000"/>
                </a:gradFill>
                <a:latin typeface="Times New Roman"/>
              </a:rPr>
              <a:t>Движ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6144000"/>
              </a:gradFill>
              <a:latin typeface="Times New Roman"/>
              <a:ea typeface="Times New Roman"/>
            </a:endParaRPr>
          </a:p>
        </p:txBody>
      </p:sp>
      <p:pic>
        <p:nvPicPr>
          <p:cNvPr id="203" name="Рисунок 9" descr="C:\Users\user\Desktop\IMG_3044.jpg"/>
          <p:cNvPicPr/>
          <p:nvPr/>
        </p:nvPicPr>
        <p:blipFill>
          <a:blip r:embed="rId4"/>
          <a:stretch/>
        </p:blipFill>
        <p:spPr>
          <a:xfrm>
            <a:off x="500040" y="4429080"/>
            <a:ext cx="2865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18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72"/>
          <p:cNvSpPr/>
          <p:nvPr/>
        </p:nvSpPr>
        <p:spPr>
          <a:xfrm>
            <a:off x="468360" y="115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ГРАММА ПОДДЕРЖКИ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836640"/>
          <a:ext cx="8064720" cy="5545080"/>
        </p:xfrm>
        <a:graphic>
          <a:graphicData uri="http://schemas.openxmlformats.org/drawingml/2006/table">
            <a:tbl>
              <a:tblPr/>
              <a:tblGrid>
                <a:gridCol w="1733760"/>
                <a:gridCol w="3117600"/>
                <a:gridCol w="198720"/>
                <a:gridCol w="30146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опроса, анкетирования, бес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пуск информационных букл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накомство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этап: совместные мероприятия с родителями 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1: «Давайте познакомим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2: «Я и моё им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3: «Я и мо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4: «Урок и переме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5 -6: «Знакомство со школ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этап: мероприятия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7: «Ученье – свет, а неученье – тьм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8: «Когда всем весело, а одному груст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9: «Волшебные сл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№ 10-12: Творческие занятия (работа с природным материал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этап: диагнос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анкеты для выявления удовлетворенности запросов родителей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анкеты для выявления мотивации дошкольников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008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468360" y="1420920"/>
            <a:ext cx="77756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ложительное оценивание своей лич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еодоление страха и тревожности, связанные с процессом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шение конфликт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 уважением относиться к окружающ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вствовать себя более комфортно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ились общаться со сверст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лучают радость от по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8"/>
          <p:cNvSpPr txBox="1"/>
          <p:nvPr/>
        </p:nvSpPr>
        <p:spPr>
          <a:xfrm>
            <a:off x="1979640" y="571680"/>
            <a:ext cx="5307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ЗУЛЬТА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нятия в спортзал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0084"/>
          <p:cNvPicPr/>
          <p:nvPr/>
        </p:nvPicPr>
        <p:blipFill>
          <a:blip r:embed="rId1"/>
          <a:stretch/>
        </p:blipFill>
        <p:spPr>
          <a:xfrm>
            <a:off x="3957480" y="3233880"/>
            <a:ext cx="1229040" cy="1152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фото 3 класс 008"/>
          <p:cNvPicPr/>
          <p:nvPr/>
        </p:nvPicPr>
        <p:blipFill>
          <a:blip r:embed="rId2"/>
          <a:stretch/>
        </p:blipFill>
        <p:spPr>
          <a:xfrm>
            <a:off x="642960" y="3286080"/>
            <a:ext cx="3643200" cy="28242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D:\ZvezdovhkA\fotto\день самоуправления 5.10.10\DSCF1290.JPG"/>
          <p:cNvPicPr/>
          <p:nvPr/>
        </p:nvPicPr>
        <p:blipFill>
          <a:blip r:embed="rId3"/>
          <a:stretch/>
        </p:blipFill>
        <p:spPr>
          <a:xfrm>
            <a:off x="4500720" y="150012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smile4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476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КАК НАШЕ ДЕЛО ОТЗОВ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4"/>
          <p:cNvSpPr/>
          <p:nvPr/>
        </p:nvSpPr>
        <p:spPr>
          <a:xfrm>
            <a:off x="0" y="45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1"/>
          <p:cNvSpPr/>
          <p:nvPr/>
        </p:nvSpPr>
        <p:spPr>
          <a:xfrm>
            <a:off x="826920" y="1083960"/>
            <a:ext cx="7561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циональная образовательная инициати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273"/>
          <p:cNvGrpSpPr/>
          <p:nvPr/>
        </p:nvGrpSpPr>
        <p:grpSpPr>
          <a:xfrm>
            <a:off x="2644560" y="2244960"/>
            <a:ext cx="3858840" cy="3519720"/>
            <a:chOff x="2644560" y="2244960"/>
            <a:chExt cx="3858840" cy="3519720"/>
          </a:xfrm>
        </p:grpSpPr>
        <p:sp>
          <p:nvSpPr>
            <p:cNvPr id="103" name="_s1028"/>
            <p:cNvSpPr/>
            <p:nvPr/>
          </p:nvSpPr>
          <p:spPr>
            <a:xfrm>
              <a:off x="3262320" y="2244960"/>
              <a:ext cx="2623680" cy="239328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2393280"/>
                <a:gd name="textAreaBottom" fmla="*/ 2393640 h 23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29"/>
            <p:cNvSpPr/>
            <p:nvPr/>
          </p:nvSpPr>
          <p:spPr>
            <a:xfrm rot="5400000">
              <a:off x="3994920" y="2692800"/>
              <a:ext cx="2393280" cy="2623680"/>
            </a:xfrm>
            <a:custGeom>
              <a:avLst/>
              <a:gdLst>
                <a:gd name="textAreaLeft" fmla="*/ 0 w 2393280"/>
                <a:gd name="textAreaRight" fmla="*/ 2393640 w 239328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0"/>
            <p:cNvSpPr/>
            <p:nvPr/>
          </p:nvSpPr>
          <p:spPr>
            <a:xfrm rot="10800000">
              <a:off x="3262320" y="3371400"/>
              <a:ext cx="2623680" cy="239328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2393280"/>
                <a:gd name="textAreaBottom" fmla="*/ 2393640 h 23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 rot="16200000">
              <a:off x="2759760" y="2693160"/>
              <a:ext cx="2393280" cy="2623680"/>
            </a:xfrm>
            <a:custGeom>
              <a:avLst/>
              <a:gdLst>
                <a:gd name="textAreaLeft" fmla="*/ 0 w 2393280"/>
                <a:gd name="textAreaRight" fmla="*/ 2393640 w 239328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5271840" y="2464920"/>
              <a:ext cx="98892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шко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2887560" y="4642920"/>
              <a:ext cx="9885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шко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2885760" y="2466720"/>
              <a:ext cx="9889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5273640" y="4641480"/>
              <a:ext cx="9885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бор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фессиона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 И МОЯ СЕМ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лективная работ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4920" y="1428840"/>
            <a:ext cx="385776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ИЯ ПО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одержимое 6" descr="C:\Users\user\Desktop\SDC10306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7" descr="PICT0902"/>
          <p:cNvPicPr/>
          <p:nvPr/>
        </p:nvPicPr>
        <p:blipFill>
          <a:blip r:embed="rId2"/>
          <a:stretch/>
        </p:blipFill>
        <p:spPr>
          <a:xfrm>
            <a:off x="5286240" y="2500200"/>
            <a:ext cx="2786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ВСЕМ ВЕСЕЛО, А ОДНОМУ ГРУСТНО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Содержимое 4" descr="PICT0018"/>
          <p:cNvPicPr/>
          <p:nvPr/>
        </p:nvPicPr>
        <p:blipFill>
          <a:blip r:embed="rId1"/>
          <a:srcRect l="0" t="0" r="1053" b="16968"/>
          <a:stretch/>
        </p:blipFill>
        <p:spPr>
          <a:xfrm>
            <a:off x="4572000" y="3643200"/>
            <a:ext cx="3890880" cy="24465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PICT0013"/>
          <p:cNvPicPr/>
          <p:nvPr/>
        </p:nvPicPr>
        <p:blipFill>
          <a:blip r:embed="rId2"/>
          <a:srcRect l="0" t="0" r="-1788" b="20762"/>
          <a:stretch/>
        </p:blipFill>
        <p:spPr>
          <a:xfrm>
            <a:off x="1143000" y="1714680"/>
            <a:ext cx="3279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fon-1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332000" y="189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ЧЕСТВЕННОЕ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23778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емственность дошкольного и школьного образования - одно из у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ICT3036"/>
          <p:cNvPicPr/>
          <p:nvPr/>
        </p:nvPicPr>
        <p:blipFill>
          <a:blip r:embed="rId2"/>
          <a:stretch/>
        </p:blipFill>
        <p:spPr>
          <a:xfrm>
            <a:off x="785880" y="38577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j0283517"/>
          <p:cNvPicPr/>
          <p:nvPr/>
        </p:nvPicPr>
        <p:blipFill>
          <a:blip r:embed="rId3"/>
          <a:stretch/>
        </p:blipFill>
        <p:spPr>
          <a:xfrm>
            <a:off x="6659640" y="4149720"/>
            <a:ext cx="1727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32328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9280" y="260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79280" y="99036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тсутствие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Нет постоянного общения со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ложно проходит адаптация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сего детей дошкольного возраста -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97164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9280" y="1412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прос жителей поселка Грачи и п. Головановск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47640" y="404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1619280" y="2435400"/>
          <a:ext cx="6697800" cy="23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435400"/>
                    <a:ext cx="66978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97164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55640" y="141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рос педагогов МОУ «СОШ п. Голован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47640" y="404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1332000" y="2421000"/>
          <a:ext cx="6553080" cy="27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421000"/>
                    <a:ext cx="6553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on-1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332000" y="189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24000" y="23778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форме организовать поддержку детей дошкольного возра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j0288870"/>
          <p:cNvPicPr/>
          <p:nvPr/>
        </p:nvPicPr>
        <p:blipFill>
          <a:blip r:embed="rId2"/>
          <a:stretch/>
        </p:blipFill>
        <p:spPr>
          <a:xfrm>
            <a:off x="3929040" y="3373560"/>
            <a:ext cx="17352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rose023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50920" y="33336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cc"/>
                </a:solidFill>
                <a:latin typeface="Arial"/>
              </a:rPr>
              <a:t>ЦЕЛЬ:</a:t>
            </a: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cc"/>
                </a:solidFill>
                <a:latin typeface="Arial"/>
              </a:rPr>
              <a:t>Помочь детям дошкольного возраста научиться общаться в коллективе, адаптироваться к условиям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95280" y="486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ЕДМЕТ ИССЛЕДОВАНИЯ: процесс адаптации дошкольников к успешному школьному обу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24000" y="33577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ЪЕКТ ИССЛЕДОВАНИЯ: формы общения детей дошкольного возраста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golub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7"/>
          <p:cNvSpPr txBox="1"/>
          <p:nvPr/>
        </p:nvSpPr>
        <p:spPr>
          <a:xfrm>
            <a:off x="250920" y="260280"/>
            <a:ext cx="856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ИССЛЕДОВ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9" descr="j0283630"/>
          <p:cNvPicPr/>
          <p:nvPr/>
        </p:nvPicPr>
        <p:blipFill>
          <a:blip r:embed="rId2"/>
          <a:stretch/>
        </p:blipFill>
        <p:spPr>
          <a:xfrm>
            <a:off x="7812000" y="52293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539640" y="215784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сихолого-педагогическую литературу по проблеме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овать студию дошколят «Шаг в будуще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программу поддержки детей в адапт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5:09:14Z</dcterms:created>
  <dc:creator>Юля</dc:creator>
  <dc:description/>
  <dc:language>en-US</dc:language>
  <cp:lastModifiedBy>user</cp:lastModifiedBy>
  <dcterms:modified xsi:type="dcterms:W3CDTF">2013-02-11T20:59:59Z</dcterms:modified>
  <cp:revision>10</cp:revision>
  <dc:subject/>
  <dc:title>Слайд 1</dc:title>
</cp:coreProperties>
</file>