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7.jpeg" ContentType="image/jpeg"/>
  <Override PartName="/ppt/media/image15.gif" ContentType="image/gif"/>
  <Override PartName="/ppt/media/image11.jpeg" ContentType="image/jpeg"/>
  <Override PartName="/ppt/media/image6.jpeg" ContentType="image/jpeg"/>
  <Override PartName="/ppt/media/image10.gif" ContentType="image/gif"/>
  <Override PartName="/ppt/media/image8.wmf" ContentType="image/x-wmf"/>
  <Override PartName="/ppt/media/image5.gif" ContentType="image/gif"/>
  <Override PartName="/ppt/media/image14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3.gif" ContentType="image/gif"/>
  <Override PartName="/ppt/media/image16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058-73AE-4FE3-B752-3E2EE6EA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609-96DD-44B6-A03E-4F63CE72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549-3FF2-4DA5-9CC9-223F91ED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D60-85DD-4128-874D-1432985F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9A6-11AD-4E4F-B1C1-81076C6D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C765-5483-43C9-824E-0267C2CC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4E40-9A0A-421E-BD21-DE518B94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4397-0593-46AB-B3AB-591F49CA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1118-4F9F-4E8C-B88D-46ADE937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93DC-2DD7-42A7-87DF-E95B2BF5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25B5-B489-4E41-9994-E8AACCC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DFB1-4C76-4B94-AFC3-FD1AD893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5DF8-C1B5-4EAD-B284-57E352F4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3ED6-0167-4DC6-AE58-D027CFE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7D12-E56D-408D-A3BA-D241855E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A617-5592-4B6E-B1AA-69D75B7B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4653-871C-4D0E-8A2F-82CE0AB0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6C90-EDD2-4F8B-AA36-1D68AFED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B83-5B37-4968-BD00-1CD87CAD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FF6-C57B-4108-BCA1-1AF4FCF8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602-2EF0-4844-8FE1-A371E189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A45-FFCB-4B62-9982-29804C3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243-AC8E-4603-8A4F-A211E1A3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628-5318-4158-BEBD-9BDC7A04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83BA-1939-4965-8B3A-D9782611B0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D77E-B282-4F5E-97BF-37731C8AC8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on_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39640" y="1413000"/>
            <a:ext cx="796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СТУДИ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дошколя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476360" y="2602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еализация школь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403280" y="3786120"/>
            <a:ext cx="6697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бучающиеся МБОУ СОШ п.Головановск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воздев Сергей, Кокухина Елиза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уководитель: Гвоздева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078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116000" y="33336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Методы 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971640" y="1557360"/>
            <a:ext cx="7488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Анке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Наблю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Бес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Изучение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Формирующий экспери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323280" cy="6912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79280" y="260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оретические основы проблемы адаптации дошкольников к школьным 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179280" y="1309320"/>
            <a:ext cx="878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птация (от л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apto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е, прилаживание) – приспособление нашего организма к условиям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ьная адаптация- процесс и результат приспособления ребёнка к новой системе социальных условий, новым отношениям, требованиям, видам деятельности, режиму жизнедеятельности и перестройка познавательной, мотивационной и эмоционально-волевой сфер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fon-1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411280" y="18900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СЛОВИЯ АДАП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692360" y="1770120"/>
            <a:ext cx="575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дидактического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, близких к условиям детского сада (игровые уголки, совместные прогул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ый комфорт во время общения (ребенок не должен бояться взрослых, особенно учите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5280" y="3213000"/>
            <a:ext cx="863640" cy="2448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7524720" y="3213000"/>
            <a:ext cx="936720" cy="2449440"/>
          </a:xfrm>
          <a:custGeom>
            <a:avLst/>
            <a:gdLst>
              <a:gd name="textAreaLeft" fmla="*/ 125280 w 936720"/>
              <a:gd name="textAreaRight" fmla="*/ 811440 w 936720"/>
              <a:gd name="textAreaTop" fmla="*/ 428400 h 2449440"/>
              <a:gd name="textAreaBottom" fmla="*/ 177588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2700360" y="4797360"/>
            <a:ext cx="3771720" cy="39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ТУДИЯ   ДОШКОЛЯ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2484360" y="5589720"/>
            <a:ext cx="44164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ШАГ  В   БУДУЩЕЕ"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fon_os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3059280" y="189000"/>
            <a:ext cx="35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20"/>
          <p:cNvSpPr txBox="1"/>
          <p:nvPr/>
        </p:nvSpPr>
        <p:spPr>
          <a:xfrm>
            <a:off x="2556000" y="476280"/>
            <a:ext cx="4057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ШАГ  В   БУДУЩЕЕ"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611280" y="1557360"/>
            <a:ext cx="45622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Законы сту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Любовь к де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Доброжел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тзыв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Любозн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Усид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ворческ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5076720" y="321300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уководитель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6666cc"/>
                </a:solidFill>
                <a:latin typeface="Arial"/>
              </a:rPr>
              <a:t>учитель русского языка и литературы высшей квалификационной категории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 Гвоздева Светла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рганизаторы: </a:t>
            </a:r>
            <a:r>
              <a:rPr b="0" lang="ru-RU" sz="1800" spc="-1" strike="noStrike">
                <a:solidFill>
                  <a:srgbClr val="7070ff"/>
                </a:solidFill>
                <a:latin typeface="Arial"/>
              </a:rPr>
              <a:t>обучающиеся  8 класса Акилова Зарина, Гвоздев Сергей, Кокухина Елизавета, Семенов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3" descr="j0283649"/>
          <p:cNvPicPr/>
          <p:nvPr/>
        </p:nvPicPr>
        <p:blipFill>
          <a:blip r:embed="rId2"/>
          <a:stretch/>
        </p:blipFill>
        <p:spPr>
          <a:xfrm>
            <a:off x="3851280" y="1197000"/>
            <a:ext cx="11811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971640" y="333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66"/>
                </a:solidFill>
                <a:latin typeface="Arial"/>
              </a:rPr>
              <a:t>Условия реализации программы поддержки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85652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ие родителей и ребенка на помощь и поддерж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товность взрослых к оказанию психологической поддержки ребенк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чество и согласованность действий всех участ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благоприятного психологического климата в коллективе (в школе и в семь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exptext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611280" y="2602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Основные принцип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971640" y="1197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обровольность участи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безоцено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увлеченность ответственного, что способствует заражению детей соответствующими эмоци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наблюдение за здоровьем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время проведения занятия строго не регламентировано – 30-40 минут в зависимости от состояния детей (степени интереса, пресыщения или утомл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регулярность проведения занятий – 1 раз в неделю; занятия проводятся в послеобеденное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) соблюдение структуры занят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golub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324000" y="404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труктура занятий с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2143080" y="1071720"/>
            <a:ext cx="56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е содержани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лексия занятия - оценка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ени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9"/>
          <p:cNvSpPr txBox="1"/>
          <p:nvPr/>
        </p:nvSpPr>
        <p:spPr>
          <a:xfrm rot="20973000">
            <a:off x="6697440" y="4884840"/>
            <a:ext cx="194940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9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9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WordArt 10"/>
          <p:cNvSpPr txBox="1"/>
          <p:nvPr/>
        </p:nvSpPr>
        <p:spPr>
          <a:xfrm rot="2131800">
            <a:off x="968400" y="3281400"/>
            <a:ext cx="129528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зы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WordArt 11"/>
          <p:cNvSpPr txBox="1"/>
          <p:nvPr/>
        </p:nvSpPr>
        <p:spPr>
          <a:xfrm rot="21219000">
            <a:off x="4412880" y="3317760"/>
            <a:ext cx="19162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6144000"/>
                </a:gradFill>
                <a:latin typeface="Times New Roman"/>
              </a:rPr>
              <a:t>Движе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6144000"/>
              </a:gradFill>
              <a:latin typeface="Times New Roman"/>
              <a:ea typeface="Times New Roman"/>
            </a:endParaRPr>
          </a:p>
        </p:txBody>
      </p:sp>
      <p:pic>
        <p:nvPicPr>
          <p:cNvPr id="203" name="Рисунок 9" descr="C:\Users\user\Desktop\IMG_3044.jpg"/>
          <p:cNvPicPr/>
          <p:nvPr/>
        </p:nvPicPr>
        <p:blipFill>
          <a:blip r:embed="rId4"/>
          <a:stretch/>
        </p:blipFill>
        <p:spPr>
          <a:xfrm>
            <a:off x="500040" y="4429080"/>
            <a:ext cx="2865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18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72"/>
          <p:cNvSpPr/>
          <p:nvPr/>
        </p:nvSpPr>
        <p:spPr>
          <a:xfrm>
            <a:off x="468360" y="115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ГРАММА ПОДДЕРЖКИ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836640"/>
          <a:ext cx="8064720" cy="5545080"/>
        </p:xfrm>
        <a:graphic>
          <a:graphicData uri="http://schemas.openxmlformats.org/drawingml/2006/table">
            <a:tbl>
              <a:tblPr/>
              <a:tblGrid>
                <a:gridCol w="1733760"/>
                <a:gridCol w="3117600"/>
                <a:gridCol w="198720"/>
                <a:gridCol w="30146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этап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опроса, анкетирования, бесе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Выпуск информационных букле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Знакомство с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этап: совместные мероприятия с родителями и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1: «Давайте познакомимс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2: «Я и моё им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3: «Я и мо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4: «Урок и переме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5 -6: «Знакомство со школ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этап: мероприятия с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7: «Ученье – свет, а неученье – тьм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8: «Когда всем весело, а одному грустн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№ 9: «Волшебные слов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 № 10-12: Творческие занятия (работа с природным материало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этап: диагнос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анкеты для выявления удовлетворенности запросов родителей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ведение анкеты для выявления мотивации дошкольников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0084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7"/>
          <p:cNvSpPr/>
          <p:nvPr/>
        </p:nvSpPr>
        <p:spPr>
          <a:xfrm>
            <a:off x="468360" y="1420920"/>
            <a:ext cx="77756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ложительное оценивание своей лич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реодоление страха и тревожности, связанные с процессом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ешение конфликт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 уважением относиться к окружающ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увствовать себя более комфортно в шк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ились общаться со сверстни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лучают радость от по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8"/>
          <p:cNvSpPr txBox="1"/>
          <p:nvPr/>
        </p:nvSpPr>
        <p:spPr>
          <a:xfrm>
            <a:off x="1979640" y="571680"/>
            <a:ext cx="53071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ЗУЛЬТА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нятия в спортзал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0084"/>
          <p:cNvPicPr/>
          <p:nvPr/>
        </p:nvPicPr>
        <p:blipFill>
          <a:blip r:embed="rId1"/>
          <a:stretch/>
        </p:blipFill>
        <p:spPr>
          <a:xfrm>
            <a:off x="3957480" y="3233880"/>
            <a:ext cx="1229040" cy="11523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фото 3 класс 008"/>
          <p:cNvPicPr/>
          <p:nvPr/>
        </p:nvPicPr>
        <p:blipFill>
          <a:blip r:embed="rId2"/>
          <a:stretch/>
        </p:blipFill>
        <p:spPr>
          <a:xfrm>
            <a:off x="642960" y="3286080"/>
            <a:ext cx="3643200" cy="28242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7" descr="D:\ZvezdovhkA\fotto\день самоуправления 5.10.10\DSCF1290.JPG"/>
          <p:cNvPicPr/>
          <p:nvPr/>
        </p:nvPicPr>
        <p:blipFill>
          <a:blip r:embed="rId3"/>
          <a:stretch/>
        </p:blipFill>
        <p:spPr>
          <a:xfrm>
            <a:off x="4500720" y="1500120"/>
            <a:ext cx="37861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smile44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611280" y="476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КАК НАШЕ ДЕЛО ОТЗОВ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4"/>
          <p:cNvSpPr/>
          <p:nvPr/>
        </p:nvSpPr>
        <p:spPr>
          <a:xfrm>
            <a:off x="0" y="456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51"/>
          <p:cNvSpPr/>
          <p:nvPr/>
        </p:nvSpPr>
        <p:spPr>
          <a:xfrm>
            <a:off x="826920" y="1083960"/>
            <a:ext cx="7561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циональная образовательная инициати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273"/>
          <p:cNvGrpSpPr/>
          <p:nvPr/>
        </p:nvGrpSpPr>
        <p:grpSpPr>
          <a:xfrm>
            <a:off x="2644560" y="2244960"/>
            <a:ext cx="3858840" cy="3519720"/>
            <a:chOff x="2644560" y="2244960"/>
            <a:chExt cx="3858840" cy="3519720"/>
          </a:xfrm>
        </p:grpSpPr>
        <p:sp>
          <p:nvSpPr>
            <p:cNvPr id="103" name="_s1028"/>
            <p:cNvSpPr/>
            <p:nvPr/>
          </p:nvSpPr>
          <p:spPr>
            <a:xfrm>
              <a:off x="3262320" y="2244960"/>
              <a:ext cx="2623680" cy="2393280"/>
            </a:xfrm>
            <a:custGeom>
              <a:avLst/>
              <a:gdLst>
                <a:gd name="textAreaLeft" fmla="*/ 0 w 2623680"/>
                <a:gd name="textAreaRight" fmla="*/ 2624040 w 2623680"/>
                <a:gd name="textAreaTop" fmla="*/ 0 h 2393280"/>
                <a:gd name="textAreaBottom" fmla="*/ 2393640 h 23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29"/>
            <p:cNvSpPr/>
            <p:nvPr/>
          </p:nvSpPr>
          <p:spPr>
            <a:xfrm rot="5400000">
              <a:off x="3994920" y="2692800"/>
              <a:ext cx="2393280" cy="2623680"/>
            </a:xfrm>
            <a:custGeom>
              <a:avLst/>
              <a:gdLst>
                <a:gd name="textAreaLeft" fmla="*/ 0 w 2393280"/>
                <a:gd name="textAreaRight" fmla="*/ 2393640 w 2393280"/>
                <a:gd name="textAreaTop" fmla="*/ 0 h 2623680"/>
                <a:gd name="textAreaBottom" fmla="*/ 2624040 h 262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0"/>
            <p:cNvSpPr/>
            <p:nvPr/>
          </p:nvSpPr>
          <p:spPr>
            <a:xfrm rot="10800000">
              <a:off x="3262320" y="3371400"/>
              <a:ext cx="2623680" cy="2393280"/>
            </a:xfrm>
            <a:custGeom>
              <a:avLst/>
              <a:gdLst>
                <a:gd name="textAreaLeft" fmla="*/ 0 w 2623680"/>
                <a:gd name="textAreaRight" fmla="*/ 2624040 w 2623680"/>
                <a:gd name="textAreaTop" fmla="*/ 0 h 2393280"/>
                <a:gd name="textAreaBottom" fmla="*/ 2393640 h 23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1"/>
            <p:cNvSpPr/>
            <p:nvPr/>
          </p:nvSpPr>
          <p:spPr>
            <a:xfrm rot="16200000">
              <a:off x="2759760" y="2693160"/>
              <a:ext cx="2393280" cy="2623680"/>
            </a:xfrm>
            <a:custGeom>
              <a:avLst/>
              <a:gdLst>
                <a:gd name="textAreaLeft" fmla="*/ 0 w 2393280"/>
                <a:gd name="textAreaRight" fmla="*/ 2393640 w 2393280"/>
                <a:gd name="textAreaTop" fmla="*/ 0 h 2623680"/>
                <a:gd name="textAreaBottom" fmla="*/ 2624040 h 262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5271840" y="2464920"/>
              <a:ext cx="98892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ошкольн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2887560" y="4642920"/>
              <a:ext cx="9885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школьно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образ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2885760" y="2466720"/>
              <a:ext cx="9889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оспит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5273640" y="4641480"/>
              <a:ext cx="98856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бор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фессиона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Я И МОЯ СЕМЬ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лективная работа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4920" y="1428840"/>
            <a:ext cx="385776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КУРСИЯ ПО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Содержимое 6" descr="C:\Users\user\Desktop\SDC10306.JPG"/>
          <p:cNvPicPr/>
          <p:nvPr/>
        </p:nvPicPr>
        <p:blipFill>
          <a:blip r:embed="rId1"/>
          <a:stretch/>
        </p:blipFill>
        <p:spPr>
          <a:xfrm>
            <a:off x="995400" y="2174760"/>
            <a:ext cx="2963880" cy="395136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7" descr="PICT0902"/>
          <p:cNvPicPr/>
          <p:nvPr/>
        </p:nvPicPr>
        <p:blipFill>
          <a:blip r:embed="rId2"/>
          <a:stretch/>
        </p:blipFill>
        <p:spPr>
          <a:xfrm>
            <a:off x="5286240" y="2500200"/>
            <a:ext cx="27860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ДА ВСЕМ ВЕСЕЛО, А ОДНОМУ ГРУСТНО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Содержимое 4" descr="PICT0018"/>
          <p:cNvPicPr/>
          <p:nvPr/>
        </p:nvPicPr>
        <p:blipFill>
          <a:blip r:embed="rId1"/>
          <a:srcRect l="0" t="0" r="1053" b="16968"/>
          <a:stretch/>
        </p:blipFill>
        <p:spPr>
          <a:xfrm>
            <a:off x="4572000" y="3643200"/>
            <a:ext cx="3890880" cy="24465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PICT0013"/>
          <p:cNvPicPr/>
          <p:nvPr/>
        </p:nvPicPr>
        <p:blipFill>
          <a:blip r:embed="rId2"/>
          <a:srcRect l="0" t="0" r="-1788" b="20762"/>
          <a:stretch/>
        </p:blipFill>
        <p:spPr>
          <a:xfrm>
            <a:off x="1143000" y="1714680"/>
            <a:ext cx="32796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fon-1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332000" y="189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ЧЕСТВЕННОЕ ОБРАЗ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24000" y="23778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емственность дошкольного и школьного образования - одно из усло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ICT3036"/>
          <p:cNvPicPr/>
          <p:nvPr/>
        </p:nvPicPr>
        <p:blipFill>
          <a:blip r:embed="rId2"/>
          <a:stretch/>
        </p:blipFill>
        <p:spPr>
          <a:xfrm>
            <a:off x="785880" y="385776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j0283517"/>
          <p:cNvPicPr/>
          <p:nvPr/>
        </p:nvPicPr>
        <p:blipFill>
          <a:blip r:embed="rId3"/>
          <a:stretch/>
        </p:blipFill>
        <p:spPr>
          <a:xfrm>
            <a:off x="6659640" y="4149720"/>
            <a:ext cx="17272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323280" cy="6912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179280" y="2602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БЛЕМНАЯ СИ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79280" y="990360"/>
            <a:ext cx="878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тсутствие дошкольного учре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Нет постоянного общения со сверст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ложно проходит адаптация к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сего детей дошкольного возраста -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971640" y="333360"/>
            <a:ext cx="69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9280" y="1412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прос жителей поселка Грачи и п. Головановскс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47640" y="40464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следов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8"/>
          <p:cNvGraphicFramePr/>
          <p:nvPr/>
        </p:nvGraphicFramePr>
        <p:xfrm>
          <a:off x="1619280" y="2435400"/>
          <a:ext cx="6697800" cy="238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2435400"/>
                    <a:ext cx="669780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971640" y="333360"/>
            <a:ext cx="69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55640" y="1412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прос педагогов МОУ «СОШ п. Голован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547640" y="40464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следование проблем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0"/>
          <p:cNvGraphicFramePr/>
          <p:nvPr/>
        </p:nvGraphicFramePr>
        <p:xfrm>
          <a:off x="1332000" y="2421000"/>
          <a:ext cx="6553080" cy="273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421000"/>
                    <a:ext cx="655308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fon-1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332000" y="18900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БЛЕМ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24000" y="23778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й форме организовать поддержку детей дошкольного возра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j0288870"/>
          <p:cNvPicPr/>
          <p:nvPr/>
        </p:nvPicPr>
        <p:blipFill>
          <a:blip r:embed="rId2"/>
          <a:stretch/>
        </p:blipFill>
        <p:spPr>
          <a:xfrm>
            <a:off x="3929040" y="3373560"/>
            <a:ext cx="17352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rose023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50920" y="33336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cc"/>
                </a:solidFill>
                <a:latin typeface="Arial"/>
              </a:rPr>
              <a:t>ЦЕЛЬ:</a:t>
            </a:r>
            <a:r>
              <a:rPr b="1" lang="ru-RU" sz="3600" spc="-1" strike="noStrike">
                <a:solidFill>
                  <a:srgbClr val="99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cc"/>
                </a:solidFill>
                <a:latin typeface="Arial"/>
              </a:rPr>
              <a:t>Помочь детям дошкольного возраста научиться общаться в коллективе, адаптироваться к условиям школь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95280" y="486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ЕДМЕТ ИССЛЕДОВАНИЯ: процесс адаптации дошкольников к успешному школьному обу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24000" y="335772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БЪЕКТ ИССЛЕДОВАНИЯ: формы общения детей дошкольного возраста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golub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7"/>
          <p:cNvSpPr txBox="1"/>
          <p:nvPr/>
        </p:nvSpPr>
        <p:spPr>
          <a:xfrm>
            <a:off x="250920" y="260280"/>
            <a:ext cx="8569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ДАЧИ ИССЛЕДОВА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6" name="Picture 9" descr="j0283630"/>
          <p:cNvPicPr/>
          <p:nvPr/>
        </p:nvPicPr>
        <p:blipFill>
          <a:blip r:embed="rId2"/>
          <a:stretch/>
        </p:blipFill>
        <p:spPr>
          <a:xfrm>
            <a:off x="7812000" y="5229360"/>
            <a:ext cx="781200" cy="857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539640" y="215784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психолого-педагогическую литературу по проблеме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ганизовать студию дошколят «Шаг в будуще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ть программу поддержки детей в адаптацион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15:09:14Z</dcterms:created>
  <dc:creator>Юля</dc:creator>
  <dc:description/>
  <dc:language>en-US</dc:language>
  <cp:lastModifiedBy>user</cp:lastModifiedBy>
  <dcterms:modified xsi:type="dcterms:W3CDTF">2013-02-11T20:59:59Z</dcterms:modified>
  <cp:revision>10</cp:revision>
  <dc:subject/>
  <dc:title>Слайд 1</dc:title>
</cp:coreProperties>
</file>