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FC2-F61C-466E-AED2-128848B2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42E-B254-47CA-9B88-EA859DCD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D4E-BFE3-4668-B7B3-C61BB898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DF4-941F-42B9-84F7-9F895682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2CD67-FBAB-4914-B008-C3EE7046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B8DB0-AA0B-4CC4-A749-59354CE7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D35F8-B9C9-4DDA-BE08-D7BB5A20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17E53-2378-4C13-8F98-7193A6FF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6A3FB-97AB-49D9-866D-6A8BB000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98935-964B-4AD2-87AB-91D6D285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95DC3-6D04-417F-9632-965AF741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42E-3D95-4F62-A2A1-E008C970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F938D-9868-4FB8-AA6D-A67A6959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088B0-0750-43CD-9370-C6F67F1B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D2FAA-82A2-404D-B117-E50E723B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57878-3788-4EA3-925D-2A6B4DF8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9F315-9D7B-4349-8362-75DF3E89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1D5C-BDB3-42CA-B5E5-7745CBBA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33F2-F904-4B4C-838B-A5FE6866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6428-82A5-4CE3-9A39-D82E5227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7C28-703D-47D0-B434-80638D74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CA53-9D35-41B4-AF26-CE78A9BA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4C7-0444-4AC2-8159-21E80862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448C2-58A7-436C-AD33-D5F4D583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AC73-3F59-4B11-9E1B-A265AF2A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B6DEB-35B0-42BE-B035-DB8D4A4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12E1-268A-405A-B90E-742FBCC3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ABFB2-99BC-4F93-8EB6-446DD1CE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F329-833E-4CFA-A142-BCA58C32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9B9E-4B03-4F2F-869C-DA79BE03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17B-E38B-4EA6-89FF-42AF5994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958-7C92-4481-B0FC-DE79AF3B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7E5-F7AD-447B-AB42-0E8329DB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299-52FA-41D7-B7DC-27F5D287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BB8-A5B9-46FC-A8D7-85FEC1F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FB6-5C9B-42C0-A0E7-DDBA393B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0100-C64B-43AA-BB7B-8377B724C9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DE49-E076-403B-A44E-D86416D810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C3A7-A494-4025-A0BC-0CA288513F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papers.ru/wallpapers/animals/Horses/2589/1400-1050_%25" TargetMode="External"/><Relationship Id="rId2" Type="http://schemas.openxmlformats.org/officeDocument/2006/relationships/hyperlink" Target="http://wpapers.ru/wallpapers/animals/Horses/2589/1400-1050_%25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1125360"/>
            <a:ext cx="8450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бобщающий урок-путешеств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 3 классе по тем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ЛЕКСИКА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6040" y="5300640"/>
            <a:ext cx="381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Ш № 4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. Перм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углова Татьяна Юрье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1341360"/>
            <a:ext cx="3007800" cy="2592360"/>
            <a:chOff x="0" y="1341360"/>
            <a:chExt cx="3007800" cy="2592360"/>
          </a:xfrm>
        </p:grpSpPr>
        <p:sp>
          <p:nvSpPr>
            <p:cNvPr id="272" name="Cloud"/>
            <p:cNvSpPr/>
            <p:nvPr/>
          </p:nvSpPr>
          <p:spPr>
            <a:xfrm>
              <a:off x="0" y="1341360"/>
              <a:ext cx="2987640" cy="259236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4520" y="1484280"/>
              <a:ext cx="275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антонимы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610920" y="2205000"/>
              <a:ext cx="1295640" cy="1079640"/>
              <a:chOff x="610920" y="2205000"/>
              <a:chExt cx="1295640" cy="1079640"/>
            </a:xfrm>
          </p:grpSpPr>
          <p:sp>
            <p:nvSpPr>
              <p:cNvPr id="275" name=""/>
              <p:cNvSpPr/>
              <p:nvPr/>
            </p:nvSpPr>
            <p:spPr>
              <a:xfrm>
                <a:off x="682560" y="2205000"/>
                <a:ext cx="576360" cy="503280"/>
              </a:xfrm>
              <a:prstGeom prst="smileyFace">
                <a:avLst>
                  <a:gd name="adj" fmla="val 1773"/>
                </a:avLst>
              </a:prstGeom>
              <a:solidFill>
                <a:srgbClr val="33cccc"/>
              </a:solidFill>
              <a:ln w="381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19280" y="2421000"/>
                <a:ext cx="287280" cy="358560"/>
              </a:xfrm>
              <a:prstGeom prst="smileyFace">
                <a:avLst>
                  <a:gd name="adj" fmla="val 1773"/>
                </a:avLst>
              </a:prstGeom>
              <a:solidFill>
                <a:srgbClr val="33cccc"/>
              </a:solidFill>
              <a:ln w="2844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970200" y="2708280"/>
                <a:ext cx="0" cy="289080"/>
              </a:xfrm>
              <a:prstGeom prst="line">
                <a:avLst/>
              </a:prstGeom>
              <a:ln w="381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826920" y="2997360"/>
                <a:ext cx="142920" cy="287280"/>
              </a:xfrm>
              <a:prstGeom prst="line">
                <a:avLst/>
              </a:prstGeom>
              <a:ln w="381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70200" y="2997360"/>
                <a:ext cx="215640" cy="287280"/>
              </a:xfrm>
              <a:prstGeom prst="line">
                <a:avLst/>
              </a:prstGeom>
              <a:ln w="381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1185840" y="3141360"/>
                <a:ext cx="73080" cy="142920"/>
              </a:xfrm>
              <a:prstGeom prst="line">
                <a:avLst/>
              </a:prstGeom>
              <a:ln w="381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682560" y="3212640"/>
                <a:ext cx="144720" cy="71640"/>
              </a:xfrm>
              <a:prstGeom prst="line">
                <a:avLst/>
              </a:prstGeom>
              <a:ln w="381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754200" y="2708280"/>
                <a:ext cx="216000" cy="289080"/>
              </a:xfrm>
              <a:prstGeom prst="line">
                <a:avLst/>
              </a:prstGeom>
              <a:ln w="381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70200" y="2708280"/>
                <a:ext cx="215640" cy="216000"/>
              </a:xfrm>
              <a:prstGeom prst="line">
                <a:avLst/>
              </a:prstGeom>
              <a:ln w="381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flipV="1">
                <a:off x="610920" y="2852640"/>
                <a:ext cx="142920" cy="144720"/>
              </a:xfrm>
              <a:prstGeom prst="line">
                <a:avLst/>
              </a:prstGeom>
              <a:ln w="381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1185840" y="2781000"/>
                <a:ext cx="144720" cy="142920"/>
              </a:xfrm>
              <a:prstGeom prst="line">
                <a:avLst/>
              </a:prstGeom>
              <a:ln w="381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62200" y="2781360"/>
                <a:ext cx="0" cy="216000"/>
              </a:xfrm>
              <a:prstGeom prst="line">
                <a:avLst/>
              </a:prstGeom>
              <a:ln w="2844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1618920" y="2997360"/>
                <a:ext cx="142920" cy="215640"/>
              </a:xfrm>
              <a:prstGeom prst="line">
                <a:avLst/>
              </a:prstGeom>
              <a:ln w="2844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762200" y="2997360"/>
                <a:ext cx="73080" cy="215640"/>
              </a:xfrm>
              <a:prstGeom prst="line">
                <a:avLst/>
              </a:prstGeom>
              <a:ln w="2844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1835280" y="3141720"/>
                <a:ext cx="71280" cy="71280"/>
              </a:xfrm>
              <a:prstGeom prst="line">
                <a:avLst/>
              </a:prstGeom>
              <a:ln w="2844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1545840" y="3141720"/>
                <a:ext cx="73080" cy="71280"/>
              </a:xfrm>
              <a:prstGeom prst="line">
                <a:avLst/>
              </a:prstGeom>
              <a:ln w="2844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762200" y="2781360"/>
                <a:ext cx="73080" cy="142920"/>
              </a:xfrm>
              <a:prstGeom prst="line">
                <a:avLst/>
              </a:prstGeom>
              <a:ln w="2844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1835280" y="2852280"/>
                <a:ext cx="71280" cy="71640"/>
              </a:xfrm>
              <a:prstGeom prst="line">
                <a:avLst/>
              </a:prstGeom>
              <a:ln w="2844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1690920" y="2781360"/>
                <a:ext cx="71280" cy="142920"/>
              </a:xfrm>
              <a:prstGeom prst="line">
                <a:avLst/>
              </a:prstGeom>
              <a:ln w="2844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1618920" y="2852280"/>
                <a:ext cx="71640" cy="71640"/>
              </a:xfrm>
              <a:prstGeom prst="line">
                <a:avLst/>
              </a:prstGeom>
              <a:ln w="2844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"/>
          <p:cNvSpPr txBox="1"/>
          <p:nvPr/>
        </p:nvSpPr>
        <p:spPr>
          <a:xfrm>
            <a:off x="468360" y="189000"/>
            <a:ext cx="7991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ксика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Cloud"/>
          <p:cNvSpPr/>
          <p:nvPr/>
        </p:nvSpPr>
        <p:spPr>
          <a:xfrm>
            <a:off x="3059280" y="1268280"/>
            <a:ext cx="3097080" cy="2232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Cloud"/>
          <p:cNvSpPr/>
          <p:nvPr/>
        </p:nvSpPr>
        <p:spPr>
          <a:xfrm>
            <a:off x="6156360" y="2060640"/>
            <a:ext cx="2743200" cy="1439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Cloud"/>
          <p:cNvSpPr/>
          <p:nvPr/>
        </p:nvSpPr>
        <p:spPr>
          <a:xfrm>
            <a:off x="6227640" y="4292640"/>
            <a:ext cx="2743200" cy="1297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7512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Cloud"/>
          <p:cNvSpPr/>
          <p:nvPr/>
        </p:nvSpPr>
        <p:spPr>
          <a:xfrm>
            <a:off x="1908000" y="4149720"/>
            <a:ext cx="3384720" cy="2482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84360" y="2376000"/>
            <a:ext cx="3168360" cy="1991160"/>
            <a:chOff x="684360" y="2376000"/>
            <a:chExt cx="3168360" cy="1991160"/>
          </a:xfrm>
        </p:grpSpPr>
        <p:sp>
          <p:nvSpPr>
            <p:cNvPr id="302" name=""/>
            <p:cNvSpPr/>
            <p:nvPr/>
          </p:nvSpPr>
          <p:spPr>
            <a:xfrm rot="13453200">
              <a:off x="1763280" y="2565000"/>
              <a:ext cx="914040" cy="91440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4360" y="3646440"/>
              <a:ext cx="3168360" cy="720720"/>
            </a:xfrm>
            <a:custGeom>
              <a:avLst/>
              <a:gdLst>
                <a:gd name="textAreaLeft" fmla="*/ 696600 w 3168360"/>
                <a:gd name="textAreaRight" fmla="*/ 2471760 w 3168360"/>
                <a:gd name="textAreaTop" fmla="*/ 158400 h 720720"/>
                <a:gd name="textAreaBottom" fmla="*/ 5623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98880" y="4221000"/>
            <a:ext cx="28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инони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2484360" y="4869000"/>
            <a:ext cx="973080" cy="9046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3708360" y="4869000"/>
            <a:ext cx="971640" cy="9046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414160" y="573408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ого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6520" y="57340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пла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87640" y="134136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ногозна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74 C 0.0092 0.01595 0.01823 0.0222 0.02865 0.02613 C 0.07309 0.02451 0.1066 0.01988 0.14792 0.01549 C 0.16892 0.00763 0.18941 0.00879 0.21146 0.0074 C 0.22031 -0.00069 0.2276 -0.00208 0.23837 -0.00601 C 0.24375 -0.00786 0.25069 -0.01665 0.25556 -0.01896 C 0.26111 -0.0215 0.26719 -0.02197 0.27274 -0.02451 C 0.27656 -0.02613 0.28438 -0.0296 0.28438 -0.02936 C 0.30451 -0.02312 0.28941 -0.02705 0.33073 -0.02705 E">
                                      <p:cBhvr>
                                        <p:cTn id="480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5723E-006 C -0.00486 0.05225 -0.00937 0.10474 -0.01111 0.12578 E">
                                      <p:cBhvr>
                                        <p:cTn id="482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1872000" cy="2087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659640" y="476280"/>
            <a:ext cx="1873080" cy="2232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4788000" y="549360"/>
            <a:ext cx="1243080" cy="21589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5435640" y="3716280"/>
            <a:ext cx="1728720" cy="2016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3708360" y="3716280"/>
            <a:ext cx="1496880" cy="20908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7380360" y="3645000"/>
            <a:ext cx="1368360" cy="20876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97080" y="1413000"/>
            <a:ext cx="16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ко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6160" y="44370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иг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2050920" y="3716280"/>
            <a:ext cx="144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Cloud"/>
          <p:cNvSpPr/>
          <p:nvPr/>
        </p:nvSpPr>
        <p:spPr>
          <a:xfrm>
            <a:off x="2987640" y="1484280"/>
            <a:ext cx="3232080" cy="2556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Cloud"/>
          <p:cNvSpPr/>
          <p:nvPr/>
        </p:nvSpPr>
        <p:spPr>
          <a:xfrm>
            <a:off x="0" y="2637000"/>
            <a:ext cx="298764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360" y="1557360"/>
            <a:ext cx="312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ногозна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4360" y="404640"/>
            <a:ext cx="7991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ксика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Cloud"/>
          <p:cNvSpPr/>
          <p:nvPr/>
        </p:nvSpPr>
        <p:spPr>
          <a:xfrm>
            <a:off x="6227640" y="1557360"/>
            <a:ext cx="291636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Cloud"/>
          <p:cNvSpPr/>
          <p:nvPr/>
        </p:nvSpPr>
        <p:spPr>
          <a:xfrm>
            <a:off x="5580000" y="5373720"/>
            <a:ext cx="2743200" cy="1297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Cloud"/>
          <p:cNvSpPr/>
          <p:nvPr/>
        </p:nvSpPr>
        <p:spPr>
          <a:xfrm>
            <a:off x="2050920" y="4375080"/>
            <a:ext cx="3384720" cy="2482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35800" y="1700280"/>
            <a:ext cx="26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мони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995640" y="2447640"/>
            <a:ext cx="3168720" cy="1991160"/>
            <a:chOff x="3995640" y="2447640"/>
            <a:chExt cx="3168720" cy="1991160"/>
          </a:xfrm>
        </p:grpSpPr>
        <p:sp>
          <p:nvSpPr>
            <p:cNvPr id="329" name=""/>
            <p:cNvSpPr/>
            <p:nvPr/>
          </p:nvSpPr>
          <p:spPr>
            <a:xfrm rot="13453200">
              <a:off x="5074920" y="2637000"/>
              <a:ext cx="914400" cy="91440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95640" y="3718080"/>
              <a:ext cx="3168720" cy="720720"/>
            </a:xfrm>
            <a:custGeom>
              <a:avLst/>
              <a:gdLst>
                <a:gd name="textAreaLeft" fmla="*/ 696600 w 3168720"/>
                <a:gd name="textAreaRight" fmla="*/ 2472120 w 3168720"/>
                <a:gd name="textAreaTop" fmla="*/ 158400 h 720720"/>
                <a:gd name="textAreaBottom" fmla="*/ 5623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600" y="2852640"/>
            <a:ext cx="27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нтони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272320" y="4581360"/>
            <a:ext cx="2983320" cy="1913040"/>
            <a:chOff x="2272320" y="4581360"/>
            <a:chExt cx="2983320" cy="1913040"/>
          </a:xfrm>
        </p:grpSpPr>
        <p:sp>
          <p:nvSpPr>
            <p:cNvPr id="333" name=""/>
            <p:cNvSpPr/>
            <p:nvPr/>
          </p:nvSpPr>
          <p:spPr>
            <a:xfrm>
              <a:off x="2438280" y="4581360"/>
              <a:ext cx="281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синонимы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2556000" y="5181480"/>
              <a:ext cx="90144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3"/>
            <a:stretch/>
          </p:blipFill>
          <p:spPr>
            <a:xfrm>
              <a:off x="3637080" y="5181480"/>
              <a:ext cx="90000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272320" y="5973840"/>
              <a:ext cx="119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ого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94880" y="5973840"/>
              <a:ext cx="128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плам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84000" y="3573360"/>
            <a:ext cx="1295640" cy="1079640"/>
            <a:chOff x="684000" y="3573360"/>
            <a:chExt cx="1295640" cy="1079640"/>
          </a:xfrm>
        </p:grpSpPr>
        <p:sp>
          <p:nvSpPr>
            <p:cNvPr id="339" name=""/>
            <p:cNvSpPr/>
            <p:nvPr/>
          </p:nvSpPr>
          <p:spPr>
            <a:xfrm>
              <a:off x="755640" y="3573360"/>
              <a:ext cx="576360" cy="503280"/>
            </a:xfrm>
            <a:prstGeom prst="smileyFace">
              <a:avLst>
                <a:gd name="adj" fmla="val 1773"/>
              </a:avLst>
            </a:prstGeom>
            <a:solidFill>
              <a:srgbClr val="33cccc"/>
            </a:solidFill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92360" y="3789360"/>
              <a:ext cx="287280" cy="358560"/>
            </a:xfrm>
            <a:prstGeom prst="smileyFace">
              <a:avLst>
                <a:gd name="adj" fmla="val 1773"/>
              </a:avLst>
            </a:prstGeom>
            <a:solidFill>
              <a:srgbClr val="33cccc"/>
            </a:solidFill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3280" y="4076640"/>
              <a:ext cx="0" cy="28908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900000" y="4365720"/>
              <a:ext cx="142920" cy="28728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43280" y="4365720"/>
              <a:ext cx="215640" cy="28728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258920" y="4509720"/>
              <a:ext cx="73080" cy="1429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755640" y="4581000"/>
              <a:ext cx="144720" cy="7164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827280" y="4076640"/>
              <a:ext cx="216000" cy="28908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43280" y="4076640"/>
              <a:ext cx="215640" cy="21600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684000" y="4221000"/>
              <a:ext cx="142920" cy="1447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258920" y="4149360"/>
              <a:ext cx="144720" cy="1429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35280" y="4149720"/>
              <a:ext cx="0" cy="21600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692000" y="4365720"/>
              <a:ext cx="142920" cy="2156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35280" y="4365720"/>
              <a:ext cx="73080" cy="2156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908360" y="4510080"/>
              <a:ext cx="71280" cy="712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1618920" y="4510080"/>
              <a:ext cx="73080" cy="712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35280" y="4149720"/>
              <a:ext cx="73080" cy="1429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08360" y="4220640"/>
              <a:ext cx="71280" cy="716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1764000" y="4149720"/>
              <a:ext cx="71280" cy="1429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1692000" y="4220640"/>
              <a:ext cx="71640" cy="716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35280" y="2421000"/>
            <a:ext cx="1657440" cy="1225440"/>
            <a:chOff x="3635280" y="2421000"/>
            <a:chExt cx="1657440" cy="1225440"/>
          </a:xfrm>
        </p:grpSpPr>
        <p:pic>
          <p:nvPicPr>
            <p:cNvPr id="360" name="" descr=""/>
            <p:cNvPicPr/>
            <p:nvPr/>
          </p:nvPicPr>
          <p:blipFill>
            <a:blip r:embed="rId4"/>
            <a:stretch/>
          </p:blipFill>
          <p:spPr>
            <a:xfrm>
              <a:off x="3635280" y="2997360"/>
              <a:ext cx="71928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5"/>
            <a:stretch/>
          </p:blipFill>
          <p:spPr>
            <a:xfrm>
              <a:off x="4572000" y="2997360"/>
              <a:ext cx="720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26520" y="242100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ко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4624E-006 C 0.01476 -4.04624E-006 0.02535 0.00047 0.03924 0.00162 C 0.04202 0.00185 0.04723 0.00208 0.04948 0.00255 C 0.05677 0.00417 0.06441 0.00532 0.0717 0.00694 C 0.0757 0.00787 0.08351 0.00787 0.08785 0.0081 C 0.09236 0.00856 0.09827 0.00879 0.10209 0.00972 C 0.10539 0.01064 0.10938 0.01226 0.11337 0.01295 C 0.11372 0.01295 0.12066 0.01365 0.1224 0.01388 C 0.12431 0.01411 0.12848 0.01434 0.12848 0.01457 C 0.13195 0.01573 0.13004 0.01526 0.13386 0.01526 E">
                                      <p:cBhvr>
                                        <p:cTn id="542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684360" y="404640"/>
            <a:ext cx="7632720" cy="14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монимы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1779480" cy="26416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1800360" cy="27352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4932360" y="2060640"/>
            <a:ext cx="1879560" cy="2736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093080" y="1989000"/>
            <a:ext cx="1800000" cy="28083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0880" y="2349360"/>
            <a:ext cx="121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лу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02880" y="2349360"/>
            <a:ext cx="121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лу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51960" y="508464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ко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239600" y="508464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ко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2592360" cy="26654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2881440" cy="2665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58400" y="620640"/>
            <a:ext cx="898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ы знаешь, Саша, я сегодня потеря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люч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ак же так, Серёж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Ты что в лес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заблудилс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Я сегодня из него пи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Хорошая там вода – свежая, вкусна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7240" y="476280"/>
            <a:ext cx="193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ор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90880" y="3573360"/>
            <a:ext cx="15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гра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643280" y="465300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7020000" y="465300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2700360" y="1557360"/>
            <a:ext cx="1944720" cy="1942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81620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59240" y="476280"/>
            <a:ext cx="193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ор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67240" y="3573360"/>
            <a:ext cx="15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гра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03280" y="1125360"/>
            <a:ext cx="0" cy="35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76720" y="1197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508720" y="4221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27600" y="476280"/>
            <a:ext cx="8586000" cy="5977080"/>
            <a:chOff x="327600" y="476280"/>
            <a:chExt cx="8586000" cy="5977080"/>
          </a:xfrm>
        </p:grpSpPr>
        <p:sp>
          <p:nvSpPr>
            <p:cNvPr id="389" name=""/>
            <p:cNvSpPr/>
            <p:nvPr/>
          </p:nvSpPr>
          <p:spPr>
            <a:xfrm>
              <a:off x="5150160" y="476280"/>
              <a:ext cx="174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ключ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5"/>
            <a:stretch/>
          </p:blipFill>
          <p:spPr>
            <a:xfrm>
              <a:off x="7380360" y="1554120"/>
              <a:ext cx="151272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6"/>
            <a:stretch/>
          </p:blipFill>
          <p:spPr>
            <a:xfrm>
              <a:off x="5292720" y="1554120"/>
              <a:ext cx="151272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327600" y="3573360"/>
              <a:ext cx="1533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коса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7"/>
            <a:stretch/>
          </p:blipFill>
          <p:spPr>
            <a:xfrm>
              <a:off x="395280" y="4653000"/>
              <a:ext cx="1440000" cy="18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8"/>
            <a:stretch/>
          </p:blipFill>
          <p:spPr>
            <a:xfrm>
              <a:off x="2556000" y="4653000"/>
              <a:ext cx="1439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7166160" y="476280"/>
              <a:ext cx="174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ключ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87960" y="3573360"/>
              <a:ext cx="1533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коса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40360" y="1125360"/>
              <a:ext cx="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01080" y="1125360"/>
              <a:ext cx="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2920" y="422100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03640" y="422100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Cloud"/>
          <p:cNvSpPr/>
          <p:nvPr/>
        </p:nvSpPr>
        <p:spPr>
          <a:xfrm>
            <a:off x="2916360" y="1413000"/>
            <a:ext cx="3232080" cy="2555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Cloud"/>
          <p:cNvSpPr/>
          <p:nvPr/>
        </p:nvSpPr>
        <p:spPr>
          <a:xfrm>
            <a:off x="0" y="1916280"/>
            <a:ext cx="298764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4360" y="404640"/>
            <a:ext cx="7991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ксика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4" name="Cloud"/>
          <p:cNvSpPr/>
          <p:nvPr/>
        </p:nvSpPr>
        <p:spPr>
          <a:xfrm>
            <a:off x="6156360" y="1494000"/>
            <a:ext cx="2987640" cy="2655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Cloud"/>
          <p:cNvSpPr/>
          <p:nvPr/>
        </p:nvSpPr>
        <p:spPr>
          <a:xfrm>
            <a:off x="4140360" y="4365720"/>
            <a:ext cx="4464000" cy="2492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9112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Cloud"/>
          <p:cNvSpPr/>
          <p:nvPr/>
        </p:nvSpPr>
        <p:spPr>
          <a:xfrm>
            <a:off x="684360" y="4375080"/>
            <a:ext cx="3384360" cy="2482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535800" y="1557360"/>
            <a:ext cx="2608200" cy="2106360"/>
            <a:chOff x="6535800" y="1557360"/>
            <a:chExt cx="2608200" cy="2106360"/>
          </a:xfrm>
        </p:grpSpPr>
        <p:sp>
          <p:nvSpPr>
            <p:cNvPr id="409" name=""/>
            <p:cNvSpPr/>
            <p:nvPr/>
          </p:nvSpPr>
          <p:spPr>
            <a:xfrm>
              <a:off x="6535800" y="1557360"/>
              <a:ext cx="2608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омонимы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6713640" y="2279520"/>
              <a:ext cx="97020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7721640" y="2279520"/>
              <a:ext cx="911520" cy="9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788160" y="3143160"/>
              <a:ext cx="78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лу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23080" y="3143160"/>
              <a:ext cx="78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лу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4859280" y="2376000"/>
            <a:ext cx="3168720" cy="1991160"/>
            <a:chOff x="4859280" y="2376000"/>
            <a:chExt cx="3168720" cy="1991160"/>
          </a:xfrm>
        </p:grpSpPr>
        <p:sp>
          <p:nvSpPr>
            <p:cNvPr id="415" name=""/>
            <p:cNvSpPr/>
            <p:nvPr/>
          </p:nvSpPr>
          <p:spPr>
            <a:xfrm rot="13453200">
              <a:off x="5938560" y="2565360"/>
              <a:ext cx="914400" cy="91440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59280" y="3646440"/>
              <a:ext cx="3168720" cy="720720"/>
            </a:xfrm>
            <a:custGeom>
              <a:avLst/>
              <a:gdLst>
                <a:gd name="textAreaLeft" fmla="*/ 696600 w 3168720"/>
                <a:gd name="textAreaRight" fmla="*/ 2472120 w 3168720"/>
                <a:gd name="textAreaTop" fmla="*/ 158400 h 720720"/>
                <a:gd name="textAreaBottom" fmla="*/ 5623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54520" y="2205000"/>
            <a:ext cx="27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нтони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55280" y="2852640"/>
            <a:ext cx="1295640" cy="1079640"/>
            <a:chOff x="755280" y="2852640"/>
            <a:chExt cx="1295640" cy="1079640"/>
          </a:xfrm>
        </p:grpSpPr>
        <p:sp>
          <p:nvSpPr>
            <p:cNvPr id="419" name=""/>
            <p:cNvSpPr/>
            <p:nvPr/>
          </p:nvSpPr>
          <p:spPr>
            <a:xfrm>
              <a:off x="826920" y="2852640"/>
              <a:ext cx="576360" cy="503280"/>
            </a:xfrm>
            <a:prstGeom prst="smileyFace">
              <a:avLst>
                <a:gd name="adj" fmla="val 1773"/>
              </a:avLst>
            </a:prstGeom>
            <a:solidFill>
              <a:srgbClr val="33cccc"/>
            </a:solidFill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3640" y="3068640"/>
              <a:ext cx="287280" cy="358560"/>
            </a:xfrm>
            <a:prstGeom prst="smileyFace">
              <a:avLst>
                <a:gd name="adj" fmla="val 1773"/>
              </a:avLst>
            </a:prstGeom>
            <a:solidFill>
              <a:srgbClr val="33cccc"/>
            </a:solidFill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14560" y="3355920"/>
              <a:ext cx="0" cy="28908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971280" y="3645000"/>
              <a:ext cx="142920" cy="28728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14560" y="3645000"/>
              <a:ext cx="215640" cy="28728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330200" y="3789000"/>
              <a:ext cx="73080" cy="1429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826920" y="3860280"/>
              <a:ext cx="144720" cy="7164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98560" y="3355920"/>
              <a:ext cx="216000" cy="28908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114560" y="3355920"/>
              <a:ext cx="215640" cy="21600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755280" y="3500280"/>
              <a:ext cx="142920" cy="1447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1330200" y="3428640"/>
              <a:ext cx="144720" cy="1429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06560" y="3429000"/>
              <a:ext cx="0" cy="21600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763280" y="3645000"/>
              <a:ext cx="142920" cy="2156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06560" y="3645000"/>
              <a:ext cx="73080" cy="2156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979640" y="3789360"/>
              <a:ext cx="71280" cy="712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1690200" y="3789360"/>
              <a:ext cx="73080" cy="712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06560" y="3429000"/>
              <a:ext cx="73080" cy="1429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979640" y="3499920"/>
              <a:ext cx="71280" cy="716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835280" y="3429000"/>
              <a:ext cx="71280" cy="1429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1763280" y="3499920"/>
              <a:ext cx="71640" cy="716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642456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975600" y="4653000"/>
            <a:ext cx="2983320" cy="1912680"/>
            <a:chOff x="975600" y="4653000"/>
            <a:chExt cx="2983320" cy="1912680"/>
          </a:xfrm>
        </p:grpSpPr>
        <p:sp>
          <p:nvSpPr>
            <p:cNvPr id="441" name=""/>
            <p:cNvSpPr/>
            <p:nvPr/>
          </p:nvSpPr>
          <p:spPr>
            <a:xfrm>
              <a:off x="1141560" y="4653000"/>
              <a:ext cx="281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синонимы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4"/>
            <a:stretch/>
          </p:blipFill>
          <p:spPr>
            <a:xfrm>
              <a:off x="1259280" y="5252760"/>
              <a:ext cx="90144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5"/>
            <a:stretch/>
          </p:blipFill>
          <p:spPr>
            <a:xfrm>
              <a:off x="2340360" y="5252760"/>
              <a:ext cx="90000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975600" y="6045120"/>
              <a:ext cx="119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ого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98160" y="6045120"/>
              <a:ext cx="128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плам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133080" y="1557360"/>
            <a:ext cx="312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ногозна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382920" y="2421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635280" y="2421000"/>
            <a:ext cx="1657440" cy="1225440"/>
            <a:chOff x="3635280" y="2421000"/>
            <a:chExt cx="1657440" cy="1225440"/>
          </a:xfrm>
        </p:grpSpPr>
        <p:pic>
          <p:nvPicPr>
            <p:cNvPr id="449" name="" descr=""/>
            <p:cNvPicPr/>
            <p:nvPr/>
          </p:nvPicPr>
          <p:blipFill>
            <a:blip r:embed="rId6"/>
            <a:stretch/>
          </p:blipFill>
          <p:spPr>
            <a:xfrm>
              <a:off x="3635280" y="2997360"/>
              <a:ext cx="71928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7"/>
            <a:stretch/>
          </p:blipFill>
          <p:spPr>
            <a:xfrm>
              <a:off x="4572000" y="2997360"/>
              <a:ext cx="720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3926520" y="242100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ко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-2520" y="1773360"/>
            <a:ext cx="45028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ь,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кони, кон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о же, что и лош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преимущ. о самце)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оевой 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 коням!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шахмата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ура, изображающая конск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ву на высоко изогнут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е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Ход конём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Гимнаст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ский снаряд для махов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жнений и опорных прыж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в – обитый мягким матери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м длинный брус на нож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пражнения на к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35640" y="1989000"/>
            <a:ext cx="461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рад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а, м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тмосфе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адки в виде округлых част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к льда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ыпал г. Г. поб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сев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рад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а, м. (устар.)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 же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и город (в 1 знач.)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тол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ый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510520" y="19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08720" y="3933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2520" y="549360"/>
            <a:ext cx="399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многознач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39240" y="907920"/>
            <a:ext cx="26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омони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38420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0920" y="907920"/>
            <a:ext cx="864072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люч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а, м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Металлический стержень особой формы для отпирания и запирания замка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Запереть на к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способление для отвинчивания или завинчивания гаек, откупоривания, приведения в действие механизма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. для часов. Гаечный к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ерен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, что служит для разгадки, понимания чего-н., овладения чем-н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. к шифру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нак в начале нотной строки, определяющий высоту нот. (спец)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крипичный 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9840" y="4653000"/>
            <a:ext cx="853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люч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а, м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текающий из земли источник, родн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Бить ключом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вытекать стремительной струёй)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 овра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бьют клю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05440" y="90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47816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Cloud"/>
          <p:cNvSpPr/>
          <p:nvPr/>
        </p:nvSpPr>
        <p:spPr>
          <a:xfrm>
            <a:off x="2916360" y="1413000"/>
            <a:ext cx="3232080" cy="2555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Cloud"/>
          <p:cNvSpPr/>
          <p:nvPr/>
        </p:nvSpPr>
        <p:spPr>
          <a:xfrm>
            <a:off x="0" y="1916280"/>
            <a:ext cx="298764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33080" y="1557360"/>
            <a:ext cx="312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ногозна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84360" y="404640"/>
            <a:ext cx="7991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ксика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Cloud"/>
          <p:cNvSpPr/>
          <p:nvPr/>
        </p:nvSpPr>
        <p:spPr>
          <a:xfrm>
            <a:off x="6156360" y="1494000"/>
            <a:ext cx="2987640" cy="2655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Cloud"/>
          <p:cNvSpPr/>
          <p:nvPr/>
        </p:nvSpPr>
        <p:spPr>
          <a:xfrm>
            <a:off x="4140360" y="4365720"/>
            <a:ext cx="4464000" cy="2492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9112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Cloud"/>
          <p:cNvSpPr/>
          <p:nvPr/>
        </p:nvSpPr>
        <p:spPr>
          <a:xfrm>
            <a:off x="684360" y="4375080"/>
            <a:ext cx="3384360" cy="2482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535800" y="1557360"/>
            <a:ext cx="2608200" cy="2106360"/>
            <a:chOff x="6535800" y="1557360"/>
            <a:chExt cx="2608200" cy="2106360"/>
          </a:xfrm>
        </p:grpSpPr>
        <p:sp>
          <p:nvSpPr>
            <p:cNvPr id="472" name=""/>
            <p:cNvSpPr/>
            <p:nvPr/>
          </p:nvSpPr>
          <p:spPr>
            <a:xfrm>
              <a:off x="6535800" y="1557360"/>
              <a:ext cx="2608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омонимы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2"/>
            <a:stretch/>
          </p:blipFill>
          <p:spPr>
            <a:xfrm>
              <a:off x="6713640" y="2279520"/>
              <a:ext cx="97020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3"/>
            <a:stretch/>
          </p:blipFill>
          <p:spPr>
            <a:xfrm>
              <a:off x="7721640" y="2279520"/>
              <a:ext cx="911520" cy="9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6788160" y="3143160"/>
              <a:ext cx="78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лу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23080" y="3143160"/>
              <a:ext cx="78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лу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859280" y="2376000"/>
            <a:ext cx="3168720" cy="1991160"/>
            <a:chOff x="4859280" y="2376000"/>
            <a:chExt cx="3168720" cy="1991160"/>
          </a:xfrm>
        </p:grpSpPr>
        <p:sp>
          <p:nvSpPr>
            <p:cNvPr id="478" name=""/>
            <p:cNvSpPr/>
            <p:nvPr/>
          </p:nvSpPr>
          <p:spPr>
            <a:xfrm rot="13453200">
              <a:off x="5938560" y="2565360"/>
              <a:ext cx="914400" cy="91440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59280" y="3646440"/>
              <a:ext cx="3168720" cy="720720"/>
            </a:xfrm>
            <a:custGeom>
              <a:avLst/>
              <a:gdLst>
                <a:gd name="textAreaLeft" fmla="*/ 696600 w 3168720"/>
                <a:gd name="textAreaRight" fmla="*/ 2472120 w 3168720"/>
                <a:gd name="textAreaTop" fmla="*/ 158400 h 720720"/>
                <a:gd name="textAreaBottom" fmla="*/ 5623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254520" y="2205000"/>
            <a:ext cx="27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нтони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55280" y="2852640"/>
            <a:ext cx="1295640" cy="1079640"/>
            <a:chOff x="755280" y="2852640"/>
            <a:chExt cx="1295640" cy="1079640"/>
          </a:xfrm>
        </p:grpSpPr>
        <p:sp>
          <p:nvSpPr>
            <p:cNvPr id="482" name=""/>
            <p:cNvSpPr/>
            <p:nvPr/>
          </p:nvSpPr>
          <p:spPr>
            <a:xfrm>
              <a:off x="826920" y="2852640"/>
              <a:ext cx="576360" cy="503280"/>
            </a:xfrm>
            <a:prstGeom prst="smileyFace">
              <a:avLst>
                <a:gd name="adj" fmla="val 1773"/>
              </a:avLst>
            </a:prstGeom>
            <a:solidFill>
              <a:srgbClr val="33cccc"/>
            </a:solidFill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63640" y="3068640"/>
              <a:ext cx="287280" cy="358560"/>
            </a:xfrm>
            <a:prstGeom prst="smileyFace">
              <a:avLst>
                <a:gd name="adj" fmla="val 1773"/>
              </a:avLst>
            </a:prstGeom>
            <a:solidFill>
              <a:srgbClr val="33cccc"/>
            </a:solidFill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14560" y="3355920"/>
              <a:ext cx="0" cy="28908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971280" y="3645000"/>
              <a:ext cx="142920" cy="28728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14560" y="3645000"/>
              <a:ext cx="215640" cy="28728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1330200" y="3789000"/>
              <a:ext cx="73080" cy="1429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826920" y="3860280"/>
              <a:ext cx="144720" cy="7164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898560" y="3355920"/>
              <a:ext cx="216000" cy="28908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14560" y="3355920"/>
              <a:ext cx="215640" cy="21600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755280" y="3500280"/>
              <a:ext cx="142920" cy="1447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330200" y="3428640"/>
              <a:ext cx="144720" cy="1429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06560" y="3429000"/>
              <a:ext cx="0" cy="21600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1763280" y="3645000"/>
              <a:ext cx="142920" cy="2156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06560" y="3645000"/>
              <a:ext cx="73080" cy="2156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1979640" y="3789360"/>
              <a:ext cx="71280" cy="712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1690200" y="3789360"/>
              <a:ext cx="73080" cy="712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06560" y="3429000"/>
              <a:ext cx="73080" cy="1429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1979640" y="3499920"/>
              <a:ext cx="71280" cy="716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835280" y="3429000"/>
              <a:ext cx="71280" cy="1429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1763280" y="3499920"/>
              <a:ext cx="71640" cy="716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42456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00720" y="4581360"/>
            <a:ext cx="42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фразеологиз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975600" y="4653000"/>
            <a:ext cx="2983320" cy="1912680"/>
            <a:chOff x="975600" y="4653000"/>
            <a:chExt cx="2983320" cy="1912680"/>
          </a:xfrm>
        </p:grpSpPr>
        <p:sp>
          <p:nvSpPr>
            <p:cNvPr id="505" name=""/>
            <p:cNvSpPr/>
            <p:nvPr/>
          </p:nvSpPr>
          <p:spPr>
            <a:xfrm>
              <a:off x="1141560" y="4653000"/>
              <a:ext cx="281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синонимы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6" name="" descr=""/>
            <p:cNvPicPr/>
            <p:nvPr/>
          </p:nvPicPr>
          <p:blipFill>
            <a:blip r:embed="rId4"/>
            <a:stretch/>
          </p:blipFill>
          <p:spPr>
            <a:xfrm>
              <a:off x="1259280" y="5252760"/>
              <a:ext cx="90144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5"/>
            <a:stretch/>
          </p:blipFill>
          <p:spPr>
            <a:xfrm>
              <a:off x="2340360" y="5252760"/>
              <a:ext cx="90000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975600" y="6045120"/>
              <a:ext cx="119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ого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98160" y="6045120"/>
              <a:ext cx="128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плам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564000" y="2349360"/>
            <a:ext cx="1657440" cy="1225440"/>
            <a:chOff x="3564000" y="2349360"/>
            <a:chExt cx="1657440" cy="1225440"/>
          </a:xfrm>
        </p:grpSpPr>
        <p:pic>
          <p:nvPicPr>
            <p:cNvPr id="511" name="" descr=""/>
            <p:cNvPicPr/>
            <p:nvPr/>
          </p:nvPicPr>
          <p:blipFill>
            <a:blip r:embed="rId6"/>
            <a:stretch/>
          </p:blipFill>
          <p:spPr>
            <a:xfrm>
              <a:off x="3564000" y="2925720"/>
              <a:ext cx="71928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7"/>
            <a:stretch/>
          </p:blipFill>
          <p:spPr>
            <a:xfrm>
              <a:off x="4500720" y="2925720"/>
              <a:ext cx="720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3855240" y="234936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ко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04717 C 0.06423 0.18243 0.13645 0.31839 0.16545 0.37249 E">
                                      <p:cBhvr>
                                        <p:cTn id="627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348000" y="2276640"/>
            <a:ext cx="2016000" cy="1368360"/>
          </a:xfrm>
          <a:prstGeom prst="ellipse">
            <a:avLst/>
          </a:prstGeom>
          <a:solidFill>
            <a:srgbClr val="f2f22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1440" y="270828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2360" y="2637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1440" y="2637000"/>
            <a:ext cx="5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2160" y="26370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61080" y="2637000"/>
            <a:ext cx="41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7640" y="364500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5229360"/>
            <a:ext cx="72072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563640" y="5229360"/>
            <a:ext cx="86364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148360" y="6524280"/>
            <a:ext cx="43164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132000" y="6453000"/>
            <a:ext cx="432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3716280"/>
            <a:ext cx="72072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634920" y="3716280"/>
            <a:ext cx="792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48360" y="4221000"/>
            <a:ext cx="936360" cy="6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700000" y="4292280"/>
            <a:ext cx="93492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16000" y="189000"/>
            <a:ext cx="705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20" y="1746360"/>
            <a:ext cx="159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ш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20" y="2394000"/>
            <a:ext cx="224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аси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" y="3068640"/>
            <a:ext cx="162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с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716280"/>
            <a:ext cx="29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курат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80" y="4437000"/>
            <a:ext cx="253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амот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6156360" y="1052640"/>
            <a:ext cx="2736720" cy="29541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398880" y="404640"/>
            <a:ext cx="690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Мальчик услышал, чт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ишедшая в гости женщин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обаку съела в каких-т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елах, и спрятал от неё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вою соба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4020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68360" y="2133720"/>
            <a:ext cx="3095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70520" y="414972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Мальчик услышал, что пришедш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в гости женщина приобрел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большой опыт в каких-то дел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979640" y="1773360"/>
          <a:ext cx="6985080" cy="4900320"/>
        </p:xfrm>
        <a:graphic>
          <a:graphicData uri="http://schemas.openxmlformats.org/drawingml/2006/table">
            <a:tbl>
              <a:tblPr/>
              <a:tblGrid>
                <a:gridCol w="431640"/>
                <a:gridCol w="503280"/>
                <a:gridCol w="505080"/>
                <a:gridCol w="502920"/>
                <a:gridCol w="520920"/>
                <a:gridCol w="560160"/>
                <a:gridCol w="505080"/>
                <a:gridCol w="431640"/>
                <a:gridCol w="432000"/>
                <a:gridCol w="431640"/>
                <a:gridCol w="432000"/>
                <a:gridCol w="433080"/>
                <a:gridCol w="503280"/>
                <a:gridCol w="360360"/>
                <a:gridCol w="4320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"/>
          <p:cNvSpPr/>
          <p:nvPr/>
        </p:nvSpPr>
        <p:spPr>
          <a:xfrm>
            <a:off x="516960" y="17928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Витать в обла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76360" y="260280"/>
            <a:ext cx="37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Зарубить на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410200" y="981000"/>
            <a:ext cx="46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Класть зубы на пол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9840" y="1773360"/>
            <a:ext cx="301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Держать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за зуб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-2160" y="3213000"/>
            <a:ext cx="30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Бить баклу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640" y="5373720"/>
            <a:ext cx="168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Вод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за н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25800" y="24922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429800" y="177336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05800" y="1773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437800" y="177336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42520" y="1773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374160" y="1773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06160" y="1773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166160" y="177336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502520" y="2492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917440" y="24922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421440" y="2492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934880" y="249228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37080" y="24922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869080" y="249228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374160" y="2492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34520" y="249228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01800" y="314172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421080" y="3141720"/>
            <a:ext cx="39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26160" y="3141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05440" y="3141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510520" y="3141720"/>
            <a:ext cx="50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942520" y="3141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3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374160" y="3141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05800" y="314172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02520" y="38606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26520" y="386064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005080" y="386064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10880" y="386064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942520" y="38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374160" y="3860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05800" y="386064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02520" y="4508640"/>
            <a:ext cx="50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18160" y="4581360"/>
            <a:ext cx="4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1440" y="4581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97080" y="458136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05800" y="4581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509800" y="458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2160" y="458136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73800" y="458136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05800" y="458136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238160" y="458136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669440" y="4581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103240" y="4581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61440" y="458136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9440" y="5950080"/>
            <a:ext cx="6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981440" y="59500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13080" y="5950080"/>
            <a:ext cx="4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918520" y="595008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21440" y="595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25800" y="59500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005440" y="595008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510520" y="595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942520" y="59500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74160" y="595008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2520" y="522936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54560" y="4005360"/>
            <a:ext cx="187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Крив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душ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80128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420720" y="5229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26160" y="522936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05800" y="522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38160" y="522936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942520" y="522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374160" y="5229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05800" y="522936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237800" y="5229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669440" y="522936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Cloud"/>
          <p:cNvSpPr/>
          <p:nvPr/>
        </p:nvSpPr>
        <p:spPr>
          <a:xfrm>
            <a:off x="2916360" y="1413000"/>
            <a:ext cx="3232080" cy="2555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Cloud"/>
          <p:cNvSpPr/>
          <p:nvPr/>
        </p:nvSpPr>
        <p:spPr>
          <a:xfrm>
            <a:off x="0" y="1916280"/>
            <a:ext cx="298764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349080" y="1484280"/>
            <a:ext cx="312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ногозна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4360" y="404640"/>
            <a:ext cx="7991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ксика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Cloud"/>
          <p:cNvSpPr/>
          <p:nvPr/>
        </p:nvSpPr>
        <p:spPr>
          <a:xfrm>
            <a:off x="6156360" y="1494000"/>
            <a:ext cx="2987640" cy="2655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Cloud"/>
          <p:cNvSpPr/>
          <p:nvPr/>
        </p:nvSpPr>
        <p:spPr>
          <a:xfrm>
            <a:off x="4140360" y="4365720"/>
            <a:ext cx="4464000" cy="2492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19112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Cloud"/>
          <p:cNvSpPr/>
          <p:nvPr/>
        </p:nvSpPr>
        <p:spPr>
          <a:xfrm>
            <a:off x="684360" y="4375080"/>
            <a:ext cx="3384360" cy="2482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6535800" y="1700280"/>
            <a:ext cx="2608200" cy="2106360"/>
            <a:chOff x="6535800" y="1700280"/>
            <a:chExt cx="2608200" cy="2106360"/>
          </a:xfrm>
        </p:grpSpPr>
        <p:sp>
          <p:nvSpPr>
            <p:cNvPr id="602" name=""/>
            <p:cNvSpPr/>
            <p:nvPr/>
          </p:nvSpPr>
          <p:spPr>
            <a:xfrm>
              <a:off x="6535800" y="1700280"/>
              <a:ext cx="2608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омонимы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3" name="" descr=""/>
            <p:cNvPicPr/>
            <p:nvPr/>
          </p:nvPicPr>
          <p:blipFill>
            <a:blip r:embed="rId2"/>
            <a:stretch/>
          </p:blipFill>
          <p:spPr>
            <a:xfrm>
              <a:off x="6713640" y="2422440"/>
              <a:ext cx="97020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3"/>
            <a:stretch/>
          </p:blipFill>
          <p:spPr>
            <a:xfrm>
              <a:off x="7721640" y="2422440"/>
              <a:ext cx="911520" cy="9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6788160" y="3286080"/>
              <a:ext cx="78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лу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23080" y="3286080"/>
              <a:ext cx="78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лу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6443640" y="4866840"/>
            <a:ext cx="3168720" cy="1991160"/>
            <a:chOff x="6443640" y="4866840"/>
            <a:chExt cx="3168720" cy="1991160"/>
          </a:xfrm>
        </p:grpSpPr>
        <p:sp>
          <p:nvSpPr>
            <p:cNvPr id="608" name=""/>
            <p:cNvSpPr/>
            <p:nvPr/>
          </p:nvSpPr>
          <p:spPr>
            <a:xfrm rot="13453200">
              <a:off x="7522920" y="5056200"/>
              <a:ext cx="914400" cy="91440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43640" y="6137280"/>
              <a:ext cx="3168720" cy="720720"/>
            </a:xfrm>
            <a:custGeom>
              <a:avLst/>
              <a:gdLst>
                <a:gd name="textAreaLeft" fmla="*/ 696600 w 3168720"/>
                <a:gd name="textAreaRight" fmla="*/ 2472120 w 3168720"/>
                <a:gd name="textAreaTop" fmla="*/ 158400 h 720720"/>
                <a:gd name="textAreaBottom" fmla="*/ 5623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82880" y="2205000"/>
            <a:ext cx="27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нтони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84000" y="2924280"/>
            <a:ext cx="1295640" cy="1078920"/>
            <a:chOff x="684000" y="2924280"/>
            <a:chExt cx="1295640" cy="1078920"/>
          </a:xfrm>
        </p:grpSpPr>
        <p:sp>
          <p:nvSpPr>
            <p:cNvPr id="612" name=""/>
            <p:cNvSpPr/>
            <p:nvPr/>
          </p:nvSpPr>
          <p:spPr>
            <a:xfrm>
              <a:off x="755640" y="2924280"/>
              <a:ext cx="576360" cy="502920"/>
            </a:xfrm>
            <a:prstGeom prst="smileyFace">
              <a:avLst>
                <a:gd name="adj" fmla="val 1773"/>
              </a:avLst>
            </a:prstGeom>
            <a:solidFill>
              <a:srgbClr val="33cccc"/>
            </a:solidFill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92360" y="3139920"/>
              <a:ext cx="287280" cy="358200"/>
            </a:xfrm>
            <a:prstGeom prst="smileyFace">
              <a:avLst>
                <a:gd name="adj" fmla="val 1773"/>
              </a:avLst>
            </a:prstGeom>
            <a:solidFill>
              <a:srgbClr val="33cccc"/>
            </a:solidFill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43280" y="3427200"/>
              <a:ext cx="0" cy="2887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900000" y="3716280"/>
              <a:ext cx="142920" cy="2869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43280" y="3716280"/>
              <a:ext cx="215640" cy="2869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1258920" y="3860640"/>
              <a:ext cx="73080" cy="14256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755640" y="3931920"/>
              <a:ext cx="144720" cy="7128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827280" y="3427200"/>
              <a:ext cx="216000" cy="2887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43280" y="3427200"/>
              <a:ext cx="215640" cy="21564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684000" y="3571200"/>
              <a:ext cx="142920" cy="14436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1258920" y="3500280"/>
              <a:ext cx="144720" cy="14256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35280" y="3500280"/>
              <a:ext cx="0" cy="2156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1692000" y="3716280"/>
              <a:ext cx="142920" cy="2152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35280" y="3716280"/>
              <a:ext cx="73080" cy="2152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908360" y="3860280"/>
              <a:ext cx="71280" cy="709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1618920" y="3860280"/>
              <a:ext cx="73080" cy="7092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35280" y="3500280"/>
              <a:ext cx="73080" cy="14256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1908360" y="3571560"/>
              <a:ext cx="71280" cy="712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764000" y="3500280"/>
              <a:ext cx="71280" cy="14256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1692000" y="3571560"/>
              <a:ext cx="71640" cy="712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42456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500720" y="4581360"/>
            <a:ext cx="42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фразеологиз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6443640" y="5229360"/>
            <a:ext cx="1224000" cy="7934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4646160" y="530064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съ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соба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46880" y="4508640"/>
            <a:ext cx="2983320" cy="1912680"/>
            <a:chOff x="1046880" y="4508640"/>
            <a:chExt cx="2983320" cy="1912680"/>
          </a:xfrm>
        </p:grpSpPr>
        <p:sp>
          <p:nvSpPr>
            <p:cNvPr id="637" name=""/>
            <p:cNvSpPr/>
            <p:nvPr/>
          </p:nvSpPr>
          <p:spPr>
            <a:xfrm>
              <a:off x="1212840" y="4508640"/>
              <a:ext cx="281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синонимы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5"/>
            <a:stretch/>
          </p:blipFill>
          <p:spPr>
            <a:xfrm>
              <a:off x="1330560" y="5108400"/>
              <a:ext cx="90144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6"/>
            <a:stretch/>
          </p:blipFill>
          <p:spPr>
            <a:xfrm>
              <a:off x="2411640" y="5108400"/>
              <a:ext cx="90000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1046880" y="5900760"/>
              <a:ext cx="119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ого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69440" y="5900760"/>
              <a:ext cx="128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плам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708360" y="2349360"/>
            <a:ext cx="1657440" cy="1225440"/>
            <a:chOff x="3708360" y="2349360"/>
            <a:chExt cx="1657440" cy="1225440"/>
          </a:xfrm>
        </p:grpSpPr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708360" y="2925720"/>
              <a:ext cx="71928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8"/>
            <a:stretch/>
          </p:blipFill>
          <p:spPr>
            <a:xfrm>
              <a:off x="4645080" y="2925720"/>
              <a:ext cx="720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999600" y="234936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99"/>
                  </a:solidFill>
                  <a:latin typeface="Arial"/>
                </a:rPr>
                <a:t>ко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8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419640" y="2276640"/>
            <a:ext cx="2016000" cy="1368360"/>
          </a:xfrm>
          <a:prstGeom prst="ellipse">
            <a:avLst/>
          </a:prstGeom>
          <a:solidFill>
            <a:srgbClr val="f2f22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1440" y="2637000"/>
            <a:ext cx="187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кча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27640" y="364500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27640" y="5229360"/>
            <a:ext cx="72072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563640" y="5229360"/>
            <a:ext cx="86364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5148360" y="6524280"/>
            <a:ext cx="43164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3132000" y="6453000"/>
            <a:ext cx="432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27640" y="3716280"/>
            <a:ext cx="72072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634920" y="3716280"/>
            <a:ext cx="792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148360" y="4221000"/>
            <a:ext cx="936360" cy="6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635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2700000" y="4292280"/>
            <a:ext cx="93492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0920" y="2492280"/>
            <a:ext cx="3003480" cy="1851120"/>
          </a:xfrm>
          <a:prstGeom prst="ellipse">
            <a:avLst/>
          </a:prstGeom>
          <a:solidFill>
            <a:srgbClr val="fddf5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слов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35640" y="2276640"/>
            <a:ext cx="3527280" cy="2304720"/>
          </a:xfrm>
          <a:prstGeom prst="ellipse">
            <a:avLst/>
          </a:prstGeom>
          <a:solidFill>
            <a:srgbClr val="fddf5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значе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52712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258920" y="333360"/>
            <a:ext cx="66261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кси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334520" y="765000"/>
            <a:ext cx="739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2384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1297080" cy="201636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5724360" y="2492280"/>
            <a:ext cx="1513080" cy="208908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7524720" y="2997360"/>
            <a:ext cx="1368360" cy="21603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4"/>
          <a:stretch/>
        </p:blipFill>
        <p:spPr>
          <a:xfrm>
            <a:off x="3564000" y="2708280"/>
            <a:ext cx="1944720" cy="28083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5"/>
          <a:stretch/>
        </p:blipFill>
        <p:spPr>
          <a:xfrm>
            <a:off x="1979640" y="4724280"/>
            <a:ext cx="1295280" cy="19447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6"/>
          <a:stretch/>
        </p:blipFill>
        <p:spPr>
          <a:xfrm>
            <a:off x="1979640" y="2708280"/>
            <a:ext cx="1295280" cy="169056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7"/>
          <a:stretch/>
        </p:blipFill>
        <p:spPr>
          <a:xfrm>
            <a:off x="5940360" y="4984920"/>
            <a:ext cx="1368360" cy="18730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51160" y="1844640"/>
            <a:ext cx="85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готовить сообщение об одном из словар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520"/>
                            </p:stCondLst>
                            <p:childTnLst>
                              <p:par>
                                <p:cTn id="9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20"/>
                            </p:stCondLst>
                            <p:childTnLst>
                              <p:par>
                                <p:cTn id="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520"/>
                            </p:stCondLst>
                            <p:childTnLst>
                              <p:par>
                                <p:cTn id="9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3020"/>
                            </p:stCondLst>
                            <p:childTnLst>
                              <p:par>
                                <p:cTn id="9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352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4019"/>
                            </p:stCondLst>
                            <p:childTnLst>
                              <p:par>
                                <p:cTn id="9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520"/>
                            </p:stCondLst>
                            <p:childTnLst>
                              <p:par>
                                <p:cTn id="9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760320" y="148428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)  http://polomka.livejournal.com/5893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843280" y="54936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тернет - источ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65360" y="1989000"/>
            <a:ext cx="727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)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papers.ru/wallpapers/animals/Horses/2589/1400-1050_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D0%9A%D0%BE%D0%BD%D1%8C-%D0%B2-%D0%BF%D0%BE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D0%BB%D0%B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33040" y="299736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3) http://arlen33.ru/training_equipment/353/315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31960" y="3429000"/>
            <a:ext cx="48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4) http://www.beloshveika.by/navig.php?m=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31600" y="3933720"/>
            <a:ext cx="47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5) http://stihihit.ru/viewtopic.php?id=364&amp;p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33040" y="443700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6) http://www.reznoe.ru/gallery1112_5298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32320" y="494172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7) http://chinxo.clan.su/news/2010-07-27-3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30880" y="544500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8) http://www.bronza.com/portfolio/work_10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34840" y="595008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9) http://tainyspletnic.ru/kulinariya/enciklopediya/165-luk-repchaty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68360" y="189000"/>
            <a:ext cx="7991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ксика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Cloud"/>
          <p:cNvSpPr/>
          <p:nvPr/>
        </p:nvSpPr>
        <p:spPr>
          <a:xfrm>
            <a:off x="179280" y="3500280"/>
            <a:ext cx="2665440" cy="1657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Cloud"/>
          <p:cNvSpPr/>
          <p:nvPr/>
        </p:nvSpPr>
        <p:spPr>
          <a:xfrm>
            <a:off x="3132000" y="1341360"/>
            <a:ext cx="2743200" cy="14796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Cloud"/>
          <p:cNvSpPr/>
          <p:nvPr/>
        </p:nvSpPr>
        <p:spPr>
          <a:xfrm>
            <a:off x="6156360" y="2060640"/>
            <a:ext cx="2743200" cy="1439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Cloud"/>
          <p:cNvSpPr/>
          <p:nvPr/>
        </p:nvSpPr>
        <p:spPr>
          <a:xfrm>
            <a:off x="6227640" y="4292640"/>
            <a:ext cx="2743200" cy="1297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771640" y="4534920"/>
            <a:ext cx="3168720" cy="1991160"/>
            <a:chOff x="2771640" y="4534920"/>
            <a:chExt cx="3168720" cy="1991160"/>
          </a:xfrm>
        </p:grpSpPr>
        <p:sp>
          <p:nvSpPr>
            <p:cNvPr id="153" name=""/>
            <p:cNvSpPr/>
            <p:nvPr/>
          </p:nvSpPr>
          <p:spPr>
            <a:xfrm rot="13453200">
              <a:off x="3850920" y="4724280"/>
              <a:ext cx="914400" cy="91440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1640" y="5805360"/>
              <a:ext cx="3168720" cy="720720"/>
            </a:xfrm>
            <a:custGeom>
              <a:avLst/>
              <a:gdLst>
                <a:gd name="textAreaLeft" fmla="*/ 696600 w 3168720"/>
                <a:gd name="textAreaRight" fmla="*/ 2472120 w 3168720"/>
                <a:gd name="textAreaTop" fmla="*/ 158400 h 720720"/>
                <a:gd name="textAreaBottom" fmla="*/ 5623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 flipH="1" flipV="1">
            <a:off x="2339640" y="6092640"/>
            <a:ext cx="360360" cy="14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08000" y="5660640"/>
            <a:ext cx="216000" cy="28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692360" y="5084280"/>
            <a:ext cx="71280" cy="28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00000" y="3141360"/>
            <a:ext cx="14292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6000" y="1844640"/>
            <a:ext cx="431640" cy="7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060640"/>
            <a:ext cx="287280" cy="21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596000" y="3573360"/>
            <a:ext cx="144360" cy="28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164000" y="4076640"/>
            <a:ext cx="289080" cy="21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4160" y="3519360"/>
            <a:ext cx="28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инони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7512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Cloud"/>
          <p:cNvSpPr/>
          <p:nvPr/>
        </p:nvSpPr>
        <p:spPr>
          <a:xfrm>
            <a:off x="0" y="1341360"/>
            <a:ext cx="2743200" cy="14796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116000" y="2707920"/>
            <a:ext cx="144360" cy="28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637000"/>
            <a:ext cx="57636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6360" y="2997360"/>
            <a:ext cx="503280" cy="71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564000" y="2781360"/>
            <a:ext cx="287280" cy="21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59 0.01919 C -0.05816 -0.02381 -0.17708 -0.06636 -0.22014 -0.08948 C -0.26285 -0.11191 -0.23004 -0.11491 -0.1967 -0.11792 E">
                                      <p:cBhvr>
                                        <p:cTn id="13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8748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5080" y="1052640"/>
            <a:ext cx="192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ого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6720" y="981000"/>
            <a:ext cx="154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ды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9800" y="981000"/>
            <a:ext cx="208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лам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4520" y="2421000"/>
            <a:ext cx="282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алфави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23240" y="2349360"/>
            <a:ext cx="218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азбу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72680" y="3284640"/>
            <a:ext cx="442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чистопис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0160" y="4221000"/>
            <a:ext cx="212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шалу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22160" y="4292640"/>
            <a:ext cx="22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тихо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7960" y="4292640"/>
            <a:ext cx="26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озорни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1557360"/>
            <a:ext cx="1079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2852640"/>
            <a:ext cx="865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1280" y="465300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979640" y="5516640"/>
            <a:ext cx="468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инони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1728720" cy="1944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481640" y="841320"/>
            <a:ext cx="33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Ребёно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440" y="2060640"/>
            <a:ext cx="17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дит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3440" y="1844640"/>
            <a:ext cx="266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малыш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0520" y="4149720"/>
            <a:ext cx="287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деточ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9080" y="292428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крош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61080" y="5229360"/>
            <a:ext cx="31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малют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4880" y="4292640"/>
            <a:ext cx="328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детёныш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94160" y="544500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карапу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89080" y="321300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крох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68360" y="189000"/>
            <a:ext cx="7991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ксика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Cloud"/>
          <p:cNvSpPr/>
          <p:nvPr/>
        </p:nvSpPr>
        <p:spPr>
          <a:xfrm>
            <a:off x="3708360" y="1341360"/>
            <a:ext cx="2303640" cy="2016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Cloud"/>
          <p:cNvSpPr/>
          <p:nvPr/>
        </p:nvSpPr>
        <p:spPr>
          <a:xfrm>
            <a:off x="6156360" y="2060640"/>
            <a:ext cx="2743200" cy="1439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Cloud"/>
          <p:cNvSpPr/>
          <p:nvPr/>
        </p:nvSpPr>
        <p:spPr>
          <a:xfrm>
            <a:off x="6227640" y="4292640"/>
            <a:ext cx="2743200" cy="1297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7512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Cloud"/>
          <p:cNvSpPr/>
          <p:nvPr/>
        </p:nvSpPr>
        <p:spPr>
          <a:xfrm>
            <a:off x="1403280" y="3860640"/>
            <a:ext cx="3384720" cy="2482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Cloud"/>
          <p:cNvSpPr/>
          <p:nvPr/>
        </p:nvSpPr>
        <p:spPr>
          <a:xfrm>
            <a:off x="0" y="1341360"/>
            <a:ext cx="298764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556000" y="4679640"/>
            <a:ext cx="3168360" cy="1991160"/>
            <a:chOff x="2556000" y="4679640"/>
            <a:chExt cx="3168360" cy="1991160"/>
          </a:xfrm>
        </p:grpSpPr>
        <p:sp>
          <p:nvSpPr>
            <p:cNvPr id="202" name=""/>
            <p:cNvSpPr/>
            <p:nvPr/>
          </p:nvSpPr>
          <p:spPr>
            <a:xfrm rot="13453200">
              <a:off x="3634920" y="4868640"/>
              <a:ext cx="914040" cy="91440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56000" y="5950080"/>
              <a:ext cx="3168360" cy="720720"/>
            </a:xfrm>
            <a:custGeom>
              <a:avLst/>
              <a:gdLst>
                <a:gd name="textAreaLeft" fmla="*/ 696600 w 3168360"/>
                <a:gd name="textAreaRight" fmla="*/ 2471760 w 3168360"/>
                <a:gd name="textAreaTop" fmla="*/ 158400 h 720720"/>
                <a:gd name="textAreaBottom" fmla="*/ 5623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633680" y="4076640"/>
            <a:ext cx="28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инони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762200" y="4653000"/>
            <a:ext cx="973080" cy="904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971640" cy="904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33320" y="544356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ого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12240" y="544356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пла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" y="1484280"/>
            <a:ext cx="27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нтони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07 -0.00555 C 0.16371 -0.00231 0.14757 0.00324 0.1309 0.00694 C 0.1283 0.00856 0.12569 0.00948 0.12361 0.01133 C 0.12187 0.01295 0.12153 0.01595 0.11927 0.01757 C 0.11736 0.01942 0.11475 0.01896 0.1125 0.01989 C 0.10347 0.02359 0.09462 0.02728 0.08507 0.03006 C 0.0783 0.03214 0.07135 0.03422 0.06458 0.03653 C 0.0625 0.037 0.05781 0.03861 0.05781 0.03908 C -0.0349 0.03607 -0.13177 0.0296 -0.21997 0.00324 C -0.22205 0.00185 -0.22431 -1.2138699999999E-006 -0.22709 -0.00115 C -0.229 -0.00208 -0.23177 -0.00162 -0.23368 -0.00324 C -0.23768 -0.00694 -0.24271 -0.01595 -0.24271 -0.01572 C -0.24861 -0.03168 -0.24722 -0.04439 -0.24271 -0.06173 C -0.2441 -0.09087 -0.24097 -0.12115 -0.24722 -0.15052 C -0.2507 -0.16601 -0.2684 -0.17364 -0.28125 -0.17988 C -0.28976 -0.18358 -0.29306 -0.18959 -0.30174 -0.19214 C -0.30556 -0.19514 -0.3099 -0.19746 -0.31337 -0.20046 C -0.31545 -0.20208 -0.31597 -0.20485 -0.31771 -0.2067 C -0.32413 -0.21318 -0.33143 -0.21919 -0.33854 -0.22543 C -0.34097 -0.23214 -0.34497 -0.23722 -0.3474 -0.24416 C -0.34618 -0.27445 -0.35434 -0.29457 -0.33854 -0.31699 C -0.33768 -0.31931 -0.33768 -0.32231 -0.33629 -0.32509 C -0.33229 -0.33225 -0.30781 -0.33665 -0.29983 -0.3378 C -0.28438 -0.33896 -0.254 -0.3415 -0.254 -0.34127 C -0.25052 -0.34243 -0.24653 -0.34243 -0.24271 -0.34381 C -0.23768 -0.34566 -0.22292 -0.35838 -0.21754 -0.36231 C -0.21406 -0.36509 -0.20868 -0.37225 -0.20868 -0.37202 E">
                                      <p:cBhvr>
                                        <p:cTn id="263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89 0.00093 0.07795 0.00185 0.09358 0.00209 E">
                                      <p:cBhvr>
                                        <p:cTn id="265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89 0.00093 0.07795 0.00185 0.09358 0.00209 E">
                                      <p:cBhvr>
                                        <p:cTn id="26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89 0.00093 0.07795 0.00185 0.09358 0.00209 E">
                                      <p:cBhvr>
                                        <p:cTn id="269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89 0.00093 0.07795 0.00185 0.09358 0.00209 E">
                                      <p:cBhvr>
                                        <p:cTn id="271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89 0.00093 0.07795 0.00185 0.09358 0.00209 E">
                                      <p:cBhvr>
                                        <p:cTn id="273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89 0.00093 0.07795 0.00185 0.09358 0.00209 E">
                                      <p:cBhvr>
                                        <p:cTn id="275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403280" y="549360"/>
            <a:ext cx="655344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нтоним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1844640"/>
            <a:ext cx="1656000" cy="1224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24360" y="3284640"/>
            <a:ext cx="914400" cy="698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3068640"/>
            <a:ext cx="0" cy="1728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123640" y="4797360"/>
            <a:ext cx="863640" cy="11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4797360"/>
            <a:ext cx="792360" cy="11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835280" y="5805360"/>
            <a:ext cx="288720" cy="14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780000" y="5805360"/>
            <a:ext cx="287280" cy="14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339640" y="3141720"/>
            <a:ext cx="647640" cy="9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3141720"/>
            <a:ext cx="576360" cy="9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1690560" y="3573360"/>
            <a:ext cx="64944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64000" y="3718080"/>
            <a:ext cx="792000" cy="358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70160" y="5950080"/>
            <a:ext cx="129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г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990000" y="3770280"/>
            <a:ext cx="970200" cy="1297080"/>
          </a:xfrm>
          <a:prstGeom prst="flowChartDelay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8360" y="407664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50 к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258920" y="357336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92360" y="357336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4005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651640" y="5084640"/>
            <a:ext cx="50472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56360" y="5084640"/>
            <a:ext cx="360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292360" y="5876640"/>
            <a:ext cx="358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516720" y="5950080"/>
            <a:ext cx="287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56360" y="4005360"/>
            <a:ext cx="43164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24360" y="4005360"/>
            <a:ext cx="43200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588000" y="4365720"/>
            <a:ext cx="360360" cy="35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292360" y="4365720"/>
            <a:ext cx="431640" cy="35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4895640" y="4544640"/>
            <a:ext cx="576360" cy="935280"/>
          </a:xfrm>
          <a:prstGeom prst="flowChartDelay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932000" y="4365720"/>
            <a:ext cx="360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4365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7800" y="465300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 к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27240" y="33336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обр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6520" y="333360"/>
            <a:ext cx="20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лжив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49800" y="981000"/>
            <a:ext cx="24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гум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09360" y="33336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илеж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61080" y="33336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л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3440" y="981000"/>
            <a:ext cx="23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жесто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00" y="981000"/>
            <a:ext cx="27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авдив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5440" y="1557360"/>
            <a:ext cx="25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вежлив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8160" y="15573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груб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8880" y="155736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ленив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492000" y="2349360"/>
            <a:ext cx="50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7800" y="350028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89800" y="350028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349360"/>
            <a:ext cx="43164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3933720"/>
            <a:ext cx="1657080" cy="358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4437000"/>
            <a:ext cx="1873080" cy="1513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419640" y="3860280"/>
            <a:ext cx="1657080" cy="1081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348000" y="4941720"/>
            <a:ext cx="1728720" cy="503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348000" y="5373360"/>
            <a:ext cx="1800360" cy="647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06358E-006 C 0.04705 0.1919 0.0941 0.38404 0.11285 0.46081 E">
                                      <p:cBhvr>
                                        <p:cTn id="37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17 0.01619 C 0.14931 0.19954 0.24445 0.38312 0.28264 0.45665 E">
                                      <p:cBhvr>
                                        <p:cTn id="374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-3.69942E-006 C 0.01458 0.21943 0.02916 0.43885 0.03489 0.52648 E">
                                      <p:cBhvr>
                                        <p:cTn id="37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5607E-007 C -0.25868 0.2252 -0.51719 0.4504 -0.62048 0.54058 E">
                                      <p:cBhvr>
                                        <p:cTn id="38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000"/>
                            </p:stCondLst>
                            <p:childTnLst>
                              <p:par>
                                <p:cTn id="3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62428E-006 C 0.01458 0.2215 0.02969 0.443 0.03594 0.53017 E">
                                      <p:cBhvr>
                                        <p:cTn id="38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428E-006 C -0.11181 0.25109 -0.22327 0.50265 -0.26754 0.60346 E">
                                      <p:cBhvr>
                                        <p:cTn id="38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62428E-006 C -0.03958 0.21618 -0.07917 0.43283 -0.09462 0.51953 E">
                                      <p:cBhvr>
                                        <p:cTn id="38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2 -0.00486 C 0.22257 0.20555 0.41303 0.41618 0.48924 0.50034 E">
                                      <p:cBhvr>
                                        <p:cTn id="392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5.78035E-008 C -0.11251 0.25017 -0.22483 0.50034 -0.2698 0.60046 E">
                                      <p:cBhvr>
                                        <p:cTn id="395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98844E-006 C -0.04462 0.24693 -0.08906 0.4941 -0.1066 0.59306 E">
                                      <p:cBhvr>
                                        <p:cTn id="39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60" y="620640"/>
            <a:ext cx="45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лёгкий портф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4720" y="692280"/>
            <a:ext cx="36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лёгкая задач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3240" y="1916280"/>
            <a:ext cx="243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яжёл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31600" y="1916280"/>
            <a:ext cx="22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рудн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4160" y="3716280"/>
            <a:ext cx="33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вежий хле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44640" y="3716280"/>
            <a:ext cx="369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вежая газе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8320" y="4869000"/>
            <a:ext cx="26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чёрств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31600" y="4941720"/>
            <a:ext cx="187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тар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341360"/>
            <a:ext cx="0" cy="57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236000" y="1413000"/>
            <a:ext cx="0" cy="503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24000" y="4365720"/>
            <a:ext cx="0" cy="576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4360" y="4437000"/>
            <a:ext cx="0" cy="57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7:30:39Z</dcterms:created>
  <dc:creator>ANDREY</dc:creator>
  <dc:description/>
  <dc:language>en-US</dc:language>
  <cp:lastModifiedBy>ANDREY</cp:lastModifiedBy>
  <dcterms:modified xsi:type="dcterms:W3CDTF">2003-12-31T19:03:02Z</dcterms:modified>
  <cp:revision>46</cp:revision>
  <dc:subject/>
  <dc:title>Разработка урока </dc:title>
</cp:coreProperties>
</file>