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3AB-11A2-462E-ACE5-D98782EE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A12-2A61-4658-804F-B35C62CC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8F2-600C-4BF0-B2B5-E4BB3D24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BE8-16EC-428F-A146-626D684A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3F72-F360-455A-862D-97972359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6A26-EEDC-43B1-93A6-505D7CC9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3F69-F645-4D96-A8DC-8F9C2D7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6C8F-C739-4250-A070-A32F75C4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6DA4-2463-4FDA-85CD-BEF42048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F8E3-9383-49D3-A633-6EF7C069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60EB-C4F9-45C4-91A0-9CE4BEDB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3F1-D0BB-4B99-B99A-D466E191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3658-D19A-41DC-B01F-9A26F25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C7DA-114D-4EAD-B249-1D90258B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10F2-59C6-4A48-904F-4F88F14D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06DA-11CE-4430-A9E0-2FA813EF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5AF7-E571-4CE5-BEEE-F851BA0E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3D72-3E52-427D-BD8D-5B89F02B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1E63-7047-4570-B964-5DC0E03B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6413-CE0A-479F-8BB1-5080E9E7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0CEB-408A-493E-98C5-EB2D33CF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4771-E63F-4D12-8621-03F0F746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D24-E2A8-4BD3-B3E7-C359652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5019-302C-4DC9-A18E-F86D7B37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20E4-2A46-4C09-982D-ABB320B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D9F5-C164-4C22-873A-AFE476A9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65BA-23FD-4881-B24F-3BAE61D4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F727-96B6-45AE-ADEA-65763F01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40D0-77ED-4306-B8AE-5E69EBA2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8B5F-566D-41C9-8CE7-9EB90258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07010-9014-4F02-BE7F-F48CE6EE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0E177-CB78-4CB7-9030-BDDEBCB0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6AA4-D8DE-456F-86C3-119C67E5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24B-3E9E-421B-9A1A-65407DF1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AC7B-D9D7-4F42-91E4-F140539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8B2EA-54C2-4F95-9D4F-BE3594B6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03EF-859F-4AE8-BF45-267DDC23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E088-709A-4415-884A-16C8254E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4FE8-66B5-498F-8152-0989487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BD3C3-A1E9-4BCE-B611-71D04E2C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D9189-4F6C-4EF2-9E66-93493F2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52442-A48E-4D16-A3B1-88D8A1B6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05545-095B-4359-BFFC-ED840473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2972-EA0B-4A27-BA00-C2FF4F41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BF7-0D63-43F8-B49D-909F7B9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C1BB-57B3-4636-A9DC-7C4AF93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A711F-0D9F-4D89-A581-2473E3D1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EEE8-CA47-4A10-A782-897CDACC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74F4-AC4F-44BF-8F7D-47B907EA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8EDC6-67C3-452D-977B-4C328B85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9F22-1683-4CD1-AE0D-D0D78BF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40E46-BD47-433F-BDD2-CAFFBC5F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3B6E-86DF-4EFA-A0E7-F29E86EC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C86CB-9B5D-4709-9487-71A29CBB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A6C40-48AF-4D3F-87A4-2BF36C03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CF5-2D5A-43A9-B90D-7FB2A9D7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D0FBD-35D0-411D-9E64-8A0018B5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7097-94BA-42A6-874F-BB8C0C89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579DB-E5A4-43B8-BCA9-6F22175B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78BB5-C1D8-4CEB-968B-1D02D97B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A0DFD-5682-47A5-AAD8-9AC21303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3C3BE-F791-4A70-9B00-7A47E82A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4C6A-B044-49FF-A166-3C0E7E37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556AA-4F74-4B55-9F3D-4DDDD85C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6A7C9-FDCC-447E-94D5-5E0D4EB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3953D-0D6E-4995-93E0-492BA66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AFA-9463-4753-8313-8178D20D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0B890-ED6A-441A-B724-C59893EA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74AE6-40F8-4338-A03F-F7FCFDCE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3D696-F093-402B-8444-427D3C08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5A048-ED11-416E-BE18-6AB0B92C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EACEB-B3BE-46C8-891C-D306374B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1F06B-89B0-445B-AC64-A0FDA7B6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695F9-9A1C-43CC-AEB2-6AA84E3A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4A05D-B2FB-480E-A88C-AE276FC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9EA46-A8FF-465C-A4F1-4C47A2B6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2960A-DA0A-496F-8647-20C4182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C37-3636-438B-A128-CCAFD8C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93824-7A84-473A-BD36-0479BE33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9F10-5BD8-4445-BAC1-B9EF490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4246A-034E-4ED4-8781-A8BC03D6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673EA-2C65-46C6-8260-2FCB2EC2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71F31-1FB4-4AE2-9AA4-D402EC04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16CFA-9B75-439C-8C8D-68281756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FFBFA-FC0F-4E8C-BCC9-FB24C89F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E92FA-09DD-4DEC-9A01-351D543A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7EC07-616D-485C-94B4-E73F278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568B5-BF68-4178-A734-B350DC7B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C5D-EB78-4617-9172-B65CFEE6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ADA5-DA24-44EF-AB0F-7EF16259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985EB-20A8-4A1D-A256-BD3FBE0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4F797-DB8D-4DC2-A958-7DA0EF44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9E8D-DA9D-43F5-97A7-99ECBA61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6F99A-0742-4F30-A8BC-03476E1F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8AB87-D38B-409C-9CA6-A7760A8B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A6C07-D406-450B-8D45-6810FDD3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2B69-3795-42FD-9B4D-60B43BDF957D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2F52-C0DB-4853-987B-34E71A7BF670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c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e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97A1-1698-4635-93A2-8AEBDBEAB664}" type="slidenum">
              <a:rPr b="0" lang="en-US" sz="1400" spc="-1" strike="noStrike">
                <a:solidFill>
                  <a:srgbClr val="fbe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DD1E-8F93-4A3B-85C4-267EC1D61780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3E2C-77EF-4E84-80C4-C1F633E29960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8151-F1D7-4C41-A151-91D545D64C8E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c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e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1300-D6CB-4FF6-BF8B-5BD716212EAA}" type="slidenum">
              <a:rPr b="0" lang="en-US" sz="1400" spc="-1" strike="noStrike">
                <a:solidFill>
                  <a:srgbClr val="fbe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698D-2080-4ED5-8140-F33F4D49109B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Содержимое 8" descr="381cc5d77f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Documents and Settings\Надежда\Рабочий стол\bobry.jpeg"/>
          <p:cNvPicPr/>
          <p:nvPr/>
        </p:nvPicPr>
        <p:blipFill>
          <a:blip r:embed="rId1"/>
          <a:stretch/>
        </p:blipFill>
        <p:spPr>
          <a:xfrm>
            <a:off x="1071720" y="1357200"/>
            <a:ext cx="6813360" cy="466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24000" y="25992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Мистер Бобёр приготовил  для постройки своей плотины на 3 брёвна больше, чем Миссис Бобриха. Сколько брёвен заготовила Миссис Бобриха, если Мистер Бобёр заготовил 30 брёвен?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C:\Documents and Settings\Надежда\Рабочий стол\24.jpg"/>
          <p:cNvPicPr/>
          <p:nvPr/>
        </p:nvPicPr>
        <p:blipFill>
          <a:blip r:embed="rId1"/>
          <a:stretch/>
        </p:blipFill>
        <p:spPr>
          <a:xfrm>
            <a:off x="395280" y="4765680"/>
            <a:ext cx="2448000" cy="1503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обё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Бобё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2997360"/>
            <a:ext cx="237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72360" y="292428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42926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42926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одержимое 3" descr="62926728.jpg"/>
          <p:cNvPicPr/>
          <p:nvPr/>
        </p:nvPicPr>
        <p:blipFill>
          <a:blip r:embed="rId1"/>
          <a:stretch/>
        </p:blipFill>
        <p:spPr>
          <a:xfrm>
            <a:off x="2643120" y="1219320"/>
            <a:ext cx="3857760" cy="493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о двум сторонам лестнице стоят снежные скульптуры. Справа мы видим 39 скульптур, а слева на 9 меньше. Сколько всего скульптур стоит по обеим сторонам лестницы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C:\Documents and Settings\Надежда\Рабочий стол\сова.jpg"/>
          <p:cNvPicPr/>
          <p:nvPr/>
        </p:nvPicPr>
        <p:blipFill>
          <a:blip r:embed="rId1"/>
          <a:stretch/>
        </p:blipFill>
        <p:spPr>
          <a:xfrm>
            <a:off x="6786720" y="5214960"/>
            <a:ext cx="2172960" cy="1382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3" descr="67835526.jpg"/>
          <p:cNvPicPr/>
          <p:nvPr/>
        </p:nvPicPr>
        <p:blipFill>
          <a:blip r:embed="rId1"/>
          <a:stretch/>
        </p:blipFill>
        <p:spPr>
          <a:xfrm>
            <a:off x="2190600" y="1630440"/>
            <a:ext cx="4762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Содержимое 3" descr="1316614647_75189-cover.jpg"/>
          <p:cNvPicPr/>
          <p:nvPr/>
        </p:nvPicPr>
        <p:blipFill>
          <a:blip r:embed="rId1"/>
          <a:stretch/>
        </p:blipFill>
        <p:spPr>
          <a:xfrm>
            <a:off x="2500200" y="214200"/>
            <a:ext cx="4091040" cy="6340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14200" y="5713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ама купила яблок на 6 больше, чем апельсинов. Апельсинов  - 40. Сколько яблок купила мам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Саши было несколько орехов. После того, как 8 орехов он отдал сестре,  у него осталось столько же. Сколько орехов было у Саш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ерез семь лет тете Оле будет 30 лет. Сколько лет ей сейчас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85480" y="28584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аня прочитала в первый день 40 страниц, а во второй – 46. Сколько всего страниц в книг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продавца было 20 шаров. После того, как он продал несколько шаров, у него осталось 7 шаров. Сколько шаров он прода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 сколько рублей у Коли больше, чем у Димы, если  у Коли 15 рублей, а у Димы – 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46, 16, 23, 86, 13, 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и,   р,  н,   я,    а,  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одержимое 3" descr="81808-f95db-34969921-m750x740.jpg"/>
          <p:cNvPicPr/>
          <p:nvPr/>
        </p:nvPicPr>
        <p:blipFill>
          <a:blip r:embed="rId1"/>
          <a:stretch/>
        </p:blipFill>
        <p:spPr>
          <a:xfrm>
            <a:off x="2071800" y="0"/>
            <a:ext cx="4489200" cy="6819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5712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5400" spc="-1" strike="noStrike">
                <a:solidFill>
                  <a:srgbClr val="000000"/>
                </a:solidFill>
                <a:latin typeface="AnastasiaScript"/>
              </a:rPr>
              <a:t>Вы в Нарнии. Нашу   страну заколдовала Белая Колдунья, и теперь у нас всегда зима, но никогда не наступает Новый год и не приходит весна. Помогите жителям Нарнии!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4e3b30"/>
                </a:solidFill>
                <a:uFillTx/>
                <a:latin typeface="Cambria"/>
              </a:rPr>
              <a:t>ЗАДАЧА</a:t>
            </a:r>
            <a:endParaRPr b="0" lang="en-US" sz="6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Услов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Содержимое 3" descr="ae247a31f18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колько жителей Нарнии заколдовала Белая колдунья, если сначала она заколдовала 14 жителей, а во второй раз – на 6 жителей больш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2" descr="F:\Нарния\66783363.jpg"/>
          <p:cNvPicPr/>
          <p:nvPr/>
        </p:nvPicPr>
        <p:blipFill>
          <a:blip r:embed="rId1"/>
          <a:stretch/>
        </p:blipFill>
        <p:spPr>
          <a:xfrm>
            <a:off x="7858080" y="5040360"/>
            <a:ext cx="1285920" cy="1817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4:34:11Z</dcterms:created>
  <dc:creator>Надежда</dc:creator>
  <dc:description/>
  <dc:language>en-US</dc:language>
  <cp:lastModifiedBy>МихалыЧ</cp:lastModifiedBy>
  <dcterms:modified xsi:type="dcterms:W3CDTF">2011-11-29T14:18:51Z</dcterms:modified>
  <cp:revision>8</cp:revision>
  <dc:subject/>
  <dc:title>Слайд 1</dc:title>
</cp:coreProperties>
</file>