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420-8231-4AAE-9558-B162A54F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20F-3B03-4335-BA3A-AD5E7F56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CBF-9B6E-46ED-9F29-EA2B55DF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128-2BBE-4F03-AFF6-C3CB2EF3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D70-90EE-4680-8401-C25CE595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4F55-F814-45E9-8509-3BE144D8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7B25-5C97-46CE-A8BA-1541226B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FDCC-B2C0-4235-BF43-3EBCFD0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1E4C-B967-4CDA-ABC3-B0765D2B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BCA3-033F-4343-908F-AFA985A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E756-6943-479A-8F6C-F2756732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705-BAEF-4D71-B59B-9C19975D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25DB-D4B8-4869-BBBC-C130CF0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937-8855-499A-806E-C0BFF58B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24D7-1B38-4947-B71A-10AFBF44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B454-C263-4731-8C21-C7B3E726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20E7-0B2C-4622-B2BD-1B2B09B6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00E1-99E8-4FF2-8DE6-36B02E5F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36963-4E57-4C23-B82C-3CB0817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AEBA-A42B-473F-8436-6F96103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6B4E-6C98-4984-A008-9FDC2DE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19AB-7FBC-4ECA-83F1-D4462B20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1B5-B717-492E-9B1E-C1A772E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B69F-1BDE-4B37-A597-D4FFCAB3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0280-0EC8-4700-8AB9-9D4018C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695F-EC36-4A65-9591-03BA5367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ABEF-B914-46D2-A8D2-2A57A8E5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EB76-6B0B-44E1-B252-BAF0434D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7915-BAC4-4034-83CF-9BFF5343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12CC-9FFC-49AE-8614-457CB01C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8570-BE84-4E82-BBC9-A211943B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A762-2CB0-41F6-9ACD-1E24E6C4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7AB6E-C3E0-4589-AC2A-F3956859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A02-8BF6-45A0-995A-AD6A8660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9F751-9918-43D0-8401-0B691674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9DC9-C2F5-4F0D-8BB6-D183556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E276-0F38-4C43-B265-776F8A45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789F-A7F7-414D-B167-9710EBF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F3C5-92A2-47B5-9EE2-D09AD71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D87EC-ABFB-498C-83E0-6A131AD6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3139-A166-46CC-AAE2-9FC4452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DC56-A6D2-488F-8154-E64CC1EC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6712-AD6E-43CF-A11F-8A6011B4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0E97-C679-4738-B607-24179158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913-18F1-4428-BFE6-E28A071E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4CDC-0CF8-4FA9-B397-049DC84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6583-0DBB-40E2-A721-192264E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2DB21-401F-4495-A0A6-ED91D681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6ADE-BC83-496D-979B-0327628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EC3B-D318-4B52-838A-9D81828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012D-C4CD-4A3A-985E-C292979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6C81-76A0-41FB-BFFE-7EEDDAA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04C7-21F9-4D97-92C2-BBD5F3E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D4F0-DBCE-4CAB-87B2-97FF4853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11E17-500A-4299-87DD-2D52C8C1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0D3-B1D8-4F63-A98B-4DB75EA8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679DC-9E70-455D-B4B2-621B0BF0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3B54-E734-4941-9B8C-F508D6D6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CA9F-18EC-4E74-8824-F3136684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015A-76D8-496A-9063-56078DA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75ED-88A6-4536-98E1-2591D1FB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A22A1-8A60-445F-BD82-43F9CEC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90EB-36A1-4DAB-9C8F-79729F14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BE3B0-B7E9-4897-8C5A-AD6662F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D57C-4254-4FF9-BE7D-1765FBB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98C9-9E0A-41AA-92C7-69395648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4FD-3785-4F19-996A-9ADEC3F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F9007-1DEE-4FE1-94F5-45AD0EA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6F9B5-45AC-41B0-A81E-8B5D2F35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10B7-4238-4A53-A6CF-E6995634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D5FB-BA34-426B-B873-4A7F5F1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A59A-D40C-47F6-BA21-9896311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1FFA-73D3-4D1A-BB5F-C131835D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63EB7-9517-43F4-A6F4-35944A4C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B61D-6C9D-417A-8831-8FA94B0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CD70-2559-47DD-95C6-F0FDA0B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DB3A2-5C8F-4DC8-9BC8-0010B885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C4A-66C9-41D2-816E-687EF65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2384-A3A5-44FA-B25D-019E638F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CAC2-3A25-4CFA-BB14-4951C65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DFCB-9B6D-474D-94AB-587CBD03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6693-6ED5-4371-B889-D3F961DE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60D25-057E-4A13-9EA9-31249D70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6529D-AF27-473D-A2CC-A75F32A7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A8866-C2CF-4680-84E8-03F25B42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8A2A-0388-4F3D-BB52-E19C5DF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CFB7D-DFB4-427F-96E0-09CCEB0D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DEFC7-7784-497E-BB58-D10B22BD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1D4-290C-42A9-B1F0-CF712CE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8008-F4F1-4021-9C0A-E6A8B480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B61ED-56DD-4DE4-9497-6CB181EC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072A-FF12-4B9C-BD1B-3C681D9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EAED1-E51A-45D3-8F75-AE38DE6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E4710-48F8-4FEA-935F-E3F9BFC8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FBDC-4DE2-4C20-80DF-8ACE43DB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212AC-ED2A-42BF-98BD-AA555C1C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9187-9704-4E96-AAC6-F3FF67221CC7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B638-5EBC-481F-9C71-920D4ACD2C76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2D8B-A247-418D-A040-32D7FB1B4246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3E0D-D819-459D-84D6-2E32F15BF2AA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EE2-7A90-4996-AAFE-DB72DE01BBD3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B61F-2535-4332-B352-DC9E003D5251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c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fbeec9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beec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beec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3675-E2E2-4462-A6E7-7D91738D9B74}" type="slidenum">
              <a:rPr b="0" lang="en-US" sz="1400" spc="-1" strike="noStrike">
                <a:solidFill>
                  <a:srgbClr val="fbeec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5644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a5644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91574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a5644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C119-1A09-4D4A-99C1-B55149EC2B6E}" type="slidenum">
              <a:rPr b="0" lang="en-US" sz="1400" spc="-1" strike="noStrike">
                <a:solidFill>
                  <a:srgbClr val="4e3b3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одержимое 8" descr="381cc5d77f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C:\Documents and Settings\Надежда\Рабочий стол\bobry.jpeg"/>
          <p:cNvPicPr/>
          <p:nvPr/>
        </p:nvPicPr>
        <p:blipFill>
          <a:blip r:embed="rId1"/>
          <a:stretch/>
        </p:blipFill>
        <p:spPr>
          <a:xfrm>
            <a:off x="1071720" y="1357200"/>
            <a:ext cx="6813360" cy="466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24000" y="25992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Мистер Бобёр приготовил  для постройки своей плотины на 3 брёвна больше, чем Миссис Бобриха. Сколько брёвен заготовила Миссис Бобриха, если Мистер Бобёр заготовил 30 брёвен?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C:\Documents and Settings\Надежда\Рабочий стол\24.jpg"/>
          <p:cNvPicPr/>
          <p:nvPr/>
        </p:nvPicPr>
        <p:blipFill>
          <a:blip r:embed="rId1"/>
          <a:stretch/>
        </p:blipFill>
        <p:spPr>
          <a:xfrm>
            <a:off x="395280" y="4765680"/>
            <a:ext cx="2448000" cy="1503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обё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9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Бобё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2997360"/>
            <a:ext cx="2376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292428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0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29264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62926728.jpg"/>
          <p:cNvPicPr/>
          <p:nvPr/>
        </p:nvPicPr>
        <p:blipFill>
          <a:blip r:embed="rId1"/>
          <a:stretch/>
        </p:blipFill>
        <p:spPr>
          <a:xfrm>
            <a:off x="2643120" y="1219320"/>
            <a:ext cx="3857760" cy="493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двум сторонам лестнице стоят снежные скульптуры. Справа мы видим 39 скульптур, а слева на 9 меньше. Сколько всего скульптур стоит по обеим сторонам лестницы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C:\Documents and Settings\Надежда\Рабочий стол\сова.jpg"/>
          <p:cNvPicPr/>
          <p:nvPr/>
        </p:nvPicPr>
        <p:blipFill>
          <a:blip r:embed="rId1"/>
          <a:stretch/>
        </p:blipFill>
        <p:spPr>
          <a:xfrm>
            <a:off x="6786720" y="5214960"/>
            <a:ext cx="2172960" cy="1382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Содержимое 3" descr="67835526.jpg"/>
          <p:cNvPicPr/>
          <p:nvPr/>
        </p:nvPicPr>
        <p:blipFill>
          <a:blip r:embed="rId1"/>
          <a:stretch/>
        </p:blipFill>
        <p:spPr>
          <a:xfrm>
            <a:off x="2190600" y="1630440"/>
            <a:ext cx="4762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Содержимое 3" descr="1316614647_75189-cover.jpg"/>
          <p:cNvPicPr/>
          <p:nvPr/>
        </p:nvPicPr>
        <p:blipFill>
          <a:blip r:embed="rId1"/>
          <a:stretch/>
        </p:blipFill>
        <p:spPr>
          <a:xfrm>
            <a:off x="2500200" y="214200"/>
            <a:ext cx="4091040" cy="6340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14200" y="5713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ама купила яблок на 6 больше, чем апельсинов. Апельсинов  - 40. Сколько яблок купила мам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Саши было несколько орехов. После того, как 8 орехов он отдал сестре,  у него осталось столько же. Сколько орехов было у Саш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Через семь лет тете Оле будет 30 лет. Сколько лет ей сейчас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85480" y="28584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Таня прочитала в первый день 40 страниц, а во второй – 46. Сколько всего страниц в книг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 продавца было 20 шаров. После того, как он продал несколько шаров, у него осталось 7 шаров. Сколько шаров он продал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сколько рублей у Коли больше, чем у Димы, если  у Коли 15 рублей, а у Димы – 9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46, 16, 23, 86, 13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и,   р,  н,   я,    а,  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Содержимое 3" descr="81808-f95db-34969921-m750x740.jpg"/>
          <p:cNvPicPr/>
          <p:nvPr/>
        </p:nvPicPr>
        <p:blipFill>
          <a:blip r:embed="rId1"/>
          <a:stretch/>
        </p:blipFill>
        <p:spPr>
          <a:xfrm>
            <a:off x="2071800" y="0"/>
            <a:ext cx="4489200" cy="6819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5400" spc="-1" strike="noStrike">
                <a:solidFill>
                  <a:srgbClr val="000000"/>
                </a:solidFill>
                <a:latin typeface="AnastasiaScript"/>
              </a:rPr>
              <a:t>Вы в Нарнии. Нашу   страну заколдовала Белая Колдунья, и теперь у нас всегда зима, но никогда не наступает Новый год и не приходит весна. Помогите жителям Нарнии!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4e3b30"/>
                </a:solidFill>
                <a:uFillTx/>
                <a:latin typeface="Cambria"/>
              </a:rPr>
              <a:t>ЗАДАЧА</a:t>
            </a:r>
            <a:endParaRPr b="0" lang="en-US" sz="6600" spc="-1" strike="noStrike">
              <a:solidFill>
                <a:srgbClr val="4e3b30"/>
              </a:solidFill>
              <a:latin typeface="Cambr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Услов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601"/>
              </a:spcBef>
              <a:buClr>
                <a:srgbClr val="f0a22e"/>
              </a:buClr>
              <a:buSzPct val="76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одержимое 3" descr="ae247a31f18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cd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колько жителей Нарнии заколдовала Белая колдунья, если сначала она заколдовала 14 жителей, а во второй раз – на 6 жителей больш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2" descr="F:\Нарния\66783363.jpg"/>
          <p:cNvPicPr/>
          <p:nvPr/>
        </p:nvPicPr>
        <p:blipFill>
          <a:blip r:embed="rId1"/>
          <a:stretch/>
        </p:blipFill>
        <p:spPr>
          <a:xfrm>
            <a:off x="7858080" y="5040360"/>
            <a:ext cx="1285920" cy="1817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4:34:11Z</dcterms:created>
  <dc:creator>Надежда</dc:creator>
  <dc:description/>
  <dc:language>en-US</dc:language>
  <cp:lastModifiedBy>МихалыЧ</cp:lastModifiedBy>
  <dcterms:modified xsi:type="dcterms:W3CDTF">2011-11-29T14:18:51Z</dcterms:modified>
  <cp:revision>8</cp:revision>
  <dc:subject/>
  <dc:title>Слайд 1</dc:title>
</cp:coreProperties>
</file>