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E349-90DB-4214-B2FF-07E756B88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48CD-92C7-458D-AB18-A5441E95E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DF57-FE77-4DD9-AD35-839C20C29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FD8-C54E-492C-A04F-0D8424CEE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C547-4956-46D0-B36E-D5AF2E392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BD27-7B28-42C3-BF3B-EC61F3406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0FCA-5270-47D6-935B-4DC22561A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C33F-5AEE-4140-AA84-43CE1924B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23D-B8B4-4163-8172-9ABC7E596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9FB-4031-4C5A-B24A-5B49896F4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C36-6DD1-4D4D-8D32-36D87687B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68A3-FCAE-46EE-9C8C-158174024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CCB0-EF75-4991-AD88-73A9A76E9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F705-5F84-4092-93AF-81A499BD8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1CD3-D835-4AE5-A00F-8C9A55AFF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A5DB-F4FE-4044-B8D6-E8B1E1C88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D4D4-268F-40BB-9F6F-B8A6882CD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AF1B-90A0-43D4-BACC-3629B1CBA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EB8-5347-478E-AD2F-FB4C433D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390-F14F-4FAF-9944-458898D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504-BAB5-4315-86CD-B2C266E0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615-6EAD-406F-BFC2-CEF1FE9A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AF5-806C-40FA-86E4-BC8244C4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5FF-2222-4633-874D-1CF211F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2C6-D927-4331-A9D4-14B4B7E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18F-22C4-40C1-AC3D-CA83285B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3EE-252C-4643-AD7E-24D876C7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C8B-80A6-4A24-9CC9-EA93EFE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18F-B087-4B69-974A-47C0B99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4E1-188D-4D3D-A99E-F9FD006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386A-EB51-4A6C-9E74-8D668A19A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 flipV="1" rot="10800000">
            <a:off x="610920" y="4004640"/>
            <a:ext cx="7421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ЛЬЕФ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  ПОЛЕЗ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СКОПАЕМ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9" descr="некнгрр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7"/>
          <p:cNvSpPr/>
          <p:nvPr/>
        </p:nvSpPr>
        <p:spPr>
          <a:xfrm>
            <a:off x="179280" y="26028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ЛЬЕФ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ЕЗНЫ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КОПАЕМЫ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ЕВЕРНОЙ АМЕР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5003640" y="3213000"/>
            <a:ext cx="38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зентацию выполни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колов Паве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ник 4 «Б»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БОУ СОШ  №11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 руководством учителя Плаксиной Людмилы Викторов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9"/>
          <p:cNvSpPr/>
          <p:nvPr/>
        </p:nvSpPr>
        <p:spPr>
          <a:xfrm flipV="1" rot="10800000">
            <a:off x="2769840" y="560988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. Москва 2013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13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Полезные ископаемые (осадочные)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адочная поро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Осадочная порода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600" y="34200"/>
            <a:ext cx="8215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Полезные ископаемые (магматические)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8360" y="333360"/>
          <a:ext cx="8064360" cy="594036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677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fb1742"/>
                          </a:solidFill>
                          <a:latin typeface="Arial"/>
                        </a:rPr>
                        <a:t>ПОЛЕЗНЫЕ  ИСКОПА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b1742"/>
                          </a:solidFill>
                          <a:latin typeface="Comic Sans MS"/>
                        </a:rPr>
                        <a:t>Осадочного происхож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b1742"/>
                          </a:solidFill>
                          <a:latin typeface="Comic Sans MS"/>
                        </a:rPr>
                        <a:t>Магматического происхож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ез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ый 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над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я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ган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нистые слан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ат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работ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руд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Медный рудник Бингхем"/>
          <p:cNvPicPr/>
          <p:nvPr/>
        </p:nvPicPr>
        <p:blipFill>
          <a:blip r:embed="rId1"/>
          <a:stretch/>
        </p:blipFill>
        <p:spPr>
          <a:xfrm>
            <a:off x="324000" y="333360"/>
            <a:ext cx="4608360" cy="395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Разработка рудника"/>
          <p:cNvPicPr/>
          <p:nvPr/>
        </p:nvPicPr>
        <p:blipFill>
          <a:blip r:embed="rId2"/>
          <a:stretch/>
        </p:blipFill>
        <p:spPr>
          <a:xfrm>
            <a:off x="4211640" y="2637000"/>
            <a:ext cx="4543560" cy="4033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562680" y="459576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ДНЫЙ РУД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ИНГХ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7280" y="274680"/>
            <a:ext cx="3097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1742"/>
                </a:solidFill>
                <a:latin typeface="Arial"/>
              </a:rPr>
              <a:t>Добыча зол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Американский старатель"/>
          <p:cNvPicPr/>
          <p:nvPr/>
        </p:nvPicPr>
        <p:blipFill>
          <a:blip r:embed="rId1"/>
          <a:stretch/>
        </p:blipFill>
        <p:spPr>
          <a:xfrm>
            <a:off x="250920" y="260280"/>
            <a:ext cx="5329080" cy="48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Добыча золота"/>
          <p:cNvPicPr/>
          <p:nvPr/>
        </p:nvPicPr>
        <p:blipFill>
          <a:blip r:embed="rId2"/>
          <a:stretch/>
        </p:blipFill>
        <p:spPr>
          <a:xfrm>
            <a:off x="4284720" y="2133720"/>
            <a:ext cx="46800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b1742"/>
                </a:solidFill>
                <a:latin typeface="BankGothic Md BT"/>
              </a:rPr>
              <a:t>Найдите ошибки в тексте и исправьте их</a:t>
            </a:r>
            <a:r>
              <a:rPr b="1" lang="ru-RU" sz="2800" spc="-1" strike="noStrike">
                <a:solidFill>
                  <a:srgbClr val="fb1742"/>
                </a:solidFill>
                <a:latin typeface="BankGothic Md BT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llegro BT"/>
              </a:rPr>
              <a:t>АППАЛ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Вдоль западного побережья Север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протянулись горы Аппалачи с самой высо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горой Мак-Кенли. Особенности этих гор обусло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лены возрастом –это старые горы, имеющие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логие, заросшие растительностью верш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Главное богатство гор – железная руд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каменный уголь. Горы сильно измен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kGothic Md BT"/>
              </a:rPr>
              <a:t>хозяйственной  деятельностью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1742"/>
                </a:solidFill>
                <a:latin typeface="Arial"/>
              </a:rPr>
              <a:t>ДОМАШНЕЕ  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52 прочитать и уметь пере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Показать на контурных картах формы рельефа, изученные на уроке, а также полезные ископаемые, добываемые на мате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Уметь отвечать на вопросы в ко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Уметь показать геогр. объекты на кар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ельеф Северной Америки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19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427640" y="4292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427640" y="4292640"/>
            <a:ext cx="135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имексиканская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низм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572000" y="40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миссисип-ская низм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072200" y="779400"/>
            <a:ext cx="37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Горы Кордильеры (сл"/>
          <p:cNvPicPr/>
          <p:nvPr/>
        </p:nvPicPr>
        <p:blipFill>
          <a:blip r:embed="rId1"/>
          <a:stretch/>
        </p:blipFill>
        <p:spPr>
          <a:xfrm>
            <a:off x="250920" y="981000"/>
            <a:ext cx="4176720" cy="374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Горы Кордильеры (сл"/>
          <p:cNvPicPr/>
          <p:nvPr/>
        </p:nvPicPr>
        <p:blipFill>
          <a:blip r:embed="rId2"/>
          <a:stretch/>
        </p:blipFill>
        <p:spPr>
          <a:xfrm>
            <a:off x="4643280" y="1052640"/>
            <a:ext cx="4176720" cy="410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оры Кордильеры (сл"/>
          <p:cNvPicPr/>
          <p:nvPr/>
        </p:nvPicPr>
        <p:blipFill>
          <a:blip r:embed="rId3"/>
          <a:stretch/>
        </p:blipFill>
        <p:spPr>
          <a:xfrm>
            <a:off x="1835280" y="3284640"/>
            <a:ext cx="4824360" cy="3384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324000" y="0"/>
            <a:ext cx="8351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1742"/>
                </a:solidFill>
                <a:latin typeface="Verdana"/>
              </a:rPr>
              <a:t>      </a:t>
            </a:r>
            <a:r>
              <a:rPr b="1" lang="ru-RU" sz="4400" spc="-1" strike="noStrike">
                <a:solidFill>
                  <a:srgbClr val="fb1742"/>
                </a:solidFill>
                <a:latin typeface="Verdana"/>
              </a:rPr>
              <a:t>ГОРЫ  АППАЛАЧИ</a:t>
            </a:r>
            <a:r>
              <a:rPr b="1" lang="ru-RU" sz="1800" spc="-1" strike="noStrike">
                <a:solidFill>
                  <a:srgbClr val="fb1742"/>
                </a:solidFill>
                <a:latin typeface="Verdana"/>
              </a:rPr>
              <a:t>     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Географическое положение Каньона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416560" y="42656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673240" y="4543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1742"/>
                </a:solidFill>
                <a:latin typeface="Arial"/>
              </a:rPr>
              <a:t>Каньон Колор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Каньон Колорадо (сл"/>
          <p:cNvPicPr/>
          <p:nvPr/>
        </p:nvPicPr>
        <p:blipFill>
          <a:blip r:embed="rId1"/>
          <a:stretch/>
        </p:blipFill>
        <p:spPr>
          <a:xfrm>
            <a:off x="468360" y="1052640"/>
            <a:ext cx="3816360" cy="244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Каньон Колорадо (сл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244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Каньон Колорадо (сл"/>
          <p:cNvPicPr/>
          <p:nvPr/>
        </p:nvPicPr>
        <p:blipFill>
          <a:blip r:embed="rId3"/>
          <a:stretch/>
        </p:blipFill>
        <p:spPr>
          <a:xfrm>
            <a:off x="395280" y="378936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Каньон Колорадо (сл"/>
          <p:cNvPicPr/>
          <p:nvPr/>
        </p:nvPicPr>
        <p:blipFill>
          <a:blip r:embed="rId4"/>
          <a:stretch/>
        </p:blipFill>
        <p:spPr>
          <a:xfrm>
            <a:off x="4716360" y="378936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аньон Колорадо (сл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аньон Колорадо (сл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4111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ЕКТОНИЧЕСКАЯ КАРТА 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ВЕРНОЙ АМЕР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Тектоническая карта Северной Америки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зные ископае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021200" cy="460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432108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6227640" y="3284640"/>
            <a:ext cx="17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садочные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ро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724360" y="1413000"/>
            <a:ext cx="57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298920" y="3879720"/>
            <a:ext cx="105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6:22:01Z</dcterms:created>
  <dc:creator>Lera</dc:creator>
  <dc:description/>
  <dc:language>en-US</dc:language>
  <cp:lastModifiedBy>Людмила</cp:lastModifiedBy>
  <dcterms:modified xsi:type="dcterms:W3CDTF">2013-02-13T07:34:45Z</dcterms:modified>
  <cp:revision>17</cp:revision>
  <dc:subject/>
  <dc:title>Слайд 1</dc:title>
</cp:coreProperties>
</file>